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637-CCD1-44C6-B2CD-7D4B5FFC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4FD-989B-4C35-8149-0AA9483C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BD0-2679-4442-AE2E-3A965261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909-0B9C-4AD7-BBF8-15CBC00D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AC0-1C3D-4AB0-B146-D91C7E34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B8C-F0F1-4799-B45A-C6C37DF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3C0-4D0B-44F6-B48F-DEF126D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14B-7449-4413-AEE0-106FEB56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ED01-9E92-45DA-8604-2B694AC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93D-AE0E-4AB4-BAD8-30C656A7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DB5-A217-4370-9536-213FB1B7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910-3744-46CB-B9FE-5CA06B3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83B-1709-4D17-8699-B3B7CEA0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2120" y="1143000"/>
            <a:ext cx="7696080" cy="186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  <a:ea typeface="Arial"/>
              </a:rPr>
              <a:t>Renal Physiology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  <a:ea typeface="Arial"/>
              </a:rPr>
              <a:t>Renal Haemodynamic &amp; 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822680" y="3833640"/>
            <a:ext cx="3516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r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Mobile No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EA0-114C-44C2-B0E8-20AB8B3AD8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5715000" y="3814920"/>
            <a:ext cx="1523880" cy="144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neys filter the body’s entire plasma volume 60 times each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all plasma components excep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s water, nutrients, and essential ions to becom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ine contains metabolic wastes and unneeded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E40-B55A-4956-8CBC-E2BACB45EF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18288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ine formation and adjustment of blood composition involves three major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merular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bular 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_x0018_25-08_SingleNephrn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4405320" y="1752480"/>
            <a:ext cx="4067280" cy="449604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7FE-6786-4E33-85BA-D815B68CE3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n urin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s through the glomerulus, allowing protein-free plasma to be filtered through the glomerular capillaries into the Bowman’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% of plasma entering the glomerulus is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ml/min filtered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7A5D-2FC8-4CB8-8F53-B360431356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substances from tubular lumen back in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bed substances not lost in the urine, but are carried by the peritubular capillaries to the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filtered plasma is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B721-C97C-4B6A-981B-98B06B07E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ve transfer of substances from the peritubular capillary into the tubular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apid elimination of substances from the plasma via extraction of the 80% of unfiltered plasma in peritubular capillaries and adding it to the substances already in tubule as result of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A924-CBF7-4048-BECC-52FB19994F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Excretion “The end produ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substances from the body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sma constituents filtered or secreted, but not reabsorbed remain in the tubules and pass into the renal pelvis to be excreted as urine and eliminat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B270-7CDA-4EB4-B826-2019E5C818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can b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ranscellula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ross the cell) or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ubstance has moved pass the tubular epithelium cell into the interstitial spac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bulk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accounts for its movement back into the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ECC1-FDCD-4349-B398-D4E88533E8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flow results from the imbalance of osmotic or hydrostatic forces at the peritubular capillary.  Exactly the same as at the peripheral capillary or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howimage"/>
          <p:cNvPicPr/>
          <p:nvPr/>
        </p:nvPicPr>
        <p:blipFill>
          <a:blip r:embed="rId1"/>
          <a:stretch/>
        </p:blipFill>
        <p:spPr>
          <a:xfrm>
            <a:off x="3657600" y="2286000"/>
            <a:ext cx="487692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A7E7-5FC0-4A47-A048-12CBB0DBB0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ubstances are reabsorbed via active transport.  These are substances that are needed by the body (e.g.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aas, other electrol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-99.5% of filtered sodium is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tubules (6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f Henle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/Collecting tubules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B80E-92F8-4762-A88F-B6694ED9EB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bsorption is vi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rimary 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TP hydrolysis (e.g. Na+) o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condary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n ion gradient (e.g. gluc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ans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745-B483-46AC-B06F-983700C44E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at the mechanism of urine formation include three basic processes; glomerular filtration, tubular reabsorption and tubular se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FR and quote normal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factors controlling GFR in terms of starling forces, permeability with respect to size, shape and electrical charges and ultra-filtration co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Intrinsic and extrinsic mechanism that regulate G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autoregulation of GFR &amp;  tubuloglomerular feedback mech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9D2-F75E-463C-AFEE-F5167DC742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 Filtration Pressure (N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responsible for filtrat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 equals the glomer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inus the oncotic pressure of glomerular blood (O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mbined with the caps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600200" y="4313160"/>
            <a:ext cx="6172200" cy="16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P = 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(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F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-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F2C4-6415-421C-8458-D2D5C2F273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17980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merular filtration rate (GFR) is the rate of production of filtrate at the glomeruli fro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80 – 140 ml/min depending on age, sex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filtration rates of all functioning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kidne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B64-34C8-4D12-AE43-E1377B582A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31880"/>
            <a:ext cx="76960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governing filtration rate at the capillary be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urface area available for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membrane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iltration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is directly proportional to the N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FR normally result from changes in glomerular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9DF4-4D26-40C7-AE90-B0E84A605E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substances cannot be reabsorbed quickly enough and are lost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reabsorbed, including wastes that are normally dis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113-9B24-42E4-BBF9-EE068BA218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4" descr=""/>
          <p:cNvPicPr/>
          <p:nvPr/>
        </p:nvPicPr>
        <p:blipFill>
          <a:blip r:embed="rId1"/>
          <a:stretch/>
        </p:blipFill>
        <p:spPr>
          <a:xfrm>
            <a:off x="646200" y="603360"/>
            <a:ext cx="6156360" cy="664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993320" y="1305000"/>
            <a:ext cx="57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glomerular hydrostatic pressure (G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ush fluid out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capsular hydrostatic pressure (Cs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ush fluid back into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953360" y="36576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net hydrostatic pressur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(N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857320" y="46483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NHP  =  GHP - Cs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506760" y="533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-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062080" y="5334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35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6388200" y="5334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0F68-3952-434B-8B35-DB7AF809CA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767120" cy="579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930240" y="2076480"/>
            <a:ext cx="72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blood colloid osmotic pressure (BC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proteins in blood (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draw water back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~ 25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0C55-A66A-49BC-9C42-2FCCD39A85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4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6662880" cy="5796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743480" y="144792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FP = NHP - B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799720" y="24591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35  -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603800" y="24591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06880" y="245916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37560" y="32767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importance of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893240" y="449568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20% drop in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50mm Hg to 40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Arial"/>
              </a:rPr>
              <a:t>filtration would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D5D-30BA-4922-B199-1F84C0C039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4_08"/>
          <p:cNvPicPr/>
          <p:nvPr/>
        </p:nvPicPr>
        <p:blipFill>
          <a:blip r:embed="rId1"/>
          <a:stretch/>
        </p:blipFill>
        <p:spPr>
          <a:xfrm>
            <a:off x="4772160" y="1219320"/>
            <a:ext cx="38257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Rectangle 3"/>
          <p:cNvSpPr/>
          <p:nvPr/>
        </p:nvSpPr>
        <p:spPr>
          <a:xfrm>
            <a:off x="609480" y="609480"/>
            <a:ext cx="4114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sure inside capillaries &gt; Pressure out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vement of fluid from b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s in capillaries: hydrostatic pressure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+ 60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 29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outward pressure = 60 – 29 = 31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ces in capsule: hydrostatic pressur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-15mmH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all: 31 – 15 = 16 mmHg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e adults GFR: ~ 90 – 140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male: 80 – 125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 ml/min usually good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F4E1-226D-4781-9673-98098C3BD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4E34-6DD8-4E1D-A552-908AD4AF4E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one-fourth (1200 ml) of systemic cardiac output flows through the kidneys each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cortex receives more than 90% of the blood that perfused into the kidney, which is perfused at a rate of about 500 ml/min per 100 gm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100 times greater than resting muscle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mainder of the renal blood supply goes to the capsule and the renal adipos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 cortical blood then passes to the med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9633-5072-4B3A-B2DE-CC1E261691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 of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5238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ephron has two capillary 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meru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tub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lomerulu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by an afferent arteri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ed by an efferent arteri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in the glomerulus is high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oles are high-resistanc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rent arterioles have larger diameters than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36C6-4110-45AE-BB6F-49640E170E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731520"/>
            <a:ext cx="75438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eritubular b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ow-pressure, porous capillaries adapted for absorption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e from efferent 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 to adjacent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into the renal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asa rec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ng, straight efferent arterioles of juxtamedullary neph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07C5-0407-40F9-B6C9-80157A3764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_x0018_25-05a_AnatNephrns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579600" y="914400"/>
            <a:ext cx="7954920" cy="51847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FA0F-C263-4CFE-BFD5-663D822204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1976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scular Resistance in Microcircu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rent and efferent arterioles offer high resistance to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declines from 95mm Hg in renal arteries to 8 mm Hg in renal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a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glomeruli from fluctuations in systemic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e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s high glomer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hydrostatic pressure in peritubular capill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9CF-FF4F-4746-9956-9F6460B6A9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898-75E3-403D-9432-6D09F4A731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419120" y="609480"/>
            <a:ext cx="5896080" cy="560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09480" y="4572000"/>
            <a:ext cx="324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merular capillary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essure vascular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ing oncotic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ood fo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953960" y="4495680"/>
            <a:ext cx="331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tubular capillar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essure vascular be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oncot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ood for re-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878400" y="685800"/>
            <a:ext cx="7350840" cy="3657600"/>
            <a:chOff x="878400" y="685800"/>
            <a:chExt cx="7350840" cy="3657600"/>
          </a:xfrm>
        </p:grpSpPr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 flipH="1" rot="5400000">
              <a:off x="2903040" y="-982800"/>
              <a:ext cx="3657600" cy="69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878400" y="354384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ferent arteri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3503160" y="399528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rent arteri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528160" y="3769560"/>
              <a:ext cx="211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tubular capil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1099080" y="2415600"/>
              <a:ext cx="178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wman’s caps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5286240" y="911160"/>
              <a:ext cx="25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ximal convoluted tub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C397-92AD-4F2B-BE6F-2790CB978E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6-04-10T23:09:33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