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1C5-18FF-488F-8DEA-DBDD2AD2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431-271A-4130-A7E8-301958EC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E3A-32D2-4200-8EE4-6D59022F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ACE-C715-4F34-BAF1-AC7328B6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C49-1041-4A5F-A29D-A2655E61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7896-E15A-46F7-ACA1-6BE681CF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CF4-4375-45E6-BB84-D1A55FA4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CFF-4167-43DA-B522-81E7797C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19F-2C83-4D71-8B0E-BA946309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183-E170-4150-8922-00877F9C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AE8-1E3D-42D2-9BEB-B7C5F88C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4C6-DC0B-4275-99DF-BBC78EB8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E830-C249-4EEB-8F0B-C8ADB2E39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62120" y="1143000"/>
            <a:ext cx="7696080" cy="186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00"/>
                </a:solidFill>
                <a:latin typeface="Arial"/>
                <a:ea typeface="Arial"/>
              </a:rPr>
              <a:t>Renal Physiology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  <a:ea typeface="Arial"/>
              </a:rPr>
              <a:t>Renal Haemodynamic &amp; Glomerular Filtration 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822680" y="3833640"/>
            <a:ext cx="35168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Dr 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Mobile No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89ED-E9BB-4703-8A09-BBD7312EC8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5715000" y="3814920"/>
            <a:ext cx="1523880" cy="1442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55200"/>
            <a:ext cx="769608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chanisms of Urine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dneys filter the body’s entire plasma volume 60 times each d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t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all plasma components except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es water, nutrients, and essential ions to become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ine contains metabolic wastes and unneeded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E121-50B0-437D-B6C7-7A2627999E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chanisms of Urine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85800" y="1828800"/>
            <a:ext cx="3505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rine formation and adjustment of blood composition involves three major proc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merular 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bular re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_x0018_25-08_SingleNephrn_1.jpg                                       00022699_x000c_Macintosh HD                   ABA78158:"/>
          <p:cNvPicPr/>
          <p:nvPr/>
        </p:nvPicPr>
        <p:blipFill>
          <a:blip r:embed="rId1"/>
          <a:stretch/>
        </p:blipFill>
        <p:spPr>
          <a:xfrm>
            <a:off x="4405320" y="1752480"/>
            <a:ext cx="4067280" cy="449604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A97C-6F83-4512-B131-FA3F10D5B9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merular Fil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2027160"/>
            <a:ext cx="7543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tep in urine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flows through the glomerulus, allowing protein-free plasma to be filtered through the glomerular capillaries into the Bowman’s caps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% of plasma entering the glomerulus is fil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5 ml/min filtered 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E73F-F15C-4A86-BA27-2495AFA9F7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ment of substances from tubular lumen back into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bsorbed substances not lost in the urine, but are carried by the peritubular capillaries to the ven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filtered plasma is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13FE-7B15-43BD-B438-FA2CA2217B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bular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4678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lective transfer of substances from the peritubular capillary into the tubular 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apid elimination of substances from the plasma via extraction of the 80% of unfiltered plasma in peritubular capillaries and adding it to the substances already in tubule as result of 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D536-6545-4EF5-B40B-5AED29051C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ine Excretion “The end produc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imination of substances from the body in the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lasma constituents filtered or secreted, but not reabsorbed remain in the tubules and pass into the renal pelvis to be excreted as urine and eliminated from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D4C9-35DA-4906-B64B-A2051C0C23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bsorption can be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transcellular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ross the cell) or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paracell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the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substance has moved pass the tubular epithelium cell into the interstitial space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bulk f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accounts for its movement back into the peritubular capil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F2D5-4054-4948-8984-ECCECA92C9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siv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k flow results from the imbalance of osmotic or hydrostatic forces at the peritubular capillary.  Exactly the same as at the peripheral capillary or the glomer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howimage"/>
          <p:cNvPicPr/>
          <p:nvPr/>
        </p:nvPicPr>
        <p:blipFill>
          <a:blip r:embed="rId1"/>
          <a:stretch/>
        </p:blipFill>
        <p:spPr>
          <a:xfrm>
            <a:off x="3657600" y="2286000"/>
            <a:ext cx="4876920" cy="316872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F28C-FD25-4A4F-ACF1-7F70535DA5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substances are reabsorbed via active transport.  These are substances that are needed by the body (e.g.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lucose, aas, other electrol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reabsorption-99.5% of filtered sodium is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tubules (6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of Henle (2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/Collecting tubules (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512F-4232-48B7-8A33-A6B073EDFF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reabsorption is via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rimary active trans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ATP hydrolysis (e.g. Na+) or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econdary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ctive trans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an ion gradient (e.g. gluc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transpor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+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DFCD-61B1-4782-9168-492596CB81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at the mechanism of urine formation include three basic processes; glomerular filtration, tubular reabsorption and tubular secre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GFR and quote normal val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e factors controlling GFR in terms of starling forces, permeability with respect to size, shape and electrical charges and ultra-filtration coeffici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Intrinsic and extrinsic mechanism that regulate GF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autoregulation of GFR &amp;  tubuloglomerular feedback mecha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63AA-E111-48BB-88A9-202B0B47AF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55200"/>
            <a:ext cx="769608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 Filtration Pressure (NF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sure responsible for filtrate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 equals the glomerular hydrostatic pressure (H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inus the oncotic pressure of glomerular blood (O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mbined with the capsular hydrostatic pressure (H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600200" y="4313160"/>
            <a:ext cx="6172200" cy="1690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FP = H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(O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FP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-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3F11-B409-453B-85FC-0620F74E51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merular Filtration 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179800"/>
            <a:ext cx="76201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merular filtration rate (GFR) is the rate of production of filtrate at the glomeruli from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80 – 140 ml/min depending on age, sex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of the filtration rates of all functioning neph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of kidne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CF78-3608-41C9-99B4-AB0E078676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731880"/>
            <a:ext cx="7696080" cy="86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governing filtration rate at the capillary bed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surface area available for fil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ration membrane perm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filtration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FR is directly proportional to the N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GFR normally result from changes in glomerular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075E-E2E1-49FF-9B69-6DAE5361C1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GFR i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oo 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substances cannot be reabsorbed quickly enough and are lost in the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GFR i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oo 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is reabsorbed, including wastes that are normally dispose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97EF-2E60-4617-960D-40D4DDE615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4" descr=""/>
          <p:cNvPicPr/>
          <p:nvPr/>
        </p:nvPicPr>
        <p:blipFill>
          <a:blip r:embed="rId1"/>
          <a:stretch/>
        </p:blipFill>
        <p:spPr>
          <a:xfrm>
            <a:off x="646200" y="603360"/>
            <a:ext cx="6156360" cy="664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993320" y="1305000"/>
            <a:ext cx="57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glomerular hydrostatic pressure (GH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push fluid out of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capsular hydrostatic pressure (CsH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push fluid back into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953360" y="3657600"/>
            <a:ext cx="46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net hydrostatic pressure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(NH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857320" y="464832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NHP  =  GHP - Cs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506760" y="53341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- 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2062080" y="53341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35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6388200" y="53341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06E5-D271-4488-8E88-A343C1AD96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4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4767120" cy="5792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930240" y="2076480"/>
            <a:ext cx="7299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blood colloid osmotic pressure (BC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proteins in blood (hyperosmo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draw water back into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~ 25 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1860-1E0C-415B-8F08-910A37BC02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4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6662880" cy="579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1743480" y="144792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FP = NHP - B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799720" y="24591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35  - 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603800" y="245916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006880" y="245916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637560" y="327672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importance of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893240" y="4495680"/>
            <a:ext cx="41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20% drop in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50mm Hg to 40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filtration would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3E31-3D65-4232-8E6A-670AED3D0F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14_08"/>
          <p:cNvPicPr/>
          <p:nvPr/>
        </p:nvPicPr>
        <p:blipFill>
          <a:blip r:embed="rId1"/>
          <a:stretch/>
        </p:blipFill>
        <p:spPr>
          <a:xfrm>
            <a:off x="4772160" y="1219320"/>
            <a:ext cx="382572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Rectangle 3"/>
          <p:cNvSpPr/>
          <p:nvPr/>
        </p:nvSpPr>
        <p:spPr>
          <a:xfrm>
            <a:off x="609480" y="609480"/>
            <a:ext cx="41148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en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sure inside capillaries &gt; Pressure out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vement of fluid from bl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ces in capillaries: hydrostatic pressure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+ 60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otic pressu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- 29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 outward pressure = 60 – 29 = 31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ces in capsule: hydrostatic pressur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-15mmH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otic pressu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0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all: 31 – 15 = 16 mmHg out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e adults GFR: ~ 90 – 140 ml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male: 80 – 125 ml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 ml/min usually good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EC9B-242C-46B4-A31C-FE4DADB069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3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8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4" dur="5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AE87-1D5D-49DC-A040-3D450257F7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ood supply to the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one-fourth (1200 ml) of systemic cardiac output flows through the kidneys each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cortex receives more than 90% of the blood that perfused into the kidney, which is perfused at a rate of about 500 ml/min per 100 gm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100 times greater than resting muscle blood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remainder of the renal blood supply goes to the capsule and the renal adipose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me of the cortical blood then passes to the med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9840-39D1-4AD2-A97C-73DA8416BF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pillary Beds of the N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5238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nephron has two capillary b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meru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tubular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glomerulus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 by an afferent arteri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ined by an efferent arteri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 in the glomerulus is high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erioles are high-resistance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rent arterioles have larger diameters than efferent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9BD4-2582-4752-8BEC-2B7F34B142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731520"/>
            <a:ext cx="754380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pillary B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eritubular b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low-pressure, porous capillaries adapted for absorption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se from efferent arteri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here to adjacent renal tub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ty into the renal ven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asa rec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ong, straight efferent arterioles of juxtamedullary neph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7980-DBA8-49C1-A5C5-551EFC53CA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_x0018_25-05a_AnatNephrns_1.jpg                                       00022699_x000c_Macintosh HD                   ABA78158:"/>
          <p:cNvPicPr/>
          <p:nvPr/>
        </p:nvPicPr>
        <p:blipFill>
          <a:blip r:embed="rId1"/>
          <a:stretch/>
        </p:blipFill>
        <p:spPr>
          <a:xfrm>
            <a:off x="579600" y="914400"/>
            <a:ext cx="7954920" cy="518472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3F24-D119-4B98-96A2-C70B19324A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655200"/>
            <a:ext cx="761976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ascular Resistance in Microcircul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rent and efferent arterioles offer high resistance to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 declines from 95mm Hg in renal arteries to 8 mm Hg in renal v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 afferent arterio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s glomeruli from fluctuations in systemic bloo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 efferent arterio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nforces high glomerula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hydrostatic pressure in peritubular capill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78FE-759A-4D85-B1E3-60B3A557FB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CB33-AF84-480A-8D25-643176B37A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419120" y="609480"/>
            <a:ext cx="5896080" cy="560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09480" y="4572000"/>
            <a:ext cx="324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merular capillary 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pressure vascular b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asing oncotic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Good for 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953960" y="4495680"/>
            <a:ext cx="331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itubular capillary b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pressure vascular bed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oncotic pres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Good for re-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878400" y="685800"/>
            <a:ext cx="7350840" cy="3657600"/>
            <a:chOff x="878400" y="685800"/>
            <a:chExt cx="7350840" cy="3657600"/>
          </a:xfrm>
        </p:grpSpPr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 flipH="1" rot="5400000">
              <a:off x="2903040" y="-982800"/>
              <a:ext cx="3657600" cy="699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878400" y="3543840"/>
              <a:ext cx="181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ferent arterio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3503160" y="3995280"/>
              <a:ext cx="161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ferent arteri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5528160" y="3769560"/>
              <a:ext cx="211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tubular capilla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9"/>
            <p:cNvSpPr/>
            <p:nvPr/>
          </p:nvSpPr>
          <p:spPr>
            <a:xfrm>
              <a:off x="1099080" y="2415600"/>
              <a:ext cx="178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wman’s caps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5286240" y="911160"/>
              <a:ext cx="257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ximal convoluted tub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67D3-7BA8-42A3-8B26-FAE26F1898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hmad Ahmeda</cp:lastModifiedBy>
  <dcterms:modified xsi:type="dcterms:W3CDTF">2016-04-10T23:09:33Z</dcterms:modified>
  <cp:revision>1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