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0ED-F6F2-41A6-853E-B4A75E3F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19F-8D47-452A-9CD1-36D83402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259-40CC-4A9E-8116-9A9FFAFB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11A-E02A-421C-B7EE-9E92364F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E41-0171-4470-9D81-D5205B5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92C-2365-4553-97CB-48075F6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E2B-9545-4B31-9203-14CC7D8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FB0-3C82-4B4A-BBD6-6B35816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AC8-BE31-4B8C-8770-3D19094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90C-A3B0-45F6-A1BB-C5AD70A8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408-2267-48EE-BA94-E3F0FF2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D15-4DA3-4856-BA35-623B779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9EFF-499F-40BE-9771-47186CF0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mailto:aahmeda@ksu.edu.s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1066680"/>
            <a:ext cx="548640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</a:rPr>
              <a:t>Renal Physiology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B22F-CB17-45F7-B74E-E3513924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590920" cy="2013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523880" y="3429000"/>
            <a:ext cx="38102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Myogenic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response of vascular smooth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, increased stretch due to pressure rise depolarises the cells, calcium enters and causes a vasocon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 developed in the kid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howimageCAZLALYV"/>
          <p:cNvPicPr/>
          <p:nvPr/>
        </p:nvPicPr>
        <p:blipFill>
          <a:blip r:embed="rId1"/>
          <a:stretch/>
        </p:blipFill>
        <p:spPr>
          <a:xfrm>
            <a:off x="4826160" y="1752480"/>
            <a:ext cx="371304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625-B70B-4323-8185-2FA43E87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Tubuloglomerula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aCl] depend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ula densa cells in JGA detect [NaCl] send signals to afferent arteri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F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NaCl] 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d by JG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eriole con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od 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diator unknown ?? Adenosine/R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239-C308-42B1-BABA-4BF10FEA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9780323045827-032-f019"/>
          <p:cNvPicPr/>
          <p:nvPr/>
        </p:nvPicPr>
        <p:blipFill>
          <a:blip r:embed="rId1"/>
          <a:stretch/>
        </p:blipFill>
        <p:spPr>
          <a:xfrm>
            <a:off x="2289240" y="609480"/>
            <a:ext cx="456876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92A-0A4A-459C-87D4-EF7668419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5556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pathetic Regulation of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226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vasoconstriction of afferent arter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s blood volume to muscles and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rdiovascular sh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glomerular capillary hydrostatic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urine output (U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7_11"/>
          <p:cNvPicPr/>
          <p:nvPr/>
        </p:nvPicPr>
        <p:blipFill>
          <a:blip r:embed="rId1"/>
          <a:srcRect l="3750" t="0" r="3750" b="0"/>
          <a:stretch/>
        </p:blipFill>
        <p:spPr>
          <a:xfrm>
            <a:off x="4343400" y="1994040"/>
            <a:ext cx="4114800" cy="40035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286-22F8-47A1-8F22-EE40FCCA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insic Reg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umoral and pharmacological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phrine, Nor-Epinephrine, Angiotensin II, Prostaglandin (F), and Thromboxane cause renal vasoconstriction and results in decrease in RBF and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choline, Bradykinin, Prostaglandin (D, E, and I), and bacterial pyogens cause renal vasodilation and results in increase in RBF and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DDBD-D32C-4C33-B53F-F727CCCD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insic Reg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772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ological St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deep anesthesia, fright, sever exercise, hypoxia and ischemia stimulate sympathetic NF leading to renal vasoconstriction and decrease in R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F increase in supine than sitting than standing. Changing the posture from lying to standing leads to a decrease of about 15% in RBF due to the stimulation of sympathetic N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E25-1CB2-413C-9343-0CCA800E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800600" y="73188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ferent arteriolar 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fferent arteriolar 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fferent arteriolar dila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ferent arteriolar dila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howimageCAP78LYL"/>
          <p:cNvPicPr/>
          <p:nvPr/>
        </p:nvPicPr>
        <p:blipFill>
          <a:blip r:embed="rId1"/>
          <a:stretch/>
        </p:blipFill>
        <p:spPr>
          <a:xfrm>
            <a:off x="1371600" y="609480"/>
            <a:ext cx="332748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364-4597-4153-92AF-7307447A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1625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sma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learance value of a certain sub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means the vol. of plasma which is cleared from this substance by the kidney (in urine) 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calculated by applying the formula   U x V / P 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) = Vol. of urine (ml) 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U) = Conc. of the substance mg/ml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 = Conc. of the substance mg/ml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25F-872B-4688-B31A-944E9840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exogenous substance used in plasma clearance tests should h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following proper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ys in the plasma i.e. does not enter the RBC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affect the renal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metabolized by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easured in plasma &amp;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86F-7973-477C-9C98-E8601C8E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55560"/>
            <a:ext cx="72388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ubstance is freely filtered at the glomeruli and is not reabsorbed, secreted or metabolized in the nephron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filtered per minute = amount excreted per 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ub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las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glomerular filtration rate = [sub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urine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F169-C167-48E5-8934-C6382E10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cept of renal plasma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rmula for measuring renal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learance principles for inulin, creatinine etc. for determination of 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it is easier for a physician to use creatinine clearance Instead of Inulin for the estimation of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glucose and urea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we use of PAH clearance for measuring renal blood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302E-0DA8-4D28-9023-59476C4A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5"/>
          <p:cNvGraphicFramePr/>
          <p:nvPr/>
        </p:nvGraphicFramePr>
        <p:xfrm>
          <a:off x="2494080" y="457200"/>
          <a:ext cx="40827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4080" y="457200"/>
                    <a:ext cx="40827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6EED-E2F5-441C-92A6-05A49306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086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lasma clearance tests can be used f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 of the glomerular filtra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 of the renal plasma flow rate (&amp; from there we can calculate the renal blood flow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ing the renal handling of the different substances; whether or not the substance is reabsorbed or secreted by the renal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7B2-A626-45EA-8A1A-F2706622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ance measurements are also used to examine renal management of substances absorbed or secreted by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ubstances secreted by the 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R.Ps +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Us.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T = amount transpor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goes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        What leav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into the nephrons             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UV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Cs &gt; Cin  Secretion into nephrons is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C211-E168-4022-B03A-E621D84E9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ubstances absorbed by the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R.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+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T = amount transpor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goes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lea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Into the nephrons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the 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R.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 =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UV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3300"/>
                </a:solidFill>
                <a:latin typeface="Arial"/>
              </a:rPr>
              <a:t>subs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&lt;    C</a:t>
            </a:r>
            <a:r>
              <a:rPr b="0" lang="en-GB" sz="2400" spc="-1" strike="noStrike" baseline="-25000">
                <a:solidFill>
                  <a:srgbClr val="003300"/>
                </a:solidFill>
                <a:latin typeface="Arial"/>
              </a:rPr>
              <a:t>inulin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Absorption from nephrons is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V = normally zero for glucose &amp;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932-7CB9-4196-B789-060C9ACA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55200"/>
            <a:ext cx="693432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.A.H.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measure the R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perties of P.A.H.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present below a certain conc.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completely removed by a single circulation through the kidney. This i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easily fi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ecreted by renal tub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not reabsorbed after fil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Not enter RBC’s or other tissu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Not metabolized by tissues. 4) Not 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Not adsorbed to the unfiltrated plasma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B4AC-BE25-41F3-9BAB-729C4C08A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55560"/>
            <a:ext cx="739116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rea Clearance T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atient evacuates his bladder, then drinks a glass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1 h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lood &amp; urine samples are taken &amp; he drinks another glass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2 hr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other urine sample is ta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rine vol. /min. is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above 2 ml /m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 get the maximal urea clea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C = (U) x (V) / (P)       = 75 ml /min. (norm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below 2 ml /m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 get the standard urea cle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 = (U) x (V) / (P) = 54 ml /min. (norm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U) = Conc. of urea in 1 ml u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) = Vol. of urine 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) = Conc. of urea in 1 ml 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F4D-981E-4A46-9B6D-15C4E530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showimageCA7V8EEC"/>
          <p:cNvPicPr/>
          <p:nvPr/>
        </p:nvPicPr>
        <p:blipFill>
          <a:blip r:embed="rId1"/>
          <a:stretch/>
        </p:blipFill>
        <p:spPr>
          <a:xfrm>
            <a:off x="2390760" y="781200"/>
            <a:ext cx="4467240" cy="53910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3C5-CC6B-4112-A578-A1C65F287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4F3-7FA2-4F56-B5F0-787A3223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696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8769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A65-8DE2-4B7E-961E-336A3AED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ances Used to Measure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985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u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olymer of fructose, is used in research to precisely measur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ly filtered into the Bow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eabsorbed, secreted or metabolized by the neph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endogenous, has to be infused intraven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nulin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0 mg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nulin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las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mg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ne flow rate = 2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R = 120 ml/min or 172.3 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1BC-BA42-4CA6-B592-C5B1CDD3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ances Used to Measure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ly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reati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dogenously released into plasma by skeletal muscle, is used to measur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inulin as a small quantity is secreted into the proximal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excreted &gt; amount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y accurate measurement of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EBF-6605-4200-A54F-1D902611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M9780323045827-032-f014"/>
          <p:cNvPicPr/>
          <p:nvPr/>
        </p:nvPicPr>
        <p:blipFill>
          <a:blip r:embed="rId1"/>
          <a:stretch/>
        </p:blipFill>
        <p:spPr>
          <a:xfrm>
            <a:off x="4770360" y="1676520"/>
            <a:ext cx="376416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5" descr="M9780323045827-032-f013"/>
          <p:cNvPicPr/>
          <p:nvPr/>
        </p:nvPicPr>
        <p:blipFill>
          <a:blip r:embed="rId2"/>
          <a:stretch/>
        </p:blipFill>
        <p:spPr>
          <a:xfrm>
            <a:off x="731880" y="1143000"/>
            <a:ext cx="3992400" cy="46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2612-1A85-4EBB-8CE0-F7199290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962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creatinine concentration in a urine sample, urine flow rate and plasma creatinine concentration can be used to determin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828800" y="2216160"/>
            <a:ext cx="5210280" cy="11365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EFA-62E0-4A59-8FE2-FDCC3A485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55200"/>
            <a:ext cx="754380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GFR &amp; RB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uto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asculature also exhibits a well develop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ins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lity to adjust its resistance in response to changes in arterial BP and thus to keep BF and GFR essentially constant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n human, effective over a range of BP from 75-160mmHg. Below 75mmHg, filtration falls and ceases altogether when MBP = 50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B49-3339-4B5C-8215-3123A31DE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GFR &amp; RB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03120"/>
            <a:ext cx="7848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mean arterial P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re is an automatic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fferent arteriolar constriction, preventing a rise in glomerular pressur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Dilatation occurs if P f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regulation is independent of nerves or hormones, occurs in denervated and in isolated perfused kidn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echanisms are responsible for the auto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0C7-86DD-4EEC-92A8-4E0EF1BC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hmad Ahmeda</dc:creator>
  <dc:description/>
  <dc:language>en-US</dc:language>
  <cp:lastModifiedBy>3422</cp:lastModifiedBy>
  <cp:lastPrinted>2015-04-19T19:44:21Z</cp:lastPrinted>
  <dcterms:modified xsi:type="dcterms:W3CDTF">2016-04-18T08:04:34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