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F89-5E40-4BA3-9EA3-2120EABC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1FF-278F-4E8A-A9E8-DFA4B011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B1E-B061-4B35-B458-914A8A40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6AE-AAD8-4E51-90E2-B75C266E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0E9-206E-457A-92BF-81D059F6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DE4-ECC4-4C21-B0BE-159F51B4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6D0-FDF2-404A-A7C5-55DFCE1D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5ECC-0C5F-4A5F-B5C4-7F136235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EBF-E4D5-49E2-9959-A2717315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0C5-7F6F-4944-B31F-EAB3404D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B6B-B9A2-4C5C-BC14-FD46141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A24-FBD3-48C0-B1C3-E3C2C116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C6CC-5ABA-4391-B159-0793B22DB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mailto:aahmeda@ksu.edu.s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828800" y="1066680"/>
            <a:ext cx="5486400" cy="131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"/>
              </a:rPr>
              <a:t>Renal Physiology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29F9-F2B8-4917-88E4-C898AFF12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5638680" y="3124080"/>
            <a:ext cx="2590920" cy="20131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523880" y="3429000"/>
            <a:ext cx="38102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) Myogenic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rmal response of vascular smooth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is, increased stretch due to pressure rise depolarises the cells, calcium enters and causes a vasocon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 developed in the kidn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howimageCAZLALYV"/>
          <p:cNvPicPr/>
          <p:nvPr/>
        </p:nvPicPr>
        <p:blipFill>
          <a:blip r:embed="rId1"/>
          <a:stretch/>
        </p:blipFill>
        <p:spPr>
          <a:xfrm>
            <a:off x="4826160" y="1752480"/>
            <a:ext cx="3713040" cy="396252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D809-3D98-4899-A433-B2290F398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Tubuloglomerular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NaCl] dependen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ula densa cells in JGA detect [NaCl] send signals to afferent arteri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F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NaCl] fil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d by JG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teriole constri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is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od flow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diator unknown ?? Adenosine/Re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BA58-F5F6-413F-91E7-7B65F32AA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M9780323045827-032-f019"/>
          <p:cNvPicPr/>
          <p:nvPr/>
        </p:nvPicPr>
        <p:blipFill>
          <a:blip r:embed="rId1"/>
          <a:stretch/>
        </p:blipFill>
        <p:spPr>
          <a:xfrm>
            <a:off x="2289240" y="609480"/>
            <a:ext cx="456876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A6CE-A2EA-4EC2-8B05-323AE01FC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655560"/>
            <a:ext cx="769608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mpathetic Regulation of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226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vasoconstriction of afferent arter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rves blood volume to muscles and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ardiovascular sh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glomerular capillary hydrostatic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urine output (U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7_11"/>
          <p:cNvPicPr/>
          <p:nvPr/>
        </p:nvPicPr>
        <p:blipFill>
          <a:blip r:embed="rId1"/>
          <a:srcRect l="3750" t="0" r="3750" b="0"/>
          <a:stretch/>
        </p:blipFill>
        <p:spPr>
          <a:xfrm>
            <a:off x="4343400" y="1994040"/>
            <a:ext cx="4114800" cy="400356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CA30-529E-4321-A529-4407F09EE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rinsic Regul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1760" y="19810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umoral and pharmacological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nephrine, Nor-Epinephrine, Angiotensin II, Prostaglandin (F), and Thromboxane cause renal vasoconstriction and results in decrease in RBF and GF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tylcholine, Bradykinin, Prostaglandin (D, E, and I), and bacterial pyogens cause renal vasodilation and results in increase in RBF and GF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1285-E94E-4563-A44F-BC0C1CB2E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rinsic Regul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7720" y="19810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ological Str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, deep anesthesia, fright, sever exercise, hypoxia and ischemia stimulate sympathetic NF leading to renal vasoconstriction and decrease in R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F increase in supine than sitting than standing. Changing the posture from lying to standing leads to a decrease of about 15% in RBF due to the stimulation of sympathetic N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B0EF-B7E5-4EB7-902D-F834D9496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800600" y="73188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fferent arteriolar 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fferent arteriolar 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fferent arteriolar dila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fferent arteriolar dila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howimageCAP78LYL"/>
          <p:cNvPicPr/>
          <p:nvPr/>
        </p:nvPicPr>
        <p:blipFill>
          <a:blip r:embed="rId1"/>
          <a:stretch/>
        </p:blipFill>
        <p:spPr>
          <a:xfrm>
            <a:off x="1371600" y="609480"/>
            <a:ext cx="3327480" cy="563904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9DE2-C25C-411E-96A2-CEAB6F953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1625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asma 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learance value of a certain substanc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means the vol. of plasma which is cleared from this substance by the kidney (in urine) 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calculated by applying the formula   U x V / P 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V) = Vol. of urine (ml) 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U) = Conc. of the substance mg/ml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) = Conc. of the substance mg/ml pla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53F2-9942-4816-ABB8-F75666F0B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exogenous substance used in plasma clearance tests should hav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following proper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ys in the plasma i.e. does not enter the RBC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es not affect the renal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metabolized by the kid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ly measured in plasma &amp;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tox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A5A2-DA1D-486C-AEE5-6D7B826D2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55560"/>
            <a:ext cx="723888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ubstance is freely filtered at the glomeruli and is not reabsorbed, secreted or metabolized in the nephron,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filtered per minute = amount excreted per min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ub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las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glomerular filtration rate = [sub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r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urine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65CF-40AA-46DF-8C53-9CBC0A4E0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17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cept of renal plasma cl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rmula for measuring renal cl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learance principles for inulin, creatinine etc. for determination of  GF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it is easier for a physician to use creatinine clearance Instead of Inulin for the estimation of GF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glucose and urea cl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we use of PAH clearance for measuring renal blood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CF9A-D3C5-4532-8F1E-98155A1C4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5"/>
          <p:cNvGraphicFramePr/>
          <p:nvPr/>
        </p:nvGraphicFramePr>
        <p:xfrm>
          <a:off x="2494080" y="457200"/>
          <a:ext cx="408276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4080" y="457200"/>
                    <a:ext cx="408276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3D8F-629E-45E7-B5E5-A38546093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086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lasma clearance tests can be used f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 of the glomerular filtratio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 of the renal plasma flow rate (&amp; from there we can calculate the renal blood flow r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ing the renal handling of the different substances; whether or not the substance is reabsorbed or secreted by the renal 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9F81-A20A-4037-BA11-57F075DCC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ance measurements are also used to examine renal management of substances absorbed or secreted by the kid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ubstances secreted by the ki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R.Ps + 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Us.V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T = amount transpor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What goes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           What leave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into the nephrons             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UV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Cs &gt; Cin  Secretion into nephrons is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4C08-E8D2-48F5-AF8C-9F354FB2A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ubstances absorbed by the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FR.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+ 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V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T = amount transpor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What goes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What lea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Into the nephrons 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990033"/>
                </a:solidFill>
                <a:latin typeface="Arial"/>
              </a:rPr>
              <a:t>the 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R.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  =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UV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C</a:t>
            </a:r>
            <a:r>
              <a:rPr b="0" lang="en-GB" sz="2400" spc="-1" strike="noStrike" baseline="-25000">
                <a:solidFill>
                  <a:srgbClr val="003300"/>
                </a:solidFill>
                <a:latin typeface="Arial"/>
              </a:rPr>
              <a:t>subs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&lt;    C</a:t>
            </a:r>
            <a:r>
              <a:rPr b="0" lang="en-GB" sz="2400" spc="-1" strike="noStrike" baseline="-25000">
                <a:solidFill>
                  <a:srgbClr val="003300"/>
                </a:solidFill>
                <a:latin typeface="Arial"/>
              </a:rPr>
              <a:t>inulin</a:t>
            </a:r>
            <a:r>
              <a:rPr b="0" lang="en-GB" sz="2400" spc="-1" strike="noStrike">
                <a:solidFill>
                  <a:srgbClr val="003300"/>
                </a:solidFill>
                <a:latin typeface="Arial"/>
              </a:rPr>
              <a:t>   Absorption from nephrons is occur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V = normally zero for glucose &amp; amino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5A12-F0F8-4986-9033-3EA991E7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55200"/>
            <a:ext cx="693432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.A.H.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to measure the R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perties of P.A.H.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present below a certain conc.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completely removed by a single circulation through the kidney. This is be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easily fil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secreted by renal tub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not reabsorbed after filt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Not enter RBC’s or other tissu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 Not metabolized by tissues. 4) Not tox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) Not adsorbed to the unfiltrated plasma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D22E-B050-4AA7-8F80-732C68F87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655560"/>
            <a:ext cx="739116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Urea Clearance Te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1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atient evacuates his bladder, then drinks a glass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1 hr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lood &amp; urine samples are taken &amp; he drinks another glass of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2 hr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other urine sample is ta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rine vol. /min. is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t is above 2 ml /m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e get the maximal urea clear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C = (U) x (V) / (P)       = 75 ml /min. (norm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t is below 2 ml /m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e get the standard urea cler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 = (U) x (V) / (P) = 54 ml /min. (norm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U) = Conc. of urea in 1 ml ur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V) = Vol. of urine /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) = Conc. of urea in 1 ml pla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2ECA-2901-43D4-B882-26FFC1BD1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showimageCA7V8EEC"/>
          <p:cNvPicPr/>
          <p:nvPr/>
        </p:nvPicPr>
        <p:blipFill>
          <a:blip r:embed="rId1"/>
          <a:stretch/>
        </p:blipFill>
        <p:spPr>
          <a:xfrm>
            <a:off x="2390760" y="781200"/>
            <a:ext cx="4467240" cy="53910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A85E-C9E1-40E6-8B6B-EB6C8843C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DEF3-72DA-4CEA-B038-00F4926F4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7696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8769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1FF2-CAA2-4018-B6FF-72221212F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ances Used to Measure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985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u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polymer of fructose, is used in research to precisely measure G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ly filtered into the Bow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reabsorbed, secreted or metabolized by the neph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endogenous, has to be infused intraven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ss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nulin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r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0 mg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Inulin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las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mg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ine flow rate = 2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R = 120 ml/min or 172.3 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28C6-1DA0-4D0E-89FB-81517C07D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ances Used to Measure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ly,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reatin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ndogenously released into plasma by skeletal muscle, is used to measure G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inulin as a small quantity is secreted into the proximal tub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excreted &gt; amount fi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y accurate measurement of G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F697-0298-430E-B2D0-AEBDFACC2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M9780323045827-032-f014"/>
          <p:cNvPicPr/>
          <p:nvPr/>
        </p:nvPicPr>
        <p:blipFill>
          <a:blip r:embed="rId1"/>
          <a:stretch/>
        </p:blipFill>
        <p:spPr>
          <a:xfrm>
            <a:off x="4770360" y="1676520"/>
            <a:ext cx="376416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5" descr="M9780323045827-032-f013"/>
          <p:cNvPicPr/>
          <p:nvPr/>
        </p:nvPicPr>
        <p:blipFill>
          <a:blip r:embed="rId2"/>
          <a:stretch/>
        </p:blipFill>
        <p:spPr>
          <a:xfrm>
            <a:off x="731880" y="1143000"/>
            <a:ext cx="3992400" cy="467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64CD-4458-4758-9C6C-2E9A86E06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4678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39621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creatinine concentration in a urine sample, urine flow rate and plasma creatinine concentration can be used to determine G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828800" y="2216160"/>
            <a:ext cx="5210280" cy="113652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44B9-D847-4F4D-AC22-AA10B6160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655200"/>
            <a:ext cx="754380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GFR &amp; RB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insic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Autoreg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asculature also exhibits a well develop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rinsi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ility to adjust its resistance in response to changes in arterial BP and thus to keep BF and GFR essentially constant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oreg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In human, effective over a range of BP from 75-160mmHg. Below 75mmHg, filtration falls and ceases altogether when MBP = 50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D60C-7F28-4827-B332-56BE8338F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GFR &amp; RB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03120"/>
            <a:ext cx="7848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mean arterial P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re is an automatic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afferent arteriolar constriction, preventing a rise in glomerular pressur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Dilatation occurs if P fal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regulation is independent of nerves or hormones, occurs in denervated and in isolated perfused kidn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echanisms are responsible for the autoreg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F826-572B-4D83-AFA6-9BC99929C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hmad Ahmeda</dc:creator>
  <dc:description/>
  <dc:language>en-US</dc:language>
  <cp:lastModifiedBy>3422</cp:lastModifiedBy>
  <cp:lastPrinted>2015-04-19T19:44:21Z</cp:lastPrinted>
  <dcterms:modified xsi:type="dcterms:W3CDTF">2016-04-18T08:04:34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