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0E40-F4D9-4878-B2D8-2A5A56DEA69D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9205-1C29-4E6C-9498-503F9D44681D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648-51DA-4FE0-8093-942829A3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700-1278-449B-97A5-8114EAF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CD7-F1C5-476E-B8C2-65C32744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31F-D7EA-4FAC-A6A1-9B275AA0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651-A799-4493-BC5E-DCBFD3E1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87F-ADF5-4944-BD61-F437A4A1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9FB-B5FE-4569-BA73-B8FC63FB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46F-D4E7-432C-9671-EB5AA3C2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C4C-3859-4EC9-A2ED-9133E909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4C3-99C2-4EEB-8771-B9502D5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00F-6F1C-4C31-8740-ADE88FF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742-AD8D-4908-981B-F3BA444C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C2AD-5A17-4705-A73A-7845E9ED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8756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C019-49FE-4AB3-A8B5-52DAECA1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BA15-16FC-47C6-A7C9-3EFB27B4F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65132" b="62624"/>
          <a:stretch/>
        </p:blipFill>
        <p:spPr>
          <a:xfrm>
            <a:off x="609480" y="609480"/>
            <a:ext cx="2764080" cy="21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5094360" cy="5645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655560"/>
            <a:ext cx="739152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mino acids,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very hig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 urinary excret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kidney does regulate some substances by means of th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m, eg sulphate and phosphate ions. This is becaus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et at a level whereby the normal [plasma] causes saturation so an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ve the normal level will be excreted, therefore achieving its plasma regulation. (Also subject to PTH regulation for phosphate, PT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bsor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672E-CEDA-496E-A9F2-BA6BE6B6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543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6705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epithelial process whereby most tubule contents are returned to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d substances move through three membra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al and basolateral membranes of tubu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thelium of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E9FB-C44A-4E5D-B9C5-65698D40D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gram 1" descr=""/>
          <p:cNvPicPr/>
          <p:nvPr/>
        </p:nvPicPr>
        <p:blipFill>
          <a:blip r:embed="rId1"/>
          <a:stretch/>
        </p:blipFill>
        <p:spPr>
          <a:xfrm>
            <a:off x="701640" y="2133720"/>
            <a:ext cx="7716960" cy="370656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7031-3533-4B20-8300-FE84A7162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714" t="0" r="5662" b="0"/>
          <a:stretch/>
        </p:blipFill>
        <p:spPr>
          <a:xfrm>
            <a:off x="533520" y="2757600"/>
            <a:ext cx="8001000" cy="272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, Excretion, and Reabsorption of Water, Electrolyte, and Solute by the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86B2-1E93-4FA9-896E-BED682ABA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Reabsorp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y Activ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 is almost always by 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ers the tubule cells at the lumin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tively transported out of the tubules by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Pas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9A30-BB45-434F-BE23-D33B24DCE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ater &amp; Solute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ne of the main functions of neph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 25,000 mEq/day N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79 L/da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ortant solutes are linked either directly or indirectly to reabsorption of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4724280" y="3178080"/>
            <a:ext cx="217440" cy="647640"/>
          </a:xfrm>
          <a:custGeom>
            <a:avLst/>
            <a:gdLst>
              <a:gd name="textAreaLeft" fmla="*/ 0 w 217440"/>
              <a:gd name="textAreaRight" fmla="*/ 78480 w 2174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181480" y="3139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ed daily by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6F8E-9E92-4D3B-83CB-3B6FA164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sms of tubular absorption &amp;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d dif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cyt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038480" y="2895480"/>
            <a:ext cx="217440" cy="533520"/>
          </a:xfrm>
          <a:custGeom>
            <a:avLst/>
            <a:gdLst>
              <a:gd name="textAreaLeft" fmla="*/ 0 w 217440"/>
              <a:gd name="textAreaRight" fmla="*/ 78480 w 2174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10160" y="2743200"/>
            <a:ext cx="308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wn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076640" y="4267080"/>
            <a:ext cx="217440" cy="571680"/>
          </a:xfrm>
          <a:custGeom>
            <a:avLst/>
            <a:gdLst>
              <a:gd name="textAreaLeft" fmla="*/ 0 w 217440"/>
              <a:gd name="textAreaRight" fmla="*/ 78480 w 21744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648320" y="40384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gainst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, ne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F8BC-3781-49B8-997D-E968BC912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315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ximal convoluted tu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y epithelium permeable to ions &amp;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70 % of Na+, Cl-, K+, water absorbed passively (follows Na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+ Reabsorption (transcellul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ly PCT Na+ absorb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d with H+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CO3-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organ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, amino acids, lactate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867280" y="4419720"/>
            <a:ext cx="293760" cy="1371600"/>
          </a:xfrm>
          <a:custGeom>
            <a:avLst/>
            <a:gdLst>
              <a:gd name="textAreaLeft" fmla="*/ 0 w 293760"/>
              <a:gd name="textAreaRight" fmla="*/ 106200 w 293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477120" y="4495680"/>
            <a:ext cx="148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ATPas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8BA7-502D-4AB9-BDC7-D7DE9002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7E00-795E-4F92-BEC2-D41057A0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7200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earning 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ubular reabsorption, tubular secretion, transcellular and paracellular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s of tubular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ubular reabsorption of sodium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tubulo-glomerular feedback and describe its physiological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 involved in Glucose  re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glucose titration curve in terms of renal threshold, tubular transport maximum, splay, excretion and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ubular site and describe how Amino Acids, HCO3-, P04- and Urea are reabsor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E72C-114D-4A1E-8DA4-B7334A252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3962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NHE takes u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s reabsorption of HCO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Sym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94280" y="609480"/>
            <a:ext cx="3540240" cy="56390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890A-4909-479D-AACD-7C5A88AA1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1604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ucos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7524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lumen to tubular cell: Sodium co-transporter (Carrier-mediated secondary active transport). Uphill transport of glucose driven by electro-chemical gradient of sodium, which is maintained by Na-K pump presents in basolateral cell membr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cell to peritubular capillary: Facilitated diffusion (Carrier-mediated passive transpo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2D9D-8690-46B9-A84E-E7302944F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54BE-DEB5-4AEF-A8CD-A0B7EED01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46200" y="792000"/>
            <a:ext cx="7888320" cy="530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2388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PCT Na+ Reabsorbed mainly with Cl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different transport mechanisms in late PCT,  lack of organic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ranscellular: Na+ entry using NHE &amp; 1 or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nion anti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creted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anion combine in the tubular fluid &amp; reenter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ions involved: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mate, oxalate,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CB1F-D0F5-4B7C-B5C6-CFBE7EBAC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4EFD-F6EE-401D-874C-CFECAB3E6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Paracellular (passive diffusion) With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high [Cl-] in tub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mEq/L in the tubule lumen and 105 mEq/L in interstit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c. gradient favors diffusion of Cl- from the tubular lumen a cross the tight junction into the lateral intercellula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ve charge in tubu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+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of Na+ reabsorbed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4F6C-A439-4961-AD7A-A78173F7D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F53C-75F9-457E-9C00-4D0709B05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639720"/>
            <a:ext cx="7086600" cy="96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e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722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 plasma level of urea 2.5-6.5 mM/L (15-39 mg/100m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Mechanism of urea reabsor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0-70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filtered load of urea is reabsorped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half of P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CT and CD (ADH depend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water reabsorption in the first half of PCT, the conc. of urea is increased in the second half and urea is reabsorbed by simple diffusion (downh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40F2-B8B3-4420-852F-9BAF02855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CD6C-F7D2-4521-B31E-B8F3AA8B3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0" t="0" r="50003" b="58889"/>
          <a:stretch/>
        </p:blipFill>
        <p:spPr>
          <a:xfrm>
            <a:off x="2133720" y="690480"/>
            <a:ext cx="4800600" cy="5558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cells permeabl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Reabsorbs 67% of filter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tubular Passive (osmosis), due to osmotic active substances that are absorbed 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HCO3-,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ule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space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DB41-FF9D-4D89-B956-ADD9B872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4674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7985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concentration of a substance dissolved in the blood above which the kidneys begin to remove it into the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t this level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filtered load exceeds the absorptive capacity of the 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high threshold: glucose, amino acids &amp; vitam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medium threshold: K+ &amp;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low threshold: phosphate &amp;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no threshold: creatinine, mannitol &amp; in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38E6-1ED0-4A0E-9E78-383C1576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34320" cy="560880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D078-AE12-4D68-A90D-E0A04C4AA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 drag: K+, Ca2+, carried with water &amp; hence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umulation of fluid and solutes within the lateral intercellular space increases hydrostatic pressure in this com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hydrostatic pressure forces fluid and solutes into the capillaries. Thus, water reabsorption follows sol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proximal tubule reabsorption is isosmo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174E-7F8F-4C16-8F6A-D51167E83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hormones, small proteins &amp; amino acids reabsorbed in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 Endocytosis into PCT, either intact or after being partially degraded by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rotein inside the cell, enzyme digest them into amino acids, which leave the cell to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aximum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o much protein filtered = protein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A64A-39B2-47D4-AA2C-537F45682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0106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17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nal tubules are poorly-permeable 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However, it is still reabsorbed but in the form of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o which the tubules are very highly permeab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occurs through the following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formed inside the cells then secreted in the tubular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bines with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tubular fluid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4048-3B70-4079-8FCB-4AF63648C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rcRect l="0" t="0" r="0" b="52705"/>
          <a:stretch/>
        </p:blipFill>
        <p:spPr>
          <a:xfrm>
            <a:off x="1447920" y="914400"/>
            <a:ext cx="6473880" cy="487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23924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ctivity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bonic anhydrase enzyme (C.A.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tubular fluid,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ssociates in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uses into the cells where it combines with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(by activity of an intracellular C.A.),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dissociates in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vely diffuses into the interstitial fluid (then to the blood) while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ecreted into the tubular fluid to help more reabsorption of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94A8-E13B-47BB-827F-99B5DE06B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360" y="19047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bsorp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erial P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[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5636-BC45-458A-8A3E-4009B100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7C85-82F9-4A89-80ED-01D54B45E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2481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828440"/>
            <a:ext cx="7238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earance of glucose in urine before the transport maximum is reached is termed “Splay” and result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phron variability: “in glomerular size &amp; tubular length”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riability in the number of glucose carriers &amp; the transport rate of the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06E9-5994-4235-BCF7-717119FF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1337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t is the maximal amount of a substance (in mg) which can be transported (reabsorbed or secreted) by tubular cells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23C1-75C6-48B4-B5F4-14A3525C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ubstances are reabsorbed by carrier mediated transport systems e.g. glucose, amino acids, organic acids, sulphate and phosphat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iers have a maximum transport capacity (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GB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due to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satu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carriers. If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exceeded, then the excess substrate enters the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is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freely filte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 whatever its [plasma] that will be fil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2A2D-C443-4864-AA5A-79CA6047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71480" y="760320"/>
            <a:ext cx="7686720" cy="533556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6273-17C4-4D26-B0BE-B6FAEC334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50880" y="635040"/>
            <a:ext cx="7883640" cy="553716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94C9-FA52-4566-9F7E-02A2E55E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102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man for plasma glucose up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g/dl, all will be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reabsorb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Beyond this level of plasma [glucose], it appears in the urine = Renal plasma threshold for gluc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plasma [glucose] = 275 mg/dl, 275 mg/dl will be filtered, 180mg/dl reabsorbed and 95 mg/dl excre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dney does NOT regulate [glucose], (insulin and glucagon). Normal [glucose] of 90 mg/dl,  so T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set way above any possible level of (non-diabetic) [glucose] at 380 mg/min. Thus, ensure that all this valuable nutrient is normally reabsorbed. The appearance of glucose in the urine of diabetic patients = glycosuria, is due to failure of insulin, NOT,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96F8-1362-4048-AF80-512B58FF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422</cp:lastModifiedBy>
  <dcterms:modified xsi:type="dcterms:W3CDTF">2016-04-26T08:11:23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