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2E8D-F72E-466D-AA90-6B555A82E43C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E9F6-3E9D-49E2-A16E-B95FCE49B0E8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F20-0267-4BDA-93CA-129E34D9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F98A-2798-48FB-A720-EF6F76D1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8D38-3D47-43BF-91EC-0E241885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6DE-3466-41E6-9903-F54F1E03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9B3-A7B4-41B9-9A4D-62E35476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0B26-2B2E-481B-B20E-F33660EE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DA3D-60DD-4A5F-AFBF-1251E0AD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FAB-0530-4958-9958-05A31585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9BF7-2015-4209-8709-0CCAB9D9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A65-862D-40E2-8DBE-6CBF5CB0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8FF7-3E03-4FD2-AC30-9FD42CF7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31C-694B-441F-9D7B-0BBD4F90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9E95-5A19-41D7-8F01-97DED44EB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58960" y="1171440"/>
            <a:ext cx="7446960" cy="125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Renal Transpor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87560" y="3505320"/>
            <a:ext cx="361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ell phone: 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7E17-C43C-420D-A829-889163DE9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4876920" y="2976480"/>
            <a:ext cx="3208320" cy="2509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53DD-1C5A-4319-9CD3-FB99EA36D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rcRect l="0" t="0" r="65132" b="62624"/>
          <a:stretch/>
        </p:blipFill>
        <p:spPr>
          <a:xfrm>
            <a:off x="609480" y="609480"/>
            <a:ext cx="2764080" cy="210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429000" y="609480"/>
            <a:ext cx="5094360" cy="5645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655560"/>
            <a:ext cx="7391520" cy="1020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bular Transport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mino acids,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 very high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o urinary excretion oc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kidney does regulate some substances by means of the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chanism, eg sulphate and phosphate ions. This is because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set at a level whereby the normal [plasma] causes saturation so an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bove the normal level will be excreted, therefore achieving its plasma regulation. (Also subject to PTH regulation for phosphate, PTH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absorp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A1B9-72AB-4AFA-965B-61FA2223A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5438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bula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705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ansepithelial process whereby most tubule contents are returned to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d substances move through three membran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inal and basolateral membranes of tubule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thelium of peritubular capil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F549-0D8C-4B86-AAA7-5DACDB611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086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bula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Diagram 1" descr=""/>
          <p:cNvPicPr/>
          <p:nvPr/>
        </p:nvPicPr>
        <p:blipFill>
          <a:blip r:embed="rId1"/>
          <a:stretch/>
        </p:blipFill>
        <p:spPr>
          <a:xfrm>
            <a:off x="701640" y="2133720"/>
            <a:ext cx="7716960" cy="370656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2CC4-F40F-4384-B83C-C5CC8D4DA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4714" t="0" r="5662" b="0"/>
          <a:stretch/>
        </p:blipFill>
        <p:spPr>
          <a:xfrm>
            <a:off x="533520" y="2757600"/>
            <a:ext cx="8001000" cy="2728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ation, Excretion, and Reabsorption of Water, Electrolyte, and Solute by the Kidn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314F-CDBF-447E-A8D2-060A5F0F3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dium Reabsorp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ary Activ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reabsorption is almost always by activ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ters the tubule cells at the lumina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ctively transported out of the tubules by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Pase p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9000-EF38-426A-A0DB-A4AA9C7E1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Water &amp; Solute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ne of the main functions of neph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- 25,000 mEq/day Na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79 L/day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ortant solutes are linked either directly or indirectly to reabsorption of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4724280" y="3178080"/>
            <a:ext cx="217440" cy="647640"/>
          </a:xfrm>
          <a:custGeom>
            <a:avLst/>
            <a:gdLst>
              <a:gd name="textAreaLeft" fmla="*/ 0 w 217440"/>
              <a:gd name="textAreaRight" fmla="*/ 78480 w 21744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181480" y="31399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bsorped daily by renal tub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D0BB-3EB0-4601-B4BA-71E014B48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chanisms of tubular absorption &amp;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d diff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cyt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038480" y="2895480"/>
            <a:ext cx="217440" cy="533520"/>
          </a:xfrm>
          <a:custGeom>
            <a:avLst/>
            <a:gdLst>
              <a:gd name="textAreaLeft" fmla="*/ 0 w 217440"/>
              <a:gd name="textAreaRight" fmla="*/ 78480 w 2174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610160" y="2743200"/>
            <a:ext cx="308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own chemic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lectrical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076640" y="4267080"/>
            <a:ext cx="217440" cy="571680"/>
          </a:xfrm>
          <a:custGeom>
            <a:avLst/>
            <a:gdLst>
              <a:gd name="textAreaLeft" fmla="*/ 0 w 217440"/>
              <a:gd name="textAreaRight" fmla="*/ 78480 w 21744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648320" y="4038480"/>
            <a:ext cx="3429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gainst chemic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lectrical gradient, nee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E0AF-F4AE-48DF-BBA5-995F2997E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315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roximal convoluted tub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y epithelium permeable to ions &amp;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 70 % of Na+, Cl-, K+, water absorbed passively (follows Na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+ Reabsorption (transcellula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ly PCT Na+ absorb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d with H+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HCO3- re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organic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, amino acids, lactate,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5867280" y="4419720"/>
            <a:ext cx="293760" cy="1371600"/>
          </a:xfrm>
          <a:custGeom>
            <a:avLst/>
            <a:gdLst>
              <a:gd name="textAreaLeft" fmla="*/ 0 w 293760"/>
              <a:gd name="textAreaRight" fmla="*/ 106200 w 2937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477120" y="4495680"/>
            <a:ext cx="148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-ATPase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BBA7-7D00-405B-AE75-5BF6AC5D6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9759-3D6E-4478-89A5-DBFE9718E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72000" cy="5639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earning Objectiv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ubular reabsorption, tubular secretion, transcellular and paracellular trans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nd describe mechanisms of tubular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ubular reabsorption of sodium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 tubulo-glomerular feedback and describe its physiological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nd describe mechanism involved in Glucose  reabsor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y glucose titration curve in terms of renal threshold, tubular transport maximum, splay, excretion and 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ubular site and describe how Amino Acids, HCO3-, P04- and Urea are reabsor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D229-3141-43DF-B7DD-1362DF8E5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26708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396216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NHE takes up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uses reabsorption of HCO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Sympor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ac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4994280" y="609480"/>
            <a:ext cx="3540240" cy="563904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67EC-7BF3-4A3F-A957-C7237E412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9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716040"/>
            <a:ext cx="7391520" cy="88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lucose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7524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tubular lumen to tubular cell: Sodium co-transporter (Carrier-mediated secondary active transport). Uphill transport of glucose driven by electro-chemical gradient of sodium, which is maintained by Na-K pump presents in basolateral cell membra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tubular cell to peritubular capillary: Facilitated diffusion (Carrier-mediated passive transpor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53EB-ACB9-45E9-9638-9D8D8FFA3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C012-B01C-4A7C-841C-A7E872249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46200" y="792000"/>
            <a:ext cx="7888320" cy="5303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2388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6960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PCT Na+ Reabsorbed mainly with Cl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hy 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e to different transport mechanisms in late PCT,  lack of organic molec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Transcellular: Na+ entry using NHE &amp; 1 or 2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nion antipo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creted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anion combine in the tubular fluid &amp; reenter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nions involved: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mate, oxalate, sulf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EA85-6CC1-415B-9109-7B0C2F2F5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990720" y="587520"/>
            <a:ext cx="7162560" cy="566100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AE7A-C4AC-4294-A05D-CFE364820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Paracellular (passive diffusion) With Cl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high [Cl-] in tub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mEq/L in the tubule lumen and 105 mEq/L in interstit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nc. gradient favors diffusion of Cl- from the tubular lumen a cross the tight junction into the lateral intercellular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ve charge in tubu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+ re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3 of Na+ reabsorbed this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963E-3E84-49C5-ABE6-F8CBF35BC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990720" y="587520"/>
            <a:ext cx="7162560" cy="5661000"/>
          </a:xfrm>
          <a:prstGeom prst="rect">
            <a:avLst/>
          </a:prstGeom>
          <a:ln w="0">
            <a:noFill/>
          </a:ln>
        </p:spPr>
      </p:pic>
      <p:sp>
        <p:nvSpPr>
          <p:cNvPr id="12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1972-812E-4072-A14D-3EFDEB854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639720"/>
            <a:ext cx="7086600" cy="96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rea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17226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 plasma level of urea 2.5-6.5 mM/L (15-39 mg/100m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Mechanism of urea reabsorp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40-70%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filtered load of urea is reabsorped i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half of P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ullary CT and CD (ADH depend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to water reabsorption in the first half of PCT, the conc. of urea is increased in the second half and urea is reabsorbed by simple diffusion (downhi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5006-CF9A-4BFF-A57B-786074382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660B-28A4-4995-953E-B470FF8A7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rcRect l="0" t="0" r="50003" b="58889"/>
          <a:stretch/>
        </p:blipFill>
        <p:spPr>
          <a:xfrm>
            <a:off x="2133720" y="690480"/>
            <a:ext cx="4800600" cy="5558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197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T cells permeable to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T Reabsorbs 67% of filtere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tubular Passive (osmosis), due to osmotic active substances that are absorbed e.g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lucose, HCO3-, Cl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bule osmol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 space osmol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E9BF-C950-4D55-8C12-BB46B9EE0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6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74674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Thres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7985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 concentration of a substance dissolved in the blood above which the kidneys begin to remove it into the u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t this level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he filtered load exceeds the absorptive capacity of the 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high threshold: glucose, amino acids &amp; vitam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medium threshold: K+ &amp; u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low threshold: phosphate &amp; ur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no threshold: creatinine, mannitol &amp; inu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6A26-9516-4038-AD4D-48EF12DDC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934320" cy="5608800"/>
          </a:xfrm>
          <a:prstGeom prst="rect">
            <a:avLst/>
          </a:prstGeom>
          <a:ln w="0">
            <a:noFill/>
          </a:ln>
        </p:spPr>
      </p:pic>
      <p:sp>
        <p:nvSpPr>
          <p:cNvPr id="1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B373-A610-412C-B154-05AFD2CB9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nt drag: K+, Ca2+, carried with water &amp; hence re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cumulation of fluid and solutes within the lateral intercellular space increases hydrostatic pressure in this compar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reased hydrostatic pressure forces fluid and solutes into the capillaries. Thus, water reabsorption follows sol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 proximal tubule reabsorption is isosmo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D608-905C-4D30-8374-2C9B8F1DE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3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8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754380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in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hormones, small proteins &amp; amino acids reabsorbed in P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 Endocytosis into PCT, either intact or after being partially degraded by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protein inside the cell, enzyme digest them into amino acids, which leave the cell to bl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maximum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oo much protein filtered = protein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EE18-64B2-4C00-A0AD-0E6C1A23B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01064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617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nal tubules are poorly-permeable to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However, it is still reabsorbed but in the form of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to which the tubules are very highly permeabl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occurs through the following ste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formed inside the cells then secreted in the tubular flui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bines with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the tubular fluid forming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BB09-2DFA-42CE-8018-0A7237D92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rcRect l="0" t="0" r="0" b="52705"/>
          <a:stretch/>
        </p:blipFill>
        <p:spPr>
          <a:xfrm>
            <a:off x="1447920" y="914400"/>
            <a:ext cx="6473880" cy="4876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239240" cy="88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re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activity of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arbonic anhydrase enzyme (C.A.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tubular fluid,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ssociates into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ffuses into the cells where it combines with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(by activity of an intracellular C.A.), forming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ich dissociates into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assively diffuses into the interstitial fluid (then to the blood) while 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secreted into the tubular fluid to help more reabsorption of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440C-C915-4851-8542-F9D60B951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91520" cy="88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re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360" y="190476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s affect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absorp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terial P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sma[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sma Aldoster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sma [c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F317-8372-4002-9E77-F98913665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9D4A-FBD7-49F1-AFE8-BCDDC3B88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2481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Thres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1828440"/>
            <a:ext cx="72388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o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ppearance of glucose in urine before the transport maximum is reached is termed “Splay” and results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phron variability: “in glomerular size &amp; tubular length”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Variability in the number of glucose carriers &amp; the transport rate of the carr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39AE-FA02-48C4-AB77-123B3DA36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Tubular transport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1760" y="213372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t is the maximal amount of a substance (in mg) which can be transported (reabsorbed or secreted) by tubular cells/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A1F7-07F4-4AF5-BCD5-AED72A3BE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bular Transport Maxim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substances are reabsorbed by carrier mediated transport systems e.g. glucose, amino acids, organic acids, sulphate and phosphate 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riers have a maximum transport capacity (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en-GB" sz="24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is due to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satur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the carriers. If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exceeded, then the excess substrate enters the u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is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freely filter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so whatever its [plasma] that will be filt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4B08-45C4-473E-B045-C3F1F1E03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71480" y="760320"/>
            <a:ext cx="7686720" cy="5335560"/>
          </a:xfrm>
          <a:prstGeom prst="rect">
            <a:avLst/>
          </a:prstGeom>
          <a:ln w="0">
            <a:noFill/>
          </a:ln>
        </p:spPr>
      </p:pic>
      <p:sp>
        <p:nvSpPr>
          <p:cNvPr id="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B6DA-3972-4FDD-B1CB-CF5D52102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50880" y="635040"/>
            <a:ext cx="7883640" cy="5537160"/>
          </a:xfrm>
          <a:prstGeom prst="rect">
            <a:avLst/>
          </a:prstGeom>
          <a:ln w="0">
            <a:noFill/>
          </a:ln>
        </p:spPr>
      </p:pic>
      <p:sp>
        <p:nvSpPr>
          <p:cNvPr id="7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7A3F-ADF3-49A2-8D9D-4EF029E8A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1028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bular Transport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man for plasma glucose up t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mg/dl, all will be </a:t>
            </a: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reabsorbe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Beyond this level of plasma [glucose], it appears in the urine = Renal plasma threshold for gluco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f plasma [glucose] = 275 mg/dl, 275 mg/dl will be filtered, 180mg/dl reabsorbed and 95 mg/dl excrete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idney does NOT regulate [glucose], (insulin and glucagon). Normal [glucose] of 90 mg/dl,  so T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 set way above any possible level of (non-diabetic) [glucose] at 380 mg/min. Thus, ensure that all this valuable nutrient is normally reabsorbed. The appearance of glucose in the urine of diabetic patients = glycosuria, is due to failure of insulin, NOT, the kidn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4F9C-1486-48C2-9785-388244354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3422</cp:lastModifiedBy>
  <dcterms:modified xsi:type="dcterms:W3CDTF">2016-04-26T08:11:23Z</dcterms:modified>
  <cp:revision>2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