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B579-883F-4024-9F73-BEBCB9668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n future, adding a picture for monkey with bananas to say what happen when we eat to much bana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F19A-534F-4E18-B353-24EC1FF3B5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dose ANH infusion caused a marked increase in urine flow and urinary sodium excretion and prominent suppression of PRA and plasma aldosterone in sodium-depleted subjects. These results suggest a physiological significance of ANH in regulation of kidney function and aldosterone secre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0BED-C9AE-48C9-A483-A3A480F87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927-ED86-4D38-BFD9-F0E9D4D9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F07-78F3-42FF-AB9A-F779BCC0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387-5558-409B-9806-9E548817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463-417E-4FCF-865E-76E2DEE0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1F6-95D7-4864-A18B-282A9EFA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2AD-B624-48CB-B542-3B578BD1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207-7F4E-4A28-A5E7-B29DF3E0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7D7-F38D-42F9-95B2-DAAECA33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4E4-3073-482C-A352-B756674F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9EF-3D5F-4B80-8E4E-658CD44B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E29-DC55-4579-B4F7-46120E04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CEF6-8419-4284-ACE0-A70DB38E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14F3-C1E1-42CA-97B7-672783C83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58960" y="1171440"/>
            <a:ext cx="7446960" cy="125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Renal Transport Proces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8756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EC72-FA2E-4148-AEBD-149A1222C8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4876920" y="2976480"/>
            <a:ext cx="3208320" cy="2509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4674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port of potas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2103480"/>
            <a:ext cx="71625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abundant cation in the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,500-4,000 mmol in blo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8 % is intracellular, [150m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tes intracellular function such as Cell volume,  Acid/base status, cell growth &amp; di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% K extra-cellular [3.5-5m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regulates membrane potentials in excitable cells and diffusion potentials in transporting epithel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E0AA-DD9D-45D1-8F14-97A3CA308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6960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a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-120 mmol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damage leading to cell lysis increases plasma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extracellular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and total body potassium are tightly reg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regulates extracellular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AL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regulates total body potass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53A4-E314-4570-AE1F-AEAAB2423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4674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 potassium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46280"/>
            <a:ext cx="79250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assium content of average meal is 30-40mmol. This is rapidly absorb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al elimination is slow.  It can take up to six hours eliminate this l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nothing happened then this absorbed load would cause Plasma [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 to rise by ~ 2-5mmol which is potentially leth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ffering of the load occurs by increased intracellular uptake via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mp into Skeletal Muscle, Liver, Bone RBCs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rom exercising muscle can seriously increase  plasma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,trained athletes show accelerated uptake after 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89CB-4884-45D9-81CE-1D67485C0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of potas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0-95% of Dietary K excreted via the kidn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-10% in Sweat &amp; Feces (This is unregulated and may become significant in diarrhe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normal individual intake is matched by excretion and potassium balance is maint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tered load of potassium ~ 720 mmol/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lk absorbed by proximal tubule and loop of Hen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C5F5-9597-49AC-BC79-162C564A9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558040" cy="563904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948B-B7F2-4FC5-83E4-91A60D45F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986120" y="609480"/>
            <a:ext cx="5557680" cy="563904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AB80-09BE-4B6D-8A3F-5C4DED894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46784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nal K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Transport mech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ell membrane transpor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 ATPase, H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 ATP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channels,  K:Cl co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Na:K:2Cl co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s Reabsorbed in PT, TAL &amp; intercalated cell in C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ecreted in late distal tubule and in principal cells of late DT &amp; C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0FB6-53C2-4690-BDF6-E85F98199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rcRect l="0" t="0" r="47118" b="8052"/>
          <a:stretch/>
        </p:blipFill>
        <p:spPr>
          <a:xfrm>
            <a:off x="1244520" y="2246400"/>
            <a:ext cx="6680160" cy="400212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5EF1-22D0-41D4-83B3-435BAA1F6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09480" y="685800"/>
            <a:ext cx="792504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3300"/>
                </a:solidFill>
                <a:latin typeface="Arial"/>
              </a:rPr>
              <a:t>Proximal Tubule: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s absorbed by intercellular solvent drag whereby fluid movement driven by 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bsorption entrains 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48079" t="0" r="0" b="8372"/>
          <a:stretch/>
        </p:blipFill>
        <p:spPr>
          <a:xfrm>
            <a:off x="1249200" y="2143080"/>
            <a:ext cx="6751800" cy="41054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B420-8C4E-47E8-9074-941AC243A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38080" y="685800"/>
            <a:ext cx="746784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TAL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:K:2Cl in lumin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:Cl co-transport in baso-later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rcRect l="0" t="0" r="42858" b="6292"/>
          <a:stretch/>
        </p:blipFill>
        <p:spPr>
          <a:xfrm>
            <a:off x="838080" y="1844640"/>
            <a:ext cx="7467840" cy="447984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59D5-BCAD-40AB-A305-43820487B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838080" y="609480"/>
            <a:ext cx="7467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reabsorption is by the intercalated cells via a luminal H-K ATPa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040" y="228564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ubular secretion with PAH transport and K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e characteristic of loop of Henle, distal convoluted tubule and collecting ducts for reabsorption and se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site and describe the influence of aldosterone on reabsorption of Na+ in the late distal tub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EDDA-C1A3-440B-99EA-79A4CB8B09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rcRect l="54288" t="0" r="0" b="13623"/>
          <a:stretch/>
        </p:blipFill>
        <p:spPr>
          <a:xfrm>
            <a:off x="1523880" y="2085840"/>
            <a:ext cx="6019920" cy="416268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5E99-C641-491C-BECF-20CD09A2E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09480" y="609480"/>
            <a:ext cx="7925040" cy="12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+ secretion in the principal cells (via luminal K channels and basolateral Na-K ATPase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affecting potassium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8745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eritubular fa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yperkalemia: increase K in tubular cells, increase chemical gradient of K between tubular cell and tubular lumen which lead to increase in th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yper-aldosteronism: increase aldosterone increas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kalosis: increase H-K exchange at baso-lateral membrane then increas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7BB9-366A-47E1-887B-A12BB324E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affecting potassium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8745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minal fac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uresis: increase volume of urine and decrease conc of K in lumen which causes secretion via chemical gradient. (increase secretion and excre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d urinary excretion of Na: increase in Na-K exchange at luminal membrane causes an increase in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d urinary excretion of bicarbonate, phosphate, sulphate and ketone acids: increase negativeness of lumen then increase electrochemical gradient between cell and lumen causes secretion and excretion of K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7245-9F7C-4E42-998C-63B5C13F2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Cl Transport along the N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4169" t="0" r="5559" b="53809"/>
          <a:stretch/>
        </p:blipFill>
        <p:spPr>
          <a:xfrm>
            <a:off x="609480" y="2163600"/>
            <a:ext cx="7925040" cy="157032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C2BD-CEDE-4AB5-8DD5-469E892BC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rcRect l="4169" t="45235" r="5559" b="40369"/>
          <a:stretch/>
        </p:blipFill>
        <p:spPr>
          <a:xfrm>
            <a:off x="609480" y="3700440"/>
            <a:ext cx="7925040" cy="490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rcRect l="4169" t="58674" r="5559" b="26913"/>
          <a:stretch/>
        </p:blipFill>
        <p:spPr>
          <a:xfrm>
            <a:off x="609480" y="4157640"/>
            <a:ext cx="7925040" cy="490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4"/>
          <a:srcRect l="4169" t="72131" r="5559" b="0"/>
          <a:stretch/>
        </p:blipFill>
        <p:spPr>
          <a:xfrm>
            <a:off x="609480" y="4614840"/>
            <a:ext cx="7925040" cy="947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39152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Transport along the N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6124" t="0" r="8702" b="58875"/>
          <a:stretch/>
        </p:blipFill>
        <p:spPr>
          <a:xfrm>
            <a:off x="609480" y="2438280"/>
            <a:ext cx="7848720" cy="106704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E91C-E197-4AC3-8BAD-60B01C9CE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rcRect l="6124" t="40041" r="8702" b="41240"/>
          <a:stretch/>
        </p:blipFill>
        <p:spPr>
          <a:xfrm>
            <a:off x="609480" y="3476520"/>
            <a:ext cx="7848720" cy="48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rcRect l="6124" t="57999" r="8702" b="29507"/>
          <a:stretch/>
        </p:blipFill>
        <p:spPr>
          <a:xfrm>
            <a:off x="609480" y="3941640"/>
            <a:ext cx="7848720" cy="32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4"/>
          <a:srcRect l="6124" t="68972" r="8702" b="10212"/>
          <a:stretch/>
        </p:blipFill>
        <p:spPr>
          <a:xfrm>
            <a:off x="609480" y="4227480"/>
            <a:ext cx="7848720" cy="53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0F70-6CC5-4258-9852-451B5791F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NaCl, K+ absorbed as well as C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thick ascending limb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meable to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% water absorbed in thin descending li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eable to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9-1j"/>
          <p:cNvPicPr/>
          <p:nvPr/>
        </p:nvPicPr>
        <p:blipFill>
          <a:blip r:embed="rId1"/>
          <a:stretch/>
        </p:blipFill>
        <p:spPr>
          <a:xfrm>
            <a:off x="6019920" y="2209680"/>
            <a:ext cx="2367000" cy="335304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661E-F843-41B1-9DD8-D69DC9759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388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e absorption (TA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sv-SE" sz="2200" spc="-1" strike="noStrike">
                <a:solidFill>
                  <a:srgbClr val="ff3300"/>
                </a:solidFill>
                <a:latin typeface="Arial"/>
              </a:rPr>
              <a:t>Transcellular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 (5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a) Na+/2Cl-/K+ cotransporter/ sympo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b) N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i) Na+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) H+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i) HCO3-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EF94-FCD9-429A-9494-62BA0FAE0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5334120" cy="3733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086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6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aracellul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5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s of NaCl in 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tive charge compared to blood drives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E56F-7F41-4C53-A98E-9E626C925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41334" r="0" b="6666"/>
          <a:stretch/>
        </p:blipFill>
        <p:spPr>
          <a:xfrm>
            <a:off x="3200400" y="2209680"/>
            <a:ext cx="5334120" cy="3273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istal convoluted tubule (DCT) &amp; collecting duct (C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289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7% Na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– 15 % water reabsorbed (needs ADH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ecreted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ub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Early DCT</a:t>
            </a: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bsorbs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C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impermeable to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E47D-ACD7-499F-B325-7172338EA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5105520" cy="3610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5438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istal convoluted tubule (DCT) &amp; collecting duct (C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55760"/>
            <a:ext cx="77724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Late DCT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cell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) principle cells: reabsorb 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water, secrete 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) intercalated cells: secrete or reabsorb H+ (inverse for HCO3-), reabsorb 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ffuses via selective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creted down concen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4BFC-9A50-48E1-8076-BCF38A293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419580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1E0F-AE6C-48DD-9A60-D6DFD38BD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39360"/>
            <a:ext cx="7620120" cy="80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affecting Na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09480" y="1493640"/>
            <a:ext cx="7848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FR: when increased causes an increase in filtration of Na which sensitise the macula den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doster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rogen: Increase reabsorption of Na and decrease Na excre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atriuretic horm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smotic diuresis (Increase Glucose, Mannitol and Urea) increase their conc. In the filtered load then causes a decrease in water reabsorption and Na (the solution should be iso-osmotic in PC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uretic Drugs (Lasi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orly reabsorbed anions causes retention of equal amount of 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C99C-3234-4E25-A028-102A5BE9C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AHMAD</dc:creator>
  <dc:description/>
  <dc:language>en-US</dc:language>
  <cp:lastModifiedBy>DR.AHMAD</cp:lastModifiedBy>
  <dcterms:modified xsi:type="dcterms:W3CDTF">2016-04-24T09:32:58Z</dcterms:modified>
  <cp:revision>2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