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C46-5D6C-4F6B-834D-E781EB25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future, adding a picture for monkey with bananas to say what happen when we eat to much bana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7BA9-74D3-4AFA-8E62-CDCDAB2534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dose ANH infusion caused a marked increase in urine flow and urinary sodium excretion and prominent suppression of PRA and plasma aldosterone in sodium-depleted subjects. These results suggest a physiological significance of ANH in regulation of kidney function and aldosterone secre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D96F-5617-4EE4-B1A7-F56257DE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02F-24A3-44E8-8E81-3FAA66D3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22B-349D-4344-AA65-AF572EF6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322-6836-47B6-B9F3-E0AD5054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4F4-9317-4DAC-8500-93FF1748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39D-2950-4BC8-BCAD-9FA39278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0EE-8EAD-42B9-8CBF-458A82A3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E82-2D1D-44BD-856E-9839994A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203-42AC-4FC2-8DDA-0D99F30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924-07A1-4682-A4E9-030A169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CF1-6F9F-4678-93ED-73F9F1A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E70-992C-4217-A997-D1397C3D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60F-76A7-49BF-A90F-7C9FFB68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E0E-A3C3-4621-B531-EA947E885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A9FE-B5F3-4F23-8D41-10CC98B67F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103480"/>
            <a:ext cx="7162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bundant cation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500-4,000 mmol in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 % is intracellular, [150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intracellular function such as Cell volume,  Acid/base status, cell growth &amp;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% K extra-cellular [3.5-5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gulates membrane potentials in excitable cells and diffusion potentials in transporting epithel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E460-BB7E-419B-A97D-F261EBFE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20 mmo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damage leading to cell lysis increases plasma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total body potassium are tightly reg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total body potass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962-8DE3-4E34-BC2E-3AC9DBF8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4674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potassiu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92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assium content of average meal is 30-40mmol. This is rapidly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elimination is slow.  It can take up to six hours eliminate this 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hing happened then this absorbed load would cause Plasma 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o rise by ~ 2-5mmol which is potentially leth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ffering of the load occurs by increased intracellular uptake via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mp into Skeletal Muscle, Liver, Bone RBC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exercising muscle can seriously increase  plasma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trained athletes show accelerated uptake after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F5EF-C31E-4E26-8AF1-57D263CE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5% of Dietary K excreted via the kidn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10% in Sweat &amp; Feces (This is unregulated and may become significant in diarrh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ormal individual intake is matched by excretion and potassium balance is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ed load of potassium ~ 720 mmol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lk absorbed by proximal tubule and loop of Hen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53B-362A-4DF3-B560-52E0E19BE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5804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8FA-A897-4BE2-9E68-08F109F1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986120" y="609480"/>
            <a:ext cx="5557680" cy="56390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0CD-FD32-4559-B526-E9153230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Transpor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l membrane trans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hannels,  K: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:K:2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Reabsorbed in PT, TAL &amp; intercalated cell in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in late distal tubule and in principal cells of late DT &amp;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B745-2A9C-4CB3-9A45-E45B882C4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47118" b="8052"/>
          <a:stretch/>
        </p:blipFill>
        <p:spPr>
          <a:xfrm>
            <a:off x="1244520" y="2246400"/>
            <a:ext cx="6680160" cy="400212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301F-BA7E-46BE-815A-A0D6D72E2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Arial"/>
              </a:rPr>
              <a:t>Proximal Tubule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absorbed by intercellular solvent drag whereby fluid movement driven by 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bsorption entrains 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48079" t="0" r="0" b="8372"/>
          <a:stretch/>
        </p:blipFill>
        <p:spPr>
          <a:xfrm>
            <a:off x="1249200" y="2143080"/>
            <a:ext cx="6751800" cy="41054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D5F-11D5-4741-9203-8FC20EF8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38080" y="685800"/>
            <a:ext cx="746784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AL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:K:2Cl in lumi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:Cl co-transport in baso-later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rcRect l="0" t="0" r="42858" b="6292"/>
          <a:stretch/>
        </p:blipFill>
        <p:spPr>
          <a:xfrm>
            <a:off x="838080" y="184464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C357-4870-4AC6-950C-4AF9A792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reabsorption is by the intercalated cells via a luminal H-K ATP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04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ubular secretion with PAH transport and K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characteristic of loop of Henle, distal convoluted tubule and collecting ducts for reabsorption and se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E48D-2878-4FF5-9A42-605F3C4417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rcRect l="54288" t="0" r="0" b="13623"/>
          <a:stretch/>
        </p:blipFill>
        <p:spPr>
          <a:xfrm>
            <a:off x="1523880" y="2085840"/>
            <a:ext cx="6019920" cy="41626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086-87A1-4F29-9811-17045D42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9480" y="609480"/>
            <a:ext cx="792504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secretion in the principal cells (via luminal K channels and basolateral Na-K ATPas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ritubular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kalemia: increase K in tubular cells, increase chemical gradient of K between tubular cell and tubular lumen which lead to increase in th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-aldosteronism: increase aldosterone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kalosis: increase H-K exchange at baso-lateral membrane then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B625-B452-4BE7-8BC1-8B28DB49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minal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sis: increase volume of urine and decrease conc of K in lumen which causes secretion via chemical gradient. (increase secretion and excre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Na: increase in Na-K exchange at luminal membrane causes an increase in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bicarbonate, phosphate, sulphate and ketone acids: increase negativeness of lumen then increase electrochemical gradient between cell and lumen causes secretion and excretion of 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225-9E4C-4F37-92FA-7470ADAD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l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4169" t="0" r="5559" b="53809"/>
          <a:stretch/>
        </p:blipFill>
        <p:spPr>
          <a:xfrm>
            <a:off x="609480" y="2163600"/>
            <a:ext cx="7925040" cy="157032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31F0-1C5F-403A-B4A0-6023F4CB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rcRect l="4169" t="45235" r="5559" b="40369"/>
          <a:stretch/>
        </p:blipFill>
        <p:spPr>
          <a:xfrm>
            <a:off x="609480" y="37004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rcRect l="4169" t="58674" r="5559" b="26913"/>
          <a:stretch/>
        </p:blipFill>
        <p:spPr>
          <a:xfrm>
            <a:off x="609480" y="41576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rcRect l="4169" t="72131" r="5559" b="0"/>
          <a:stretch/>
        </p:blipFill>
        <p:spPr>
          <a:xfrm>
            <a:off x="609480" y="4614840"/>
            <a:ext cx="7925040" cy="9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39152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6124" t="0" r="8702" b="58875"/>
          <a:stretch/>
        </p:blipFill>
        <p:spPr>
          <a:xfrm>
            <a:off x="609480" y="2438280"/>
            <a:ext cx="784872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4EF3-A581-4B94-B204-D31DC7FC9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rcRect l="6124" t="40041" r="8702" b="41240"/>
          <a:stretch/>
        </p:blipFill>
        <p:spPr>
          <a:xfrm>
            <a:off x="609480" y="3476520"/>
            <a:ext cx="7848720" cy="4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rcRect l="6124" t="57999" r="8702" b="29507"/>
          <a:stretch/>
        </p:blipFill>
        <p:spPr>
          <a:xfrm>
            <a:off x="609480" y="3941640"/>
            <a:ext cx="784872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rcRect l="6124" t="68972" r="8702" b="10212"/>
          <a:stretch/>
        </p:blipFill>
        <p:spPr>
          <a:xfrm>
            <a:off x="609480" y="4227480"/>
            <a:ext cx="784872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1F8-F38F-4EC7-86BC-EBEBDD18E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NaCl, K+ absorbed as well as 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ick ascending limb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water absorbed in thin descending 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9-1j"/>
          <p:cNvPicPr/>
          <p:nvPr/>
        </p:nvPicPr>
        <p:blipFill>
          <a:blip r:embed="rId1"/>
          <a:stretch/>
        </p:blipFill>
        <p:spPr>
          <a:xfrm>
            <a:off x="6019920" y="2209680"/>
            <a:ext cx="236700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065-72D5-42EF-B002-1898B234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e absorption (T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sv-SE" sz="2200" spc="-1" strike="noStrike">
                <a:solidFill>
                  <a:srgbClr val="ff3300"/>
                </a:solidFill>
                <a:latin typeface="Arial"/>
              </a:rPr>
              <a:t>Transcellular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) Na+/2Cl-/K+ cotransporter/ sympo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b) N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) Na+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H+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HCO3-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FDC-5A22-467D-92DA-971E75CF8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racell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aCl in 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charge compared to blood drives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846-E370-40D1-A286-378979E8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41334" r="0" b="6666"/>
          <a:stretch/>
        </p:blipFill>
        <p:spPr>
          <a:xfrm>
            <a:off x="3200400" y="2209680"/>
            <a:ext cx="5334120" cy="327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% 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– 15 % water reabsorbed (needs AD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ub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arly DCT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bsorbs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C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mpermeable to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2D7-E64F-49B4-8FEA-1D641E14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105520" cy="361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5576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ate D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cel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principle cells: reabsorb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ater, secrete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intercalated cells: secrete or reabsorb H+ (inverse for HCO3-), reabsorb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uses via selectiv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creted dow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53E1-EB17-4C9B-A6C2-067BC05E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1958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3D20-0836-472E-810F-489CDE4D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39360"/>
            <a:ext cx="76201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N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1493640"/>
            <a:ext cx="7848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FR: when increased causes an increase in filtration of Na which sensitise the macula den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rogen: Increase reabsorption of Na and decrease Na ex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riuretic horm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smotic diuresis (Increase Glucose, Mannitol and Urea) increase their conc. In the filtered load then causes a decrease in water reabsorption and Na (the solution should be iso-osmotic in P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tic Drugs (Lasi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orly reabsorbed anions causes retention of equal amount of 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18C2-AD45-498B-8CC3-60DAC0805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AHMAD</dc:creator>
  <dc:description/>
  <dc:language>en-US</dc:language>
  <cp:lastModifiedBy>DR.AHMAD</cp:lastModifiedBy>
  <dcterms:modified xsi:type="dcterms:W3CDTF">2016-04-24T09:32:58Z</dcterms:modified>
  <cp:revision>2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