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024-B00B-40D7-936E-C99345FC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029-BCD8-46AB-A418-5FB5350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9973-9958-4D5B-B1B4-FA5F15C5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58F-651F-4CF5-989E-86D4421F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A82-2054-451E-A3C1-64098CA6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C4C-B42D-41D5-B289-81FF6C2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2A2-125F-4C20-8D58-01FA3EBF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6E5-41B5-49CD-8B07-D18E7B1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2DE-2C9E-4687-933C-4D486CC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871-07B7-4CEE-93EF-FE26A18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C24-7E00-4CB6-8B5A-650E462A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474-5E50-4B99-815A-C4508C2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8861-6F5D-49A1-93D4-094A3971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l Regulation of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4E93-F2D3-4705-A78C-2DBEA350E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orm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nin-angiotensin-aldosterone system (</a:t>
            </a:r>
            <a:r>
              <a:rPr b="0" lang="sv-SE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essur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in secreted,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) Sympathetic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fusion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+ reach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cula d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iotensin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) aldosterone release by adrenal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reabsorption in TAL, DT,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) Vaso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) ADH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bsorption in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C54E-1842-487C-B1D6-197E7325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AN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tr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oc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eased by stretch of atr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Cl &amp; water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agonist of renin-angiotens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) vasodilation of afferent arteriole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soconstriction of eff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ni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direc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ldosterone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absorption in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8EF5-FA5A-4ACA-9D03-04C46D047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o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dilute (~ 5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arge volume (up to 18 L/d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er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ncentrated (up to 120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volume (0.5 L/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nal water excretion mechanism(s) independent of solute excretion mechanis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ows water balance maintenance without damaging solute homeostasis (e.g. Na+, K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3BAA-ED39-47F9-B9AB-671F5D49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synthesized in neuroendocrine cells located within the supraoptic and paraventricular nuclei of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nthesized hormone is packaged in granules that are transported down the axon of the cell and stored in nerve terminals located in the neurohypophysis (posterior pituitary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415E-192A-44AA-B00E-F7FCB006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5000" y="2133720"/>
            <a:ext cx="266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vents water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protein hormone (only 9 amino ac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ast acting, short half life in cir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tors influenc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Haemodynamic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Nausea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Atrial natriuretic peptide (ANP) → inhi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Angiotensin II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952880" y="2895480"/>
            <a:ext cx="114480" cy="669960"/>
          </a:xfrm>
          <a:custGeom>
            <a:avLst/>
            <a:gdLst>
              <a:gd name="textAreaLeft" fmla="*/ 0 w 114480"/>
              <a:gd name="textAreaRight" fmla="*/ 41400 w 114480"/>
              <a:gd name="textAreaTop" fmla="*/ 13680 h 669960"/>
              <a:gd name="textAreaBottom" fmla="*/ 65628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7"/>
                  <a:pt x="10800" y="1433"/>
                </a:cubicBezTo>
                <a:lnTo>
                  <a:pt x="10800" y="9367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7"/>
                  <a:pt x="10800" y="12233"/>
                </a:cubicBezTo>
                <a:lnTo>
                  <a:pt x="10800" y="20167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25780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in physiolog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B035-E1E5-44A3-A464-1E3207BE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E67E-86E3-438E-B570-2246AC3B7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estimate of ECF osmolality can be obtained by doubling Plasma sodium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mEq/l X 2 = 290 (Normal 285-295 mOsm/kg H2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oncentration gives best estimate of effective osmolality of E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nical situations glucose &amp; urea concentrations (mmols) are also taken into account, useful in cases of patients with diabetes mellitus or chronic renal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absorbed glucose in kidney tubule can however prevent fluid absorption generating an osmotic diure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36C-041A-485F-A4A0-626E4062D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1798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receptors in hypothalamus, outside blood-brain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lality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 point” ~ 280 – 285 mOsm/kg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19012" t="0" r="20947" b="70576"/>
          <a:stretch/>
        </p:blipFill>
        <p:spPr>
          <a:xfrm>
            <a:off x="4419720" y="222084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C506-925A-46CE-ABBF-C0A2D9ED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4114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lood volum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ss sensitive than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 5 – 10%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would be expected changes in blood volume affect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olume/BP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t point steep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19012" t="31716" r="20947" b="4284"/>
          <a:stretch/>
        </p:blipFill>
        <p:spPr>
          <a:xfrm>
            <a:off x="5183280" y="609480"/>
            <a:ext cx="312264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B357-0068-4408-A044-BC6AE0707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DH re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lecting duct cells only permeable to water in presence of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permeability in inner medullary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stimulates reabsorption of NaCl by the thick ascending limb of Henle’s loop and by the DCT and cortical segment of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C607-B49E-4688-8CB9-36DD465B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role of the Sensors and Effectors in the renal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the kidney in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ole of ADH in the reabsorption of water and u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18F-8B05-4BC6-AA47-BCD2DCFE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alamic thirst center is stimu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decline in plasma volume of 10%–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reases in plasma osmolality of 1–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baroreceptor input, angiotensin II, and other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EBD2-AF4B-414C-B108-F02F1C98B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st is quenched as soon as we begin to drink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signals that inhibit the thirst cente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ening of the mucosa of the mouth an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stomach and intestinal stret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F018-1318-4003-948A-FA632B55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841400" y="685800"/>
            <a:ext cx="509292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F31-3405-4219-AD8C-0D2A16B8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Angiotensin II receptors are found on the zona glomerulosa cells of the adrenal cortex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ion of these receptors leads to an immediate and rapid increase in aldosterone se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osterone acts on the distal tubule and collecting duct to ca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likely to be an important mechanism for determining long-term sodiu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81BE-4885-4BEA-A7ED-7A8F5385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646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 Vascula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iotensin II is one of the most potent vasoconstrictor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iction of vascular smooth muscle leads to a prompt rise in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lays an important role in maintaining vascular tone and blood pressure in volume depleted states, for example haemorrhage and fluid de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61E3-4752-443F-B1C4-D0F03459C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0915-49DC-4B58-B198-E778DBEA7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9480" y="2344680"/>
            <a:ext cx="7848720" cy="298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43000" y="685800"/>
            <a:ext cx="699120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sition of the Human Bo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5D5E-2318-4CA0-8C14-811886B120F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e Overview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racellular vs. Extra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5680" y="2487240"/>
            <a:ext cx="332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02401-025-f002"/>
          <p:cNvPicPr/>
          <p:nvPr/>
        </p:nvPicPr>
        <p:blipFill>
          <a:blip r:embed="rId1"/>
          <a:srcRect l="14625" t="0" r="14614" b="4940"/>
          <a:stretch/>
        </p:blipFill>
        <p:spPr>
          <a:xfrm>
            <a:off x="4713120" y="1954080"/>
            <a:ext cx="382140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549-0EEE-497D-B657-C226E9E838F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The major body fluid compartment and membranes separat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02401-025-f001"/>
          <p:cNvPicPr/>
          <p:nvPr/>
        </p:nvPicPr>
        <p:blipFill>
          <a:blip r:embed="rId1"/>
          <a:stretch/>
        </p:blipFill>
        <p:spPr>
          <a:xfrm>
            <a:off x="1708200" y="2052720"/>
            <a:ext cx="522612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5E85-FB5B-4DE3-800D-A5265A2DBC9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ody water balance must be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Kidneys concentrate or dilute ur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main properly hydrated, water intake must equal water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in plasma osmolality trigger thirst and release of antidiuretic hormone (AD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AEF9-3074-4BBD-BDF6-483A838D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Steady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2133720"/>
            <a:ext cx="312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95A1-76EA-4771-B98E-AEDFF371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894" t="0" r="18336" b="3166"/>
          <a:stretch/>
        </p:blipFill>
        <p:spPr>
          <a:xfrm>
            <a:off x="4114800" y="1525680"/>
            <a:ext cx="427212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 down to N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balance i.e. absorption &amp;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olume sensors: (Effectively pressure recep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w pressure sensors: Cardiac atria (ANP), pulmonary vascul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essure: carotid sinus, aortic arch and juxtaglomerular apparatus of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nervou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F6D-4370-424B-9643-6752458D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me sensor signals/Medi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ressure 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sympathe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fferent &amp; Efferent arterioles con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GRF 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less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) more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sorbed by P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renin rel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↑ aldoste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↑ angiotens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0D6D-FA81-47EC-BB79-2DB25F65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wan Al Ghamyan</cp:lastModifiedBy>
  <dcterms:modified xsi:type="dcterms:W3CDTF">2016-04-27T08:49:2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