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F44-EDC1-4645-B521-785FB440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181-9A3A-43ED-AAB3-7310D824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D70-7278-4F76-A13B-59B6EC58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987-3894-4164-A580-74CED9C5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A70-73D7-48FF-88B6-8E96BEFE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BF6-EA88-40CB-806C-8A41301A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7C3-8E1D-4D17-BE5D-C64CB9DE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889-B5D5-4B95-A46A-3384C024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12E-AC25-41C3-A644-291267D6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FB8-CB59-424D-9699-AAF7CC20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403-3E5A-4F96-87DA-5D86F8A8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AB0-CE83-4D74-97CC-AF3A0FA0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E939-637A-432D-B56E-58DB5C36A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l Regulation of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45772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703B-4CDA-44EA-A96A-7ADDEE3C2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Horm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nin-angiotensin-aldosterone system (</a:t>
            </a:r>
            <a:r>
              <a:rPr b="0" lang="sv-SE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pressur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in secreted,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) Sympathetic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fusion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+ reaching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acula d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giotensin 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) aldosterone release by adrenal 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reabsorption in TAL, DT,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) Vasocon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i) ADH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absorption in P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C01E-B160-4F2D-B466-20902944A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914040"/>
            <a:ext cx="693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) AN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tri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yoc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leased by stretch of atri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Cl &amp; water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tagonist of renin-angiotens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) vasodilation of afferent arteriole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soconstriction of eff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nin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direc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ldosterone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absorption in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1F2E-7A63-4324-BC20-ECDD6032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46748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o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dilute (~ 5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arge volume (up to 18 L/d!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er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ncentrated (up to 120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volume (0.5 L/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nal water excretion mechanism(s) independent of solute excretion mechanism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ows water balance maintenance without damaging solute homeostasis (e.g. Na+, K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257D-9A3E-4C24-BD09-7E5CA0C46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synthesized in neuroendocrine cells located within the supraoptic and paraventricular nuclei of the hypothala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nthesized hormone is packaged in granules that are transported down the axon of the cell and stored in nerve terminals located in the neurohypophysis (posterior pituitary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C026-DA9E-4211-96B3-6E2B58509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5000" y="2133720"/>
            <a:ext cx="266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events water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protein hormone (only 9 amino aci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ast acting, short half life in cir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actors influencing 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Haemodynamic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Nausea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Atrial natriuretic peptide (ANP) → inhi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Angiotensin II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952880" y="2895480"/>
            <a:ext cx="114480" cy="669960"/>
          </a:xfrm>
          <a:custGeom>
            <a:avLst/>
            <a:gdLst>
              <a:gd name="textAreaLeft" fmla="*/ 0 w 114480"/>
              <a:gd name="textAreaRight" fmla="*/ 41400 w 114480"/>
              <a:gd name="textAreaTop" fmla="*/ 13680 h 669960"/>
              <a:gd name="textAreaBottom" fmla="*/ 656280 h 66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7"/>
                  <a:pt x="10800" y="1433"/>
                </a:cubicBezTo>
                <a:lnTo>
                  <a:pt x="10800" y="9367"/>
                </a:lnTo>
                <a:cubicBezTo>
                  <a:pt x="10800" y="10084"/>
                  <a:pt x="16200" y="10800"/>
                  <a:pt x="21600" y="10800"/>
                </a:cubicBezTo>
                <a:cubicBezTo>
                  <a:pt x="16200" y="10800"/>
                  <a:pt x="10800" y="11517"/>
                  <a:pt x="10800" y="12233"/>
                </a:cubicBezTo>
                <a:lnTo>
                  <a:pt x="10800" y="20167"/>
                </a:lnTo>
                <a:cubicBezTo>
                  <a:pt x="10800" y="208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257800" y="2743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in physiologic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973B-D327-4072-A5ED-83E196F6A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DE31-31B9-4950-8324-AA9817F6E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gh estimate of ECF osmolality can be obtained by doubling Plasma sodium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mEq/l X 2 = 290 (Normal 285-295 mOsm/kg H2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concentration gives best estimate of effective osmolality of E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inical situations glucose &amp; urea concentrations (mmols) are also taken into account, useful in cases of patients with diabetes mellitus or chronic renal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absorbed glucose in kidney tubule can however prevent fluid absorption generating an osmotic diures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D9E5-649F-4AAF-A230-FEF4C2AEF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0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179800"/>
            <a:ext cx="38098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receptors in hypothalamus, outside blood-brain b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lality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t point” ~ 280 – 285 mOsm/kg H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19012" t="0" r="20947" b="70576"/>
          <a:stretch/>
        </p:blipFill>
        <p:spPr>
          <a:xfrm>
            <a:off x="4419720" y="2220840"/>
            <a:ext cx="4114800" cy="341784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4A0E-2C3C-4505-924C-43EB5237A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4114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Blood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lood volum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ess sensitive than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eed 5 – 10%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loo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 would be expected changes in blood volume affect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olume/BP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t point steeper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19012" t="31716" r="20947" b="4284"/>
          <a:stretch/>
        </p:blipFill>
        <p:spPr>
          <a:xfrm>
            <a:off x="5183280" y="609480"/>
            <a:ext cx="3122640" cy="56390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082F-6297-499A-BFFB-7A1BDE682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DH re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llecting duct cells only permeable to water in presence of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permeability in inner medullary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stimulates reabsorption of NaCl by the thick ascending limb of Henle’s loop and by the DCT and cortical segment of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EBED-8D79-44CC-97C7-B37690D79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040" y="21333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role of the Sensors and Effectors in the renal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the kidney in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ole of ADH in the reabsorption of water and u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668A-721B-4DCF-AC46-2C20C012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pothalamic thirst center is stimu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 decline in plasma volume of 10%–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creases in plasma osmolality of 1–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 baroreceptor input, angiotensin II, and other stimu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3BE1-1E06-4E33-9EB2-61A0FC092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st is quenched as soon as we begin to drink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signals that inhibit the thirst center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stening of the mucosa of the mouth and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of stomach and intestinal stretch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CFAF-C952-4F5E-8C2D-26005FD73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841400" y="685800"/>
            <a:ext cx="5092920" cy="5562720"/>
          </a:xfrm>
          <a:prstGeom prst="rect">
            <a:avLst/>
          </a:prstGeom>
          <a:ln w="0">
            <a:noFill/>
          </a:ln>
        </p:spPr>
      </p:pic>
      <p:sp>
        <p:nvSpPr>
          <p:cNvPr id="10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6A16-FBF4-4D6F-9F91-BB8AB9B0F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2388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Angiotensin II receptors are found on the zona glomerulosa cells of the adrenal cortex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ation of these receptors leads to an immediate and rapid increase in aldosterone secr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dosterone acts on the distal tubule and collecting duct to ca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diu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likely to be an important mechanism for determining long-term sodium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3B97-2878-4B46-963A-A8E713300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462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  Vascula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iotensin II is one of the most potent vasoconstrictor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iction of vascular smooth muscle leads to a prompt rise in blood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plays an important role in maintaining vascular tone and blood pressure in volume depleted states, for example haemorrhage and fluid de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0692-EE9C-4CDB-8665-47520CDF3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3283-94BE-4FCE-BA5B-7463C559D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09480" y="2344680"/>
            <a:ext cx="7848720" cy="2989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1143000" y="685800"/>
            <a:ext cx="6991200" cy="118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mposition of the Human Bo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5CE2-1387-4F56-865D-869A3CB2D80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e Overview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tracellular vs. Extra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5680" y="2487240"/>
            <a:ext cx="3322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02401-025-f002"/>
          <p:cNvPicPr/>
          <p:nvPr/>
        </p:nvPicPr>
        <p:blipFill>
          <a:blip r:embed="rId1"/>
          <a:srcRect l="14625" t="0" r="14614" b="4940"/>
          <a:stretch/>
        </p:blipFill>
        <p:spPr>
          <a:xfrm>
            <a:off x="4713120" y="1954080"/>
            <a:ext cx="3821400" cy="429444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0537-92A3-4C51-B298-E12F3103C3A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</a:rPr>
              <a:t>The major body fluid compartment and membranes separate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02401-025-f001"/>
          <p:cNvPicPr/>
          <p:nvPr/>
        </p:nvPicPr>
        <p:blipFill>
          <a:blip r:embed="rId1"/>
          <a:stretch/>
        </p:blipFill>
        <p:spPr>
          <a:xfrm>
            <a:off x="1708200" y="2052720"/>
            <a:ext cx="5226120" cy="41958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FC1B-D610-4E3F-BCA1-0B700F1A5A8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ody water balance must be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Kidneys concentrate or dilute ur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main properly hydrated, water intake must equal water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s in plasma osmolality trigger thirst and release of antidiuretic hormone (AD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DEF2-B1B6-4E38-A324-E59C47B1A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8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Steady St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2133720"/>
            <a:ext cx="3124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7F35-A084-46FE-AB68-20897B1DA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15894" t="0" r="18336" b="3166"/>
          <a:stretch/>
        </p:blipFill>
        <p:spPr>
          <a:xfrm>
            <a:off x="4114800" y="1525680"/>
            <a:ext cx="427212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 down to N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balance i.e. absorption &amp;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olume sensors: (Effectively pressure recep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asc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w pressure sensors: Cardiac atria (ANP), pulmonary vascul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essure: carotid sinus, aortic arch and juxtaglomerular apparatus of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 nervous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pa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890D-E3DE-42A6-BB29-F59E8D76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ume sensor signals/Mediat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u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pressure 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sympathe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afferent &amp; Efferent arterioles con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GRF 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less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lt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i) more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sorbed by P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renin rele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↑ aldoster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↑ angiotensin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64A7-6205-4E45-B2B1-7A82709A5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wan Al Ghamyan</cp:lastModifiedBy>
  <dcterms:modified xsi:type="dcterms:W3CDTF">2016-04-27T08:49:27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