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A0C3A-35C8-4D5D-ABCC-883DA43B3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90A27-359C-40D0-9321-8A7C84019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4233-798B-4241-9152-9A5D7B066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3AA6-08A6-4452-B018-B11D59753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F783-5D04-412D-B44F-B7D9DEEDE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EFFF-0347-4838-B428-958FFE79C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E6C7-3765-48AB-AA0E-1A307BCC5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0A13-935B-4D35-9D63-491DCC9EB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D94E-CAB0-46FC-B0E3-A03EDBB31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C12A-E94C-4409-BBBA-CE56B6AE8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C66B-D9C6-433A-AC3C-8537C8B9D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654A-6708-4A27-8330-EE63F85D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C115-893B-4B3D-BC82-4CE1D5B7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B8CF-1288-4175-B247-5915F7BC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2AD6A-B666-4DCB-AE6E-443906AD2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ahmeda@ksu.edu.sa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858960" y="1171440"/>
            <a:ext cx="7446960" cy="1317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0066"/>
                </a:solidFill>
                <a:latin typeface="Arial"/>
              </a:rPr>
              <a:t>(Renal Physiology 8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rine Concentration Mechan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2457720" y="3505320"/>
            <a:ext cx="361728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Ahmad Ahme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E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ahmeda@ksu.edu.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Cell phone: 05363134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1C90B-C168-4D96-A733-2EF17E713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1640" y="609120"/>
            <a:ext cx="3886200" cy="129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the kidney excrete concentrated urin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914040"/>
            <a:ext cx="3505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6) Osmolality of medullary tissue high up to 1200 mOsm/kg water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due to NaCl (accounts for 6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urea (accounts for 6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early CD impermeable to u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DH allows water reabsorption pass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rcRect l="9648" t="53430" r="0" b="4284"/>
          <a:stretch/>
        </p:blipFill>
        <p:spPr>
          <a:xfrm>
            <a:off x="4343400" y="2057400"/>
            <a:ext cx="4191120" cy="3011400"/>
          </a:xfrm>
          <a:prstGeom prst="rect">
            <a:avLst/>
          </a:prstGeom>
          <a:ln w="0">
            <a:noFill/>
          </a:ln>
        </p:spPr>
      </p:pic>
      <p:sp>
        <p:nvSpPr>
          <p:cNvPr id="8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9D686-F009-47DF-9DEC-68E07F38C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1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9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4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9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4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39152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the kidney excrete concentrated urin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761976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When ADH levels high urea levels in medullary  CD &amp; interstitium equilib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Most water absorbed in presence of ADH is in the cortical collecting 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A1165-12F2-43B3-85A8-AA8B035E4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6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90760" y="685800"/>
            <a:ext cx="419076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asa Rec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373392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ercurrent ex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ycles NaCl in medu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s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from interstitial flu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ending lim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rea transpor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quaporin proteins 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channel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cending lim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nestrated capill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17_17"/>
          <p:cNvPicPr/>
          <p:nvPr/>
        </p:nvPicPr>
        <p:blipFill>
          <a:blip r:embed="rId1"/>
          <a:srcRect l="7500" t="4244" r="7500" b="0"/>
          <a:stretch/>
        </p:blipFill>
        <p:spPr>
          <a:xfrm>
            <a:off x="4267080" y="1933560"/>
            <a:ext cx="4267440" cy="4086360"/>
          </a:xfrm>
          <a:prstGeom prst="rect">
            <a:avLst/>
          </a:prstGeom>
          <a:ln w="0">
            <a:noFill/>
          </a:ln>
        </p:spPr>
      </p:pic>
      <p:sp>
        <p:nvSpPr>
          <p:cNvPr id="9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49A15-42E1-4A00-8C9F-2815B7D40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1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6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1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4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7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5" dur="5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46748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Vasa Rect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sa recta maintains hypertonicity by countercurrent ex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Cl and urea diffuse into descending limb and diffuse back into medullary tissue flu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each level of the medulla, [solute] is higher in the ascending limb than in the interstitial fluid; and higher in the interstitial fluid than in descending vess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lls are permeable to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, NaCl and u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oid osmotic pressure in vasa recta &gt; interstitial flu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94CDE-2AD4-435A-A951-7D98DAA13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7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2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7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2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39360"/>
            <a:ext cx="7772400" cy="11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ctors affecting urine concent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440" y="1874520"/>
            <a:ext cx="762012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H: causes an increase in permeability of DCT, CT, and CD for water. It also increase the permeability of medullary CD to ure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ngth of the loop of Henle: the longer the loop of Henle, the greater the countercurrent multiplication effect and more urine concentr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ew born baby having shorter loop of Henle can not concentrate as same as the adul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BB73-BB0D-4D0D-AF51-A8965DA62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39360"/>
            <a:ext cx="7772400" cy="11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ctors affecting urine concent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62120" y="19810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ivery of salt to ALH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e to a decrease in GFR (Hemorrhage) the filter load of solute is decreas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leads to a decrease in the delivery of salt to ALH resulting in decreased reabsorption of salt from AL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us there is decreased addition of salts to the medullary ISF, leading to decreased medullary longitudinal osmotic gradient and decreased urine concentr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E59C6-A402-4474-B49E-A5B33DA48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09120" y="1951200"/>
            <a:ext cx="769644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55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bsorption of salt out of ALH: Diuretic drugs (Lasix) prevents NaCl reabsorption from thick ALH, leading to decreased addition of salts to the medullary ISF, decreased medullary longitudinal osmotic gradient and finally decreased urine concentr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55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ivery of fluid to medullary CT and CD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imum urine concentration occures when only a small amount of fluid enters the medullary CT and C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CB50E-220E-4DA3-99FF-4D2322F0B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39360"/>
            <a:ext cx="7772400" cy="11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ctors affecting urine concent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09120" y="182844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3040" indent="-3430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en during an osmotic diuresis, the increased fluid volume delivered to the medullary CT and CD leads to wash out of medullary longitudinal osmotic gradient and cause decreased urine concentratio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55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dullary blood flow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rmally very low blood flow (about 5% of total RBF) to the medul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reased blood flow to the medulla may cause wash out of the medullary longitudinal osmotic gradient, decreased effectiveness of the countercurrent exchange system and decreased urine concent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8502A-D488-47FD-9F1B-FFC582A25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39360"/>
            <a:ext cx="7772400" cy="11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ctors affecting urine concent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7720" y="2026800"/>
            <a:ext cx="723924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550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re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rea recycling contributes significantly to the medullary longitudinal osmotic gradient and is essential for the countercurrent syst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erson on a protein free diet loses the ability to concentrate urine due to lack of urea in the medull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FB1AB-7122-449A-BCB9-290AE4785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39360"/>
            <a:ext cx="7772400" cy="11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ctors affecting urine concent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ter Diuresis and Osmotic Diur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CE279-CDBE-4991-9DE9-2B3820C526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731520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arning Objectiv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09480" y="1828800"/>
            <a:ext cx="78487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and describe that the loop of Henle is referred to as countercurrent multiplier and the loop and vasa recta as countercurrent  exchange systems in concentrating and diluting ur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lain what happens to osmolarity of tubular fluid in the various segments of the loop of Henle when concentrated urine is being produc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lain the factors that determine the ability of loop of Henle to make a concentrated medullary gradi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erentiate between water diuresis and osmotic diure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reciate clinical correlates of diabetes mellitus and diabetes insipid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69FAE-CFDE-4C03-A716-C40BC3D24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Content Placeholder 4" descr=""/>
          <p:cNvPicPr/>
          <p:nvPr/>
        </p:nvPicPr>
        <p:blipFill>
          <a:blip r:embed="rId1"/>
          <a:stretch/>
        </p:blipFill>
        <p:spPr>
          <a:xfrm>
            <a:off x="749160" y="719280"/>
            <a:ext cx="7645680" cy="1268280"/>
          </a:xfrm>
          <a:prstGeom prst="rect">
            <a:avLst/>
          </a:prstGeom>
          <a:ln w="0">
            <a:noFill/>
          </a:ln>
        </p:spPr>
      </p:pic>
      <p:sp>
        <p:nvSpPr>
          <p:cNvPr id="11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1B2F1-BE66-4CD6-BF8D-9FEB33A2E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Content Placeholder 4" descr=""/>
          <p:cNvPicPr/>
          <p:nvPr/>
        </p:nvPicPr>
        <p:blipFill>
          <a:blip r:embed="rId1"/>
          <a:stretch/>
        </p:blipFill>
        <p:spPr>
          <a:xfrm>
            <a:off x="743040" y="719280"/>
            <a:ext cx="7657920" cy="3352680"/>
          </a:xfrm>
          <a:prstGeom prst="rect">
            <a:avLst/>
          </a:prstGeom>
          <a:ln w="0">
            <a:noFill/>
          </a:ln>
        </p:spPr>
      </p:pic>
      <p:sp>
        <p:nvSpPr>
          <p:cNvPr id="11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A4778-A1AD-4374-ABF7-9E8FED7B8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Content Placeholder 4" descr=""/>
          <p:cNvPicPr/>
          <p:nvPr/>
        </p:nvPicPr>
        <p:blipFill>
          <a:blip r:embed="rId1"/>
          <a:stretch/>
        </p:blipFill>
        <p:spPr>
          <a:xfrm>
            <a:off x="743040" y="719280"/>
            <a:ext cx="7657920" cy="5376600"/>
          </a:xfrm>
          <a:prstGeom prst="rect">
            <a:avLst/>
          </a:prstGeom>
          <a:ln w="0">
            <a:noFill/>
          </a:ln>
        </p:spPr>
      </p:pic>
      <p:sp>
        <p:nvSpPr>
          <p:cNvPr id="1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A9F7E-D4A1-46AF-87D4-A34DBF0195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Content Placeholder 4" descr=""/>
          <p:cNvPicPr/>
          <p:nvPr/>
        </p:nvPicPr>
        <p:blipFill>
          <a:blip r:embed="rId1"/>
          <a:stretch/>
        </p:blipFill>
        <p:spPr>
          <a:xfrm>
            <a:off x="669960" y="719280"/>
            <a:ext cx="7804080" cy="1785960"/>
          </a:xfrm>
          <a:prstGeom prst="rect">
            <a:avLst/>
          </a:prstGeom>
          <a:ln w="0">
            <a:noFill/>
          </a:ln>
        </p:spPr>
      </p:pic>
      <p:sp>
        <p:nvSpPr>
          <p:cNvPr id="11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616CB-5F6B-4C65-92FB-391462C035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Content Placeholder 4" descr=""/>
          <p:cNvPicPr/>
          <p:nvPr/>
        </p:nvPicPr>
        <p:blipFill>
          <a:blip r:embed="rId1"/>
          <a:stretch/>
        </p:blipFill>
        <p:spPr>
          <a:xfrm>
            <a:off x="669960" y="719280"/>
            <a:ext cx="7804080" cy="2481120"/>
          </a:xfrm>
          <a:prstGeom prst="rect">
            <a:avLst/>
          </a:prstGeom>
          <a:ln w="0">
            <a:noFill/>
          </a:ln>
        </p:spPr>
      </p:pic>
      <p:sp>
        <p:nvSpPr>
          <p:cNvPr id="12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C069A-3D8A-4CC4-8AB7-929ABBAF5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Content Placeholder 4" descr=""/>
          <p:cNvPicPr/>
          <p:nvPr/>
        </p:nvPicPr>
        <p:blipFill>
          <a:blip r:embed="rId1"/>
          <a:stretch/>
        </p:blipFill>
        <p:spPr>
          <a:xfrm>
            <a:off x="669960" y="719280"/>
            <a:ext cx="7804080" cy="3968640"/>
          </a:xfrm>
          <a:prstGeom prst="rect">
            <a:avLst/>
          </a:prstGeom>
          <a:ln w="0">
            <a:noFill/>
          </a:ln>
        </p:spPr>
      </p:pic>
      <p:sp>
        <p:nvSpPr>
          <p:cNvPr id="1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700DB-5C76-4810-BE0F-B35D1B79F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Content Placeholder 4" descr=""/>
          <p:cNvPicPr/>
          <p:nvPr/>
        </p:nvPicPr>
        <p:blipFill>
          <a:blip r:embed="rId1"/>
          <a:stretch/>
        </p:blipFill>
        <p:spPr>
          <a:xfrm>
            <a:off x="669960" y="719280"/>
            <a:ext cx="7804080" cy="5499000"/>
          </a:xfrm>
          <a:prstGeom prst="rect">
            <a:avLst/>
          </a:prstGeom>
          <a:ln w="0">
            <a:noFill/>
          </a:ln>
        </p:spPr>
      </p:pic>
      <p:sp>
        <p:nvSpPr>
          <p:cNvPr id="12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41181-6880-4DA9-A875-3A6F5BCD7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6840" y="16761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iabetes insipid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35200"/>
            <a:ext cx="3581280" cy="30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use: inability to produce or release AD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rine: low fixed specific gravity (diluted ur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lyu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lydips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44720" y="1839600"/>
            <a:ext cx="4041720" cy="90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5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ephrogenic diabetes insipid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876560" y="2711520"/>
            <a:ext cx="342900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use: inability of kidney to respond to AD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abetes mellit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gh specific gravity ur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6"/>
          <p:cNvSpPr/>
          <p:nvPr/>
        </p:nvSpPr>
        <p:spPr>
          <a:xfrm>
            <a:off x="6553080" y="5848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7840E-AC83-4FF1-84BD-DB68B4162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title"/>
          </p:nvPr>
        </p:nvSpPr>
        <p:spPr>
          <a:xfrm>
            <a:off x="761760" y="609120"/>
            <a:ext cx="7543800" cy="1219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Arial"/>
              </a:rPr>
              <a:t>Disorders of urinary concentrating 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2"/>
          <p:cNvSpPr txBox="1"/>
          <p:nvPr/>
        </p:nvSpPr>
        <p:spPr>
          <a:xfrm>
            <a:off x="2057400" y="1371600"/>
            <a:ext cx="54864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Thank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120DE-75FD-4E4C-BDA0-053FFCF3F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61976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untercurr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914400" y="1828800"/>
            <a:ext cx="3733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ystem in which inflow runs parallel and in close proximity but opposite to the outflow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operation of such a system allows the outgoing fluid to heat the incoming flui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67F27-887A-47BB-991E-4844FC2AE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rcRect l="30764" t="67276" r="62244" b="9015"/>
          <a:stretch/>
        </p:blipFill>
        <p:spPr>
          <a:xfrm>
            <a:off x="5403960" y="1828800"/>
            <a:ext cx="2174760" cy="41511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543800" cy="1219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Mechanism for urine concentration/di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the loop of Henle reabsorbs another 20% of the salt/water in tubular fluid, primary function is to determine osmolarity of urine (i.e. whether concentrated or diluted) u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countercurrent multiplier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collecting duct is where urine concentration is determined, osmolarity of interstitial fluid in medulla must be high and osmolarity of tubular fluid must be 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ercurrent multiplier system achieves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46649-CDBC-40A4-BB21-92469C495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rcRect l="8622" t="1591" r="0" b="55718"/>
          <a:stretch/>
        </p:blipFill>
        <p:spPr>
          <a:xfrm>
            <a:off x="4495680" y="2362320"/>
            <a:ext cx="4038840" cy="28954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1640" y="609120"/>
            <a:ext cx="38862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the kidney excrete dilute urin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381024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Dilution (low or no ADH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Reabsorb solute don’t absorb wa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1) Isoosmotic fluid from P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2) Thin descending limb permeable to water, less for Na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water reabsorbed, tubule osomolality = medulla (i.e. hig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F302F-A0DC-4E7A-A9D1-6F96C8A0A2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rcRect l="8622" t="1591" r="0" b="55718"/>
          <a:stretch/>
        </p:blipFill>
        <p:spPr>
          <a:xfrm>
            <a:off x="4495680" y="2362320"/>
            <a:ext cx="4038840" cy="28954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1640" y="609120"/>
            <a:ext cx="38862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the kidney excrete dilute urin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837720"/>
            <a:ext cx="381024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3) Thin ascending limb impermeable to water, permeable to NaCl (pass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tubule volume unchanged, [NaCl] </a:t>
            </a:r>
            <a:r>
              <a:rPr b="0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4) TAL impermeable to water, NaCl actively reabsorbed (diluting segment of nephr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diluting tubule fluid 150 mOsm/kg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E400D-543E-4ED8-93EE-05425A2DF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9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4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9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rcRect l="8622" t="1591" r="0" b="55718"/>
          <a:stretch/>
        </p:blipFill>
        <p:spPr>
          <a:xfrm>
            <a:off x="4495680" y="2362320"/>
            <a:ext cx="4038840" cy="28954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1640" y="609120"/>
            <a:ext cx="38862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the kidney excrete dilute urin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657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5) Collecting duct reabsorb NaCl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osmolality, may reach 50 mOsm/kg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8C7BD-2F7A-4AA9-A72D-FE6725F75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6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4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419720" y="609120"/>
            <a:ext cx="4038480" cy="129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the kidney excrete concentrated urin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3657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Concentration of urine (ADH dependen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1-4 same as di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Reabsorbed NaCl in loop of Henle </a:t>
            </a:r>
            <a:r>
              <a:rPr b="0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osmolality of interstit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Generated by </a:t>
            </a: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Countercurrent Multi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1"/>
          <a:srcRect l="9648" t="53430" r="0" b="4284"/>
          <a:stretch/>
        </p:blipFill>
        <p:spPr>
          <a:xfrm>
            <a:off x="4343400" y="2209680"/>
            <a:ext cx="4191120" cy="3011760"/>
          </a:xfrm>
          <a:prstGeom prst="rect">
            <a:avLst/>
          </a:prstGeom>
          <a:ln w="0">
            <a:noFill/>
          </a:ln>
        </p:spPr>
      </p:pic>
      <p:sp>
        <p:nvSpPr>
          <p:cNvPr id="7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0EED2-36E8-43AE-BFD9-00780C505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6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4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9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1640" y="609120"/>
            <a:ext cx="3886200" cy="129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the kidney excrete concentrated urin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05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5) Fluid reaching CD hypoosmotic (osm due ure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DH causes water to diffuse out up to a max of 300 mOsm/kg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rcRect l="9648" t="53430" r="0" b="4284"/>
          <a:stretch/>
        </p:blipFill>
        <p:spPr>
          <a:xfrm>
            <a:off x="4343400" y="2057400"/>
            <a:ext cx="4191120" cy="3011400"/>
          </a:xfrm>
          <a:prstGeom prst="rect">
            <a:avLst/>
          </a:prstGeom>
          <a:ln w="0">
            <a:noFill/>
          </a:ln>
        </p:spPr>
      </p:pic>
      <p:sp>
        <p:nvSpPr>
          <p:cNvPr id="8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AD0C2-F8E9-466E-9D57-A3C400F2C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6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4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hmad Ahmeda</cp:lastModifiedBy>
  <dcterms:modified xsi:type="dcterms:W3CDTF">2015-05-07T04:28:24Z</dcterms:modified>
  <cp:revision>18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