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D978-B7C3-4E30-A571-B4D32A91F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BF00-424C-4CBC-B665-BDBEDE91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22F-C16F-439B-828C-B62BCFFE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0B2-94EF-4BF6-92A4-34979EF6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B28-7BEB-45E5-8F8D-BCA63ED5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AF3-80B9-4ACA-9265-DBA9A7CF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559-38BB-4FEB-83AA-76E9C977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48B-7E05-4A5B-8E5E-B1F6D009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C65-4428-4B59-847F-93001668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F97-F48C-43E7-96CB-C079715D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014-A530-4CD2-90F7-DF7C5FFE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723-F310-4260-BE29-931B1D0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74B-900F-46E4-859E-F7CB2173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481-ADE7-4780-83D1-D0D508D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13A9-A939-4DBE-AD57-6BA586CC0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31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Concentration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7385-BF85-4565-9F25-7132574B9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) Osmolality of medullary tissue high up to 1200 mOsm/kg wat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ue to NaCl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rea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arly CD impermeable to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allows water reabsorption pas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63EC-9B3F-45EF-91C1-66FC42C06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39152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en ADH levels high urea levels in medullary  CD &amp; interstitium equilib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st water absorbed in presence of ADH is in the cortical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341E-73A4-4798-BBF2-034463BDE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760" y="685800"/>
            <a:ext cx="4190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339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s NaCl in medu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from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 transpor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aporin protein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chann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estrate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7_17"/>
          <p:cNvPicPr/>
          <p:nvPr/>
        </p:nvPicPr>
        <p:blipFill>
          <a:blip r:embed="rId1"/>
          <a:srcRect l="7500" t="4244" r="7500" b="0"/>
          <a:stretch/>
        </p:blipFill>
        <p:spPr>
          <a:xfrm>
            <a:off x="4267080" y="1933560"/>
            <a:ext cx="4267440" cy="40863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7BD0-12D2-4F6A-ACBF-B93822DAC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a recta maintains hypertonicity by 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and urea diffuse into descending limb and diffuse back into medullary tissue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of the medulla, [solute] is higher in the ascending limb than in the interstitial fluid; and higher in the interstitial fluid than in descending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s are permeable to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NaCl and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 osmotic pressure in vasa recta &gt;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02F-45D9-42B2-BD5D-CA186510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8745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: causes an increase in permeability of DCT, CT, and CD for water. It also increase the permeability of medullary CD to u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 of the loop of Henle: the longer the loop of Henle, the greater the countercurrent multiplication effect and more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born baby having shorter loop of Henle can not concentrate as same as the ad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2EB-155B-43D2-8E6E-A671CC853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21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salt to ALH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a decrease in GFR (Hemorrhage) the filter load of solute is decre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a decrease in the delivery of salt to ALH resulting in decreased reabsorption of salt from AL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there is decreased addition of salts to the medullary ISF, leading to decreased medullary longitudinal osmotic gradient and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4ACD-7FE9-4153-9B37-3BBA4D4B7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120" y="1951200"/>
            <a:ext cx="76964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bsorption of salt out of ALH: Diuretic drugs (Lasix) prevents NaCl reabsorption from thick ALH, leading to decreased addition of salts to the medullary ISF, decreased medullary longitudinal osmotic gradient and finally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fluid to medullary CT and C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urine concentration occures when only a small amount of fluid enters the medullary CT and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E1B8-52C3-4569-AE4B-80492FCAD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0912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during an osmotic diuresis, the increased fluid volume delivered to the medullary CT and CD leads to wash out of medullary longitudinal osmotic gradient and cause decreased urine concent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blood flow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ly very low blood flow (about 5% of total RBF) to the medu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blood flow to the medulla may cause wash out of the medullary longitudinal osmotic gradient, decreased effectiveness of the countercurrent exchange system and decreased urine 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2154-4EAB-44EB-AA54-80792CCAF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7720" y="2026800"/>
            <a:ext cx="72392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 recycling contributes significantly to the medullary longitudinal osmotic gradient and is essential for the countercurrent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erson on a protein free diet loses the ability to concentrate urine due to lack of urea in the medu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ED3A-6E02-4433-899B-AAED86B9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Diuresis and Osmotic Diu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2BF4-31EC-4B63-84F2-F1E8A3EDD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828800"/>
            <a:ext cx="78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at the loop of Henle is referred to as countercurrent multiplier and the loop and vasa recta as countercurrent  exchange systems in concentrating and diluting u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what happens to osmolarity of tubular fluid in the various segments of the loop of Henle when concentrated urine is being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factors that determine the ability of loop of Henle to make a concentrated medullary grad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 between water diuresis and osmotic diur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e clinical correlates of diabetes mellitus and diabetes insipid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ADD-5614-497B-9E50-13A841AFD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4" descr=""/>
          <p:cNvPicPr/>
          <p:nvPr/>
        </p:nvPicPr>
        <p:blipFill>
          <a:blip r:embed="rId1"/>
          <a:stretch/>
        </p:blipFill>
        <p:spPr>
          <a:xfrm>
            <a:off x="749160" y="719280"/>
            <a:ext cx="764568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55A-9F59-4191-82BD-A3337A14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941E-2B48-4447-91E5-ECB1F6DA3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537660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FFA8-B195-4034-B98B-3D2923EFD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17859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3687-6938-4718-8009-EAC9304B1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248112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FA06-893D-4CCD-B9C0-7E8B5E3B0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396864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5310-3B82-446A-A981-6DB5CA7B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54990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A348-0B97-4097-8FDE-386502C8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35200"/>
            <a:ext cx="358128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to produce or release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: low fixed specific gravity (diluted u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dip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4720" y="1839600"/>
            <a:ext cx="404172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phrogenic diabetes insipi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76560" y="2711520"/>
            <a:ext cx="3429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of kidney to respond to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pecific gravity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5848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3761-34FB-48A6-AA08-5464FF82C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title"/>
          </p:nvPr>
        </p:nvSpPr>
        <p:spPr>
          <a:xfrm>
            <a:off x="76176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Disorders of urinary concentrating 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3748-24AD-4057-804C-D78DCC459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18288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n which inflow runs parallel and in close proximity but opposite to the outf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 of such a system allows the outgoing fluid to heat the incoming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21F4-48DC-4469-9120-3423E9CB7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30764" t="67276" r="62244" b="9015"/>
          <a:stretch/>
        </p:blipFill>
        <p:spPr>
          <a:xfrm>
            <a:off x="5403960" y="1828800"/>
            <a:ext cx="2174760" cy="41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Mechanism for urine concentration/di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loop of Henle reabsorbs another 20% of the salt/water in tubular fluid, primary function is to determine osmolarity of urine (i.e. whether concentrated or diluted)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ountercurrent multipli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ollecting duct is where urine concentration is determined, osmolarity of interstitial fluid in medulla must be high and osmolarity of tubular fluid must b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multiplier system achiev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ADD9-9F94-422F-8910-799AF568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on (low or no AD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 solute don’t absorb 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Isoosmotic fluid from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Thin descending limb permeable to water, less for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ater reabsorbed, tubule osomolality = medulla (i.e.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57A6-4721-4501-A7AC-209E9938B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Thin ascending limb impermeable to water, permeable to NaCl (pas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bule volume unchanged, [NaCl]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TAL impermeable to water, NaCl actively reabsorbed (diluting segment of nephr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ng tubule fluid 15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9DB8-DD80-4311-8053-48D094F5F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) Collecting duct reabsorb NaCl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smolality, may reach 50 mOsm/kg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E405-BD6A-4862-95DB-4A59BC3C0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403848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centration of urine (ADH depend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-4 same as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ed NaCl in loop of Henl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smolality of intersti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ted by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untercurren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209680"/>
            <a:ext cx="4191120" cy="301176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0007-A799-44FF-9391-26D977A8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Fluid reaching CD hypoosmotic (osm due u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water to diffuse out up to a max of 30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CA64-72F2-4FC8-81F8-99A607AD8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5-05-07T04:28:24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