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0C2-28DA-494E-A5FD-F1EB59A0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85F-1C6A-4FDC-817A-8F3B9FD7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851-C137-49FF-B607-7FCE8D55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97E-DBD6-4173-AEB8-31F48CAA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35BCE-4626-4EC6-94B0-3F42E361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332DF-6345-4355-B67C-D688E13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E9D71-5DFF-4754-B2BC-1F0E5A3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3199-513A-44B9-BD63-289007AF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4EBEA-CDCB-4288-9F29-BBA6CC74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0ABCC-8C26-4A1F-A6C7-ED9A157C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2DAE6-0028-4A72-A423-CA268D4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918-DDAF-41FA-8EA2-FE9B4CBF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EFB56-88A4-4251-931C-CD53976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B9CD3-02BF-415C-8929-25CBBF4D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1E56C-E443-4189-B5CF-BC4F4E84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DD38-D61E-4506-AA2A-E628A7FA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0F03-9FA5-4B76-A1A7-9E5E1C13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EA5-65E8-475B-B7BA-4108147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E90-38D9-4374-AC60-542FC9E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DF5-7922-45C7-8A51-68993E6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E74-8505-4EF4-8220-0FA147B7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6B9-0C9F-446D-ADB3-F7F0E67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9A6-73D8-4102-8717-7ECC954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AFC-C9BD-47CD-ABF8-BCB6339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106-5FC0-4EAC-AD0C-87340A034A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D6F5-3896-4141-A788-A0F2C293A2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tero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ateral 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bdominal </a:t>
            </a:r>
            <a:r>
              <a:rPr b="1" lang="en-US" sz="4000" spc="-1" strike="noStrike">
                <a:solidFill>
                  <a:srgbClr val="92d050"/>
                </a:solidFill>
                <a:latin typeface="Arial"/>
              </a:rPr>
              <a:t>Wall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d</a:t>
            </a:r>
            <a:br>
              <a:rPr sz="48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5640" y="450828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rof. Saeed Abuel Maka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24000" y="126828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5" name="Rectangle 4" descr=""/>
          <p:cNvPicPr/>
          <p:nvPr/>
        </p:nvPicPr>
        <p:blipFill>
          <a:blip r:embed="rId3"/>
          <a:stretch/>
        </p:blipFill>
        <p:spPr>
          <a:xfrm>
            <a:off x="176040" y="1773360"/>
            <a:ext cx="864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de08$00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611280" y="2708280"/>
            <a:ext cx="1944720" cy="43344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16-Point Star 3"/>
          <p:cNvSpPr/>
          <p:nvPr/>
        </p:nvSpPr>
        <p:spPr>
          <a:xfrm>
            <a:off x="4067280" y="3357720"/>
            <a:ext cx="360360" cy="431640"/>
          </a:xfrm>
          <a:custGeom>
            <a:avLst/>
            <a:gdLst>
              <a:gd name="textAreaLeft" fmla="*/ 82080 w 360360"/>
              <a:gd name="textAreaRight" fmla="*/ 278280 w 36036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755640" y="270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Femor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50" name="Straight Arrow Connector 6"/>
          <p:cNvCxnSpPr/>
          <p:nvPr/>
        </p:nvCxnSpPr>
        <p:spPr>
          <a:xfrm>
            <a:off x="2484000" y="2997000"/>
            <a:ext cx="1583640" cy="503640"/>
          </a:xfrm>
          <a:prstGeom prst="straightConnector1">
            <a:avLst/>
          </a:prstGeom>
          <a:ln w="9360">
            <a:solidFill>
              <a:srgbClr val="463416"/>
            </a:solidFill>
            <a:miter/>
            <a:tailEnd len="med" type="triangle" w="med"/>
          </a:ln>
        </p:spPr>
      </p:cxnSp>
      <p:sp>
        <p:nvSpPr>
          <p:cNvPr id="251" name="Rectangle 8"/>
          <p:cNvSpPr/>
          <p:nvPr/>
        </p:nvSpPr>
        <p:spPr>
          <a:xfrm>
            <a:off x="5148360" y="1484280"/>
            <a:ext cx="2808360" cy="86508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4" descr="de09$004"/>
          <p:cNvPicPr/>
          <p:nvPr/>
        </p:nvPicPr>
        <p:blipFill>
          <a:blip r:embed="rId4"/>
          <a:stretch/>
        </p:blipFill>
        <p:spPr>
          <a:xfrm>
            <a:off x="324000" y="142920"/>
            <a:ext cx="8677080" cy="67150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7"/>
          <p:cNvSpPr/>
          <p:nvPr/>
        </p:nvSpPr>
        <p:spPr>
          <a:xfrm>
            <a:off x="3708360" y="260280"/>
            <a:ext cx="5256360" cy="1767240"/>
          </a:xfrm>
          <a:prstGeom prst="rect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63416"/>
                </a:solidFill>
                <a:uFillTx/>
                <a:latin typeface="Century Gothic"/>
              </a:rPr>
              <a:t>Superficial Inguinal Ring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’s an oval slit in the lower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ponerotic fibers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of the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External oblique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  just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bove &amp; lateral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o the pubic tubercle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he lateral crus attaches to pubic tubercle &amp; the medial crus attaches to pubic crest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s base is formed by the lateral part of  pubic crest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9610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nternal Obliqu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0" name="Picture 4" descr="Int obl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4427640" y="189000"/>
            <a:ext cx="4392360" cy="666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61" name="Line 5"/>
          <p:cNvSpPr/>
          <p:nvPr/>
        </p:nvSpPr>
        <p:spPr>
          <a:xfrm flipH="1" flipV="1">
            <a:off x="5292720" y="2924280"/>
            <a:ext cx="1006560" cy="129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Line 5"/>
          <p:cNvSpPr/>
          <p:nvPr/>
        </p:nvSpPr>
        <p:spPr>
          <a:xfrm flipH="1" flipV="1">
            <a:off x="5219640" y="3213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Line 5"/>
          <p:cNvSpPr/>
          <p:nvPr/>
        </p:nvSpPr>
        <p:spPr>
          <a:xfrm flipH="1" flipV="1">
            <a:off x="5292720" y="3860640"/>
            <a:ext cx="79200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79280" y="836640"/>
            <a:ext cx="4105440" cy="503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teral 2/3  of inguinal ligamen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2/3 of iliac crest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umbar fas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>
                <a:solidFill>
                  <a:srgbClr val="ffc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pward forward and medial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at right angle with the fibers of external oblique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3 ribs and their costal cartilage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crest a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Line 5"/>
          <p:cNvSpPr/>
          <p:nvPr/>
        </p:nvSpPr>
        <p:spPr>
          <a:xfrm flipH="1" flipV="1">
            <a:off x="5219280" y="4436640"/>
            <a:ext cx="647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392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us Abdomin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11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1/3 of inguinal ligame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rior 2/3 of inner lip of iliac cre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mber fasci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6 costal cartil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Direction of its fiber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Inser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phoid Proc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ic crest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Transversus abd"/>
          <p:cNvPicPr/>
          <p:nvPr/>
        </p:nvPicPr>
        <p:blipFill>
          <a:blip r:embed="rId1"/>
          <a:stretch/>
        </p:blipFill>
        <p:spPr>
          <a:xfrm>
            <a:off x="4859280" y="260280"/>
            <a:ext cx="4105440" cy="6048360"/>
          </a:xfrm>
          <a:prstGeom prst="rect">
            <a:avLst/>
          </a:prstGeom>
          <a:ln w="0">
            <a:noFill/>
          </a:ln>
        </p:spPr>
      </p:pic>
      <p:sp>
        <p:nvSpPr>
          <p:cNvPr id="269" name="Line 5"/>
          <p:cNvSpPr/>
          <p:nvPr/>
        </p:nvSpPr>
        <p:spPr>
          <a:xfrm flipH="1" flipV="1">
            <a:off x="5651640" y="3645000"/>
            <a:ext cx="14414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Line 5"/>
          <p:cNvSpPr/>
          <p:nvPr/>
        </p:nvSpPr>
        <p:spPr>
          <a:xfrm flipH="1">
            <a:off x="5796000" y="3868560"/>
            <a:ext cx="1449360" cy="65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5940000" y="4005360"/>
            <a:ext cx="12956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1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3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3816360" cy="6191280"/>
          </a:xfrm>
          <a:prstGeom prst="rect">
            <a:avLst/>
          </a:prstGeom>
          <a:solidFill>
            <a:srgbClr val="00206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n oblique intramuscular passage in the lower medial part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Anterior Abdominal Wall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uns just above and parallel to the medial half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inguinal ligam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length is about 2 inches  (5 cm), long in ad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gives a passage for the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permatic cor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le, o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nd ligament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 the uterus  in fem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it gives a passage for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lioinguinal ner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both se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nnects between the superficial and deep inguinal r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3995640" y="189000"/>
            <a:ext cx="4969080" cy="581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INGIUNAL CA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4" name="Picture 4" descr="de09$001"/>
          <p:cNvPicPr/>
          <p:nvPr/>
        </p:nvPicPr>
        <p:blipFill>
          <a:blip r:embed="rId1"/>
          <a:srcRect l="4523" t="7053" r="4918" b="20131"/>
          <a:stretch/>
        </p:blipFill>
        <p:spPr>
          <a:xfrm>
            <a:off x="4140360" y="1844640"/>
            <a:ext cx="4752720" cy="3743280"/>
          </a:xfrm>
          <a:prstGeom prst="rect">
            <a:avLst/>
          </a:prstGeom>
          <a:ln w="0">
            <a:noFill/>
          </a:ln>
        </p:spPr>
      </p:pic>
      <p:sp>
        <p:nvSpPr>
          <p:cNvPr id="275" name="Cloud"/>
          <p:cNvSpPr/>
          <p:nvPr/>
        </p:nvSpPr>
        <p:spPr>
          <a:xfrm>
            <a:off x="7020000" y="3933720"/>
            <a:ext cx="1008000" cy="1295640"/>
          </a:xfrm>
          <a:custGeom>
            <a:avLst/>
            <a:gdLst>
              <a:gd name="textAreaLeft" fmla="*/ 138960 w 1008000"/>
              <a:gd name="textAreaRight" fmla="*/ 797400 w 1008000"/>
              <a:gd name="textAreaTop" fmla="*/ 195480 h 1295640"/>
              <a:gd name="textAreaBottom" fmla="*/ 1040040 h 129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216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Superficial Inguinal Ring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2305080" cy="396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an oval slit in the lower  aponerotic  fibers of the 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ternal obliqu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ust above &amp; lateral to  pubic  tuberc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teral crus attaches to pubic tubercle &amp; the medial crus attaches to pubic cre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de09$004"/>
          <p:cNvPicPr/>
          <p:nvPr/>
        </p:nvPicPr>
        <p:blipFill>
          <a:blip r:embed="rId1"/>
          <a:srcRect l="1981" t="0" r="0" b="0"/>
          <a:stretch/>
        </p:blipFill>
        <p:spPr>
          <a:xfrm>
            <a:off x="2556000" y="189000"/>
            <a:ext cx="6337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8920" y="272880"/>
            <a:ext cx="2808360" cy="116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entury Gothic"/>
              </a:rPr>
              <a:t>Deep Inguinal Ring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880000" cy="41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s an opening in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ascia transversalis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m above the middle  of the inguinal ligament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midpoint of inguinal ligament poi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t lie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teral to the inferior epigastric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Content Placeholder 4" descr="de15$001"/>
          <p:cNvPicPr/>
          <p:nvPr/>
        </p:nvPicPr>
        <p:blipFill>
          <a:blip r:embed="rId1"/>
          <a:stretch/>
        </p:blipFill>
        <p:spPr>
          <a:xfrm>
            <a:off x="3132000" y="272880"/>
            <a:ext cx="5761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de09$013"/>
          <p:cNvPicPr/>
          <p:nvPr/>
        </p:nvPicPr>
        <p:blipFill>
          <a:blip r:embed="rId1"/>
          <a:srcRect l="3861" t="2826" r="7507" b="6886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Rectangle 4"/>
          <p:cNvSpPr/>
          <p:nvPr/>
        </p:nvSpPr>
        <p:spPr>
          <a:xfrm>
            <a:off x="1042920" y="4869000"/>
            <a:ext cx="7561440" cy="19234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NGUINAL CANA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 External oblique along whole lengt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ternal oblique along lateral half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Fascia Transversalis along whole leng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joint tendon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flected ligament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5435640" y="333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364000" y="333360"/>
            <a:ext cx="3168720" cy="431640"/>
          </a:xfrm>
          <a:prstGeom prst="rect">
            <a:avLst/>
          </a:prstGeom>
          <a:solidFill>
            <a:srgbClr val="b3b3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86" name="Straight Arrow Connector 7"/>
          <p:cNvCxnSpPr/>
          <p:nvPr/>
        </p:nvCxnSpPr>
        <p:spPr>
          <a:xfrm flipH="1">
            <a:off x="4571640" y="765000"/>
            <a:ext cx="129600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7" name="Straight Arrow Connector 10"/>
          <p:cNvCxnSpPr/>
          <p:nvPr/>
        </p:nvCxnSpPr>
        <p:spPr>
          <a:xfrm flipH="1">
            <a:off x="5723640" y="765000"/>
            <a:ext cx="143640" cy="936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" name="TextBox 8"/>
          <p:cNvSpPr/>
          <p:nvPr/>
        </p:nvSpPr>
        <p:spPr>
          <a:xfrm>
            <a:off x="3276720" y="260280"/>
            <a:ext cx="1439640" cy="39888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eep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89" name="Straight Arrow Connector 11"/>
          <p:cNvCxnSpPr/>
          <p:nvPr/>
        </p:nvCxnSpPr>
        <p:spPr>
          <a:xfrm flipH="1">
            <a:off x="2555280" y="333000"/>
            <a:ext cx="6483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de09$010"/>
          <p:cNvPicPr/>
          <p:nvPr/>
        </p:nvPicPr>
        <p:blipFill>
          <a:blip r:embed="rId1"/>
          <a:srcRect l="0" t="3798" r="0" b="49888"/>
          <a:stretch/>
        </p:blipFill>
        <p:spPr>
          <a:xfrm>
            <a:off x="250920" y="26028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250920" y="5526000"/>
            <a:ext cx="8569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. Wall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:  External oblique along whole leng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de09$010"/>
          <p:cNvPicPr/>
          <p:nvPr/>
        </p:nvPicPr>
        <p:blipFill>
          <a:blip r:embed="rId1"/>
          <a:srcRect l="0" t="51734" r="0" b="4847"/>
          <a:stretch/>
        </p:blipFill>
        <p:spPr>
          <a:xfrm>
            <a:off x="250920" y="33336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4427640" y="333360"/>
            <a:ext cx="36734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5435640" y="836640"/>
            <a:ext cx="134604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0920" y="5629320"/>
            <a:ext cx="8713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erior wall:  Internal oblique along lateral hal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52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oin or the inguinal region, extending between the </a:t>
            </a:r>
            <a:r>
              <a:rPr b="0" lang="en-US" sz="2600" spc="-1" strike="noStrike">
                <a:solidFill>
                  <a:srgbClr val="ffc000"/>
                </a:solidFill>
                <a:latin typeface="Arial"/>
              </a:rPr>
              <a:t>AS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ubic tuberc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gically and anatomically, it is a very important area where structures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nt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xi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abdominal cav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a potential site for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erni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 fa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the majority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ll abdominal  herni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ccur in this region in particular the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guinal hern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which account for about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0 to 90 %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ll abdominal herni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4" descr="de09$011"/>
          <p:cNvPicPr/>
          <p:nvPr/>
        </p:nvPicPr>
        <p:blipFill>
          <a:blip r:embed="rId1"/>
          <a:srcRect l="0" t="0" r="0" b="4855"/>
          <a:stretch/>
        </p:blipFill>
        <p:spPr>
          <a:xfrm>
            <a:off x="250920" y="0"/>
            <a:ext cx="8713800" cy="6669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324000" y="3141720"/>
            <a:ext cx="216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Deep Inguinal Ring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ts an opening in the fascia transversalis  1cm above the middle of the inguinal ligament and lateral to the inferior epigastric vessel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6732720" y="530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Posterior wa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6732720" y="5229360"/>
            <a:ext cx="1800000" cy="50328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de15$002"/>
          <p:cNvPicPr/>
          <p:nvPr/>
        </p:nvPicPr>
        <p:blipFill>
          <a:blip r:embed="rId1"/>
          <a:srcRect l="7658" t="0" r="0" b="0"/>
          <a:stretch/>
        </p:blipFill>
        <p:spPr>
          <a:xfrm>
            <a:off x="468360" y="260280"/>
            <a:ext cx="8496360" cy="50403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250920" y="5445000"/>
            <a:ext cx="8713800" cy="12520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loor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guinal ligament supported medially by the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cunar liga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oof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Arching lower fibers of internal obliq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6588000" y="1628640"/>
            <a:ext cx="1224000" cy="28764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undaries of the Inguinal can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38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n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xternal obliqu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later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s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ascia transversali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onjoint tend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the medi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flected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the medial pa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Floor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guinal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rted medially by 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Lacunar liga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oof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Arching lower fibers of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3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5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7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6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674D-483A-4672-B556-26955E71DE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651280" y="333360"/>
            <a:ext cx="3313080" cy="612000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inguinal canal is a potential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eak poi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the anterior  abdominal wall.  But it posses a protective mechanis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rotective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lique trajector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erior wall reinforced  laterally by the internal oblique in front of the deep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erior wall reinforced  medially by the conjoint tendon behind the superficial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coughing and straining (micturition and defecation ) the arching lower fibers of the  internal oblique and  transversus abdominis  contract and flatten the roof of the canal, compressing it's cont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great straining (defecation and parturition), the person naturally assumes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quatting posi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in which the anterior abdominal wall is protected by the thigh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Inguinal canal 008"/>
          <p:cNvPicPr/>
          <p:nvPr/>
        </p:nvPicPr>
        <p:blipFill>
          <a:blip r:embed="rId1"/>
          <a:srcRect l="1266" t="2448" r="1253" b="3262"/>
          <a:stretch/>
        </p:blipFill>
        <p:spPr>
          <a:xfrm>
            <a:off x="250920" y="333360"/>
            <a:ext cx="5329080" cy="6264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3276720" y="476280"/>
            <a:ext cx="2149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CHANIC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my06_00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755640" y="549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hutter Mechanis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826920" y="549360"/>
            <a:ext cx="1584360" cy="792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9BD-EA1B-4D83-B5ED-81B70E00B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Inguinal canal 011"/>
          <p:cNvPicPr/>
          <p:nvPr/>
        </p:nvPicPr>
        <p:blipFill>
          <a:blip r:embed="rId1"/>
          <a:srcRect l="0" t="0" r="2934" b="0"/>
          <a:stretch/>
        </p:blipFill>
        <p:spPr>
          <a:xfrm>
            <a:off x="179280" y="105264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4788000" y="189000"/>
            <a:ext cx="4176720" cy="62726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 protrusion of part of the abdominal contents outside of the abd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PAR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ntent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vering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is a pouch of peritoneum (diverticulum)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has a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neck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 and a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 body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N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ny mobile structure from the abdominal cavity usually loop of intestine or part of greater omentum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VERING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rmed by the layers of  abdominal wal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79280" y="18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BDOMINAL HERNI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2700360" y="1628640"/>
            <a:ext cx="1366920" cy="36036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203640" y="3213000"/>
            <a:ext cx="1368360" cy="36036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DD0F-CEE4-4726-8FA7-16DFBE3C16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ABDOMINAL HERNIA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6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uinal- most common- (indirect or direc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o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ilical (congenital or acquir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gastr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of the two recti abdominis mus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nia of linea semilunaris (Spigelian hern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her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90AA-2CBD-4AC3-A0F8-AD5144F5D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4" descr="Inguinal canal 012A"/>
          <p:cNvPicPr/>
          <p:nvPr/>
        </p:nvPicPr>
        <p:blipFill>
          <a:blip r:embed="rId1"/>
          <a:srcRect l="0" t="0" r="0" b="5303"/>
          <a:stretch/>
        </p:blipFill>
        <p:spPr>
          <a:xfrm>
            <a:off x="250920" y="189000"/>
            <a:ext cx="4854600" cy="3456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5148360" y="18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NDIRECT OR  (OBLIQUE)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79280" y="3860640"/>
            <a:ext cx="7632720" cy="2770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form of hernia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entury Gothic"/>
              </a:rPr>
              <a:t>Origin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: congenit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mor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ommon in ma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30 %  bilater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on th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right side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Century Gothic"/>
              </a:rPr>
              <a:t>WHY?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in children and young adult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Located inside the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remains of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processus vaginal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t's extend depends on the state of obliteration of the processus vaginalis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nters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ateral to the inferior epigastric vessel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lie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above and medial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o the pubic tubercl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ay extend down to the scrotum or (labium maju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7" descr="C:\Documents and Settings\Dr.Saeed\Desktop\Groin_hernia_exam[1].jpg"/>
          <p:cNvPicPr/>
          <p:nvPr/>
        </p:nvPicPr>
        <p:blipFill>
          <a:blip r:embed="rId2"/>
          <a:srcRect l="7747" t="24724" r="6239" b="28654"/>
          <a:stretch/>
        </p:blipFill>
        <p:spPr>
          <a:xfrm>
            <a:off x="5076720" y="1628640"/>
            <a:ext cx="3888000" cy="3672000"/>
          </a:xfrm>
          <a:prstGeom prst="rect">
            <a:avLst/>
          </a:prstGeom>
          <a:ln w="0">
            <a:noFill/>
          </a:ln>
        </p:spPr>
      </p:pic>
      <p:sp>
        <p:nvSpPr>
          <p:cNvPr id="328" name="Oval 7"/>
          <p:cNvSpPr/>
          <p:nvPr/>
        </p:nvSpPr>
        <p:spPr>
          <a:xfrm>
            <a:off x="6659640" y="4724280"/>
            <a:ext cx="576360" cy="3603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B74-BF7B-4009-A860-D1F903BF22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97964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DIRECT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11280" y="5300640"/>
            <a:ext cx="7777080" cy="13107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15 % of inguinal hernia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old men with weak abdominal wall, rare in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bulges through the posterior wall of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edial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to the inferior  epigastric vessel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neck of the hernial sac 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wid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6" descr="Inguinal canal 012B"/>
          <p:cNvPicPr/>
          <p:nvPr/>
        </p:nvPicPr>
        <p:blipFill>
          <a:blip r:embed="rId1"/>
          <a:srcRect l="1784" t="4741" r="3718" b="3132"/>
          <a:stretch/>
        </p:blipFill>
        <p:spPr>
          <a:xfrm>
            <a:off x="971640" y="76500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ABB1-4981-465E-9899-2CD2E4D5C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4" descr="Inguinal canal 014"/>
          <p:cNvPicPr/>
          <p:nvPr/>
        </p:nvPicPr>
        <p:blipFill>
          <a:blip r:embed="rId1"/>
          <a:srcRect l="0" t="0" r="6477" b="0"/>
          <a:stretch/>
        </p:blipFill>
        <p:spPr>
          <a:xfrm>
            <a:off x="179280" y="260280"/>
            <a:ext cx="4897440" cy="45370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5364000" y="22860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EMOR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8" descr="Inguinal canal 013 001"/>
          <p:cNvPicPr/>
          <p:nvPr/>
        </p:nvPicPr>
        <p:blipFill>
          <a:blip r:embed="rId2"/>
          <a:srcRect l="4798" t="8358" r="4750" b="6586"/>
          <a:stretch/>
        </p:blipFill>
        <p:spPr>
          <a:xfrm>
            <a:off x="5257800" y="914400"/>
            <a:ext cx="3352680" cy="37339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179280" y="4869000"/>
            <a:ext cx="8785440" cy="173988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hernial sac descends through the femoral canal within  femoral sheat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lie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below and lateral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the pubic tubercl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is narrow and lies at the femoral  ring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cause of the narrow neck,  it is often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rreducible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and may become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trangulate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44" descr="بدون عنوان"/>
          <p:cNvPicPr/>
          <p:nvPr/>
        </p:nvPicPr>
        <p:blipFill>
          <a:blip r:embed="rId2"/>
          <a:srcRect l="0" t="0" r="24535" b="0"/>
          <a:stretch/>
        </p:blipFill>
        <p:spPr>
          <a:xfrm>
            <a:off x="210960" y="204840"/>
            <a:ext cx="5656320" cy="65818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45"/>
          <p:cNvSpPr/>
          <p:nvPr/>
        </p:nvSpPr>
        <p:spPr>
          <a:xfrm>
            <a:off x="755640" y="3571920"/>
            <a:ext cx="4464000" cy="1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755640" y="452592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2773440" y="836640"/>
            <a:ext cx="21420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2771640" y="6021360"/>
            <a:ext cx="21456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Oval 49"/>
          <p:cNvSpPr/>
          <p:nvPr/>
        </p:nvSpPr>
        <p:spPr>
          <a:xfrm>
            <a:off x="2771640" y="3429000"/>
            <a:ext cx="22068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757080" y="4003560"/>
            <a:ext cx="4464360" cy="180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755640" y="488628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Oval 52"/>
          <p:cNvSpPr/>
          <p:nvPr/>
        </p:nvSpPr>
        <p:spPr>
          <a:xfrm>
            <a:off x="3998880" y="3860640"/>
            <a:ext cx="21276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Oval 53"/>
          <p:cNvSpPr/>
          <p:nvPr/>
        </p:nvSpPr>
        <p:spPr>
          <a:xfrm>
            <a:off x="169236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Oval 54"/>
          <p:cNvSpPr/>
          <p:nvPr/>
        </p:nvSpPr>
        <p:spPr>
          <a:xfrm>
            <a:off x="3995640" y="43657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Oval 55"/>
          <p:cNvSpPr/>
          <p:nvPr/>
        </p:nvSpPr>
        <p:spPr>
          <a:xfrm>
            <a:off x="1619280" y="4365720"/>
            <a:ext cx="21888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179280" y="6308640"/>
            <a:ext cx="2808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The body plan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5856120" y="44280"/>
            <a:ext cx="303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transpyloric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Text Box 58"/>
          <p:cNvSpPr/>
          <p:nvPr/>
        </p:nvSpPr>
        <p:spPr>
          <a:xfrm>
            <a:off x="5997960" y="1935000"/>
            <a:ext cx="27014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subcost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5651640" y="3073320"/>
            <a:ext cx="3238200" cy="36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entury Gothic"/>
              </a:rPr>
              <a:t>The supracrest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5651640" y="4184640"/>
            <a:ext cx="3317760" cy="7038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e intertubercular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6493320" y="836640"/>
            <a:ext cx="1753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midway betwee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6081840" y="1197000"/>
            <a:ext cx="2532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uprasternal notch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6134400" y="1568520"/>
            <a:ext cx="247140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&amp;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ymphysis pub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5722920" y="2359080"/>
            <a:ext cx="3313080" cy="47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</a:t>
            </a:r>
            <a:r>
              <a:rPr b="1" lang="en-US" sz="1400" spc="-1" strike="noStrike">
                <a:solidFill>
                  <a:srgbClr val="0000ff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5753160" y="3860640"/>
            <a:ext cx="336420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highest points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5435640" y="5014800"/>
            <a:ext cx="370836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2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tubercles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of the2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Text Box 67"/>
          <p:cNvSpPr/>
          <p:nvPr/>
        </p:nvSpPr>
        <p:spPr>
          <a:xfrm>
            <a:off x="5550840" y="2719440"/>
            <a:ext cx="3562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lowest points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 costal margi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724360" y="3505320"/>
            <a:ext cx="3313440" cy="47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a transverse line 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4211640" y="4724280"/>
            <a:ext cx="21600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Oval 70"/>
          <p:cNvSpPr/>
          <p:nvPr/>
        </p:nvSpPr>
        <p:spPr>
          <a:xfrm>
            <a:off x="1332000" y="4724280"/>
            <a:ext cx="21564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5940360" y="4657680"/>
            <a:ext cx="3095640" cy="47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Freeform 72"/>
          <p:cNvSpPr/>
          <p:nvPr/>
        </p:nvSpPr>
        <p:spPr>
          <a:xfrm rot="5400000">
            <a:off x="754200" y="2996280"/>
            <a:ext cx="5834160" cy="73080"/>
          </a:xfrm>
          <a:custGeom>
            <a:avLst/>
            <a:gdLst>
              <a:gd name="textAreaLeft" fmla="*/ 0 w 5834160"/>
              <a:gd name="textAreaRight" fmla="*/ 5834160 w 58341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Freeform 73"/>
          <p:cNvSpPr/>
          <p:nvPr/>
        </p:nvSpPr>
        <p:spPr>
          <a:xfrm flipH="1" rot="16200000">
            <a:off x="-866880" y="3032640"/>
            <a:ext cx="5906880" cy="73080"/>
          </a:xfrm>
          <a:custGeom>
            <a:avLst/>
            <a:gdLst>
              <a:gd name="textAreaLeft" fmla="*/ 360 w 5906880"/>
              <a:gd name="textAreaRight" fmla="*/ 5907600 w 5906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Oval 74"/>
          <p:cNvSpPr/>
          <p:nvPr/>
        </p:nvSpPr>
        <p:spPr>
          <a:xfrm>
            <a:off x="3637080" y="620640"/>
            <a:ext cx="2142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Oval 75"/>
          <p:cNvSpPr/>
          <p:nvPr/>
        </p:nvSpPr>
        <p:spPr>
          <a:xfrm>
            <a:off x="3565440" y="5589720"/>
            <a:ext cx="21456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Oval 76"/>
          <p:cNvSpPr/>
          <p:nvPr/>
        </p:nvSpPr>
        <p:spPr>
          <a:xfrm>
            <a:off x="1908000" y="5518080"/>
            <a:ext cx="21456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Oval 77"/>
          <p:cNvSpPr/>
          <p:nvPr/>
        </p:nvSpPr>
        <p:spPr>
          <a:xfrm>
            <a:off x="1908000" y="620640"/>
            <a:ext cx="21600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Text Box 78"/>
          <p:cNvSpPr/>
          <p:nvPr/>
        </p:nvSpPr>
        <p:spPr>
          <a:xfrm>
            <a:off x="5724360" y="5394240"/>
            <a:ext cx="33591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The lateral vertic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Text Box 79"/>
          <p:cNvSpPr/>
          <p:nvPr/>
        </p:nvSpPr>
        <p:spPr>
          <a:xfrm>
            <a:off x="6302160" y="5805360"/>
            <a:ext cx="259164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A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vertical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from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6343920" y="6529320"/>
            <a:ext cx="2404440" cy="28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o the </a:t>
            </a:r>
            <a:r>
              <a:rPr b="1" lang="en-US" sz="1400" spc="-1" strike="noStrike">
                <a:solidFill>
                  <a:srgbClr val="ff00ff"/>
                </a:solidFill>
                <a:latin typeface="Century Gothic"/>
              </a:rPr>
              <a:t>midinguinal poin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Text Box 81"/>
          <p:cNvSpPr/>
          <p:nvPr/>
        </p:nvSpPr>
        <p:spPr>
          <a:xfrm>
            <a:off x="6311520" y="6140520"/>
            <a:ext cx="2586960" cy="31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idclavicular point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5796000" y="476280"/>
            <a:ext cx="3097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It is </a:t>
            </a:r>
            <a:r>
              <a:rPr b="1" lang="en-US" sz="1600" spc="-1" strike="noStrike">
                <a:solidFill>
                  <a:srgbClr val="ff00ff"/>
                </a:solidFill>
                <a:latin typeface="Century Gothic"/>
              </a:rPr>
              <a:t>a transverse lin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draw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05DC-5426-49D2-A797-E192B1AAE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4" descr="Inguinal canal 019"/>
          <p:cNvPicPr/>
          <p:nvPr/>
        </p:nvPicPr>
        <p:blipFill>
          <a:blip r:embed="rId1"/>
          <a:srcRect l="15659" t="4455" r="49663" b="15699"/>
          <a:stretch/>
        </p:blipFill>
        <p:spPr>
          <a:xfrm>
            <a:off x="179280" y="189000"/>
            <a:ext cx="3240360" cy="6669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4140360" y="162000"/>
            <a:ext cx="47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entury Gothic"/>
              </a:rPr>
              <a:t>UMBILICAL HERNIA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564000" y="765000"/>
            <a:ext cx="5329080" cy="14655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CONGENITAL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failure of part of the midgut  loop to return to the abdominal cavity during fetal development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492360" y="2492280"/>
            <a:ext cx="5472360" cy="1708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INFANTILE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mall hernia caused by a weakness of the umbilical scar at linea alb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in children and often disappears without treatment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3492360" y="4437000"/>
            <a:ext cx="5472360" cy="19832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UMBILICAL HERNIA OF ADUL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 paraumbilical herni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a weakness of linea alba in the region of the umbilicu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 especially with repeated pregnanc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3E2-91C5-4D37-8846-84EAC462B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5" name="Picture 4" descr="Inguinal canal 019"/>
          <p:cNvPicPr/>
          <p:nvPr/>
        </p:nvPicPr>
        <p:blipFill>
          <a:blip r:embed="rId1"/>
          <a:srcRect l="62352" t="3163" r="11462" b="14866"/>
          <a:stretch/>
        </p:blipFill>
        <p:spPr>
          <a:xfrm>
            <a:off x="179280" y="189000"/>
            <a:ext cx="2305080" cy="6480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2556000" y="189000"/>
            <a:ext cx="6408720" cy="1191240"/>
          </a:xfrm>
          <a:prstGeom prst="rect">
            <a:avLst/>
          </a:prstGeom>
          <a:solidFill>
            <a:srgbClr val="007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PIGASTRIC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through the widest part of linea alb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sually a smal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ommon in middle-aged manual work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556000" y="1628640"/>
            <a:ext cx="6408720" cy="106740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SEPARATION OF THE RECTI ABDOMIN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hernial sac lies between the medial margins of the 2 rect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elderly multiparous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used by a weakness of the recti musc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556000" y="2852640"/>
            <a:ext cx="65880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NCISION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postoperative compli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Large 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u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damage to segmental nerve  supplying the muscles of the anterior abdominal wal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postoperative infection with necrosis of the musc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556000" y="5084640"/>
            <a:ext cx="6408720" cy="158508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 OF LINEA SEMILUNARI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pigelian herni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 rare typ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occurs through the aponeurosis of transversus abdominis   lateral to the rectus sheath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sually below the level of the umbilicu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529080" cy="75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iopubic Trac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3672000" cy="4969080"/>
          </a:xfrm>
          <a:prstGeom prst="rect">
            <a:avLst/>
          </a:prstGeom>
          <a:solidFill>
            <a:srgbClr val="00007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the thickened inferior margin in the fascia transversal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appears as a fibrous band running deep (posterior) to the inguinal liga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paros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is seen as it span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ingu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through which the flexors of the hip joint and the neurovascular bundle  pass to the lower li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inguinal ligament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Iliopubic trac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 a bilaminar retinaculum which span an area of weakness in the groin called the myopectineal orif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de17$001"/>
          <p:cNvPicPr/>
          <p:nvPr/>
        </p:nvPicPr>
        <p:blipFill>
          <a:blip r:embed="rId1"/>
          <a:stretch/>
        </p:blipFill>
        <p:spPr>
          <a:xfrm>
            <a:off x="3924360" y="18900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7812000" y="3573360"/>
            <a:ext cx="720720" cy="287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8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de15$010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8459640" y="2565360"/>
            <a:ext cx="505080" cy="503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my07_003"/>
          <p:cNvPicPr/>
          <p:nvPr/>
        </p:nvPicPr>
        <p:blipFill>
          <a:blip r:embed="rId1"/>
          <a:srcRect l="4136" t="8448" r="0" b="2313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"/>
          <p:cNvSpPr/>
          <p:nvPr/>
        </p:nvSpPr>
        <p:spPr>
          <a:xfrm>
            <a:off x="3635280" y="6165720"/>
            <a:ext cx="792360" cy="432000"/>
          </a:xfrm>
          <a:prstGeom prst="rect">
            <a:avLst/>
          </a:prstGeom>
          <a:solidFill>
            <a:srgbClr val="d6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277164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he Iliopubic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ra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marcates between, the inferior margin of the deep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uin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, and the superomedial margin of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emor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useful landmark during laparoscopic repair of inguinal her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de15$011"/>
          <p:cNvPicPr/>
          <p:nvPr/>
        </p:nvPicPr>
        <p:blipFill>
          <a:blip r:embed="rId1"/>
          <a:stretch/>
        </p:blipFill>
        <p:spPr>
          <a:xfrm>
            <a:off x="2771640" y="333360"/>
            <a:ext cx="6121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507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ternal Surface of the Anterolateral Abdominal Wal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961080" cy="54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terior surface of the anterolateral abdominal wall is covered by fascia transversal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ve umbilical peritoneal folds are s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- </a:t>
            </a:r>
            <a:r>
              <a:rPr b="0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Media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tends from apex of urinary bladder to umbilicus, (obliterated urach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- Two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medi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Obliterated distal part of the umbilical art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wo lateral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he peritoneum cover the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nferior Epigastric vess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o i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leed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 is inju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de15$011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Fossae in between the Umbilical Fold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3168720" cy="5832360"/>
          </a:xfrm>
          <a:prstGeom prst="rect">
            <a:avLst/>
          </a:prstGeom>
          <a:solidFill>
            <a:srgbClr val="00007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Supravesic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th sides of the median umbilical fold, rare type of external supravesical  hern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Medi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edial &amp; Lateral umbilical folds. It is also called inguinal 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sselbach triang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irect  inguinal hern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later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to lateral umbilical folds (including deep inguinal ring – Indirect or oblique inguinal herni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de15$011"/>
          <p:cNvPicPr/>
          <p:nvPr/>
        </p:nvPicPr>
        <p:blipFill>
          <a:blip r:embed="rId1"/>
          <a:srcRect l="0" t="0" r="41557" b="3747"/>
          <a:stretch/>
        </p:blipFill>
        <p:spPr>
          <a:xfrm>
            <a:off x="3419640" y="981000"/>
            <a:ext cx="540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5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0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9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4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4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479520" y="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0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428760" y="5724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4583160" y="2781360"/>
            <a:ext cx="4024440" cy="86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ff33cc"/>
                </a:solidFill>
                <a:uFillTx/>
                <a:latin typeface="Century Gothic"/>
              </a:rPr>
              <a:t>transpyloric</a:t>
            </a:r>
            <a:r>
              <a:rPr b="1" lang="en-US" sz="2800" spc="-1" strike="noStrike">
                <a:solidFill>
                  <a:srgbClr val="ff33cc"/>
                </a:solidFill>
                <a:latin typeface="Century Gothic"/>
              </a:rPr>
              <a:t> pla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3500280"/>
            <a:ext cx="4649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&amp;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entury Gothic"/>
              </a:rPr>
              <a:t>intertubercular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pla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02320" y="4581360"/>
            <a:ext cx="4041720" cy="124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Century Gothic"/>
              </a:rPr>
              <a:t>The Rt. &amp; L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lateral vertical plan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Freeform 11"/>
          <p:cNvSpPr/>
          <p:nvPr/>
        </p:nvSpPr>
        <p:spPr>
          <a:xfrm flipV="1">
            <a:off x="458640" y="1988640"/>
            <a:ext cx="4248360" cy="69840"/>
          </a:xfrm>
          <a:custGeom>
            <a:avLst/>
            <a:gdLst>
              <a:gd name="textAreaLeft" fmla="*/ 0 w 4248360"/>
              <a:gd name="textAreaRight" fmla="*/ 4248720 w 42483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Freeform 12"/>
          <p:cNvSpPr/>
          <p:nvPr/>
        </p:nvSpPr>
        <p:spPr>
          <a:xfrm rot="5400000">
            <a:off x="57636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Freeform 13"/>
          <p:cNvSpPr/>
          <p:nvPr/>
        </p:nvSpPr>
        <p:spPr>
          <a:xfrm flipH="1" rot="16200000">
            <a:off x="-101052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Freeform 14"/>
          <p:cNvSpPr/>
          <p:nvPr/>
        </p:nvSpPr>
        <p:spPr>
          <a:xfrm>
            <a:off x="458640" y="3716280"/>
            <a:ext cx="3753000" cy="46080"/>
          </a:xfrm>
          <a:custGeom>
            <a:avLst/>
            <a:gdLst>
              <a:gd name="textAreaLeft" fmla="*/ 0 w 3753000"/>
              <a:gd name="textAreaRight" fmla="*/ 3753360 w 3753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6680" y="6165720"/>
            <a:ext cx="56124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97120" y="262080"/>
            <a:ext cx="446472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anterior abdominal wa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640480" y="1484280"/>
            <a:ext cx="20001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9 regions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606640" y="836640"/>
            <a:ext cx="217548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is divided i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292720" y="2060640"/>
            <a:ext cx="2760840" cy="75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2 transverse li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1456920" y="5516640"/>
            <a:ext cx="2887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Century Gothic"/>
              </a:rPr>
              <a:t>and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Century Gothic"/>
              </a:rPr>
              <a:t>2 vertical li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102120" y="222552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Freeform 5"/>
          <p:cNvSpPr/>
          <p:nvPr/>
        </p:nvSpPr>
        <p:spPr>
          <a:xfrm>
            <a:off x="693720" y="6984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571680" y="14292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003640" y="1916280"/>
            <a:ext cx="3022920" cy="642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astriu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10360" y="2565360"/>
            <a:ext cx="2428560" cy="703440"/>
          </a:xfrm>
          <a:prstGeom prst="rect">
            <a:avLst/>
          </a:prstGeom>
          <a:solidFill>
            <a:srgbClr val="6a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mbil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427640" y="3933720"/>
            <a:ext cx="4762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right side &amp; 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left si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Freeform 11"/>
          <p:cNvSpPr/>
          <p:nvPr/>
        </p:nvSpPr>
        <p:spPr>
          <a:xfrm flipV="1">
            <a:off x="538200" y="1988640"/>
            <a:ext cx="4248000" cy="69840"/>
          </a:xfrm>
          <a:custGeom>
            <a:avLst/>
            <a:gdLst>
              <a:gd name="textAreaLeft" fmla="*/ 0 w 4248000"/>
              <a:gd name="textAreaRight" fmla="*/ 4248360 w 424800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Freeform 12"/>
          <p:cNvSpPr/>
          <p:nvPr/>
        </p:nvSpPr>
        <p:spPr>
          <a:xfrm rot="5400000">
            <a:off x="64944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Freeform 13"/>
          <p:cNvSpPr/>
          <p:nvPr/>
        </p:nvSpPr>
        <p:spPr>
          <a:xfrm flipH="1" rot="16200000">
            <a:off x="-93744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Freeform 14"/>
          <p:cNvSpPr/>
          <p:nvPr/>
        </p:nvSpPr>
        <p:spPr>
          <a:xfrm flipV="1">
            <a:off x="538200" y="3645000"/>
            <a:ext cx="4176720" cy="71280"/>
          </a:xfrm>
          <a:custGeom>
            <a:avLst/>
            <a:gdLst>
              <a:gd name="textAreaLeft" fmla="*/ 0 w 4176720"/>
              <a:gd name="textAreaRight" fmla="*/ 4176720 w 4176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50920" y="6165720"/>
            <a:ext cx="5983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716360" y="5329080"/>
            <a:ext cx="429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t. &amp; Lt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umbar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020920" y="189000"/>
            <a:ext cx="3231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The 9 regions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a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4572000" y="4826160"/>
            <a:ext cx="46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Rt. &amp; Lt.  Hypochondriu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367240" y="812880"/>
            <a:ext cx="2824920" cy="47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Century Gothic"/>
              </a:rPr>
              <a:t>in the midd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5019840" y="3213000"/>
            <a:ext cx="3224160" cy="703440"/>
          </a:xfrm>
          <a:prstGeom prst="rect">
            <a:avLst/>
          </a:prstGeom>
          <a:solidFill>
            <a:srgbClr val="6d6d6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ypogastriu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4932360" y="5761080"/>
            <a:ext cx="380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t. &amp; Lt. Iliac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953600" y="1434960"/>
            <a:ext cx="367380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5076720" y="4367160"/>
            <a:ext cx="3456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24620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2195640" y="1268280"/>
            <a:ext cx="79200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2122560" y="249228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2195640" y="3860640"/>
            <a:ext cx="792000" cy="62568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900000" y="1268280"/>
            <a:ext cx="79236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AutoShape 29"/>
          <p:cNvSpPr/>
          <p:nvPr/>
        </p:nvSpPr>
        <p:spPr>
          <a:xfrm>
            <a:off x="900000" y="2419200"/>
            <a:ext cx="79236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AutoShape 30"/>
          <p:cNvSpPr/>
          <p:nvPr/>
        </p:nvSpPr>
        <p:spPr>
          <a:xfrm>
            <a:off x="1042920" y="3645000"/>
            <a:ext cx="792360" cy="62532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3348000" y="1197000"/>
            <a:ext cx="792360" cy="64764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3490920" y="256536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AutoShape 33"/>
          <p:cNvSpPr/>
          <p:nvPr/>
        </p:nvSpPr>
        <p:spPr>
          <a:xfrm>
            <a:off x="3346560" y="3645000"/>
            <a:ext cx="792000" cy="625320"/>
          </a:xfrm>
          <a:custGeom>
            <a:avLst/>
            <a:gdLst/>
            <a:ahLst/>
            <a:rect l="l" t="t" r="r" b="b"/>
            <a:pathLst>
              <a:path w="792163" h="625475">
                <a:moveTo>
                  <a:pt x="1" y="238910"/>
                </a:moveTo>
                <a:lnTo>
                  <a:pt x="302581" y="238911"/>
                </a:lnTo>
                <a:lnTo>
                  <a:pt x="396082" y="0"/>
                </a:lnTo>
                <a:lnTo>
                  <a:pt x="489582" y="238911"/>
                </a:lnTo>
                <a:lnTo>
                  <a:pt x="792162" y="238910"/>
                </a:lnTo>
                <a:lnTo>
                  <a:pt x="547368" y="386563"/>
                </a:lnTo>
                <a:lnTo>
                  <a:pt x="640873" y="625473"/>
                </a:lnTo>
                <a:lnTo>
                  <a:pt x="396082" y="477817"/>
                </a:lnTo>
                <a:lnTo>
                  <a:pt x="151290" y="625473"/>
                </a:lnTo>
                <a:lnTo>
                  <a:pt x="244795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248360" cy="6480000"/>
          </a:xfrm>
          <a:prstGeom prst="rect">
            <a:avLst/>
          </a:prstGeom>
          <a:solidFill>
            <a:srgbClr val="002673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yers of antero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domina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erficial fas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 Superficial fat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Camper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 Deep membra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Scarp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O DEEP FAS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cular laye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External obliqu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Internal obliqu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Transversus abdomin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a transversal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tra peritoneal fatty t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etal periton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my07_002"/>
          <p:cNvPicPr/>
          <p:nvPr/>
        </p:nvPicPr>
        <p:blipFill>
          <a:blip r:embed="rId1"/>
          <a:srcRect l="0" t="0" r="3927" b="10236"/>
          <a:stretch/>
        </p:blipFill>
        <p:spPr>
          <a:xfrm>
            <a:off x="450072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my07_001"/>
          <p:cNvPicPr/>
          <p:nvPr/>
        </p:nvPicPr>
        <p:blipFill>
          <a:blip r:embed="rId1"/>
          <a:srcRect l="25409" t="0" r="0" b="3262"/>
          <a:stretch/>
        </p:blipFill>
        <p:spPr>
          <a:xfrm>
            <a:off x="468360" y="260280"/>
            <a:ext cx="849636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217" name="AutoShape 5"/>
          <p:cNvCxnSpPr/>
          <p:nvPr/>
        </p:nvCxnSpPr>
        <p:spPr>
          <a:xfrm>
            <a:off x="9378720" y="3141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8" name="Line 6"/>
          <p:cNvSpPr/>
          <p:nvPr/>
        </p:nvSpPr>
        <p:spPr>
          <a:xfrm>
            <a:off x="7740720" y="907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875640" y="1484280"/>
            <a:ext cx="431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7308720" y="981000"/>
            <a:ext cx="43200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7164360" y="1484280"/>
            <a:ext cx="360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4211640" y="3573360"/>
            <a:ext cx="36036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Line 11"/>
          <p:cNvSpPr/>
          <p:nvPr/>
        </p:nvSpPr>
        <p:spPr>
          <a:xfrm flipV="1">
            <a:off x="3924360" y="3428640"/>
            <a:ext cx="504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4500720" y="3645000"/>
            <a:ext cx="43164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692360" y="213372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169236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1619280" y="1844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4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6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xt obl"/>
          <p:cNvPicPr/>
          <p:nvPr/>
        </p:nvPicPr>
        <p:blipFill>
          <a:blip r:embed="rId1"/>
          <a:stretch/>
        </p:blipFill>
        <p:spPr>
          <a:xfrm>
            <a:off x="4716360" y="333360"/>
            <a:ext cx="4176720" cy="652464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 flipH="1">
            <a:off x="5940000" y="2565360"/>
            <a:ext cx="129708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6084360" y="2781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Line 5"/>
          <p:cNvSpPr/>
          <p:nvPr/>
        </p:nvSpPr>
        <p:spPr>
          <a:xfrm flipH="1">
            <a:off x="6227280" y="2997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79280" y="981000"/>
            <a:ext cx="4464000" cy="4667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uter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urface of lower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rib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ownward, Forward, and Medially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ymphysis pubi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 cres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tubercle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SI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½ of outer lip of iliac cres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24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xternal Obliqu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5940360" y="2205000"/>
            <a:ext cx="115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Line 5"/>
          <p:cNvSpPr/>
          <p:nvPr/>
        </p:nvSpPr>
        <p:spPr>
          <a:xfrm flipH="1">
            <a:off x="5867280" y="1916280"/>
            <a:ext cx="11541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4" descr="de08$002"/>
          <p:cNvPicPr/>
          <p:nvPr/>
        </p:nvPicPr>
        <p:blipFill>
          <a:blip r:embed="rId4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7"/>
          <p:cNvSpPr/>
          <p:nvPr/>
        </p:nvSpPr>
        <p:spPr>
          <a:xfrm>
            <a:off x="6659640" y="476280"/>
            <a:ext cx="2089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43" name="Straight Arrow Connector 9"/>
          <p:cNvCxnSpPr/>
          <p:nvPr/>
        </p:nvCxnSpPr>
        <p:spPr>
          <a:xfrm flipH="1">
            <a:off x="5579280" y="1341000"/>
            <a:ext cx="1801080" cy="2088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Rectangle 12"/>
          <p:cNvSpPr/>
          <p:nvPr/>
        </p:nvSpPr>
        <p:spPr>
          <a:xfrm>
            <a:off x="179280" y="907920"/>
            <a:ext cx="1656000" cy="72072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5940360" y="5229360"/>
            <a:ext cx="3024360" cy="1008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0:53:27Z</dcterms:created>
  <dc:creator>Moniem</dc:creator>
  <dc:description/>
  <dc:language>en-US</dc:language>
  <cp:lastModifiedBy>Dr.Saeed</cp:lastModifiedBy>
  <dcterms:modified xsi:type="dcterms:W3CDTF">2016-05-22T08:49:21Z</dcterms:modified>
  <cp:revision>73</cp:revision>
  <dc:subject/>
  <dc:title>Slide 1</dc:title>
</cp:coreProperties>
</file>