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00D7-9ECD-459B-96C4-12C5BE901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88B4-0A07-4322-A81D-A278710390FA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0051-197E-450C-BFE8-DF9FD610FDC5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561C-5455-4CB3-B125-FD53B050EBD4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90D1-4D93-4469-A395-C3340A69E457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E087-1316-403C-BD79-BAD023342449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C82B-8428-4D7A-A2F4-7B5357BE3DC3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1E9F-AAE3-4851-A294-5F63C8DC5946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EE03-77C2-4D51-BC39-67F5940A6AA2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8020-FEB3-42AE-A6C3-26026428AA3B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9680-3C05-4554-BBE0-1D06F37701A5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5769-17FA-4219-A5B3-AE3C66B1B910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5BCF-DF02-42C7-9567-46204A620EF5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0DF5-5DC4-4FA0-A9CB-59ADF7CA3615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4C10-37A3-4026-BC88-3E201385234F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1D3B-0420-40D8-BC35-9E15A7B21FF1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AAA0-5AD6-43D5-8708-80E844D39F8A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2254-1547-4B8D-A475-C209CC8D19AF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C7FE-DA96-44DC-B991-5EBF4B9F5EB5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5B37-1D00-4AED-A038-BE57B49FBB67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4C40-9BF8-466C-BCCA-E8AE7AC6DC34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08A3-B790-4E54-B74E-03928DA26547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19AF-E380-4990-AB98-31F533648B2C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1EB-1E9B-40C6-BD92-91552568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ED2-31AD-470D-8DF7-B52E429B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0DBC-7874-46B6-8714-5229D69F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0E9-7605-4455-8F0B-C9545398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0877-D967-4FBB-9393-0DE72969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27F0-2C50-4A7A-B525-70279DAB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3B3B-A1D9-47AF-8152-F05CA5CD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72CD-45ED-4874-8BD8-A9B0956C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D39D-6ED4-4445-9D23-B98CF5EF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9FC8-BD3F-407E-A69C-5EDC8097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4C69-EB94-438E-88FB-E48AD9FA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FCB7-0710-459D-B50C-D35E18EA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6F4E-9B88-4718-A0AC-369885CE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6483-8196-4853-B2A0-C77D7234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4CC8-C8FD-4AD4-A7F6-DD69269B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21E9-C502-4076-9BF6-1D8A43A5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11EC-3C2D-4FCB-89D6-BDFAEFDD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52092-8176-4C7F-9EA2-C51454BB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2F8DE-3A74-4230-8C38-419D927D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EB49F-0493-4156-B155-51AF9EFE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6EB63-7AE7-46AB-B045-F8A2DDEA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10E75-CF4C-41C3-9BF8-C3DB010A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F49-7508-41DD-AC6C-0418ECB3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02FBE-60C8-4E54-9C9F-B870AA4A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3E39F-ADA4-47AC-A5ED-ADAC5628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6B928-F44D-4CBD-B13F-E0C2587B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B90D5-FCBF-4C58-9567-D11C52D1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5A004-6256-4F88-94FC-B1ED9E8D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37007-51B2-475F-BD7B-4DA5D4B1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C6C73-FB73-4BCB-B709-D7CEC450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63FAF-0253-4B65-A485-85587C01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496C2-B047-49A4-87A7-98E36C8F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4C91A-6B36-481A-B542-B869E0D8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D0B-3B66-4448-A693-63999123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542CB-20E5-4B9C-99F6-CC96B5A8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CD07E-028D-43EF-A00D-9A2BB75B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D7B49-2842-486A-B8FB-E58FAC29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5958F-01A4-45E7-8078-B5655C87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5D54B-58A8-4383-A4F9-AA11AD7E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E123D-940D-47BC-A01A-7331D8D6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8B48D-9941-4171-BDEB-187D1FFC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DC935-E1E3-4EA3-8354-DA3ACDFF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D6BC8-EE4B-4B34-B61E-CEE1FBF9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5525A-8F92-4920-9BB2-CAB7D9BE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4AB-4E87-4FCD-B5F0-F11E2555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52E08-B8ED-44E3-A75B-00950E43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34478-4417-434D-A0DC-5A14052F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DDACE-8B12-4564-A8C6-A99F230E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098CA-064C-4C76-8EFA-99796168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726AD-F2ED-4708-9400-8DC186C4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E35B1-4C69-49BC-A07C-863537C5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E89AF-7BB9-4E87-849F-89816F84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C2BDF-A240-4941-977E-696A7DDE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3F351-53CE-48DB-AD0F-12EF79DB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27B48-9614-4531-B2C2-CB29C9DF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6C0-400D-4164-87FE-9E5E0C55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62D05-3A4B-41CC-838C-5677FDA7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7C1D-D0F7-4B05-9F4B-8210E8E8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6A7-ECE9-45DD-8745-70465B3B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74B-C665-4F89-BE74-72E55611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2DFB-31CF-4B25-8F57-DF593CB2387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6002-5AFF-4868-A185-5C44064DCDF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F25A-B663-423E-A8BF-04ADC76B04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4CB4-A4CA-401D-B96E-2FF46AA3519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B51A-D1E9-43E6-97FB-DFEC2E343C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Geneva"/>
              </a:rPr>
              <a:t>SCIENTIFIC WRITING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19320" y="4356000"/>
            <a:ext cx="6933960" cy="1862280"/>
          </a:xfrm>
          <a:prstGeom prst="rect">
            <a:avLst/>
          </a:prstGeom>
          <a:solidFill>
            <a:srgbClr val="d2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neva"/>
              </a:rPr>
              <a:t>Ali H. Hajeer </a:t>
            </a:r>
            <a:r>
              <a:rPr b="0" i="1" lang="en-US" sz="1600" spc="-1" strike="noStrike">
                <a:solidFill>
                  <a:srgbClr val="ffffff"/>
                </a:solidFill>
                <a:latin typeface="Geneva"/>
              </a:rPr>
              <a:t>PhD, FRCPath</a:t>
            </a:r>
            <a:endParaRPr b="0" lang="en-US" sz="16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neva"/>
              </a:rPr>
              <a:t>College of Medicine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neva"/>
              </a:rPr>
              <a:t>King Saud bin Abdulaziz University for Health Sciences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09480" y="2361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1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No more than 2 page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1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Focus on the main subjec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1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Brief review of pertinent work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1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ite key and current reference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1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Extensive review of the literature is not needed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1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8286840" y="5578560"/>
            <a:ext cx="85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80FC-250D-4625-8CED-90A3EEE129AC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65320" y="507600"/>
            <a:ext cx="66816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INTRODUCTION</a:t>
            </a:r>
            <a:br>
              <a:rPr sz="5400"/>
            </a:br>
            <a:r>
              <a:rPr b="1" lang="en-US" sz="4000" spc="-1" strike="noStrike" u="sng">
                <a:solidFill>
                  <a:srgbClr val="d2533c"/>
                </a:solidFill>
                <a:uFillTx/>
                <a:latin typeface="Arial"/>
              </a:rPr>
              <a:t>Relevance of Stud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02800" y="1644480"/>
            <a:ext cx="76820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34"/>
              </a:solidFill>
              <a:latin typeface="Arial"/>
            </a:endParaRPr>
          </a:p>
          <a:p>
            <a:pPr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Epidemiology: </a:t>
            </a:r>
            <a:r>
              <a:rPr b="1" lang="en-AU" sz="2400" spc="-1" strike="noStrike">
                <a:solidFill>
                  <a:srgbClr val="292934"/>
                </a:solidFill>
                <a:latin typeface="Arial"/>
              </a:rPr>
              <a:t>how important is the problem: </a:t>
            </a:r>
            <a:r>
              <a:rPr b="0" lang="en-AU" sz="2400" spc="-1" strike="noStrike">
                <a:solidFill>
                  <a:srgbClr val="292934"/>
                </a:solidFill>
                <a:latin typeface="Arial"/>
              </a:rPr>
              <a:t>incidence, prevalence, burden, mortality etc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Field Status Update: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brief update on the field with good concise review of the literatur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Reason for the study: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justification of why your study is done such as improving the understanding and knowledge about certain issue at han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Study objectives: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292934"/>
                </a:solidFill>
                <a:latin typeface="Arial"/>
              </a:rPr>
              <a:t>briefly mention what the study is abou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aterials and Method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2209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ufficient detail so that work can be repeated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Describe new methods in detail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ite the accepted methods briefly using reference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Materials and Methods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380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f a published method is modified, such modifications must be described in detail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tatistical analysis of data if appropriate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Use subheadings as needed for clarity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The Results Section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escribes the results, generally by referring to figures &amp;/or tabl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escribe the experiment, state the resul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o not interpret results or discuss significa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Generally broken into sections with specific headings that state finding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2533c"/>
                </a:solidFill>
                <a:latin typeface="Arial"/>
              </a:rPr>
              <a:t>General Guidelines For Using Illustrations</a:t>
            </a:r>
            <a:br>
              <a:rPr sz="2800"/>
            </a:b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905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34"/>
                </a:solidFill>
                <a:latin typeface="Arial"/>
              </a:rPr>
              <a:t>Always explain your illustration and its importance to your work!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34"/>
                </a:solidFill>
                <a:latin typeface="Arial"/>
              </a:rPr>
              <a:t>The precision of the illustrations should reflect the precision of the text. 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34"/>
                </a:solidFill>
                <a:latin typeface="Arial"/>
              </a:rPr>
              <a:t>For clarity, you should introduce and explain illustrations in the text. 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34"/>
                </a:solidFill>
                <a:latin typeface="Arial"/>
              </a:rPr>
              <a:t>Inconsistencies between text and images disrupt fluidity in your document. 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Discussion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ummarize the key finding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Discuss the validity of the finding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iscuss validity or limitations of method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iscuss relationship of your findings to other work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peculate! Possible mechanisms, significance, application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uggest implications or future direction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onclude, with summary or statement of significanc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28240" y="21333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onclusions should not be a summary of the work done or a virtual duplication of the abstrac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onclusions should be justified by the data presented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Emphasis should be on major conclusions and implica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onclusion is optional in many scientific journal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How to publish a scientific paper</a:t>
            </a:r>
            <a:br>
              <a:rPr sz="2900"/>
            </a:b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 </a:t>
            </a: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37720" y="1752120"/>
            <a:ext cx="734076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nk about target journals early 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high impact equals tight word coun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if you aim low you can’t subsequently move up the food chain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if you aim high you may have to allow for turnaround time (rejection) or “second album syndrome” (success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Obey instructions to author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use a bibliography manager (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very important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acknowledge grant support, conflict of interes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riteria for Acceptanc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520" y="2438280"/>
            <a:ext cx="861084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28600">
              <a:lnSpc>
                <a:spcPct val="75000"/>
              </a:lnSpc>
              <a:spcBef>
                <a:spcPts val="7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Clarity of objectivenes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2" marL="228600">
              <a:lnSpc>
                <a:spcPct val="75000"/>
              </a:lnSpc>
              <a:spcBef>
                <a:spcPts val="7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2" marL="228600">
              <a:lnSpc>
                <a:spcPct val="75000"/>
              </a:lnSpc>
              <a:spcBef>
                <a:spcPts val="7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Originality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2" marL="228600">
              <a:lnSpc>
                <a:spcPct val="75000"/>
              </a:lnSpc>
              <a:spcBef>
                <a:spcPts val="7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2" marL="228600">
              <a:lnSpc>
                <a:spcPct val="75000"/>
              </a:lnSpc>
              <a:spcBef>
                <a:spcPts val="7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Appropriate study design and method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2" marL="228600">
              <a:lnSpc>
                <a:spcPct val="75000"/>
              </a:lnSpc>
              <a:spcBef>
                <a:spcPts val="7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2" marL="228600">
              <a:lnSpc>
                <a:spcPct val="75000"/>
              </a:lnSpc>
              <a:spcBef>
                <a:spcPts val="7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Appropriate statistical analysi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2" marL="228600">
              <a:lnSpc>
                <a:spcPct val="75000"/>
              </a:lnSpc>
              <a:spcBef>
                <a:spcPts val="7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2" marL="228600">
              <a:lnSpc>
                <a:spcPct val="85000"/>
              </a:lnSpc>
              <a:spcBef>
                <a:spcPts val="7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The Main Points!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2742840"/>
            <a:ext cx="7772400" cy="24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rite with a specific idea of your reader in min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rite to convince the reader of your point of view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282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30080" indent="-182520">
              <a:lnSpc>
                <a:spcPct val="65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65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Depth of the investiga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65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65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ubstance of the result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65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95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cientific interpretation and thorough   discussion of result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65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65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he importance of topic to the journal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6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604520" y="1057320"/>
            <a:ext cx="576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2934"/>
                </a:solidFill>
                <a:latin typeface="Arial"/>
              </a:rPr>
              <a:t>Criteria for Acceptance</a:t>
            </a:r>
            <a:endParaRPr b="0" lang="en-US" sz="40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Immediate Rejection Criteria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520" y="24379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subject matter is of insufficient interest to the readership to a specific journal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results are trivial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scientific quality is substandar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uspected misconduct - fabrication and plagiaris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2533c"/>
                </a:solidFill>
                <a:latin typeface="Arial"/>
              </a:rPr>
              <a:t>Checklists</a:t>
            </a:r>
            <a:endParaRPr b="0" lang="en-US" sz="7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  <a:ea typeface="Times New Roman"/>
              </a:rPr>
              <a:t>Abstract Checklist: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_____ Abstract is written AFTER you've written your pape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_____ States your hypothesi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_____ Summarizes methodology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_____ Summarizes finding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_____ Suggests implication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Arial"/>
                <a:ea typeface="Arial"/>
              </a:rPr>
              <a:t>Introduction Checklist: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2120" y="175248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 Explains the rationale for your stud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_ Moves logically from the rationale to a specific statement of your hypothesis, such that readers can easily follow the link between the problem, prior research, and your research ques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_ Defines terms which your reader may not know.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_ Defines abbreviations that will be used in the report. For example, “urinary tract infection (UTI)  . . ." 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_ Does NOT include findings or method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 You only need to describe your specific experiment method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 If method is already established just refer to that referenc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 Does NOT tell us what was discovered. That information should be in the Results sectio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 Is NOT written like a cookbook (a series of orders) or a numbered series of step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2364480" y="819000"/>
            <a:ext cx="39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34"/>
                </a:solidFill>
                <a:latin typeface="Arial"/>
                <a:ea typeface="Arial"/>
              </a:rPr>
              <a:t>Methods Checklist:</a:t>
            </a:r>
            <a:endParaRPr b="0" lang="en-US" sz="32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Arial"/>
                <a:ea typeface="Arial"/>
              </a:rPr>
              <a:t>Results Checklist: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 Explains main results and supports those findings with selected dat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 All figures are labeled and referenced in the text prior to the figur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 Avoids unnecessary words or clumsy figure reference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 Written in past tens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 Doesn't discuss or interpret findings beyond explaining patterns or trends in the data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____  Returns to the main point of your study -- Did you answer your hypothesis???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____ Summarizes main findings and then evaluates, analyzes, and explains the significance and implications of your findings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____  Draws generalizations from your results or conclusions about theoretical/practical implications. Uses evidence to support these claims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____  Explains key limitations: questions left unanswered, major experimental constraints, lack of correlation, negative results.    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____  Does not repeat the visuals shown in the Results section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____  Includes no new finding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____ Does not ignore deviations in your data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____ Avoids speculation that cannot be tested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 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Some writers like to end their papers with a short conclusion that includes recommendations for future study.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2214720" y="587520"/>
            <a:ext cx="5452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2934"/>
                </a:solidFill>
                <a:latin typeface="Arial"/>
                <a:ea typeface="Arial"/>
              </a:rPr>
              <a:t>Discussion Checklist:</a:t>
            </a:r>
            <a:endParaRPr b="0" lang="en-US" sz="40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d2533c"/>
                </a:solidFill>
                <a:latin typeface="Arial"/>
              </a:rPr>
              <a:t>Good luck</a:t>
            </a:r>
            <a:endParaRPr b="0" lang="en-US" sz="8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01720" y="323640"/>
            <a:ext cx="740736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2533c"/>
                </a:solidFill>
                <a:latin typeface="Arial"/>
              </a:rPr>
              <a:t>WHY PUBLISH?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02800" y="1644480"/>
            <a:ext cx="756756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50000"/>
              </a:lnSpc>
              <a:spcBef>
                <a:spcPts val="75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34"/>
                </a:solidFill>
                <a:latin typeface="Arial"/>
              </a:rPr>
              <a:t>To disseminate information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lvl="1" marL="617400" indent="-342720">
              <a:lnSpc>
                <a:spcPct val="150000"/>
              </a:lnSpc>
              <a:buClr>
                <a:srgbClr val="93a299"/>
              </a:buClr>
              <a:buSzPct val="85000"/>
              <a:buFont typeface="Wingdings" charset="2"/>
              <a:buChar char="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To share ideas, discoveries, and perspectives to a broader audience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396720" indent="-396720">
              <a:lnSpc>
                <a:spcPct val="150000"/>
              </a:lnSpc>
              <a:spcBef>
                <a:spcPts val="75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34"/>
                </a:solidFill>
                <a:latin typeface="Arial"/>
              </a:rPr>
              <a:t>Career advancement/promotion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lvl="1" marL="617400" indent="-342720">
              <a:lnSpc>
                <a:spcPct val="150000"/>
              </a:lnSpc>
              <a:buClr>
                <a:srgbClr val="93a299"/>
              </a:buClr>
              <a:buSzPct val="85000"/>
              <a:buFont typeface="Wingdings" charset="2"/>
              <a:buChar char="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To develop a fundable track record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396720" indent="-396720">
              <a:lnSpc>
                <a:spcPct val="150000"/>
              </a:lnSpc>
              <a:spcBef>
                <a:spcPts val="75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34"/>
                </a:solidFill>
                <a:latin typeface="Arial"/>
              </a:rPr>
              <a:t>Personal satisfaction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396720" indent="-396720">
              <a:lnSpc>
                <a:spcPct val="150000"/>
              </a:lnSpc>
              <a:spcBef>
                <a:spcPts val="75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34"/>
                </a:solidFill>
                <a:latin typeface="Arial"/>
              </a:rPr>
              <a:t>Research completion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65320" y="507600"/>
            <a:ext cx="66816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2533c"/>
                </a:solidFill>
                <a:latin typeface="Arial"/>
              </a:rPr>
              <a:t>TYPE OF PUBLICATIONS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37720" y="1905120"/>
            <a:ext cx="74041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88440" indent="-388440">
              <a:lnSpc>
                <a:spcPct val="150000"/>
              </a:lnSpc>
              <a:spcBef>
                <a:spcPts val="75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34"/>
                </a:solidFill>
                <a:latin typeface="Arial"/>
              </a:rPr>
              <a:t>Research/Original paper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388440" indent="-388440">
              <a:lnSpc>
                <a:spcPct val="150000"/>
              </a:lnSpc>
              <a:spcBef>
                <a:spcPts val="75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34"/>
                </a:solidFill>
                <a:latin typeface="Arial"/>
              </a:rPr>
              <a:t>Review article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388440" indent="-388440">
              <a:lnSpc>
                <a:spcPct val="150000"/>
              </a:lnSpc>
              <a:spcBef>
                <a:spcPts val="75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34"/>
                </a:solidFill>
                <a:latin typeface="Arial"/>
              </a:rPr>
              <a:t>Case report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388440" indent="-388440">
              <a:lnSpc>
                <a:spcPct val="150000"/>
              </a:lnSpc>
              <a:spcBef>
                <a:spcPts val="75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34"/>
                </a:solidFill>
                <a:latin typeface="Arial"/>
              </a:rPr>
              <a:t>Letter to the editor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388440" indent="-388440">
              <a:lnSpc>
                <a:spcPct val="150000"/>
              </a:lnSpc>
              <a:spcBef>
                <a:spcPts val="75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34"/>
                </a:solidFill>
                <a:latin typeface="Arial"/>
              </a:rPr>
              <a:t>Editorial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388440" indent="-388440">
              <a:lnSpc>
                <a:spcPct val="150000"/>
              </a:lnSpc>
              <a:spcBef>
                <a:spcPts val="75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34"/>
                </a:solidFill>
                <a:latin typeface="Arial"/>
              </a:rPr>
              <a:t>Special categories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Writing a Scientific Paper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260e"/>
                </a:solidFill>
                <a:latin typeface="Arial"/>
              </a:rPr>
              <a:t>Formulate your idea of the pap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Paper should describe a single major new idea or finding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hinking of the title may help!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tart thinking about the paper while still doing experiments/research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hink of the figures needed to illustrate your finding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IMRD System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2533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ntroduc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2533c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ethod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2533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esult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2533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scuss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lso: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gures &amp; Tabl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ibliograph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concise statement of the major find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Or, a brief description of the stud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Expression of N-cadherin in breast cancer cells induces cell migration, invasion, and metastasis”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s much better tha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Effects of cadherin expression in breast cancer cells”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bstrac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 one-paragraph summary of the paper – usually 125-300 word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Gives background (1-2 sentences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ay describe experimental approach (1 sentence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tates each of the experimental finding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onclusion or significance (1 sentence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65320" y="507600"/>
            <a:ext cx="66816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TITLE SELECTION</a:t>
            </a:r>
            <a:br>
              <a:rPr sz="5400"/>
            </a:br>
            <a:r>
              <a:rPr b="1" lang="en-US" sz="4000" spc="-1" strike="noStrike" u="sng">
                <a:solidFill>
                  <a:srgbClr val="d2533c"/>
                </a:solidFill>
                <a:uFillTx/>
                <a:latin typeface="Arial"/>
              </a:rPr>
              <a:t>Good Titl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02800" y="1644480"/>
            <a:ext cx="78980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50000"/>
              </a:lnSpc>
              <a:spcBef>
                <a:spcPts val="400"/>
              </a:spcBef>
              <a:spcAft>
                <a:spcPts val="400"/>
              </a:spcAft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92934"/>
                </a:solidFill>
                <a:latin typeface="Arial"/>
              </a:rPr>
              <a:t>Short and Concise</a:t>
            </a:r>
            <a:endParaRPr b="0" lang="en-US" sz="3400" spc="-1" strike="noStrike">
              <a:solidFill>
                <a:srgbClr val="292934"/>
              </a:solidFill>
              <a:latin typeface="Arial"/>
            </a:endParaRPr>
          </a:p>
          <a:p>
            <a:pPr marL="396720" indent="-396720">
              <a:lnSpc>
                <a:spcPct val="150000"/>
              </a:lnSpc>
              <a:spcBef>
                <a:spcPts val="400"/>
              </a:spcBef>
              <a:spcAft>
                <a:spcPts val="400"/>
              </a:spcAft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92934"/>
                </a:solidFill>
                <a:latin typeface="Arial"/>
              </a:rPr>
              <a:t>Easy to understand </a:t>
            </a:r>
            <a:endParaRPr b="0" lang="en-US" sz="3400" spc="-1" strike="noStrike">
              <a:solidFill>
                <a:srgbClr val="292934"/>
              </a:solidFill>
              <a:latin typeface="Arial"/>
            </a:endParaRPr>
          </a:p>
          <a:p>
            <a:pPr marL="396720" indent="-396720">
              <a:lnSpc>
                <a:spcPct val="150000"/>
              </a:lnSpc>
              <a:spcBef>
                <a:spcPts val="400"/>
              </a:spcBef>
              <a:spcAft>
                <a:spcPts val="400"/>
              </a:spcAft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92934"/>
                </a:solidFill>
                <a:latin typeface="Arial"/>
              </a:rPr>
              <a:t>Gives readers an accurate and concise idea of the </a:t>
            </a:r>
            <a:endParaRPr b="0" lang="en-US" sz="3400" spc="-1" strike="noStrike">
              <a:solidFill>
                <a:srgbClr val="292934"/>
              </a:solidFill>
              <a:latin typeface="Arial"/>
            </a:endParaRPr>
          </a:p>
          <a:p>
            <a:pPr lvl="1" marL="628560" indent="-457200">
              <a:spcBef>
                <a:spcPts val="400"/>
              </a:spcBef>
              <a:spcAft>
                <a:spcPts val="400"/>
              </a:spcAft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Methodology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628560" indent="-457200">
              <a:spcBef>
                <a:spcPts val="400"/>
              </a:spcBef>
              <a:spcAft>
                <a:spcPts val="400"/>
              </a:spcAft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ime M. Canaria</dc:creator>
  <dc:description/>
  <dc:language>en-US</dc:language>
  <cp:lastModifiedBy>Hajeer, Ali</cp:lastModifiedBy>
  <cp:lastPrinted>2014-12-02T08:45:14Z</cp:lastPrinted>
  <dcterms:modified xsi:type="dcterms:W3CDTF">2016-03-20T06:36:34Z</dcterms:modified>
  <cp:revision>12</cp:revision>
  <dc:subject/>
  <dc:title>Scientific Writing</dc:title>
</cp:coreProperties>
</file>