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213-681A-4F89-9FD4-87B9F725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524C-9B8A-4761-8EBC-05CF55F86EF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C149-852E-4116-A2FC-DF5C38E6796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6B42-1B86-48A9-9007-DDD37DB7ED0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8568-92FE-4B97-8637-A67C7B988B7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68BC-A899-4D62-8EA2-A8CC9EB4ABDD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4D2-5E6E-43AE-A3DB-DC0F4C68DED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C50-D774-4956-9FDC-D16D043F76A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713-A419-4C5B-AC5E-D366FB3F9A5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3D01-5E02-4256-AB26-00BC50F9C15D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F1F-5F52-4D4E-B5BF-AEAD813F4C8F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159-90A7-4D18-94D3-CF5B52D8C24D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1DC-0224-488E-89E9-B76F91D669A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9C8-1D8C-4682-A7FD-F66BF09C358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9F69-43FB-4602-9F8A-E677ECD5DD7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C13-409A-4245-8667-6B5196311C8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D38-0329-47A5-A07E-1C27CD919A57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B77-0A53-4393-A582-624B5631B4C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F399-0E40-46E1-BB2D-90E6B9FD1DA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D49-A5CD-4782-B936-7C5077B3DE3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09C-F7CB-4BC3-A92D-F70EA3B1106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648F-26B2-4E21-8666-330BE335226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89D-0E4F-42F2-92E2-F838C7D1740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916-5B8C-4E09-81C1-B4F2FAB6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F77-544B-4B7E-90F5-C2BD1B43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3B2-9613-4D3F-836D-0210C27E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0CF-C0A3-4C41-9371-236EDEF9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186D-6620-4ECA-8C96-D99B247D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5123-C530-4FE1-AEDF-A51E72EE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76F-99FC-4A3C-BE3B-CFC0F3F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F70-E861-481C-A24D-640E737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AAE-EFC5-4B01-A83D-49EBC77F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23D-5F1C-4189-8DC1-0796A22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D69-7599-49A4-9712-773A8F8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6FB-98CA-448B-844D-7C5784D7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392-72E5-4054-BBDA-003D7A2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3C38-0BB0-4EA6-9DB8-9768EBB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93FB-65D4-42E8-A197-76875A6D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FD3F-FC06-42B8-BCEE-52ECED7E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5A9-4FFB-4D42-9CB0-1BBE9496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0CC9-CF42-4FF0-BCA7-9FD4D441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A087-08EA-4868-87CC-B481082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D715-F533-4361-8EE2-087AF71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AC24-787A-443A-9585-55B5287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EA1C-5B50-4ABA-84E9-3D7C2EE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950-0EAF-4B8E-90B3-F2E3DF1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3512-8A73-48DA-AE25-0D0E3C7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7D66-6E6E-4EB6-93D0-A408DD9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2654-E5F5-42E8-B2A3-BC7EF94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473E-156F-42FE-B85B-CC32E04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A8FF-2151-4DE0-B57D-244CB55C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D7CC-1C04-4BAF-AF60-51404F7B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8337-5ED1-455A-9C36-85B016C0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A6AC-AE70-43BB-A90B-28CFE517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56FD-6914-4CE9-8AB4-2F96A9E1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3C23-D22B-4AC8-913B-E0FFAE72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AF6-07FE-4A27-901E-3D46BDCC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3B2E-6A93-48AF-9CB6-D2D8715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D3A6-4B9A-43E6-ABB3-C1CC45D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28B9-1A8C-430E-AA79-B5C9C38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4997-E242-4B38-B532-9AF841F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96E8-61AE-4B71-9B3A-155E5D5C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49FF-EAD2-4200-8B49-F3C8877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60F3-1671-4CBF-9A3D-51E41CCC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35DC-7E01-4219-BE07-A8DB22C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4FA7-9306-4D9F-80B0-A5BF92CC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2D28-8E2E-4C67-B155-505F4681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EF7-60BB-44D3-9409-1F4B4C7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4A6BD-7161-4527-997D-9748E3B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6E4E-FEF0-41BE-B144-C4344A60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5AE8F-6EF3-4838-9849-9053A03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F10B-0209-4F9C-947C-BBAAA8B4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4CC1-1883-49A1-B0CF-2D7AAA0B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7B76-5C9E-4712-A7D5-FAA7CE5A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7C0D-9A24-43A8-8EE7-D7EC387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4304-5349-411D-A915-A515DC4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C3E9-35F6-4222-8805-0BD0D3C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F6AC-EFE9-41D1-9FAF-2A0E3E1C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D92-63E9-489A-BE84-5A7DF37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8F6E-A673-4794-A2CB-FF26C551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E8B-A2D6-4F08-B2B3-3ACD628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986-627F-4D9F-99FB-D8AF39E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E67-3033-40EF-BA9E-36A5A41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905-CBDB-45DC-9BF6-94DAC2EB58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C96-DF17-437B-ABA7-C2753E11C5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0DC9-C5FC-4855-AFCD-488BEE0275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6FE-7915-43B7-822C-F957D1B8B8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74D-67A9-4001-B18D-1216833760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Geneva"/>
              </a:rPr>
              <a:t>SCIENTIFIC WRITING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19320" y="4356000"/>
            <a:ext cx="6933960" cy="186228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neva"/>
              </a:rPr>
              <a:t>Ali H. Hajeer </a:t>
            </a:r>
            <a:r>
              <a:rPr b="0" i="1" lang="en-US" sz="1600" spc="-1" strike="noStrike">
                <a:solidFill>
                  <a:srgbClr val="ffffff"/>
                </a:solidFill>
                <a:latin typeface="Geneva"/>
              </a:rPr>
              <a:t>PhD, FRCPath</a:t>
            </a:r>
            <a:endParaRPr b="0" lang="en-US" sz="16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neva"/>
              </a:rPr>
              <a:t>College of Medicine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neva"/>
              </a:rPr>
              <a:t>King Saud bin Abdulaziz University for Health Sciences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4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 more than 2 p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ocus on the main subje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Brief review of pertinent work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ite key and current refere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xtensive review of the literature is not neede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286840" y="5578560"/>
            <a:ext cx="857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E2E-CC9C-4178-8E44-5F2674C65D5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INTRODUCTION</a:t>
            </a:r>
            <a:br>
              <a:rPr sz="5400"/>
            </a:br>
            <a:r>
              <a:rPr b="1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Relevance of Stud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02800" y="1644480"/>
            <a:ext cx="76820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Epidemiology: </a:t>
            </a:r>
            <a:r>
              <a:rPr b="1" lang="en-AU" sz="2400" spc="-1" strike="noStrike">
                <a:solidFill>
                  <a:srgbClr val="292934"/>
                </a:solidFill>
                <a:latin typeface="Arial"/>
              </a:rPr>
              <a:t>how important is the problem: </a:t>
            </a:r>
            <a:r>
              <a:rPr b="0" lang="en-AU" sz="2400" spc="-1" strike="noStrike">
                <a:solidFill>
                  <a:srgbClr val="292934"/>
                </a:solidFill>
                <a:latin typeface="Arial"/>
              </a:rPr>
              <a:t>incidence, prevalence, burden, mortality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Field Status Update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brief update on the field with good concise review of the litera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Reason for the study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justification of why your study is done such as improving the understanding and knowledge about certain issue at h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tudy objectives: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292934"/>
                </a:solidFill>
                <a:latin typeface="Arial"/>
              </a:rPr>
              <a:t>briefly mention what the study is abo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fficient detail so that work can be repeated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scribe new methods in detail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ite the accepted methods briefly using reference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erials and Method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a published method is modified, such modifications must be described in detail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tistical analysis of data if appropriat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se subheadings as needed for clarit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The Results Section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cribes the results, generally by referring to figures &amp;/or tab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cribe the experiment, state the resul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 not interpret results or discuss signific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enerally broken into sections with specific headings that state finding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General Guidelines For Using Illustrations</a:t>
            </a:r>
            <a:br>
              <a:rPr sz="2800"/>
            </a:b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905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Always explain your illustration and its importance to your work!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The precision of the illustrations should reflect the precision of the tex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For clarity, you should introduce and explain illustrations in the tex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34"/>
                </a:solidFill>
                <a:latin typeface="Arial"/>
              </a:rPr>
              <a:t>Inconsistencies between text and images disrupt fluidity in your document. 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Discussion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mmarize the key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iscuss the validity of the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iscuss validity or limitations of metho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iscuss relationship of your findings to other wo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peculate! Possible mechanisms, significance, applic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ggest implications or future direc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de, with summary or statement of signific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240" y="2133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s should not be a summary of the work done or a virtual duplication of the abstra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s should be justified by the data presente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mphasis should be on major conclusions and impli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nclusion is optional in many scientific journal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How to publish a scientific paper</a:t>
            </a:r>
            <a:br>
              <a:rPr sz="2900"/>
            </a:b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7720" y="1752120"/>
            <a:ext cx="734076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nk about target journals early 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high impact equals tight word coun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f you aim low you can’t subsequently move up the food chai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f you aim high you may have to allow for turnaround time (rejection) or “second album syndrome” (success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ey instructions to auth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use a bibliography manager (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very important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cknowledge grant support, conflict of interes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riteria for Acceptan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438280"/>
            <a:ext cx="8610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rity of objectivenes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Originality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ppropriate study design and method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ppropriate statistical analysi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7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2" marL="228600">
              <a:lnSpc>
                <a:spcPct val="85000"/>
              </a:lnSpc>
              <a:spcBef>
                <a:spcPts val="7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Main Points!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2742840"/>
            <a:ext cx="7772400" cy="24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with a specific idea of your reader in mi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ite to convince the reader of your point of vie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2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pth of the investig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ubstance of the r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9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cientific interpretation and thorough   discussion of r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importance of topic to the journal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65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604520" y="1057320"/>
            <a:ext cx="57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34"/>
                </a:solidFill>
                <a:latin typeface="Arial"/>
              </a:rPr>
              <a:t>Criteria for Acceptance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mmediate Rejection Crite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24379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ubject matter is of insufficient interest to the readership to a specific journa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results are trivia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cientific quality is substandar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uspected misconduct - fabrication and plagiaris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2533c"/>
                </a:solidFill>
                <a:latin typeface="Arial"/>
              </a:rPr>
              <a:t>Checklists</a:t>
            </a:r>
            <a:endParaRPr b="0" lang="en-US" sz="7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  <a:ea typeface="Times New Roman"/>
              </a:rPr>
              <a:t>Abstract Checklist: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Abstract is written AFTER you've written your pap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tates your hypothesi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mmarizes methodolog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mmarizes find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_____ Suggests implic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  <a:ea typeface="Arial"/>
              </a:rPr>
              <a:t>Introduction Checklist: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7524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Explains the rationale for your stu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Moves logically from the rationale to a specific statement of your hypothesis, such that readers can easily follow the link between the problem, prior research, and your research ques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efines terms which your reader may not know.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efines abbreviations that will be used in the report. For example, “urinary tract infection (UTI)  . . ."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_ Does NOT include findings or metho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You only need to describe your specific experiment metho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If method is already established just refer to that referenc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Does NOT tell us what was discovered. That information should be in the Results secti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Is NOT written like a cookbook (a series of orders) or a numbered series of step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364480" y="81900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Arial"/>
                <a:ea typeface="Arial"/>
              </a:rPr>
              <a:t>Methods Checklist: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  <a:ea typeface="Arial"/>
              </a:rPr>
              <a:t>Results Checklist: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Explains main results and supports those findings with selected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All figures are labeled and referenced in the text prior to the figu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Avoids unnecessary words or clumsy figure referenc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Written in past tens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____ Doesn't discuss or interpret findings beyond explaining patterns or trends in the data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Returns to the main point of your study -- Did you answer your hypothesis??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Summarizes main findings and then evaluates, analyzes, and explains the significance and implications of your finding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Draws generalizations from your results or conclusions about theoretical/practical implications. Uses evidence to support these claim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Explains key limitations: questions left unanswered, major experimental constraints, lack of correlation, negative results.    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Does not repeat the visuals shown in the Results sectio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 Includes no new finding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Does not ignore deviations in your dat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____ Avoids speculation that cannot be teste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Some writers like to end their papers with a short conclusion that includes recommendations for future study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14720" y="587520"/>
            <a:ext cx="5452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34"/>
                </a:solidFill>
                <a:latin typeface="Arial"/>
                <a:ea typeface="Arial"/>
              </a:rPr>
              <a:t>Discussion Checklist:</a:t>
            </a:r>
            <a:endParaRPr b="0" lang="en-US" sz="4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d2533c"/>
                </a:solidFill>
                <a:latin typeface="Arial"/>
              </a:rPr>
              <a:t>Good luck</a:t>
            </a:r>
            <a:endParaRPr b="0" lang="en-US" sz="8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1720" y="323640"/>
            <a:ext cx="740736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WHY PUBLISH?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02800" y="1644480"/>
            <a:ext cx="7567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To disseminate informa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617400" indent="-342720">
              <a:lnSpc>
                <a:spcPct val="150000"/>
              </a:lnSpc>
              <a:buClr>
                <a:srgbClr val="93a299"/>
              </a:buClr>
              <a:buSzPct val="85000"/>
              <a:buFont typeface="Wingdings" charset="2"/>
              <a:buChar char="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 share ideas, discoveries, and perspectives to a broader audience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Career advancement/promo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617400" indent="-342720">
              <a:lnSpc>
                <a:spcPct val="150000"/>
              </a:lnSpc>
              <a:buClr>
                <a:srgbClr val="93a299"/>
              </a:buClr>
              <a:buSzPct val="85000"/>
              <a:buFont typeface="Wingdings" charset="2"/>
              <a:buChar char="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 develop a fundable track record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Personal satisfac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search completion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533c"/>
                </a:solidFill>
                <a:latin typeface="Arial"/>
              </a:rPr>
              <a:t>TYPE OF PUBLICATIONS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5120"/>
            <a:ext cx="7404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search/Original paper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Review article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Case report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Letter to the editor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Editorial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388440" indent="-388440">
              <a:lnSpc>
                <a:spcPct val="150000"/>
              </a:lnSpc>
              <a:spcBef>
                <a:spcPts val="75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92934"/>
                </a:solidFill>
                <a:latin typeface="Arial"/>
              </a:rPr>
              <a:t>Special categories</a:t>
            </a: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riting a Scientific Pap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260e"/>
                </a:solidFill>
                <a:latin typeface="Arial"/>
              </a:rPr>
              <a:t>Formulate your idea of the pap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aper should describe a single major new idea or fin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nking of the title may help!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tart thinking about the paper while still doing experiments/research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nk of the figures needed to illustrate your find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MRD System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troduc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thod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sul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cuss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gures &amp; Tab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ibliograph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concise statement of the major find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r, a brief description of the stu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xpression of N-cadherin in breast cancer cells induces cell migration, invasion, and metastasis”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much better th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ffects of cadherin expression in breast cancer cells”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one-paragraph summary of the paper – usually 125-300 word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ives background (1-2 sentence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y describe experimental approach (1 senten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ates each of the experimental finding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nclusion or significance (1 senten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65320" y="507600"/>
            <a:ext cx="6681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TITLE SELECTION</a:t>
            </a:r>
            <a:br>
              <a:rPr sz="5400"/>
            </a:br>
            <a:r>
              <a:rPr b="1" lang="en-US" sz="4000" spc="-1" strike="noStrike" u="sng">
                <a:solidFill>
                  <a:srgbClr val="d2533c"/>
                </a:solidFill>
                <a:uFillTx/>
                <a:latin typeface="Arial"/>
              </a:rPr>
              <a:t>Good Tit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02800" y="1644480"/>
            <a:ext cx="78980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Short and Concise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Easy to understand 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marL="396720" indent="-39672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92934"/>
                </a:solidFill>
                <a:latin typeface="Arial"/>
              </a:rPr>
              <a:t>Gives readers an accurate and concise idea of the 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  <a:p>
            <a:pPr lvl="1" marL="628560" indent="-457200"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Methodology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28560" indent="-457200">
              <a:spcBef>
                <a:spcPts val="400"/>
              </a:spcBef>
              <a:spcAft>
                <a:spcPts val="400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me M. Canaria</dc:creator>
  <dc:description/>
  <dc:language>en-US</dc:language>
  <cp:lastModifiedBy>Hajeer, Ali</cp:lastModifiedBy>
  <cp:lastPrinted>2014-12-02T08:45:14Z</cp:lastPrinted>
  <dcterms:modified xsi:type="dcterms:W3CDTF">2016-03-20T06:36:34Z</dcterms:modified>
  <cp:revision>12</cp:revision>
  <dc:subject/>
  <dc:title>Scientific Writing</dc:title>
</cp:coreProperties>
</file>