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8A266-C4CC-4C18-87A0-321D2CDCC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DD4B-9E88-499A-A266-F471EC05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7CA6E-B410-424F-9B98-43818BA3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5EFBD-4A90-45AF-9C09-71EEC07FE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EB0D-1F85-4DAD-85BA-3B909642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65939-8B81-4379-9D9A-60476C4B7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28D20-9A89-40D7-8D11-8BA77B5E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EB88A-C4DA-43BB-BE10-E09C876D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6991-62C2-4F11-8606-E9196A1F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B00E-3FFF-4821-8AB5-0F528D32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CED5-5CDD-42D5-AD7A-068DACC09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208F-1881-4283-AD52-51F3AD9E7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3D1E-1DF7-4B1F-B1C1-EC620F4FB5E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0 Qs on the lectures</a:t>
            </a:r>
            <a:br>
              <a:rPr sz="4000"/>
            </a:br>
            <a:r>
              <a:rPr b="0" lang="en-US" sz="4000" spc="-1" strike="noStrike">
                <a:solidFill>
                  <a:srgbClr val="000000"/>
                </a:solidFill>
                <a:latin typeface="Arial"/>
              </a:rPr>
              <a:t>5 Qs from the Quizzes</a:t>
            </a:r>
            <a:br>
              <a:rPr sz="4000"/>
            </a:br>
            <a:r>
              <a:rPr b="0" lang="en-US" sz="4000" spc="-1" strike="noStrike">
                <a:solidFill>
                  <a:srgbClr val="000000"/>
                </a:solidFill>
                <a:latin typeface="Arial"/>
              </a:rPr>
              <a:t>5 Qs from the practical</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6964560"/>
            <a:ext cx="6400800" cy="21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43" name=""/>
          <p:cNvSpPr/>
          <p:nvPr/>
        </p:nvSpPr>
        <p:spPr>
          <a:xfrm>
            <a:off x="1042920" y="4292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e by </a:t>
            </a:r>
            <a:r>
              <a:rPr b="0" lang="ar-SA" sz="2800" spc="-1" strike="noStrike">
                <a:solidFill>
                  <a:srgbClr val="000000"/>
                </a:solidFill>
                <a:latin typeface="Arial"/>
              </a:rPr>
              <a:t> &amp; </a:t>
            </a:r>
            <a:r>
              <a:rPr b="0" lang="ar-SA" sz="2800" spc="-1" strike="noStrike">
                <a:solidFill>
                  <a:srgbClr val="000000"/>
                </a:solidFill>
                <a:latin typeface="Arial"/>
              </a:rPr>
              <a:t>مجهــــــــــــــــــــول</a:t>
            </a:r>
            <a:r>
              <a:rPr b="0" lang="ar-SA" sz="2800" spc="-1" strike="noStrike">
                <a:solidFill>
                  <a:srgbClr val="000000"/>
                </a:solidFill>
                <a:latin typeface="Arial"/>
              </a:rPr>
              <a:t> </a:t>
            </a:r>
            <a:r>
              <a:rPr b="0" lang="en-US" sz="2800" spc="-1" strike="noStrike">
                <a:solidFill>
                  <a:srgbClr val="000000"/>
                </a:solidFill>
                <a:latin typeface="Arial"/>
              </a:rPr>
              <a:t>Prof. A</a:t>
            </a:r>
            <a:endParaRPr b="0" lang="en-US" sz="2800" spc="-1" strike="noStrike">
              <a:solidFill>
                <a:srgbClr val="000000"/>
              </a:solidFill>
              <a:latin typeface="Arial"/>
            </a:endParaRPr>
          </a:p>
        </p:txBody>
      </p:sp>
      <p:sp>
        <p:nvSpPr>
          <p:cNvPr id="44" name=""/>
          <p:cNvSpPr/>
          <p:nvPr/>
        </p:nvSpPr>
        <p:spPr>
          <a:xfrm>
            <a:off x="1116000" y="515772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to Nour AlMoz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is   the  explanation   for  the  fact   that   certain autoimmune  diseases  get  better  during   pregnanc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others  get  wor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uring pregnancy, the female immune response undergoes modification by increasing H2 &amp; decreasing H1 which creates anti-inflammatory environment so diseases with antibody mediated component such SLE which enhanced by H2 like response are exacerbated during preg. While diseases involving inflammatory responses such as RA or MS sometimes ameliorated in preg.</a:t>
            </a:r>
            <a:br>
              <a:rPr sz="2400"/>
            </a:br>
            <a:br>
              <a:rPr sz="2400"/>
            </a:b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logy Quiz no.5.( transplantation ).</a:t>
            </a:r>
            <a:endParaRPr b="0" lang="en-US" sz="2400" spc="-1" strike="noStrike">
              <a:solidFill>
                <a:srgbClr val="000000"/>
              </a:solidFill>
              <a:latin typeface="Arial"/>
            </a:endParaRPr>
          </a:p>
        </p:txBody>
      </p:sp>
      <p:sp>
        <p:nvSpPr>
          <p:cNvPr id="63" name="PlaceHolder 2"/>
          <p:cNvSpPr>
            <a:spLocks noGrp="1"/>
          </p:cNvSpPr>
          <p:nvPr>
            <p:ph/>
          </p:nvPr>
        </p:nvSpPr>
        <p:spPr>
          <a:xfrm>
            <a:off x="323640" y="836640"/>
            <a:ext cx="8445240" cy="561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hat does HLA stan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LA = human leuckocyte antig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M.A. is a 40 years old man who require a kidney graf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ue to end-stage renal disease. His HLA genotype w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follows: HLA-A3/A6.B27/B44,CI/C8,DR1/DR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brought 5 donors .and tissue typing w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ed. Which one of them is the best choice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1 HLA type: HLA-A3/A8, B7/B28, C4/C8, DRI/DR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2 HLA “      : HLA-A6/A6, B27/B24, C12/C1, DR1/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3.HLA “ “   :  HLA-A27/A44, B1/B8, C3/C6, DR3/DR1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4 HLA “ ‘   :  HLA-A3/A6, B24/B7,C2/C9, DR4/DR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no.5 HLA “  “ :   HLA-A3/A3, B27/B44, C1/C8, DR4/DR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hoice # 5 , only 2 alleles r different</a:t>
            </a:r>
            <a:r>
              <a:rPr b="0" lang="en-US" sz="1800" spc="-1" strike="noStrike">
                <a:solidFill>
                  <a:srgbClr val="000000"/>
                </a:solidFill>
                <a:latin typeface="Arial"/>
              </a:rPr>
              <a:t>.</a:t>
            </a:r>
            <a:br>
              <a:rPr sz="1800"/>
            </a:br>
            <a:r>
              <a:rPr b="0" lang="en-US" sz="1800" spc="-1" strike="noStrike">
                <a:solidFill>
                  <a:srgbClr val="000000"/>
                </a:solidFill>
                <a:latin typeface="Arial"/>
              </a:rPr>
              <a:t>Also, there is no big difference between 5 and the host in MHC11 </a:t>
            </a:r>
            <a:br>
              <a:rPr sz="1800"/>
            </a:br>
            <a:r>
              <a:rPr b="0" lang="en-US" sz="1800" spc="-1" strike="noStrike">
                <a:solidFill>
                  <a:srgbClr val="000000"/>
                </a:solidFill>
                <a:latin typeface="Arial"/>
              </a:rPr>
              <a:t>( they both have DR4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ype of  cells  are  used  to  detect  HLA  antige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cell , B-cell (notice that PCR used for ant type of cell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 5-months old boy who was diagnosed with sev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bined immunodeficiency (SCID ) received a b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row  transplantation from an HLA-matched don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was doing well  until 2  weeks  after transplantation      when  he  developed  a  skin  rash.  Subsequently  he   developed  diarrhea, an enlarged  liver &amp; spleen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und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mmunological process might be invol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his probl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VHR (Graft Versus Host Rea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Which one is more important for graft survival   MHC-class1 or MHC-class11 match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MHC11 is more importa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ct, The more compatibility between MHC11 of host and donor, the more is the rate of graft survival r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Arial"/>
              </a:rPr>
              <a:t>Practicals:</a:t>
            </a:r>
            <a:br>
              <a:rPr sz="4000"/>
            </a:br>
            <a:br>
              <a:rPr sz="4000"/>
            </a:br>
            <a:r>
              <a:rPr b="0" lang="en-GB" sz="4000" spc="-1" strike="noStrike">
                <a:solidFill>
                  <a:srgbClr val="000000"/>
                </a:solidFill>
                <a:latin typeface="Arial"/>
              </a:rPr>
              <a:t>Immunodiffusion</a:t>
            </a:r>
            <a:br>
              <a:rPr sz="4000"/>
            </a:br>
            <a:r>
              <a:rPr b="0" lang="en-GB" sz="4000" spc="-1" strike="noStrike">
                <a:solidFill>
                  <a:srgbClr val="000000"/>
                </a:solidFill>
                <a:latin typeface="Arial"/>
              </a:rPr>
              <a:t>CH50</a:t>
            </a:r>
            <a:br>
              <a:rPr sz="4000"/>
            </a:br>
            <a:r>
              <a:rPr b="0" lang="en-GB" sz="4000" spc="-1" strike="noStrike">
                <a:solidFill>
                  <a:srgbClr val="000000"/>
                </a:solidFill>
                <a:latin typeface="Arial"/>
              </a:rPr>
              <a:t>ELISA</a:t>
            </a:r>
            <a:br>
              <a:rPr sz="4000"/>
            </a:br>
            <a:r>
              <a:rPr b="0" lang="en-GB" sz="4000" spc="-1" strike="noStrike">
                <a:solidFill>
                  <a:srgbClr val="000000"/>
                </a:solidFill>
                <a:latin typeface="Arial"/>
              </a:rPr>
              <a:t>FLOW CYTOMETRY</a:t>
            </a:r>
            <a:br>
              <a:rPr sz="4000"/>
            </a:br>
            <a:r>
              <a:rPr b="0" lang="en-GB" sz="4000" spc="-1" strike="noStrike">
                <a:solidFill>
                  <a:srgbClr val="000000"/>
                </a:solidFill>
                <a:latin typeface="Arial"/>
              </a:rPr>
              <a:t>SKIN PRICK TEST</a:t>
            </a:r>
            <a:br>
              <a:rPr sz="4000"/>
            </a:br>
            <a:r>
              <a:rPr b="0" lang="en-GB" sz="4000" spc="-1" strike="noStrike">
                <a:solidFill>
                  <a:srgbClr val="000000"/>
                </a:solidFill>
                <a:latin typeface="Arial"/>
              </a:rPr>
              <a:t>PATCH TEST</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y Quiz no.1.</a:t>
            </a:r>
            <a:endParaRPr b="0" lang="en-US" sz="2800" spc="-1" strike="noStrike">
              <a:solidFill>
                <a:srgbClr val="000000"/>
              </a:solidFill>
              <a:latin typeface="Arial"/>
            </a:endParaRPr>
          </a:p>
        </p:txBody>
      </p:sp>
      <p:sp>
        <p:nvSpPr>
          <p:cNvPr id="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25-years  old man   presented  with   nasal   symptoms   in  the     form    of       nasal    itching   ,  sneezing ,   runny     n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ometimes   itching   in   the    eyes. He    was    us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histamine    medications   regularly    for       the      la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months   to    control   his     sympt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What     is     the    possible      underlying     immunologi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lem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ype 1 hypersensitivity </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What     is    the   most   relevant   test   that    can  help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agnose   this    case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kin prick test, measurement of IgE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259920"/>
            <a:ext cx="8229600" cy="619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How   can   you   explain   the   symptoms   with   underlying                 immunopathology ?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ergin deposits on the nasopharynx and bronchial mucosa which leads to B cell sensitization and subsequent transformation into plasma cells releasing 1ry and 2ndary mediators which causes recruitment of inflammatory cells releasing other mediators such as Histamine ( which causes vasodilatation so runny nose and congestion ) ANF kinine ( which causes itching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exposure of th atopic person to specific antigen leads to sensitization of B cells to become plasma cells producing IgE which binds to high affinity receptors on mast cells &amp; basophils causing sensitization. Then subsequent exposure leads to degranulation &amp; release of allergic sub. Such as histamine.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y Quiz no.2.(immunodeficiency ).</a:t>
            </a:r>
            <a:endParaRPr b="0" lang="en-US" sz="2800" spc="-1" strike="noStrike">
              <a:solidFill>
                <a:srgbClr val="000000"/>
              </a:solidFill>
              <a:latin typeface="Arial"/>
            </a:endParaRPr>
          </a:p>
        </p:txBody>
      </p:sp>
      <p:sp>
        <p:nvSpPr>
          <p:cNvPr id="49" name="PlaceHolder 2"/>
          <p:cNvSpPr>
            <a:spLocks noGrp="1"/>
          </p:cNvSpPr>
          <p:nvPr>
            <p:ph/>
          </p:nvPr>
        </p:nvSpPr>
        <p:spPr>
          <a:xfrm>
            <a:off x="457200" y="1599840"/>
            <a:ext cx="8229600" cy="49244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9-month  old  boy  presented  with   history of recurrent episodes of  serious  bacterial  infectio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included   bacterial  pneumonia,   otitis media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nusitis  &amp;  septicemia.  Repeated    bacteriological cultures  revealed  Streptococcus   pneumonae,   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luenzae &amp;  Staphylococci.</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List  the  relevant immunologic  investigation in thi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X-linked Agammaglubinemia and Transient hypogammaglubinemia.</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What  immunologic  processes  are   likely   to   b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olved .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b production and B-cell deficien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able    diagnosis    ?</a:t>
            </a:r>
            <a:endParaRPr b="0" lang="en-US" sz="24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X-linked Agammaglubinemia</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What  are  the   appropriate   lines   of</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men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gG Intravenously injecte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Why was the child normal up to 9-month</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age   and  then   started   to  develop infection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because maternal antibodies survive in the baby’s circulation until approximately 6 to 8 months of birth &amp; then they fad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Can this  disease  affect  female children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NO, they  can be only carriers because the disease X-linked.</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logy Quiz no.3.(infectious diseases ).</a:t>
            </a:r>
            <a:endParaRPr b="0" lang="en-US" sz="2400" spc="-1" strike="noStrike">
              <a:solidFill>
                <a:srgbClr val="000000"/>
              </a:solidFill>
              <a:latin typeface="Arial"/>
            </a:endParaRPr>
          </a:p>
        </p:txBody>
      </p:sp>
      <p:sp>
        <p:nvSpPr>
          <p:cNvPr id="53" name="PlaceHolder 2"/>
          <p:cNvSpPr>
            <a:spLocks noGrp="1"/>
          </p:cNvSpPr>
          <p:nvPr>
            <p:ph/>
          </p:nvPr>
        </p:nvSpPr>
        <p:spPr>
          <a:xfrm>
            <a:off x="250560" y="1600200"/>
            <a:ext cx="8435880" cy="50688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5-years  old  child ,   who   did  not</a:t>
            </a:r>
            <a:r>
              <a:rPr b="0" lang="ar-SA" sz="1800" spc="-1" strike="noStrike">
                <a:solidFill>
                  <a:srgbClr val="000000"/>
                </a:solidFill>
                <a:latin typeface="Arial"/>
              </a:rPr>
              <a:t> </a:t>
            </a:r>
            <a:r>
              <a:rPr b="0" lang="en-US" sz="1800" spc="-1" strike="noStrike">
                <a:solidFill>
                  <a:srgbClr val="000000"/>
                </a:solidFill>
                <a:latin typeface="Arial"/>
              </a:rPr>
              <a:t>    receiv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commended   immunizations   had    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t   wound   in   the  foot      which     becam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minated   with      soil.</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What  will  you  advice   for   treatmen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nti-Tettinus shot then passive vaccination of already-made Ab that are chosen on the basis of the infection.</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we give the patient the active vaccin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What   are    the   different    types  of   vaccines      available  ?</a:t>
            </a: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ive (attenuated) organisms</a:t>
            </a:r>
            <a:br>
              <a:rPr sz="2400"/>
            </a:br>
            <a:r>
              <a:rPr b="0" lang="en-US" sz="2400" spc="-1" strike="noStrike">
                <a:solidFill>
                  <a:srgbClr val="000000"/>
                </a:solidFill>
                <a:latin typeface="Arial"/>
              </a:rPr>
              <a:t>Inactivated organisms( killed)</a:t>
            </a:r>
            <a:br>
              <a:rPr sz="2400"/>
            </a:br>
            <a:r>
              <a:rPr b="0" lang="en-US" sz="2400" spc="-1" strike="noStrike">
                <a:solidFill>
                  <a:srgbClr val="000000"/>
                </a:solidFill>
                <a:latin typeface="Arial"/>
              </a:rPr>
              <a:t>Purified microbial macromolecules</a:t>
            </a:r>
            <a:br>
              <a:rPr sz="2400"/>
            </a:br>
            <a:r>
              <a:rPr b="0" lang="en-US" sz="2400" spc="-1" strike="noStrike">
                <a:solidFill>
                  <a:srgbClr val="000000"/>
                </a:solidFill>
                <a:latin typeface="Arial"/>
              </a:rPr>
              <a:t>Clonal microbial antigens</a:t>
            </a:r>
            <a:br>
              <a:rPr sz="2400"/>
            </a:br>
            <a:r>
              <a:rPr b="0" lang="en-US" sz="2400" spc="-1" strike="noStrike">
                <a:solidFill>
                  <a:srgbClr val="000000"/>
                </a:solidFill>
                <a:latin typeface="Arial"/>
              </a:rPr>
              <a:t>Toxoid ( inactivated toxins )</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is    the   recommended     vaccinatio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schedule  for  children    in    Saudi Arabia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pag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Arial"/>
              </a:rPr>
              <a:t>VACCINE TABle</a:t>
            </a:r>
            <a:r>
              <a:rPr b="0" lang="en-US" sz="3200" spc="-1" strike="noStrike">
                <a:solidFill>
                  <a:srgbClr val="000000"/>
                </a:solidFill>
                <a:latin typeface="Arial"/>
              </a:rPr>
              <a:t>– it is already found in the females booklet.</a:t>
            </a:r>
            <a:endParaRPr b="0" lang="en-US" sz="3200" spc="-1" strike="noStrike">
              <a:solidFill>
                <a:srgbClr val="000000"/>
              </a:solidFill>
              <a:latin typeface="Arial"/>
            </a:endParaRPr>
          </a:p>
          <a:p>
            <a:pPr marL="343080" indent="0">
              <a:spcBef>
                <a:spcPts val="2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Arial"/>
            </a:endParaRPr>
          </a:p>
          <a:p>
            <a:pPr marL="343080" indent="0">
              <a:spcBef>
                <a:spcPts val="2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ccine TABLE – it is already found in the females book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y Quiz no.4.( autoimmunity).</a:t>
            </a:r>
            <a:endParaRPr b="0" lang="en-US" sz="2800" spc="-1" strike="noStrike">
              <a:solidFill>
                <a:srgbClr val="000000"/>
              </a:solidFill>
              <a:latin typeface="Arial"/>
            </a:endParaRPr>
          </a:p>
        </p:txBody>
      </p:sp>
      <p:sp>
        <p:nvSpPr>
          <p:cNvPr id="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hat is the association between infection, autoimmun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hypersensitivit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crobes ( in hypersensitivity ) predispose to Auto-immunity because these microbes may mimic the Host antigen leading to Ab production against them. </a:t>
            </a:r>
            <a:br>
              <a:rPr sz="1800"/>
            </a:br>
            <a:r>
              <a:rPr b="0" lang="en-US" sz="1800" spc="-1" strike="noStrike">
                <a:solidFill>
                  <a:srgbClr val="000000"/>
                </a:solidFill>
                <a:latin typeface="Arial"/>
              </a:rPr>
              <a:t>( molecular mimic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 pathology of autoimmunity is mediated by type 2,3,4 hypersensitivity reac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ention 2 infections which  may lead   to develop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autoimmunity  and  the   underlying  hypersensitiv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using  the  pathological  tissue  damag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Streptococcus infection causing Raumatoid Fe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st Rabies encephalit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xsackieVirus leading to Type 1 Diabetes Millit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ention 2 autoimmune diseases in which tissue dam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caused  by more than  one hypersensitivity rea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aumatic Arthritis and Systemic Lupus Erythemato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8:14:10Z</dcterms:created>
  <dc:creator>Dr. Zahid</dc:creator>
  <dc:description/>
  <dc:language>en-US</dc:language>
  <cp:lastModifiedBy>طلاب اللجان الطلابية</cp:lastModifiedBy>
  <dcterms:modified xsi:type="dcterms:W3CDTF">2008-01-15T07:58:54Z</dcterms:modified>
  <cp:revision>21</cp:revision>
  <dc:subject/>
  <dc:title>Immunology Quizzes.</dc:title>
</cp:coreProperties>
</file>