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10CD-4913-423F-9D23-9E78D27560A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5D03-A3E8-48BC-B683-1BBC1E22350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eated by antithyroid, radioactive iodine or sur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C93-FAD4-4A12-9F4E-54559DA8B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1DD-EB8F-4566-B981-138A66A0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2678-7143-49F4-8629-62ACB793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707-4A92-4A99-8BEA-04D20570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831-0060-4971-A913-1B0A12BC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78E-9A37-450C-84EB-35CD94F2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07C0-F950-4E76-BAE7-CB89AFB0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DB4-0A3D-44CF-A287-5246D557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48A-5382-47C5-8360-66C24FAA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D6C-D279-4587-9211-ABF33C3D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2F6-E02E-4309-A76C-A6BCBDC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34B-ED22-4D8A-B8AF-8EDCBF05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a9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8766-3BE6-41FE-B5C8-DF0D0C4AE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almogren@ksu.edu.sa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Dr.Adel\Desktop\spa\SA91.jpg"/>
          <p:cNvPicPr/>
          <p:nvPr/>
        </p:nvPicPr>
        <p:blipFill>
          <a:blip r:embed="rId1"/>
          <a:stretch/>
        </p:blipFill>
        <p:spPr>
          <a:xfrm>
            <a:off x="1071720" y="0"/>
            <a:ext cx="7286400" cy="357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Dr.Adel\Desktop\spa\SA97.jpg"/>
          <p:cNvPicPr/>
          <p:nvPr/>
        </p:nvPicPr>
        <p:blipFill>
          <a:blip r:embed="rId2"/>
          <a:stretch/>
        </p:blipFill>
        <p:spPr>
          <a:xfrm>
            <a:off x="1071720" y="3571920"/>
            <a:ext cx="7286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8233"/>
          <p:cNvPicPr/>
          <p:nvPr/>
        </p:nvPicPr>
        <p:blipFill>
          <a:blip r:embed="rId1"/>
          <a:srcRect l="11665" t="19995" r="8350" b="18908"/>
          <a:stretch/>
        </p:blipFill>
        <p:spPr>
          <a:xfrm>
            <a:off x="914400" y="1581120"/>
            <a:ext cx="7315200" cy="4191120"/>
          </a:xfrm>
          <a:prstGeom prst="rect">
            <a:avLst/>
          </a:prstGeom>
          <a:ln w="57240">
            <a:solidFill>
              <a:srgbClr val="33ccff"/>
            </a:solidFill>
            <a:miter/>
          </a:ln>
        </p:spPr>
      </p:pic>
      <p:sp>
        <p:nvSpPr>
          <p:cNvPr id="75" name="Text Box 3"/>
          <p:cNvSpPr/>
          <p:nvPr/>
        </p:nvSpPr>
        <p:spPr>
          <a:xfrm>
            <a:off x="1928880" y="1191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I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3"/>
          <p:cNvPicPr/>
          <p:nvPr/>
        </p:nvPicPr>
        <p:blipFill>
          <a:blip r:embed="rId1"/>
          <a:srcRect l="0" t="0" r="220" b="8288"/>
          <a:stretch/>
        </p:blipFill>
        <p:spPr>
          <a:xfrm>
            <a:off x="1065240" y="1467000"/>
            <a:ext cx="7012080" cy="4992480"/>
          </a:xfrm>
          <a:prstGeom prst="rect">
            <a:avLst/>
          </a:prstGeom>
          <a:ln w="57240">
            <a:solidFill>
              <a:srgbClr val="33ccff"/>
            </a:solidFill>
            <a:miter/>
          </a:ln>
        </p:spPr>
      </p:pic>
      <p:sp>
        <p:nvSpPr>
          <p:cNvPr id="77" name="Text Box 3"/>
          <p:cNvSpPr/>
          <p:nvPr/>
        </p:nvSpPr>
        <p:spPr>
          <a:xfrm>
            <a:off x="1281240" y="138240"/>
            <a:ext cx="65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e Diseases due 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I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865520" y="119160"/>
            <a:ext cx="541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II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6"/>
          <p:cNvGrpSpPr/>
          <p:nvPr/>
        </p:nvGrpSpPr>
        <p:grpSpPr>
          <a:xfrm>
            <a:off x="723960" y="1523880"/>
            <a:ext cx="7696080" cy="4496040"/>
            <a:chOff x="723960" y="1523880"/>
            <a:chExt cx="7696080" cy="4496040"/>
          </a:xfrm>
        </p:grpSpPr>
        <p:pic>
          <p:nvPicPr>
            <p:cNvPr id="80" name="Picture 4" descr="8233"/>
            <p:cNvPicPr/>
            <p:nvPr/>
          </p:nvPicPr>
          <p:blipFill>
            <a:blip r:embed="rId1"/>
            <a:srcRect l="7500" t="17774" r="8350" b="16688"/>
            <a:stretch/>
          </p:blipFill>
          <p:spPr>
            <a:xfrm>
              <a:off x="723960" y="1523880"/>
              <a:ext cx="7696080" cy="449604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sp>
          <p:nvSpPr>
            <p:cNvPr id="81" name="Rectangle 5"/>
            <p:cNvSpPr/>
            <p:nvPr/>
          </p:nvSpPr>
          <p:spPr>
            <a:xfrm>
              <a:off x="736560" y="1542960"/>
              <a:ext cx="3049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281240" y="328680"/>
            <a:ext cx="65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e Diseases due 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II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13"/>
          <p:cNvPicPr/>
          <p:nvPr/>
        </p:nvPicPr>
        <p:blipFill>
          <a:blip r:embed="rId1"/>
          <a:srcRect l="0" t="0" r="0" b="50007"/>
          <a:stretch/>
        </p:blipFill>
        <p:spPr>
          <a:xfrm>
            <a:off x="439560" y="2209680"/>
            <a:ext cx="8264880" cy="3286080"/>
          </a:xfrm>
          <a:prstGeom prst="rect">
            <a:avLst/>
          </a:prstGeom>
          <a:ln w="5724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8233"/>
          <p:cNvPicPr/>
          <p:nvPr/>
        </p:nvPicPr>
        <p:blipFill>
          <a:blip r:embed="rId1"/>
          <a:srcRect l="9165" t="19995" r="8350" b="12241"/>
          <a:stretch/>
        </p:blipFill>
        <p:spPr>
          <a:xfrm>
            <a:off x="800280" y="1486080"/>
            <a:ext cx="7543800" cy="4647960"/>
          </a:xfrm>
          <a:prstGeom prst="rect">
            <a:avLst/>
          </a:prstGeom>
          <a:ln w="57240">
            <a:solidFill>
              <a:srgbClr val="33ccff"/>
            </a:solidFill>
            <a:miter/>
          </a:ln>
        </p:spPr>
      </p:pic>
      <p:sp>
        <p:nvSpPr>
          <p:cNvPr id="85" name="Text Box 3"/>
          <p:cNvSpPr/>
          <p:nvPr/>
        </p:nvSpPr>
        <p:spPr>
          <a:xfrm>
            <a:off x="1839600" y="34776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V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281240" y="195120"/>
            <a:ext cx="65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e Diseases due 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ype IV Hypersensitiv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439560" y="2124000"/>
            <a:ext cx="8264880" cy="3590640"/>
            <a:chOff x="439560" y="2124000"/>
            <a:chExt cx="8264880" cy="3590640"/>
          </a:xfrm>
        </p:grpSpPr>
        <p:pic>
          <p:nvPicPr>
            <p:cNvPr id="88" name="Picture 4" descr="13"/>
            <p:cNvPicPr/>
            <p:nvPr/>
          </p:nvPicPr>
          <p:blipFill>
            <a:blip r:embed="rId1"/>
            <a:srcRect l="0" t="50007" r="0" b="5942"/>
            <a:stretch/>
          </p:blipFill>
          <p:spPr>
            <a:xfrm>
              <a:off x="439560" y="2819160"/>
              <a:ext cx="8264880" cy="289548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pic>
          <p:nvPicPr>
            <p:cNvPr id="89" name="Picture 5" descr="13"/>
            <p:cNvPicPr/>
            <p:nvPr/>
          </p:nvPicPr>
          <p:blipFill>
            <a:blip r:embed="rId2"/>
            <a:srcRect l="0" t="0" r="0" b="89424"/>
            <a:stretch/>
          </p:blipFill>
          <p:spPr>
            <a:xfrm>
              <a:off x="439560" y="2124000"/>
              <a:ext cx="8264880" cy="69516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38080" y="990720"/>
            <a:ext cx="746784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Organ specific AI disea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mediated by direct cellular damag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ashimoto thyroiditis: Autoabs &amp; T 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toimmune Anaemia: Pernicious A, A hemolytic A, Drug—induced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odpasture’s syndr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sulin dep. DM (IDDM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second category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mediated by stimulating or blocking autoantibod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ves’ dis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yasthenia grav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143000" y="-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ve’s Dis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F20-04"/>
          <p:cNvPicPr/>
          <p:nvPr/>
        </p:nvPicPr>
        <p:blipFill>
          <a:blip r:embed="rId1"/>
          <a:stretch/>
        </p:blipFill>
        <p:spPr>
          <a:xfrm>
            <a:off x="152280" y="609480"/>
            <a:ext cx="4038840" cy="3791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4724280" y="685800"/>
            <a:ext cx="4419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duction of thyroid hormones is regulated by thyroid-stimulating hormones (TS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binding of TSH to a receptor on thyroid cells activates adenylate cyclase and stimulates the synthesis of two thyroid hormones: thyroxine and triiodothyron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erson with Grave’s Disease makes auto-antibodies to the receptor for TSH.  The binding of these auto-antibodies to the receptor mimics the normal action of TSH, without the regulation, leading to overstimulation of the thyro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uto-antibodies are called long-acting thyroid stimulating horm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exopht4"/>
          <p:cNvPicPr/>
          <p:nvPr/>
        </p:nvPicPr>
        <p:blipFill>
          <a:blip r:embed="rId2"/>
          <a:stretch/>
        </p:blipFill>
        <p:spPr>
          <a:xfrm>
            <a:off x="1066680" y="4495680"/>
            <a:ext cx="1986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4457880" cy="5943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3124080" y="1522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yasthenia grav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0" y="4038480"/>
            <a:ext cx="220968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tor end-plates of musc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 flipV="1">
            <a:off x="2133720" y="259056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00040" y="142920"/>
            <a:ext cx="49528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ystemic AI diseases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125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LE pati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819520" cy="3276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6"/>
          <p:cNvSpPr/>
          <p:nvPr/>
        </p:nvSpPr>
        <p:spPr>
          <a:xfrm>
            <a:off x="4643280" y="0"/>
            <a:ext cx="45007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College of Rheumat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out of 11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lar ra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53000" y="1752480"/>
            <a:ext cx="87760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Molecular Basis fo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utoimmune Diseas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. Adel Almogr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t of Pathology, Immunology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lmogren@ksu.edu.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ice: 467-184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95280" y="1143000"/>
            <a:ext cx="4724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43000" y="53352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spcBef>
                <a:spcPts val="1250"/>
              </a:spcBef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ple sclerosis: affects CNS. autoreactive T cells– myelin sheath of nerve fib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80880" y="2133720"/>
            <a:ext cx="497844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s  with th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R2&amp;DR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nt of  MHC genes are most susceptible to the dise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imp-nervecell"/>
          <p:cNvPicPr/>
          <p:nvPr/>
        </p:nvPicPr>
        <p:blipFill>
          <a:blip r:embed="rId1"/>
          <a:stretch/>
        </p:blipFill>
        <p:spPr>
          <a:xfrm>
            <a:off x="762120" y="4343400"/>
            <a:ext cx="7724520" cy="2125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mp-myelin"/>
          <p:cNvPicPr/>
          <p:nvPr/>
        </p:nvPicPr>
        <p:blipFill>
          <a:blip r:embed="rId2"/>
          <a:stretch/>
        </p:blipFill>
        <p:spPr>
          <a:xfrm>
            <a:off x="6400800" y="1676520"/>
            <a:ext cx="2381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609480" y="1295280"/>
            <a:ext cx="4648320" cy="52146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heumatoid arthritis (RA) affects peripheral joints and may cause destruction of both cartilage and bone. The disease affects mainly individuals carrying the 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DR4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nt of MHC gen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fact can lead to better prognoses and in aiding efforts to change immune reactions that involve the DR4 variant while leaving other reactions inta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imp-hand"/>
          <p:cNvPicPr/>
          <p:nvPr/>
        </p:nvPicPr>
        <p:blipFill>
          <a:blip r:embed="rId1"/>
          <a:stretch/>
        </p:blipFill>
        <p:spPr>
          <a:xfrm>
            <a:off x="5562720" y="3657600"/>
            <a:ext cx="3047760" cy="2500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09" name="Picture 4" descr="Synovium"/>
          <p:cNvPicPr/>
          <p:nvPr/>
        </p:nvPicPr>
        <p:blipFill>
          <a:blip r:embed="rId2"/>
          <a:stretch/>
        </p:blipFill>
        <p:spPr>
          <a:xfrm>
            <a:off x="5638680" y="457200"/>
            <a:ext cx="3008520" cy="3048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09480" y="30492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spcBef>
                <a:spcPts val="1250"/>
              </a:spcBef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713240" y="271440"/>
            <a:ext cx="571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roposed Mechanisms o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utoimmunity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F20-08"/>
          <p:cNvPicPr/>
          <p:nvPr/>
        </p:nvPicPr>
        <p:blipFill>
          <a:blip r:embed="rId1"/>
          <a:stretch/>
        </p:blipFill>
        <p:spPr>
          <a:xfrm>
            <a:off x="558720" y="1600200"/>
            <a:ext cx="8026560" cy="4419720"/>
          </a:xfrm>
          <a:prstGeom prst="rect">
            <a:avLst/>
          </a:prstGeom>
          <a:ln w="57240">
            <a:solidFill>
              <a:srgbClr val="33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61120" y="38088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lease of Sequestered Antige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2120" y="4000680"/>
            <a:ext cx="761976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Induction of tolerance in self-reactive T cells occurs through the exposure of immature T cells to self-antigens in the thymu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The elimination/silencing of all self-reactive T cells requires that all self-antigens be presented within the thymic environmen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self-antigens are sequestered in specialized tissues and may not be expressed in the thymu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are not seen by the developing immune system – will not induce self-toleranc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xposure of T cells to these normally sequestered/tissue-specific self-antigens in the periphery results in their activatio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1981080" y="1143000"/>
            <a:ext cx="5181840" cy="2782800"/>
            <a:chOff x="1981080" y="1143000"/>
            <a:chExt cx="5181840" cy="2782800"/>
          </a:xfrm>
        </p:grpSpPr>
        <p:pic>
          <p:nvPicPr>
            <p:cNvPr id="116" name="Picture 5" descr="8233"/>
            <p:cNvPicPr/>
            <p:nvPr/>
          </p:nvPicPr>
          <p:blipFill>
            <a:blip r:embed="rId1"/>
            <a:srcRect l="9165" t="23328" r="45843" b="44462"/>
            <a:stretch/>
          </p:blipFill>
          <p:spPr>
            <a:xfrm>
              <a:off x="1981080" y="1143000"/>
              <a:ext cx="5181840" cy="278280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sp>
          <p:nvSpPr>
            <p:cNvPr id="117" name="Rectangle 6"/>
            <p:cNvSpPr/>
            <p:nvPr/>
          </p:nvSpPr>
          <p:spPr>
            <a:xfrm>
              <a:off x="6781680" y="1752480"/>
              <a:ext cx="3812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58440" y="500040"/>
            <a:ext cx="78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s of Sequestered Antige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371600" y="1447920"/>
            <a:ext cx="63244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yelin basic protein (MBP), associated with 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erm-associated antigens in some individuals following vasectom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ns and corneal proteins of the eye following infection or trau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eart muscle antigens following myocardial infarction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2388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826640" y="685800"/>
            <a:ext cx="54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ross-reacting Antige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(Molecular Mimicry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25360" y="2476440"/>
            <a:ext cx="869328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iruses and bacteria possess antigenic determinants that are very similar, or even identical, to normal host cell compon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is phenomenon, known a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lecular mimic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occurs in a wide variety of organis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lecular mimicry may be the initiating step in a variety of autoimmune disea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077840" y="500040"/>
            <a:ext cx="69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amples of Molecular Mimic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8"/>
          <p:cNvGrpSpPr/>
          <p:nvPr/>
        </p:nvGrpSpPr>
        <p:grpSpPr>
          <a:xfrm>
            <a:off x="552600" y="1219320"/>
            <a:ext cx="8026200" cy="5187960"/>
            <a:chOff x="552600" y="1219320"/>
            <a:chExt cx="8026200" cy="5187960"/>
          </a:xfrm>
        </p:grpSpPr>
        <p:grpSp>
          <p:nvGrpSpPr>
            <p:cNvPr id="125" name="Group 4"/>
            <p:cNvGrpSpPr/>
            <p:nvPr/>
          </p:nvGrpSpPr>
          <p:grpSpPr>
            <a:xfrm>
              <a:off x="552600" y="1219320"/>
              <a:ext cx="8026200" cy="5187960"/>
              <a:chOff x="552600" y="1219320"/>
              <a:chExt cx="8026200" cy="5187960"/>
            </a:xfrm>
          </p:grpSpPr>
          <p:pic>
            <p:nvPicPr>
              <p:cNvPr id="126" name="Picture 5" descr="T20-03"/>
              <p:cNvPicPr/>
              <p:nvPr/>
            </p:nvPicPr>
            <p:blipFill>
              <a:blip r:embed="rId1"/>
              <a:srcRect l="0" t="0" r="0" b="17140"/>
              <a:stretch/>
            </p:blipFill>
            <p:spPr>
              <a:xfrm>
                <a:off x="552600" y="1219320"/>
                <a:ext cx="8026200" cy="5187960"/>
              </a:xfrm>
              <a:prstGeom prst="rect">
                <a:avLst/>
              </a:prstGeom>
              <a:ln w="57240">
                <a:solidFill>
                  <a:srgbClr val="33ccff"/>
                </a:solidFill>
                <a:miter/>
              </a:ln>
            </p:spPr>
          </p:pic>
          <p:pic>
            <p:nvPicPr>
              <p:cNvPr id="127" name="Picture 6" descr="T20-03"/>
              <p:cNvPicPr/>
              <p:nvPr/>
            </p:nvPicPr>
            <p:blipFill>
              <a:blip r:embed="rId2"/>
              <a:srcRect l="18752" t="1219" r="0" b="95136"/>
              <a:stretch/>
            </p:blipFill>
            <p:spPr>
              <a:xfrm>
                <a:off x="757080" y="1300320"/>
                <a:ext cx="6521760" cy="228600"/>
              </a:xfrm>
              <a:prstGeom prst="rect">
                <a:avLst/>
              </a:prstGeom>
              <a:ln w="9360">
                <a:solidFill>
                  <a:srgbClr val="33ccff"/>
                </a:solidFill>
                <a:miter/>
              </a:ln>
            </p:spPr>
          </p:pic>
        </p:grpSp>
        <p:sp>
          <p:nvSpPr>
            <p:cNvPr id="128" name="Rectangle 7"/>
            <p:cNvSpPr/>
            <p:nvPr/>
          </p:nvSpPr>
          <p:spPr>
            <a:xfrm>
              <a:off x="6858000" y="1295280"/>
              <a:ext cx="6094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47200" y="347760"/>
            <a:ext cx="624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nappropriate Expression o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lass II MHC Molecule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47640" y="18018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elimination of self-reactive T cells involves contact with APC presenting self-peptides within the thymic environ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s in deletion or functional inactiv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95360" y="2819520"/>
            <a:ext cx="815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ighly tissue specific proteins not expressed within the thymus, do not induce clonal deletion or tolera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 cells will not respond in the periphery if the tissue expressing these specific proteins does not express class II MHC molecu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lass II MHC ordinarily expressed on antigen presenting cells, such as macrophages, dendritic cells and B ce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aberrant expression of MHC determinants allows the recognition of these autoantigens by self-reactive T ce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s from the local production of IFN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which is known to increase class II MHC expression on a variety of ce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he inducer of IFN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nder these circumstances could be a viral infe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1219320" y="533520"/>
            <a:ext cx="655308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e I Diabetes: Pancreatic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ells expr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normally high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MHC I and MHC II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HC II – APC only! This may hypersensitiz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ells t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ell peptid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Pancre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ncreas with Insulit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view"/>
          <p:cNvPicPr/>
          <p:nvPr/>
        </p:nvPicPr>
        <p:blipFill>
          <a:blip r:embed="rId1"/>
          <a:stretch/>
        </p:blipFill>
        <p:spPr>
          <a:xfrm>
            <a:off x="609480" y="2743200"/>
            <a:ext cx="3353040" cy="23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view"/>
          <p:cNvPicPr/>
          <p:nvPr/>
        </p:nvPicPr>
        <p:blipFill>
          <a:blip r:embed="rId2"/>
          <a:stretch/>
        </p:blipFill>
        <p:spPr>
          <a:xfrm>
            <a:off x="4800600" y="2743200"/>
            <a:ext cx="34290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603160" y="816120"/>
            <a:ext cx="39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utoimmun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85800" y="19810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mune system has evolved 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criminate betwee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lf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an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nsel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af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and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angerous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sign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552400" y="3857760"/>
            <a:ext cx="38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bility developed during fetal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6560" y="4387680"/>
            <a:ext cx="80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lera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a form of censorship of the immune system, is acquired b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74840" y="4986360"/>
            <a:ext cx="8194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ffffff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letion (clonal deletion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unctional inactivation (clonal anergy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f developing lymphocytes that possess antigenic receptors with high affinity for self-antigen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460160" y="804960"/>
            <a:ext cx="62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olyclonal B Cell Activ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604800" y="1855800"/>
            <a:ext cx="79344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iruses and bacteria can induce nonspecific polyclonal B cell activation, includ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ertain gram negative bacte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erpes simplex vir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ytomegalovi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pstein Barr Vir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uman immunodeficiency virus (HIV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uce the proliferation of numerous clones of B cells to secrete IgM in the absence of a requirement for CD4 T cell hel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yclonal activation leads to the activation of self-reactive B cells and autoantibody prod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atients with mononucleosis (caused by EBV) and AIDS (HIV) have a variety of autoantibodie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990720" y="762120"/>
            <a:ext cx="7086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immunity can be caused by immunological, genetic, viral, drug-induced, and hormonal fac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4 immunological mechanisms of autoimmun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mechanisms cause abnormal B or T cell activ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instances of autoimmune diseases occur with multiple mechanisms, which makes treatment difficul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d &amp; Understand page 470-47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y are women more susceptible than men to autoi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900000" y="5000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ntral and Peripheral Toler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5"/>
          <p:cNvGrpSpPr/>
          <p:nvPr/>
        </p:nvGrpSpPr>
        <p:grpSpPr>
          <a:xfrm>
            <a:off x="685800" y="1486080"/>
            <a:ext cx="7772400" cy="4647960"/>
            <a:chOff x="685800" y="1486080"/>
            <a:chExt cx="7772400" cy="4647960"/>
          </a:xfrm>
        </p:grpSpPr>
        <p:pic>
          <p:nvPicPr>
            <p:cNvPr id="58" name="Picture 2" descr="8233"/>
            <p:cNvPicPr/>
            <p:nvPr/>
          </p:nvPicPr>
          <p:blipFill>
            <a:blip r:embed="rId1"/>
            <a:srcRect l="7500" t="16661" r="7516" b="15575"/>
            <a:stretch/>
          </p:blipFill>
          <p:spPr>
            <a:xfrm>
              <a:off x="685800" y="1486080"/>
              <a:ext cx="7772400" cy="464796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sp>
          <p:nvSpPr>
            <p:cNvPr id="59" name="Text Box 4"/>
            <p:cNvSpPr/>
            <p:nvPr/>
          </p:nvSpPr>
          <p:spPr>
            <a:xfrm>
              <a:off x="6689160" y="2990880"/>
              <a:ext cx="12978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(Absence of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66"/>
                  </a:solidFill>
                  <a:latin typeface="Arial"/>
                </a:rPr>
                <a:t>Co-stimulation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26" descr="8233"/>
          <p:cNvPicPr/>
          <p:nvPr/>
        </p:nvPicPr>
        <p:blipFill>
          <a:blip r:embed="rId1"/>
          <a:srcRect l="7500" t="13333" r="7500" b="11066"/>
          <a:stretch/>
        </p:blipFill>
        <p:spPr>
          <a:xfrm>
            <a:off x="1074600" y="1542960"/>
            <a:ext cx="6993000" cy="4665600"/>
          </a:xfrm>
          <a:prstGeom prst="rect">
            <a:avLst/>
          </a:prstGeom>
          <a:ln w="38160">
            <a:solidFill>
              <a:srgbClr val="33ccff"/>
            </a:solidFill>
            <a:miter/>
          </a:ln>
        </p:spPr>
      </p:pic>
      <p:sp>
        <p:nvSpPr>
          <p:cNvPr id="61" name="Text Box 1027"/>
          <p:cNvSpPr/>
          <p:nvPr/>
        </p:nvSpPr>
        <p:spPr>
          <a:xfrm>
            <a:off x="1941840" y="195120"/>
            <a:ext cx="52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ipheral Tolerance o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 Lymphocyt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5638680" cy="5567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914400" y="228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ipheral B cell Tolerance Mechanis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029320" y="609480"/>
            <a:ext cx="50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utoimmune Dise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49440" y="1828800"/>
            <a:ext cx="784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lf-reactive lymphocytes (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rbidden clon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should be eliminated from the immunological repertoir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77920" y="2743200"/>
            <a:ext cx="8485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eases involving an immunological response to normal tissue – term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toimmunity or autoimmune diseas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68360" y="4508640"/>
            <a:ext cx="814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riginal concept –  the receptors of lymphocytes with specificity for foreign antigens underwent mutation – results in a new class of receptors with specificity for self-antige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Autoimmune Diseases in Human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1619280" y="765000"/>
            <a:ext cx="5905080" cy="5903640"/>
            <a:chOff x="1619280" y="765000"/>
            <a:chExt cx="5905080" cy="5903640"/>
          </a:xfrm>
        </p:grpSpPr>
        <p:pic>
          <p:nvPicPr>
            <p:cNvPr id="70" name="Picture 4" descr="T20-01"/>
            <p:cNvPicPr/>
            <p:nvPr/>
          </p:nvPicPr>
          <p:blipFill>
            <a:blip r:embed="rId1"/>
            <a:stretch/>
          </p:blipFill>
          <p:spPr>
            <a:xfrm>
              <a:off x="1619280" y="765000"/>
              <a:ext cx="5905080" cy="5903640"/>
            </a:xfrm>
            <a:prstGeom prst="rect">
              <a:avLst/>
            </a:prstGeom>
            <a:ln w="57240">
              <a:solidFill>
                <a:srgbClr val="33ccff"/>
              </a:solidFill>
              <a:miter/>
            </a:ln>
          </p:spPr>
        </p:pic>
        <p:pic>
          <p:nvPicPr>
            <p:cNvPr id="71" name="Picture 5" descr="T20-01"/>
            <p:cNvPicPr/>
            <p:nvPr/>
          </p:nvPicPr>
          <p:blipFill>
            <a:blip r:embed="rId2"/>
            <a:srcRect l="18306" t="0" r="0" b="95130"/>
            <a:stretch/>
          </p:blipFill>
          <p:spPr>
            <a:xfrm>
              <a:off x="1795680" y="765000"/>
              <a:ext cx="4824360" cy="28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583200" y="380880"/>
            <a:ext cx="79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athology of Autoimmune Dise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16120" y="1859040"/>
            <a:ext cx="7510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st of the autoimmune diseases attributed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utoantibod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 autoimmune diseases have a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utoreactive T cell compon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ease processes and tissue damage are due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ype 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ype III and Type I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ypersensitivity reac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7:54:27Z</dcterms:created>
  <dc:creator>Valued Gateway Client</dc:creator>
  <dc:description/>
  <dc:language>en-US</dc:language>
  <cp:lastModifiedBy>Dr.Adel</cp:lastModifiedBy>
  <dcterms:modified xsi:type="dcterms:W3CDTF">2009-12-06T05:34:34Z</dcterms:modified>
  <cp:revision>50</cp:revision>
  <dc:subject/>
  <dc:title>PowerPoint Presentation</dc:title>
</cp:coreProperties>
</file>