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1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21.gif" ContentType="image/gif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4F5-013B-4F7F-8B89-4560903170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SHCou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ultural Competency training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edical professionals. CRASH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nemonic for the following essential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culturally competent health care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Culture, show Respect, Assess/Af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s, show Sensitivity and Self-awarenes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do it all with Humility. The goal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ASH-Course in Cultural Competenc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uild confidence and competence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nician’s ability to communicate effectiv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iverse patient popu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1F3-5D4E-452A-B7E5-FFFEC5E7197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: Self-effic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DB6A-0FE4-48BB-9131-78B6D9C733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st can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2206-753A-4EEB-863E-E08E464E0A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ress or singer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ost patients, regardless of thei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acial or ethnic identity, believe th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ealthcare personnel do not resp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m (author’s emphasis). This lack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pect is evidenced by the absence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tive’’ listening when patients a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alking; the inappropriate use of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act and other nonverbal forms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cation; and the absence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asic courtesies, such as not us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r.’’ or ‘‘Mrs.’’ when address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patient by name. Patients als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ceive that healthcare personn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e judgmental and dismissive regard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atients’ customs and belief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ply because they are differ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their own. </a:t>
            </a: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n a multi-cultural clinical setting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health professional can easily initi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dialogue with a patient from anoth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lture in the following manner, ‘‘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ant to make sure I treat you respectfull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w would a doctor greet you in th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mmunity you grew up in? How do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make sure that you feel respected in th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ffice?’’ Based on the patient’s respon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clinician could continue, ‘‘Woul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ose be similar issues for other pati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rom your neighborhood/family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ltural group? Are there things that ou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octors or staff do that make you fe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srespected?’’ Having this convers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ith a patient could begin to estab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 level of trust best upon mutual respe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or each ot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0837-6D39-4E57-8763-67B2128A3F9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FBE-89A5-4134-92B5-9D275225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061-C5A6-4A26-AE74-3EA234B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061-5D36-4C14-BA07-7DE8BDB6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84E-538B-4CA0-9A92-13ED965E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EFCB-CFCD-4E5D-AAA6-46245B06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A2F-93A0-47C2-A70A-E60E13E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EAF-6A79-4D60-8BA7-7EA7275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0CB9-BFA8-403E-BAFB-A478D79E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98A4-ABA4-455B-8032-BB95E9E8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DE5-02F1-4758-BF55-89067B4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7133-B042-40E8-8ADF-040B4809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0BC-DAB4-448C-A989-E198A87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F77A-DA20-4E28-90DE-98EF40AD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BE41-53A1-4C70-87D5-E6453C3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F140-53B9-4F62-9CF0-2E4B45EB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368A-0C6C-4396-B6E8-3C81EC81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6493-8627-4900-A4A5-7DA0BDFF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ECB-3097-43DC-9C1B-D8E0C31F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276-D7F6-4336-A623-5E70E3B0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ACF-2DBA-4C7F-A5BD-689D4EA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8AB-F290-4C85-AA04-70DF1CB1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002-BA74-4A32-88DC-F9839F9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386-F28E-4D55-9D6D-30CD23F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DBD-734C-45BC-868D-2E99E11B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00C6-C6A3-4A1A-96E8-FEA2E416A181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7C95-0391-4DB8-99AC-4C2247473F89}" type="slidenum">
              <a:rPr b="0" lang="en-US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google.com.sa/imgres?q=ALL+THE+BEST&amp;hl=en&amp;safe=active&amp;biw=1152&amp;bih=566&amp;gbv=2&amp;tbm=isch&amp;tbnid=fnRg7fl4vZNbcM:&amp;imgrefurl=http://qiscetmca09.blogspot.com/2010/11/all-best.html&amp;docid=f2nEVg6EopIWKM&amp;w=400&amp;h=353&amp;ei=rb15To2xJMz1sgastcnfDw&amp;zoom=1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8858160" cy="1494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6160" y="4051440"/>
            <a:ext cx="83516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R. KAMRAN SATTA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t. of Medical Educa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t . of Pathology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ollege of Medicine King Saud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43080" y="1976400"/>
            <a:ext cx="8407080" cy="1994040"/>
          </a:xfrm>
          <a:prstGeom prst="rect">
            <a:avLst/>
          </a:prstGeom>
          <a:solidFill>
            <a:srgbClr val="333333">
              <a:alpha val="63000"/>
            </a:srgbClr>
          </a:solidFill>
          <a:ln w="9360">
            <a:solidFill>
              <a:srgbClr val="009dd9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484200" y="2017800"/>
            <a:ext cx="1828800" cy="182880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2543040" y="2009880"/>
            <a:ext cx="1825920" cy="182556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4675320" y="2022480"/>
            <a:ext cx="1800000" cy="1800360"/>
          </a:xfrm>
          <a:prstGeom prst="rect">
            <a:avLst/>
          </a:prstGeom>
          <a:ln w="9360">
            <a:solidFill>
              <a:srgbClr val="009dd9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6738840" y="2087640"/>
            <a:ext cx="1746360" cy="1746000"/>
          </a:xfrm>
          <a:prstGeom prst="rect">
            <a:avLst/>
          </a:prstGeom>
          <a:ln w="28440">
            <a:solidFill>
              <a:srgbClr val="009d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65240"/>
            <a:ext cx="8745480" cy="254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The Centrality Of Patient Physician Relationship To</a:t>
            </a:r>
            <a:br>
              <a:rPr sz="4000"/>
            </a:b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Medical Professionalism</a:t>
            </a:r>
            <a:br>
              <a:rPr sz="29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31840" y="2235240"/>
            <a:ext cx="891216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our Possible Consultation Mode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parent, imam or priest (paternalistic)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….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China /Far East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ment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technician or contract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 as a friend or Counselor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82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nstantia"/>
              </a:rPr>
              <a:t>Dependent on community’s social values and moral norm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PATERNALISTIC MOD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719440" y="3940200"/>
            <a:ext cx="3659040" cy="255276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3720" y="729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9040" y="1866600"/>
            <a:ext cx="828360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Physician 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a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e2d700"/>
                </a:solidFill>
                <a:uFillTx/>
                <a:latin typeface="Constantia"/>
              </a:rPr>
              <a:t> PAR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PATERNALISTIC </a:t>
            </a: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600" spc="-1" strike="noStrike" u="sng">
                <a:solidFill>
                  <a:srgbClr val="92d050"/>
                </a:solidFill>
                <a:uFillTx/>
                <a:latin typeface="Constantia"/>
              </a:rPr>
              <a:t>MODEL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hysicians are in the best position to judge what is best for their patients. In a strong form of this, physicians authoritatively order patients to assent (with coercion if necessary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lturally applicable in </a:t>
            </a: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hinese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ulture and partially in other Far East and South Asian cultur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63280" y="1371240"/>
            <a:ext cx="765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Physician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MENTO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DELIBERATIVE </a:t>
            </a: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Physician objectively knows and prioritizes patient’s personal and medical valu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The physician mentor’s grip on decision making is more relaxed than the physician / parent model but autonomy- conscious patients find it unsatisfactor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Culturally this is an option for some of the patients in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Eastern countri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99520"/>
            <a:ext cx="777240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65240" y="1625760"/>
            <a:ext cx="706104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Physicians   as 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	</a:t>
            </a:r>
            <a:r>
              <a:rPr b="1" i="1" lang="en-US" sz="2800" spc="-1" strike="noStrike" u="sng">
                <a:solidFill>
                  <a:srgbClr val="92d050"/>
                </a:solidFill>
                <a:uFillTx/>
                <a:latin typeface="Constantia"/>
              </a:rPr>
              <a:t>TECHNICIANS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INFORMATIVE ENGINEERING MOD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hysicians only provide value neutral medical information and leaving patients to make decisions independently based on personal values (</a:t>
            </a:r>
            <a:r>
              <a:rPr b="1" lang="en-US" sz="3200" spc="-1" strike="noStrike">
                <a:solidFill>
                  <a:srgbClr val="92d050"/>
                </a:solidFill>
                <a:latin typeface="Constantia"/>
              </a:rPr>
              <a:t>total patient autonomy</a:t>
            </a: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8001000" y="76212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86640" y="901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’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304040" y="4532400"/>
            <a:ext cx="1839960" cy="2325600"/>
          </a:xfrm>
          <a:prstGeom prst="rect">
            <a:avLst/>
          </a:prstGeom>
          <a:ln w="76320">
            <a:solidFill>
              <a:srgbClr val="dbf5f9"/>
            </a:solidFill>
            <a:miter/>
          </a:ln>
          <a:effectLst>
            <a:outerShdw dist="107932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240" y="1676520"/>
            <a:ext cx="61707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Physicians treat diseases rather than patients and sick persons are “Consumers”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ulturally applicable To certain sections of </a:t>
            </a: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estern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and relatively less eastern population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8001000" y="76212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475400" y="90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’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6900840" y="4446720"/>
            <a:ext cx="2243160" cy="2411280"/>
          </a:xfrm>
          <a:prstGeom prst="rect">
            <a:avLst/>
          </a:prstGeom>
          <a:ln w="57240">
            <a:solidFill>
              <a:srgbClr val="dbf5f9"/>
            </a:solidFill>
            <a:miter/>
          </a:ln>
          <a:effectLst>
            <a:outerShdw dist="107932" dir="81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7800" y="-30312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7800" y="1036800"/>
            <a:ext cx="867096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0160" indent="-380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Physician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a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FRIENDS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OR 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	</a:t>
            </a:r>
            <a:r>
              <a:rPr b="1" i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COUNSELLO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INTERPRETIVE/ COLLEGIAL MOD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hysician’s medical facts and patients personal values contribute to balanced medical decision-mak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Upholds patient autonomy without undermining the physician’s duty of beneficenc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Shared decision making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Culturally popular in the W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80160" indent="-38016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Increasingly accepted in the East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7589880" y="8366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2280" y="24444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While providing professional care physician mu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not impose his / her view on a patient’s---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fe style, culture, beliefs, ra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ex, age / sexua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Social status / economic wor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hysicians must be prepared to explain and justif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his / her actions and decisio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629400" y="92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440" y="487080"/>
            <a:ext cx="716292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64960" y="1676520"/>
            <a:ext cx="64216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2040" indent="-392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2d700"/>
                </a:solidFill>
                <a:uFillTx/>
                <a:latin typeface="Constantia"/>
              </a:rPr>
              <a:t>CONFIDENTIA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Confidentiality concept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may not be the same in the East as in the West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dbf5f9"/>
                </a:solidFill>
                <a:latin typeface="Constantia"/>
              </a:rPr>
              <a:t>However its principles are applicable in most setting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392040" indent="-392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226280" y="8161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7088040" y="2779560"/>
            <a:ext cx="2055960" cy="2882880"/>
          </a:xfrm>
          <a:prstGeom prst="rect">
            <a:avLst/>
          </a:prstGeom>
          <a:ln w="76320">
            <a:solidFill>
              <a:srgbClr val="04617b"/>
            </a:solidFill>
            <a:miter/>
          </a:ln>
          <a:effectLst>
            <a:outerShdw dist="153753" dir="2700000" blurRad="0" rotWithShape="0">
              <a:srgbClr val="dbf5f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Special Cultural Issues In Professional Care In Different Parts Of The World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7680" y="1445760"/>
            <a:ext cx="86263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sistence on eye contact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covering of face in some femal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ndressing of female patient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haring of confidential information with spouses, relative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istory taking of female adults from parents or husbands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30120" indent="-330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iving information to patients in a way they can understan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7580160" y="1676520"/>
            <a:ext cx="1343160" cy="1245960"/>
          </a:xfrm>
          <a:prstGeom prst="rect">
            <a:avLst/>
          </a:prstGeom>
          <a:ln w="9360">
            <a:solidFill>
              <a:srgbClr val="dbf5f9"/>
            </a:solidFill>
            <a:miter/>
          </a:ln>
        </p:spPr>
      </p:pic>
      <p:pic>
        <p:nvPicPr>
          <p:cNvPr id="170" name="Picture 9" descr="E:\Desktop\untitled.png"/>
          <p:cNvPicPr/>
          <p:nvPr/>
        </p:nvPicPr>
        <p:blipFill>
          <a:blip r:embed="rId2"/>
          <a:stretch/>
        </p:blipFill>
        <p:spPr>
          <a:xfrm>
            <a:off x="7569360" y="3243240"/>
            <a:ext cx="136512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160" y="550800"/>
            <a:ext cx="8229600" cy="122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Objectives: 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8240" y="1224000"/>
            <a:ext cx="900576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f5f9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Students should be able to understand and describe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1-The role of culture in health  c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2- Different Consultation Model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4- Importance of Respect  to others’ belief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5- PEARLS  Concep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65988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Special 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42640" y="1654200"/>
            <a:ext cx="89010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2d700"/>
                </a:solidFill>
                <a:uFillTx/>
                <a:latin typeface="Constantia"/>
              </a:rPr>
              <a:t>Accepting gifts or other inducement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You should not ask for or accept any material rewards, except those of insignificant value from representatives of pharmaceutical compani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Help with conferences and educational activities may be acceptabl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264440" y="10508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88960" y="65988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71240" y="2057040"/>
            <a:ext cx="6792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2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f5f9"/>
                </a:solidFill>
                <a:latin typeface="Constantia"/>
              </a:rPr>
              <a:t>Physicians must not exploit patient’s vulnerability or lack of medical knowledg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251400" y="1039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8960" y="25884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SSUE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3720" y="1134720"/>
            <a:ext cx="884700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2d700"/>
                </a:solidFill>
                <a:uFillTx/>
                <a:latin typeface="Constantia"/>
              </a:rPr>
              <a:t>RESEARCH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earch should not be contrary to the patient’s interest e.g. exploitation of developing countries patien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earch protocol should be approved by a research ethics committe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is committee may be non existent in many setting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Your conduct in the research must not be influenced by payments or gift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cord your research results truthful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702480" y="631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1439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Context In Under-graduate Medical Education Curriculu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37920" y="2679840"/>
            <a:ext cx="792468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e goal of the curriculum should be to prepare students to care  for patients from diverse social and cultural backgrounds including racial, ethnic and gender biase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Cultural Competenc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Resp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Ass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Sensitivity/ Self Awarenes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Humilit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3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8520" y="1246320"/>
            <a:ext cx="88473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rtnership: Working with the patient to accomplish a shared outcom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pathy: Recognizing and comprehending another’s feelings or experi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alogy: Being willing to acknowledge or express regret for contributing to a patient’s discomfort, distress, or ill feeling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spect: Non-judgmental acceptance of each patient as a unique individual; treating others as you would have them treat you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gitimization: Accepting patient’s feelings or reactions regardless of whether or not you agree with those perception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pport: Expressing willingness to care and be helpful to the patient however you ca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rofessionalism in Different Cultural Contexts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34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lture is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directly related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health promotion, disease prevention, early detection, access to health care, trust and complian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6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ONCLUSION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4160" y="1473120"/>
            <a:ext cx="86580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atients are entitled to good standards of professional practice and care in all cultural setting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The essential elements of this medical professionalism are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1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Professional competenc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2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Good relationship with patients and colleagu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3 -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Observance of professional ethical obligatio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f5f9"/>
                </a:solidFill>
                <a:latin typeface="Constantia"/>
              </a:rPr>
              <a:t>Medical teachers should be a role model’ in application of these essential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4f7dc"/>
                </a:solidFill>
                <a:latin typeface="Calibri"/>
              </a:rPr>
              <a:t>Summary</a:t>
            </a: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 must learn to demonstrate our respect to individual patients in ways that each person will receive or perceive as being respectful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851960" cy="106668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2" descr=""/>
          <p:cNvPicPr/>
          <p:nvPr/>
        </p:nvPicPr>
        <p:blipFill>
          <a:blip r:embed="rId2"/>
          <a:stretch/>
        </p:blipFill>
        <p:spPr>
          <a:xfrm>
            <a:off x="536400" y="3230640"/>
            <a:ext cx="7974360" cy="1749240"/>
          </a:xfrm>
          <a:prstGeom prst="rect">
            <a:avLst/>
          </a:prstGeom>
          <a:ln w="0">
            <a:noFill/>
          </a:ln>
        </p:spPr>
      </p:pic>
      <p:pic>
        <p:nvPicPr>
          <p:cNvPr id="194" name="rg_hi" descr="http://t0.gstatic.com/images?q=tbn:ANd9GcQtZVqWJQm8I5qn16DBMp1tM_xSAGaLvtiRqXen13CAGRTwGzX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765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Users\Kamran\Pictures\imagesCAXJJY1Z.jpg"/>
          <p:cNvPicPr/>
          <p:nvPr/>
        </p:nvPicPr>
        <p:blipFill>
          <a:blip r:embed="rId5"/>
          <a:stretch/>
        </p:blipFill>
        <p:spPr>
          <a:xfrm>
            <a:off x="4876920" y="1676520"/>
            <a:ext cx="3828960" cy="3657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vista\Pictures\MM900284065[1].GIF"/>
          <p:cNvPicPr/>
          <p:nvPr/>
        </p:nvPicPr>
        <p:blipFill>
          <a:blip r:embed="rId6"/>
          <a:stretch/>
        </p:blipFill>
        <p:spPr>
          <a:xfrm>
            <a:off x="3581280" y="457200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600" y="798480"/>
            <a:ext cx="8477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Cultural Influences On 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05272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haracteristics of Professionalism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mpet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Attitud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Conduct on the job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5121360" y="3571920"/>
            <a:ext cx="2925720" cy="195264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880" y="690120"/>
            <a:ext cx="897876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f3ca"/>
                </a:solidFill>
                <a:latin typeface="Constantia"/>
              </a:rPr>
              <a:t>Attitudes Central To Medical Professionalism In Cultural Context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8360" y="2190600"/>
            <a:ext cx="87804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umility </a:t>
            </a:r>
            <a:r>
              <a:rPr b="1" lang="ar-SA" sz="3200" spc="-1" strike="noStrike">
                <a:solidFill>
                  <a:srgbClr val="ffffff"/>
                </a:solidFill>
                <a:latin typeface="Constantia"/>
                <a:cs typeface="Majalla UI"/>
              </a:rPr>
              <a:t>تواض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Empathy </a:t>
            </a:r>
            <a:r>
              <a:rPr b="1" lang="ar-SA" sz="3200" spc="-1" strike="noStrike">
                <a:solidFill>
                  <a:srgbClr val="ffffff"/>
                </a:solidFill>
                <a:latin typeface="Constantia"/>
                <a:cs typeface="Majalla UI"/>
              </a:rPr>
              <a:t>تعاط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espec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ensitiv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urios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wareness of all outside influences including cultural  on patients health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14440"/>
            <a:ext cx="8143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Focusing On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Knowledge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 Cultural Context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2920" y="1968120"/>
            <a:ext cx="882504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t is important for a medical student or post graduate  trainee to learn about the surrounding community in which he/she practices or train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.g. Socio economic status, patterns of housing  nutritional habits, healing practices and disease incidence and prevalenc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knowledge taught has specific evidence based impact on health care deliver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85000" indent="-5850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Constantia"/>
              </a:rPr>
              <a:t>How Ramadan fasting affects Muslims who are diabetic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9520" y="473040"/>
            <a:ext cx="8143920" cy="13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Focusing On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Skills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 Cultural Context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8360" y="2216160"/>
            <a:ext cx="87249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t is crucial to understand health beliefs of those who come from different cultures or have different health care experienc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8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Medical Professionalism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1509840"/>
            <a:ext cx="792180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Three fundamental principle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tient welfa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Patient autonomy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nstantia"/>
              </a:rPr>
              <a:t>Social justic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5835600" y="3770280"/>
            <a:ext cx="2814840" cy="27050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04617b">
                <a:alpha val="50000"/>
              </a:srgbClr>
            </a:outerShdw>
          </a:effectLst>
        </p:spPr>
      </p:pic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7024680" y="1612800"/>
            <a:ext cx="1428840" cy="2762280"/>
          </a:xfrm>
          <a:prstGeom prst="rect">
            <a:avLst/>
          </a:prstGeom>
          <a:ln w="76320">
            <a:solidFill>
              <a:srgbClr val="ff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3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Patient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Welfare</a:t>
            </a: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 Including </a:t>
            </a: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Autonomy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2440" y="1501560"/>
            <a:ext cx="83520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rofessional competenc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Honesty with patients -- integr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Patient confidentiality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aring attitud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cientific knowledg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Maintaining trus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Setting and maintaining professional standard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f3ca"/>
                </a:solidFill>
                <a:latin typeface="Constantia"/>
              </a:rPr>
              <a:t>Social Justice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8000" y="1401840"/>
            <a:ext cx="6753240" cy="56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A just distribution of resourc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Managing conflict of interes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Improving quality and access to care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Respect for colleagu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5" descr="justice"/>
          <p:cNvPicPr/>
          <p:nvPr/>
        </p:nvPicPr>
        <p:blipFill>
          <a:blip r:embed="rId1"/>
          <a:stretch/>
        </p:blipFill>
        <p:spPr>
          <a:xfrm>
            <a:off x="6721560" y="1987560"/>
            <a:ext cx="2260440" cy="3422520"/>
          </a:xfrm>
          <a:prstGeom prst="rect">
            <a:avLst/>
          </a:prstGeom>
          <a:ln w="57240">
            <a:solidFill>
              <a:srgbClr val="ffcc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7:21:47Z</dcterms:created>
  <dc:creator>sultan.dossani</dc:creator>
  <dc:description/>
  <dc:language>en-US</dc:language>
  <cp:lastModifiedBy>Zubaidh Aldakheel</cp:lastModifiedBy>
  <dcterms:modified xsi:type="dcterms:W3CDTF">2016-02-17T04:56:45Z</dcterms:modified>
  <cp:revision>87</cp:revision>
  <dc:subject/>
  <dc:title>PROFESSIONALISM IN A CULTURAL CONTEXT </dc:title>
</cp:coreProperties>
</file>