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1D0-7402-4365-9525-8B9168B8CD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SH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ultural Competency training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edical professionals. CRASH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nemonic for the following essential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culturally competent health care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Culture, show Respect, Assess/Af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s, show Sensitivity and Self-awarenes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it all with Humility. The goal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ASH-Course in Cultural Competenc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uild confidence and competence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nician’s ability to communicate eff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iverse patient popu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E65-F38B-4BE8-AA65-A746B80578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: Self-effic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108-A937-434C-AB09-BD3D8103A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st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43A-DB6C-43BA-AD7E-C4C15D629D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ress or singer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st patients, regardless of the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cial or ethnic identity, believe th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ealthcare personnel do not resp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m (author’s emphasis). This lack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pect is evidenced by the absence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ive’’ listening when patients a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alking; the inappropriate use of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act and other nonverbal forms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cation; and the absence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sic courtesies, such as not us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r.’’ or ‘‘Mrs.’’ when address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patient by name. Patients als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ceive that healthcare personn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e judgmental and dismissive regar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tients’ customs and belief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ply because they are differ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their own. 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n a multi-cultural clinical setting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health professional can easily initi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dialogue with a patient from anoth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lture in the following manner, ‘‘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nt to make sure I treat you respectfull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w would a doctor greet you in t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ty you grew up in? How do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ke sure that you feel respected in th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ffice?’’ Based on the patient’s respon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clinician could continue, ‘‘Wou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ose be similar issues for other pati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your neighborhood/family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ltural group? Are there things that o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ctors or staff do that make you fe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srespected?’’ Having this convers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th a patient could begin to estab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level of trust best upon mutual resp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each ot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5596-3B33-4362-AA82-8FE5DCA9B6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A36-F483-4FDF-8EE1-8095DEAD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364-B1FF-4F4D-9BE4-2FA896E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7DD-D41F-472C-9022-D51867CB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05A-2D89-4261-BC31-ECD40423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C140-84D6-4080-9D2D-0E63619D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7E20-F46C-414B-8413-AE7465B6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DF7-DD77-4CB7-B8B0-777ECF5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F7E1-2A00-4F9E-A65E-453DAE9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57D3-46AB-4821-9B5B-2E37509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C05-EE6D-40B2-B35E-1A8ABEC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0F85-87EB-4507-A1BB-1D73BCD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337-BFCF-4920-B742-934B2919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4DFE-6A48-4AF2-9622-D582611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785-5568-4472-9702-E3615BC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BAE0-4FB8-4EC1-AB0B-42E91AA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AF4-7167-4AA8-A718-6F14CCA3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ABE8-DA9D-4B9E-BA7E-1E449A5D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B87-40BE-4A1E-8B09-6E0F3B0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FE8-DDE8-4EFF-B9F2-4D0D8EC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BBD-DE84-4E5B-837F-4B762EB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890-E7AA-4EB0-9CB9-A34B5CD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E89-264B-43AE-8B89-CDD5221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240-C70C-4F33-A134-728D516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3A8-D950-41FB-91FF-2BB8D2E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C8C-0BFF-4914-A34B-2A49A9D33D1E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E5B-2708-47A4-9A48-A384055D589F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google.com.sa/imgres?q=ALL+THE+BEST&amp;hl=en&amp;safe=active&amp;biw=1152&amp;bih=566&amp;gbv=2&amp;tbm=isch&amp;tbnid=fnRg7fl4vZNbcM:&amp;imgrefurl=http://qiscetmca09.blogspot.com/2010/11/all-best.html&amp;docid=f2nEVg6EopIWKM&amp;w=400&amp;h=353&amp;ei=rb15To2xJMz1sgastcnfDw&amp;zoom=1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1494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6160" y="4051440"/>
            <a:ext cx="83516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R. KAMRAN SATTA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t. of Medical Educ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t . of Pathology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ollege of Medicine King Saud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43080" y="1976400"/>
            <a:ext cx="8407080" cy="1994040"/>
          </a:xfrm>
          <a:prstGeom prst="rect">
            <a:avLst/>
          </a:prstGeom>
          <a:solidFill>
            <a:srgbClr val="333333">
              <a:alpha val="63000"/>
            </a:srgbClr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84200" y="2017800"/>
            <a:ext cx="1828800" cy="182880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2543040" y="2009880"/>
            <a:ext cx="1825920" cy="182556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4675320" y="2022480"/>
            <a:ext cx="1800000" cy="180036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6738840" y="2087640"/>
            <a:ext cx="1746360" cy="1746000"/>
          </a:xfrm>
          <a:prstGeom prst="rect">
            <a:avLst/>
          </a:prstGeom>
          <a:ln w="28440">
            <a:solidFill>
              <a:srgbClr val="009d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65240"/>
            <a:ext cx="874548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The Centrality Of Patient Physician Relationship To</a:t>
            </a:r>
            <a:br>
              <a:rPr sz="4000"/>
            </a:b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Medical Professionalism</a:t>
            </a:r>
            <a:br>
              <a:rPr sz="29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1840" y="2235240"/>
            <a:ext cx="89121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ur Possible Consultation Mode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parent, imam or priest (paternalistic)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….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China /Far East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ment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technician or contract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friend or Counsel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82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stantia"/>
              </a:rPr>
              <a:t>Dependent on community’s social values and moral norm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PATERNALISTIC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719440" y="3940200"/>
            <a:ext cx="3659040" cy="25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3720" y="72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9040" y="1866600"/>
            <a:ext cx="8283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Physician 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a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 PA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PATERNALISTIC </a:t>
            </a: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MODEL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hysicians are in the best position to judge what is best for their patients. In a strong form of this, physicians authoritatively order patients to assent (with coercion if necessary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lturally applicable in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hinese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lture and partially in other Far East and South Asian cultur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63280" y="1371240"/>
            <a:ext cx="765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Physician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ENTO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DELIBERATIVE </a:t>
            </a: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Physician objectively knows and prioritizes patient’s personal and medical valu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The physician mentor’s grip on decision making is more relaxed than the physician / parent model but autonomy- conscious patients find it unsatisfactor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Culturally this is an option for some of the patients in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Eastern countri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99520"/>
            <a:ext cx="77724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5240" y="1625760"/>
            <a:ext cx="706104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Physicians   as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TECHNICIAN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NFORMATIVE ENGINEERING MOD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s only provide value neutral medical information and leaving patients to make decisions independently based on personal values (</a:t>
            </a:r>
            <a:r>
              <a:rPr b="1" lang="en-US" sz="3200" spc="-1" strike="noStrike">
                <a:solidFill>
                  <a:srgbClr val="92d050"/>
                </a:solidFill>
                <a:latin typeface="Constantia"/>
              </a:rPr>
              <a:t>total patient autonomy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001000" y="76212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86640" y="901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’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304040" y="4532400"/>
            <a:ext cx="1839960" cy="2325600"/>
          </a:xfrm>
          <a:prstGeom prst="rect">
            <a:avLst/>
          </a:prstGeom>
          <a:ln w="76320">
            <a:solidFill>
              <a:srgbClr val="dbf5f9"/>
            </a:solidFill>
            <a:miter/>
          </a:ln>
          <a:effectLst>
            <a:outerShdw dist="107932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240" y="1676520"/>
            <a:ext cx="61707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hysicians treat diseases rather than patients and sick persons are “Consumers”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ulturally applicable To certain sections of </a:t>
            </a: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estern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and relatively less eastern popula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001000" y="76212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475400" y="90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’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6900840" y="4446720"/>
            <a:ext cx="2243160" cy="2411280"/>
          </a:xfrm>
          <a:prstGeom prst="rect">
            <a:avLst/>
          </a:prstGeom>
          <a:ln w="57240">
            <a:solidFill>
              <a:srgbClr val="dbf5f9"/>
            </a:solidFill>
            <a:miter/>
          </a:ln>
          <a:effectLst>
            <a:outerShdw dist="107932" dir="81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7800" y="-3031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7800" y="1036800"/>
            <a:ext cx="86709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0160" indent="-380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Physician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FRIEND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OR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COUNSELLO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INTERPRETIVE/ COLLEGIAL MOD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hysician’s medical facts and patients personal values contribute to balanced medical decision-mak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Upholds patient autonomy without undermining the physician’s duty of beneficen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Shared decision mak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Culturally popular in the W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Increasingly accepted in the East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589880" y="836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2280" y="24444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hile providing professional care physician mu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ot impose his / her view on a patient’s---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fe style, culture, beliefs, ra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ex, age / sexua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ocial status / economic wor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hysicians must be prepared to explain and justif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is / her actions and decisio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629400" y="92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440" y="487080"/>
            <a:ext cx="716292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4960" y="1676520"/>
            <a:ext cx="6421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-392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CONFIDENTIA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Confidentiality concept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may not be the same in the East as in the West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However its principles are applicable in most setting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226280" y="816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7088040" y="2779560"/>
            <a:ext cx="2055960" cy="2882880"/>
          </a:xfrm>
          <a:prstGeom prst="rect">
            <a:avLst/>
          </a:prstGeom>
          <a:ln w="76320">
            <a:solidFill>
              <a:srgbClr val="04617b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Special Cultural Issues In Professional Care In Different Parts Of The World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7680" y="1445760"/>
            <a:ext cx="86263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sistence on eye contac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covering of face in some fem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dressing of female patient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aring of confidential information with spouses, relative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istory taking of female adults from parents or husband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iving information to patients in a way they can understan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7580160" y="1676520"/>
            <a:ext cx="1343160" cy="124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70" name="Picture 9" descr="E:\Desktop\untitled.png"/>
          <p:cNvPicPr/>
          <p:nvPr/>
        </p:nvPicPr>
        <p:blipFill>
          <a:blip r:embed="rId2"/>
          <a:stretch/>
        </p:blipFill>
        <p:spPr>
          <a:xfrm>
            <a:off x="7569360" y="3243240"/>
            <a:ext cx="1365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160" y="55080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Objectives: 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8240" y="1224000"/>
            <a:ext cx="90057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Students should be able to understand and describe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1-The role of culture in health  c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2- Different Consultation Model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4- Importance of Respect  to others’ belief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5- PEARLS  Concep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65988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Special 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42640" y="1654200"/>
            <a:ext cx="89010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2d700"/>
                </a:solidFill>
                <a:uFillTx/>
                <a:latin typeface="Constantia"/>
              </a:rPr>
              <a:t>Accepting gifts or other inducemen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You should not ask for or accept any material rewards, except those of insignificant value from representatives of pharmaceutical compani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Help with conferences and educational activities may be acceptab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264440" y="1050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88960" y="65988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71240" y="2057040"/>
            <a:ext cx="6792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2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Physicians must not exploit patient’s vulnerability or lack of medical knowledg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251400" y="1039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8960" y="25884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3720" y="1134720"/>
            <a:ext cx="8847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2d700"/>
                </a:solidFill>
                <a:uFillTx/>
                <a:latin typeface="Constanti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earch should not be contrary to the patient’s interest e.g. exploitation of developing countries patien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earch protocol should be approved by a research ethics committe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is committee may be non existent in many setting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Your conduct in the research must not be influenced by payments or gif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cord your research results truthful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702480" y="631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1439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Context In Under-graduate Medical Education Curriculu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37920" y="2679840"/>
            <a:ext cx="792468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e goal of the curriculum should be to prepare students to care  for patients from diverse social and cultural backgrounds including racial, ethnic and gender bias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Cultural Competenc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p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Sensitivity/ Self Awaren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Humi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3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8520" y="1246320"/>
            <a:ext cx="88473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rtnership: Working with the patient to accomplish a shared outco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pathy: Recognizing and comprehending another’s feelings or 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logy: Being willing to acknowledge or express regret for contributing to a patient’s discomfort, distress, or ill feeling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spect: Non-judgmental acceptance of each patient as a unique individual; treating others as you would have them treat yo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gitimization: Accepting patient’s feelings or reactions regardless of whether or not you agree with those perception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pport: Expressing willingness to care and be helpful to the patient however you ca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34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lture is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directly related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health promotion, disease prevention, early detection, access to health care, trust and compli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6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ONCLUSION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4160" y="1473120"/>
            <a:ext cx="86580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atients are entitled to good standards of professional practice and care in all cultural setting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e essential elements of this medical professionalism are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1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rofessional compet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2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Good relationship with patients and colleagu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3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Observance of professional ethical obligatio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Medical teachers should be a role model’ in application of these essential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4f7dc"/>
                </a:solidFill>
                <a:latin typeface="Calibri"/>
              </a:rPr>
              <a:t>Summary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 must learn to demonstrate our respect to individual patients in ways that each person will receive or perceive as being respectful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851960" cy="106668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2" descr=""/>
          <p:cNvPicPr/>
          <p:nvPr/>
        </p:nvPicPr>
        <p:blipFill>
          <a:blip r:embed="rId2"/>
          <a:stretch/>
        </p:blipFill>
        <p:spPr>
          <a:xfrm>
            <a:off x="536400" y="3230640"/>
            <a:ext cx="7974360" cy="1749240"/>
          </a:xfrm>
          <a:prstGeom prst="rect">
            <a:avLst/>
          </a:prstGeom>
          <a:ln w="0">
            <a:noFill/>
          </a:ln>
        </p:spPr>
      </p:pic>
      <p:pic>
        <p:nvPicPr>
          <p:cNvPr id="194" name="rg_hi" descr="http://t0.gstatic.com/images?q=tbn:ANd9GcQtZVqWJQm8I5qn16DBMp1tM_xSAGaLvtiRqXen13CAGRTwGzX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765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Kamran\Pictures\imagesCAXJJY1Z.jpg"/>
          <p:cNvPicPr/>
          <p:nvPr/>
        </p:nvPicPr>
        <p:blipFill>
          <a:blip r:embed="rId5"/>
          <a:stretch/>
        </p:blipFill>
        <p:spPr>
          <a:xfrm>
            <a:off x="4876920" y="1676520"/>
            <a:ext cx="3828960" cy="3657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vista\Pictures\MM900284065[1].GIF"/>
          <p:cNvPicPr/>
          <p:nvPr/>
        </p:nvPicPr>
        <p:blipFill>
          <a:blip r:embed="rId6"/>
          <a:stretch/>
        </p:blipFill>
        <p:spPr>
          <a:xfrm>
            <a:off x="3581280" y="457200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798480"/>
            <a:ext cx="8477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05272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haracteristics of Professionalis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mpet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ttit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duct on the job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121360" y="3571920"/>
            <a:ext cx="2925720" cy="1952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690120"/>
            <a:ext cx="89787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Attitudes Central To Medical Professionalism In Cultural Context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8360" y="2190600"/>
            <a:ext cx="87804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umility </a:t>
            </a:r>
            <a:r>
              <a:rPr b="1" lang="ar-SA" sz="3200" spc="-1" strike="noStrike">
                <a:solidFill>
                  <a:srgbClr val="ffffff"/>
                </a:solidFill>
                <a:latin typeface="Constantia"/>
                <a:cs typeface="Majalla UI"/>
              </a:rPr>
              <a:t>تواض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mpathy </a:t>
            </a:r>
            <a:r>
              <a:rPr b="1" lang="ar-SA" sz="3200" spc="-1" strike="noStrike">
                <a:solidFill>
                  <a:srgbClr val="ffffff"/>
                </a:solidFill>
                <a:latin typeface="Constantia"/>
                <a:cs typeface="Majalla UI"/>
              </a:rPr>
              <a:t>تعاط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espec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ensitiv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urios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wareness of all outside influences including cultural  on patients health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14440"/>
            <a:ext cx="8143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Focusing On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Knowledge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 Cultural Context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2920" y="1968120"/>
            <a:ext cx="882504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t is important for a medical student or post graduate  trainee to learn about the surrounding community in which he/she practices or train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.g. Socio economic status, patterns of housing  nutritional habits, healing practices and disease incidence and prevalenc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knowledge taught has specific evidence based impact on health care deliver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How Ramadan fasting affects Muslims who are diabetic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9520" y="473040"/>
            <a:ext cx="8143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Focusing On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Skills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 Cultural Context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8360" y="2216160"/>
            <a:ext cx="87249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t is crucial to understand health beliefs of those who come from different cultures or have different health care experienc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8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1509840"/>
            <a:ext cx="79218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Three fundamental principle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tient welf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tient autonom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ocial justic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5835600" y="3770280"/>
            <a:ext cx="2814840" cy="27050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7024680" y="1612800"/>
            <a:ext cx="1428840" cy="27622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atient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Welfare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cluding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Autonomy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2440" y="1501560"/>
            <a:ext cx="8352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rofessional compete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onesty with patients -- integr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atient confidential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aring attitud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cientific knowledg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Maintaining trus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etting and maintaining professional standard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Social Justice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8000" y="1401840"/>
            <a:ext cx="675324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 just distribution of resourc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Managing conflict of interes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mproving quality and access to ca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espect for colleagu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5" descr="justice"/>
          <p:cNvPicPr/>
          <p:nvPr/>
        </p:nvPicPr>
        <p:blipFill>
          <a:blip r:embed="rId1"/>
          <a:stretch/>
        </p:blipFill>
        <p:spPr>
          <a:xfrm>
            <a:off x="6721560" y="1987560"/>
            <a:ext cx="2260440" cy="3422520"/>
          </a:xfrm>
          <a:prstGeom prst="rect">
            <a:avLst/>
          </a:prstGeom>
          <a:ln w="57240">
            <a:solidFill>
              <a:srgbClr val="ffcc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7:21:47Z</dcterms:created>
  <dc:creator>sultan.dossani</dc:creator>
  <dc:description/>
  <dc:language>en-US</dc:language>
  <cp:lastModifiedBy>Zubaidh Aldakheel</cp:lastModifiedBy>
  <dcterms:modified xsi:type="dcterms:W3CDTF">2016-02-17T04:56:45Z</dcterms:modified>
  <cp:revision>87</cp:revision>
  <dc:subject/>
  <dc:title>PROFESSIONALISM IN A CULTURAL CONTEXT </dc:title>
</cp:coreProperties>
</file>