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5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1.gif" ContentType="image/gif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57400" y="-360"/>
            <a:ext cx="2950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44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57400" y="9330840"/>
            <a:ext cx="2950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44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C7CE-1407-4C0A-B325-1767D39104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144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8452-FA76-47CB-A402-F97B96C343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44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7AEB-A8BC-4E14-A663-29918623862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5200" y="4675320"/>
            <a:ext cx="50115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Lowden (19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Disclosure can affect the long-term health of the patient, influencing the way the person adjusts to living with cancer. The studies of psycho-immunology provide evidence for the possible ways in which this can effect survival. It is therefore suggesting that breaking bad news can be a form of health promotion. So lets look at breaking bad news the “ healthy way</a:t>
            </a:r>
            <a:r>
              <a:rPr b="0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628-8583-4201-BB14-BBB99F00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9FE-0313-4513-8A1C-3249C51F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5E6-5DF7-4D24-B2A1-DB30BFBE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6AD-13C7-4823-BA32-F1FDAA11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F0BC-3281-4FF1-8B74-EE67710D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C8EB-D336-4BEE-A60C-C8A3276F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09D0-D401-4E04-B3DF-AB91E11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5B17-FC73-4542-B120-94AF4EC7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7EF-70EB-460C-B8F5-B10FDE9D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F51A-BC6A-411E-90C7-93E14693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B9B-C3A8-423F-82F0-333647A3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960-21E2-4227-901A-B02E53BD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6D25-D14F-4C6B-BBF2-F3C7AE7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854A-E116-4EE7-8DED-48808DC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1761-C58E-4203-9893-6C86D6AB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97F0-CFB9-413D-AA90-6F371EDE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7A90-44A3-4D4E-B7A2-A2692821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0A23-4C57-4375-9CF2-D04603F7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1B66-0571-4217-854D-C723D071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38AE-1040-46C7-BFD5-C875D69B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2DA0-4612-4407-9867-388200DB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4621-9E50-47B2-8725-4EC5816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5FC-892B-44EA-B0A2-95471C8D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0C89-2A50-4E10-8D9D-2864802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F7A5-F2C5-481A-B7F3-5D90B03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DEA6-E505-4124-890D-3109CAC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28B4-4C49-4D97-945E-3FF171B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3BF8-5601-4EA8-AD68-1ADDEAEB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5A8E-BEB3-4904-8195-BCC0F3DD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BB3B-CB59-4344-A272-B264104E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6703-7FEC-45BA-B775-03D74DB6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D4D6-82B6-489F-8FBC-DCEC6AE7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9F29-9894-47DA-BE0A-6EAEA332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CA1-3C1F-4412-BF53-19A31CED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12012-B4DA-40FA-80B2-DB36151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5A37-F8D6-4312-A000-20143B6E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035F-BFB9-4330-81C1-74CE6649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8211-32AD-43E7-AE00-94AE2BD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296C4-83DD-4D31-A0DC-4D9A693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AFD19-9CBA-4D84-A1AE-05813D8E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D132-0BBD-49E3-8C13-04006A2F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0346-D659-48AF-B69B-F533FF45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36FB-54D6-4BEB-8714-07450327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7D7-5197-4BC9-9FDA-8EA703F2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55B-321E-43BD-9F32-FE939162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66F-E122-4052-840F-891AA70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229-2119-4E8B-BCD5-5A84D2BF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C69-B564-4DD8-A022-88978E4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C7DD-186F-4349-91A3-133CA32F17EF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88E2-45E8-40C8-A15A-2099314BA1A6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580B-44FE-49A3-AD13-1F4C535AA4D5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940D-4A58-4E97-93AF-BB44969576AF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65280" y="1054080"/>
            <a:ext cx="7772400" cy="1225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haroni"/>
                <a:ea typeface="Aharoni"/>
              </a:rPr>
              <a:t>PROF.HANAN HABIB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haroni"/>
                <a:ea typeface="Aharoni"/>
              </a:rPr>
              <a:t>&amp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haroni"/>
                <a:ea typeface="Aharoni"/>
              </a:rPr>
              <a:t>DR.KAMRAN SATTA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C:\Users\Dr. Kamran\Desktop\images.jpg"/>
          <p:cNvPicPr/>
          <p:nvPr/>
        </p:nvPicPr>
        <p:blipFill>
          <a:blip r:embed="rId2"/>
          <a:stretch/>
        </p:blipFill>
        <p:spPr>
          <a:xfrm>
            <a:off x="2916360" y="2133720"/>
            <a:ext cx="3527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Challeng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a difficult task because;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8000" y="2133360"/>
            <a:ext cx="88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is frequent and stressfu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ost patients want to know the tru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truth is unpleasant and will upset the pati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are anxious and fear negative eval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How should 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Bad News 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be delivered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1483920"/>
            <a:ext cx="87854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A . The 6 Step Protocol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etting started  (getting the setting righ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What does the patient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How much does the patient want to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roviding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Responding to patient and family feel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lanning and follow 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Steps 1-3 </a:t>
            </a: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: </a:t>
            </a: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Step 4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Delivering the new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Steps 5 &amp; 6 </a:t>
            </a:r>
            <a:r>
              <a:rPr b="0" lang="en-US" sz="1800" spc="-1" strike="noStrike">
                <a:solidFill>
                  <a:srgbClr val="00b050"/>
                </a:solidFill>
                <a:latin typeface="Constantia"/>
              </a:rPr>
              <a:t>:  </a:t>
            </a:r>
            <a:r>
              <a:rPr b="0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Response to patient reaction &amp; Care Pl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170028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.Prepare </a:t>
            </a:r>
            <a:r>
              <a:rPr b="1" i="1" lang="en-GB" sz="2400" spc="-1" strike="noStrike">
                <a:solidFill>
                  <a:srgbClr val="00b050"/>
                </a:solidFill>
                <a:latin typeface="Constantia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.Prepare </a:t>
            </a:r>
            <a:r>
              <a:rPr b="1" i="1" lang="en-GB" sz="2400" spc="-1" strike="noStrike">
                <a:solidFill>
                  <a:srgbClr val="00b050"/>
                </a:solidFill>
                <a:latin typeface="Constantia"/>
              </a:rPr>
              <a:t>Your Set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3.Prepare </a:t>
            </a:r>
            <a:r>
              <a:rPr b="1" i="1" lang="en-GB" sz="2400" spc="-1" strike="noStrike">
                <a:solidFill>
                  <a:srgbClr val="00b050"/>
                </a:solidFill>
                <a:latin typeface="Constantia"/>
              </a:rPr>
              <a:t>Your Pat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C:\Users\user\Desktop\ihatetotellyoubut (1)2.gif"/>
          <p:cNvPicPr/>
          <p:nvPr/>
        </p:nvPicPr>
        <p:blipFill>
          <a:blip r:embed="rId1"/>
          <a:stretch/>
        </p:blipFill>
        <p:spPr>
          <a:xfrm>
            <a:off x="6012000" y="1700280"/>
            <a:ext cx="28573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Preparation : </a:t>
            </a:r>
            <a:br>
              <a:rPr sz="2900"/>
            </a:b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1.(Prepare Yourself)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440" y="2852640"/>
            <a:ext cx="9134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ew the patient's history and know about possible managem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actice the interview for possible questions and answ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ves can be present, but , follow the patient’s wi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Preparation :</a:t>
            </a:r>
            <a:br>
              <a:rPr sz="2600"/>
            </a:b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2. (Prepare Your Setting)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2637000"/>
            <a:ext cx="9036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range to meet in a quiet roo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sure that you are not going to be disturb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recently examined allow him/her to dress before the intervie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Preparation :</a:t>
            </a:r>
            <a:br>
              <a:rPr sz="2600"/>
            </a:b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3.(Prepare Your Patient)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1680" y="2176200"/>
            <a:ext cx="671832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onstantia"/>
              </a:rPr>
              <a:t>Try first to focus on 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at do they know already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at do they want to know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ome patients do not want deta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Always build up gradual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6" descr="D:\PFiles\MSOffice\Clipart\homeanim\ag00039_.gif"/>
          <p:cNvPicPr/>
          <p:nvPr/>
        </p:nvPicPr>
        <p:blipFill>
          <a:blip r:embed="rId1"/>
          <a:stretch/>
        </p:blipFill>
        <p:spPr>
          <a:xfrm>
            <a:off x="7300800" y="1773360"/>
            <a:ext cx="1629000" cy="140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WINDOWS\Profiles\Dad\Application Data\Microsoft\Media Catalog\Downloaded Clips\cl5d\j0234686.gif"/>
          <p:cNvPicPr/>
          <p:nvPr/>
        </p:nvPicPr>
        <p:blipFill>
          <a:blip r:embed="rId2"/>
          <a:stretch/>
        </p:blipFill>
        <p:spPr>
          <a:xfrm>
            <a:off x="7281720" y="4005360"/>
            <a:ext cx="18241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Delivering the News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560" y="2060640"/>
            <a:ext cx="8699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simple language, listen, follow verbal and non-verbal c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at level of understanding and vocabulary of the patie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void excessive bluntness, it may leave the patient isolated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 the tone. e.g. "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am afraid I have some bad new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1644480" y="1382760"/>
            <a:ext cx="55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Always Remember 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C:\Users\Dr. Kamran\Desktop\download.jpg"/>
          <p:cNvPicPr/>
          <p:nvPr/>
        </p:nvPicPr>
        <p:blipFill>
          <a:blip r:embed="rId1"/>
          <a:stretch/>
        </p:blipFill>
        <p:spPr>
          <a:xfrm>
            <a:off x="3011400" y="4869000"/>
            <a:ext cx="2809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Delivering the News. Cont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916280"/>
            <a:ext cx="8447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Give the information in small chun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void using hopelessness term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Be truthful, gentle and courteo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ffer hop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hasize the positi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llow question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Response to Reaction &amp; Care Plan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141264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GB" sz="2800" spc="-1" strike="noStrike">
                <a:solidFill>
                  <a:srgbClr val="c00000"/>
                </a:solidFill>
                <a:latin typeface="Constantia"/>
              </a:rPr>
              <a:t>Respond to Patient &amp; Family Feeling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cknowledge the emotions experienced by the patient and if a patient is silent use open questions, e.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i="1" lang="en-GB" sz="2000" spc="-1" strike="noStrike">
                <a:solidFill>
                  <a:srgbClr val="000000"/>
                </a:solidFill>
                <a:latin typeface="Constantia"/>
              </a:rPr>
              <a:t>How are you feeling now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?“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llow the patient and family time to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press their emotions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nd let the patient know you understand and acknowledge their emo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Response to reaction &amp; Care Plan. cont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920" y="1484280"/>
            <a:ext cx="6719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n't leave the patient confus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ovide a clear care plan with treatment option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Identify support systems; involve relatives and frien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ffer to meet and talk to the family if not presen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ke written materials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ummaris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6" descr="D:\PFiles\MSOffice\Clipart\standard\stddir1\bd06785_.wmf"/>
          <p:cNvPicPr/>
          <p:nvPr/>
        </p:nvPicPr>
        <p:blipFill>
          <a:blip r:embed="rId1"/>
          <a:stretch/>
        </p:blipFill>
        <p:spPr>
          <a:xfrm>
            <a:off x="7308720" y="1557360"/>
            <a:ext cx="1533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4617b"/>
                </a:solidFill>
                <a:latin typeface="Calibri"/>
              </a:rPr>
              <a:t>After the Interview: </a:t>
            </a:r>
            <a:br>
              <a:rPr sz="2300"/>
            </a:br>
            <a:r>
              <a:rPr b="1" lang="en-GB" sz="2300" spc="-1" strike="noStrike">
                <a:solidFill>
                  <a:srgbClr val="04617b"/>
                </a:solidFill>
                <a:latin typeface="Calibri"/>
              </a:rPr>
              <a:t>Always Follow Up and;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1413000"/>
            <a:ext cx="892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a clear record of the interview, the terms used, the options discussed and the future plan offer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form all other people looking after the patient what you have do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Parents + Attendants + Nursing staff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arrange if it is needed to have a number of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llow up the patien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Always DOCUMENT every step taken to notify the patient of the bad new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What </a:t>
            </a:r>
            <a:r>
              <a:rPr b="1" i="1" lang="en-GB" sz="3200" spc="-1" strike="noStrike">
                <a:solidFill>
                  <a:srgbClr val="c00000"/>
                </a:solidFill>
                <a:latin typeface="Calibri"/>
              </a:rPr>
              <a:t>Not to Do </a:t>
            </a: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4" descr="C:\Users\user\Desktop\1227105573778_BadNews.gif"/>
          <p:cNvPicPr/>
          <p:nvPr/>
        </p:nvPicPr>
        <p:blipFill>
          <a:blip r:embed="rId1"/>
          <a:stretch/>
        </p:blipFill>
        <p:spPr>
          <a:xfrm>
            <a:off x="684360" y="1413000"/>
            <a:ext cx="7127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What </a:t>
            </a:r>
            <a:r>
              <a:rPr b="1" i="1" lang="en-GB" sz="3200" spc="-1" strike="noStrike">
                <a:solidFill>
                  <a:srgbClr val="c00000"/>
                </a:solidFill>
                <a:latin typeface="Calibri"/>
              </a:rPr>
              <a:t>Not to Do </a:t>
            </a: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?cont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4000" y="1341360"/>
            <a:ext cx="8503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Break bad news over the pho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Avoid the pat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Leave patient in suspen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Lie to the pat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Tell patient if he or she doesn't want to kno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Interrupt excessive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Use jarg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What </a:t>
            </a:r>
            <a:r>
              <a:rPr b="1" i="1" lang="en-GB" sz="2900" spc="-1" strike="noStrike">
                <a:solidFill>
                  <a:srgbClr val="c00000"/>
                </a:solidFill>
                <a:latin typeface="Calibri"/>
              </a:rPr>
              <a:t>Not to Do </a:t>
            </a: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?cont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4000" y="1341360"/>
            <a:ext cx="8503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Give excessive information as this causes con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Be judgment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Give a definite time span (just say "days to weeks" or "months to years"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Pretend treatment is working if it isn'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Say “Nothing can be done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not say </a:t>
            </a: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"</a:t>
            </a:r>
            <a:r>
              <a:rPr b="1" i="1" lang="en-GB" sz="2400" spc="-1" strike="noStrike">
                <a:solidFill>
                  <a:srgbClr val="c00000"/>
                </a:solidFill>
                <a:latin typeface="Calibri"/>
              </a:rPr>
              <a:t>I know how you feel</a:t>
            </a: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t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en-GB" sz="2400" spc="-1" strike="noStrike">
                <a:solidFill>
                  <a:srgbClr val="00b050"/>
                </a:solidFill>
                <a:latin typeface="Calibri"/>
              </a:rPr>
              <a:t>I think I can understand how you must be feeling</a:t>
            </a:r>
            <a:r>
              <a:rPr b="1" lang="en-GB" sz="2400" spc="-1" strike="noStrike">
                <a:solidFill>
                  <a:srgbClr val="00b050"/>
                </a:solidFill>
                <a:latin typeface="Calibri"/>
              </a:rPr>
              <a:t>."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Breaking Bad News" in </a:t>
            </a:r>
            <a:br>
              <a:rPr sz="2600"/>
            </a:b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the Emergency Departmen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84280"/>
            <a:ext cx="8964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b050"/>
                </a:solidFill>
                <a:latin typeface="Constantia"/>
              </a:rPr>
              <a:t>It is a difficult task becaus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ies do not have time to prepare for the bad ne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actitioners do not  have a prior relation  with patient or fami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tressful situation for practition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7" descr="https://first10em.files.wordpress.com/2015/07/despair-creative-commons-black-and-white-notification-of-family-members-death.png?w=440"/>
          <p:cNvPicPr/>
          <p:nvPr/>
        </p:nvPicPr>
        <p:blipFill>
          <a:blip r:embed="rId1"/>
          <a:stretch/>
        </p:blipFill>
        <p:spPr>
          <a:xfrm>
            <a:off x="4427640" y="4768920"/>
            <a:ext cx="2438280" cy="1944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4952880" y="5638680"/>
            <a:ext cx="3505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http://www.dailydosemd.com/wp-content/uploads/2014/07/emergency.jpg"/>
          <p:cNvPicPr/>
          <p:nvPr/>
        </p:nvPicPr>
        <p:blipFill>
          <a:blip r:embed="rId2"/>
          <a:stretch/>
        </p:blipFill>
        <p:spPr>
          <a:xfrm>
            <a:off x="1992240" y="4797360"/>
            <a:ext cx="2428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3360" y="620280"/>
            <a:ext cx="8361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Breaking bad news (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Death Notifications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) In The Emergency Department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79280" y="177300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BE READY F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itial reaction of eruption of grie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ctions are varied and Culturally determin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ry rarely yet chances of hostile reaction towards the staf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WHAT TO DO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cian should stay in room with family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s a resour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s a silent prese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mind family members (especially other children) that it was not their faul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Follow the GRIEV_ING Protocol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see next two sl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6a3"/>
                </a:solidFill>
                <a:latin typeface="Calibri"/>
              </a:rPr>
              <a:t>The GRIEV_ING Protoc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Gath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fami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Resourc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: call for support to assist the fami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Identif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self , identify the deceased patient by name and the knowledge to be disclosed to the fami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Educ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amily about the event that occurred for their deceased in the emerg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Verif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at their family member has died (dead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p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 give the family personal space and time for emotional moment and absorb the inform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6a3"/>
                </a:solidFill>
                <a:latin typeface="Calibri"/>
              </a:rPr>
              <a:t>The GRIEV_ING Protocol -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Inquir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 ask if there are any questions, answer them a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Nuts and bol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inquire about organ donation and other issue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s applicab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Gi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m your card or contact information. Offer to answer any question that may arise l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520" y="70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99680" y="192888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hat does the patient know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s more information want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Give a warning sh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 den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xplain (if request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sten to conc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courage ventilation of feel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ummary –and –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fer availabi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EAKING BAD NEW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134100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 task of breaking bad news is a testing ground for the entire range of our professional skills and abil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f we do it badly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 patients or  family members may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never forgive u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f we do it wel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y will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never forget us</a:t>
            </a:r>
            <a:r>
              <a:rPr b="0" i="1" lang="en-US" sz="2600" spc="-1" strike="noStrike">
                <a:solidFill>
                  <a:srgbClr val="00b050"/>
                </a:solidFill>
                <a:latin typeface="Constantia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76a3"/>
                </a:solidFill>
                <a:latin typeface="Constantia"/>
              </a:rPr>
              <a:t>Robert Buckma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Objective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 end of this  lecture you should be able to;</a:t>
            </a:r>
            <a:br>
              <a:rPr sz="54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2492280"/>
            <a:ext cx="82296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e what is breaking bad news &amp; how to deliver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gnize the challenges for sharing bad n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ly an effective 6 step protocol for breaking bad n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gnize its significance in the emergency depart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actice For Braking Bad Ne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r. Abdull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 seen in the clinic last week, f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mplaint of constipation and bleeding per rectu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lonoscopy was requested with the suspicion o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lorectal carcinoma. The colonoscopy was performed and he was advised to follow up in the cli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day patient has come to get his results. You review the results in the record which clearly indica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70c0"/>
                </a:solidFill>
                <a:latin typeface="Constantia"/>
              </a:rPr>
              <a:t>Colorectal Cancer with involvement of lymph nodes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Conduct BBN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with the use of 6 Step Protoc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What is “Bad News” in Medicine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1320" y="18288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that produces a negative alteration to a person’s expectation about their present and future could be deemed Bad New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Bad News may not be my Bad Ne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d News doesn’t have to be fa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Examples of bad news in medicine may include;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8920" y="1628640"/>
            <a:ext cx="88059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umatic De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th after chronic ill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nosis of uniformly fatal chronic illness e.g. Cystic fibr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nosis of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nosis of permanent disability 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rth de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To some patients or to their families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“Bad News”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ay also includ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1320" y="20001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expected admission to IC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ng bone fra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1N1 influenz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ed for surgery e.g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nia or Appendicit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Breaking Bad News “Options”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4920" y="1557000"/>
            <a:ext cx="7007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Nondisclo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Full Disclo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e all inform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s soon as it is kn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Individualized Disclo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ilors amount and timing of inform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gotiation between  doctor and pati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s soon as it is kn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Object 0"/>
          <p:cNvGraphicFramePr/>
          <p:nvPr/>
        </p:nvGraphicFramePr>
        <p:xfrm>
          <a:off x="3276720" y="1773360"/>
          <a:ext cx="8809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880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Bad News” Consensu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341360"/>
            <a:ext cx="8447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sure Privacy and Adequate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vide Information Simply and Honest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courage Patients to Express Feeling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range Revie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uss all the available Treatment O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vide Information About Support Servi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cument Information Giv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Basic Principl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When to be informed 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soon as information is clearly kn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n’t pass on unsure information too so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Where to be informed 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vate set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per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Support persons pres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support people, family, friends, hospital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5:54:43Z</dcterms:created>
  <dc:creator>Owner</dc:creator>
  <dc:description/>
  <dc:language>en-US</dc:language>
  <cp:lastModifiedBy>DR.HANAN</cp:lastModifiedBy>
  <dcterms:modified xsi:type="dcterms:W3CDTF">2016-03-27T04:39:28Z</dcterms:modified>
  <cp:revision>104</cp:revision>
  <dc:subject/>
  <dc:title>Breaking Bad News A Guide for Clinical Staff</dc:title>
</cp:coreProperties>
</file>