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gif" ContentType="image/gif"/>
  <Override PartName="/ppt/media/image15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1.gif" ContentType="image/gif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3857400" y="-360"/>
            <a:ext cx="2950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144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3857400" y="9330840"/>
            <a:ext cx="2950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144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071B-ACA1-4273-B7BE-615E51894DD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144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70A0-F7DE-4C8D-8965-7C422F3EAB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3"/>
          <p:cNvSpPr/>
          <p:nvPr/>
        </p:nvSpPr>
        <p:spPr>
          <a:xfrm>
            <a:off x="144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87FB-B61F-41B3-A502-22A12563001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25200" y="4675320"/>
            <a:ext cx="50115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Lowden (199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Disclosure can affect the long-term health of the patient, influencing the way the person adjusts to living with cancer. The studies of psycho-immunology provide evidence for the possible ways in which this can effect survival. It is therefore suggesting that breaking bad news can be a form of health promotion. So lets look at breaking bad news the “ healthy way</a:t>
            </a:r>
            <a:r>
              <a:rPr b="0" lang="en-GB" sz="1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ZapfHumnst BT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5549-DCB7-4CE8-8716-F7EFFE96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26B-CDC5-4FA3-9A92-5BBE808B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B74-FC85-4504-A06C-EA17ACC1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9E0-0F21-4854-9E29-902BBD2D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D4AC-A46B-4349-BAB5-FC606067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7618-82A1-49A1-B803-C4B5F36B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D5FD-874D-4D68-904C-658208EF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A400-8A35-4108-8C35-8E704B36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0724-DD07-40EF-BC26-47AA4CF7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70DD-7EEF-4410-B4F2-F1B9AFF5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7986-24EA-4139-9E97-03C5500E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914-32E3-49A2-AB8A-F2A9DF04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5606-4C2F-4CC6-9B27-FB403E81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B76F-5C27-4765-81E7-E9B3D034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4415-4375-479A-A0C9-820299D4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8D0D-0D43-41FB-B3C1-CCE211E2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413C-FADF-49FA-98F9-AE05FE8F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FA82-2E16-4C01-8D3F-71CB8AF1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EC65-F205-4AD8-97AC-13AA6097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0DC24-49A9-4FB7-B164-4AE8FFC4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DAECB-CC5A-4754-8D20-DF40DFA7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1F0D6-1739-4586-8561-36A3A576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692-4A65-4C6E-886B-972A2014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622AE-90DF-4BF9-8648-1A218E7FD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9FA6-1297-4AD5-98E0-D9EE8D80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9898-CF11-4BFB-9A2A-153F509E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5F6F-2536-4019-B907-99D42C1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FB1B9-1528-4B11-9DA9-42DBD1DA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FFE24-D968-4329-8AF8-FA02222F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21E2-242C-46B4-B789-D5A378C7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AD3DE-7576-42B8-B43D-BCD04B23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6ADF-D89F-43C1-8D6D-1F6A312C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A1F60-7B34-49AF-854D-D955F559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ABE-0F64-46B7-841E-0EA213A2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718D-235D-4D9C-BABE-A451DE49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674B6-A4FB-4DD6-B953-3A3A1671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9E263-C9A3-46BE-8CAB-F95D7ED5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6CF84-F4C2-463E-9920-9FF7B6EB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32E1-8140-4002-A5ED-E3A9201A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4C642-EFE6-464B-91EA-C3EBDD8D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65CBE-8DF2-4E64-9AE2-8D88E437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AFC73-A255-492E-9E16-F9060D84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7CB90-E070-4126-9838-4F68D2AF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502-26D9-493C-B573-D23ADFBE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9C9-3B68-4A35-923B-9F49D2BB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3EE-E4DC-4AEC-AB32-490A07E9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145E-265B-4A42-A25B-0639173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BA3-4DBB-4A3A-8E9B-A004A312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8992-35B9-4320-98A8-303AE67551B8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8FE0-B65E-40AB-A520-2008664FE24F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DD95-1D94-469B-982F-3015C7213E0C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56AC-6715-48AD-AEEB-2C67D4EFF54F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665280" y="1054080"/>
            <a:ext cx="7772400" cy="12254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haroni"/>
                <a:ea typeface="Aharoni"/>
              </a:rPr>
              <a:t>PROF.HANAN HABIB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haroni"/>
                <a:ea typeface="Aharoni"/>
              </a:rPr>
              <a:t>&amp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haroni"/>
                <a:ea typeface="Aharoni"/>
              </a:rPr>
              <a:t>DR.KAMRAN SATTA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C:\Users\Dr. Kamran\Desktop\images.jpg"/>
          <p:cNvPicPr/>
          <p:nvPr/>
        </p:nvPicPr>
        <p:blipFill>
          <a:blip r:embed="rId2"/>
          <a:stretch/>
        </p:blipFill>
        <p:spPr>
          <a:xfrm>
            <a:off x="2916360" y="2133720"/>
            <a:ext cx="3527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Challeng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is a difficult task because;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8000" y="2133360"/>
            <a:ext cx="885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t is frequent and stressfu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Most patients want to know the tru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 truth is unpleasant and will upset the pati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are anxious and fear negative evalu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How should 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Calibri"/>
              </a:rPr>
              <a:t>Bad News 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be delivered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9280" y="1483920"/>
            <a:ext cx="878544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50"/>
                </a:solidFill>
                <a:uFillTx/>
                <a:latin typeface="Calibri"/>
              </a:rPr>
              <a:t>A . The 6 Step Protocol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Getting started  (getting the setting righ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What does the patient k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How much does the patient want to know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roviding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5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Responding to patient and family feel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Planning and follow u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Steps 1-3 </a:t>
            </a: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: </a:t>
            </a: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	</a:t>
            </a:r>
            <a:r>
              <a:rPr b="1" lang="en-US" sz="1800" spc="-1" strike="noStrike">
                <a:solidFill>
                  <a:srgbClr val="00b05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Step 4</a:t>
            </a:r>
            <a:r>
              <a:rPr b="0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Delivering the new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Constantia"/>
              </a:rPr>
              <a:t>Steps 5 &amp; 6 </a:t>
            </a:r>
            <a:r>
              <a:rPr b="0" lang="en-US" sz="1800" spc="-1" strike="noStrike">
                <a:solidFill>
                  <a:srgbClr val="00b050"/>
                </a:solidFill>
                <a:latin typeface="Constantia"/>
              </a:rPr>
              <a:t>:  </a:t>
            </a:r>
            <a:r>
              <a:rPr b="0" lang="en-US" sz="1800" spc="-1" strike="noStrike">
                <a:solidFill>
                  <a:srgbClr val="00b05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Response to patient reaction &amp; Care Pl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5280" y="170028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1.Prepare </a:t>
            </a:r>
            <a:r>
              <a:rPr b="1" i="1" lang="en-GB" sz="2400" spc="-1" strike="noStrike">
                <a:solidFill>
                  <a:srgbClr val="00b050"/>
                </a:solidFill>
                <a:latin typeface="Constantia"/>
              </a:rPr>
              <a:t>Yoursel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2.Prepare </a:t>
            </a:r>
            <a:r>
              <a:rPr b="1" i="1" lang="en-GB" sz="2400" spc="-1" strike="noStrike">
                <a:solidFill>
                  <a:srgbClr val="00b050"/>
                </a:solidFill>
                <a:latin typeface="Constantia"/>
              </a:rPr>
              <a:t>Your Set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3.Prepare </a:t>
            </a:r>
            <a:r>
              <a:rPr b="1" i="1" lang="en-GB" sz="2400" spc="-1" strike="noStrike">
                <a:solidFill>
                  <a:srgbClr val="00b050"/>
                </a:solidFill>
                <a:latin typeface="Constantia"/>
              </a:rPr>
              <a:t>Your Pat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4" descr="C:\Users\user\Desktop\ihatetotellyoubut (1)2.gif"/>
          <p:cNvPicPr/>
          <p:nvPr/>
        </p:nvPicPr>
        <p:blipFill>
          <a:blip r:embed="rId1"/>
          <a:stretch/>
        </p:blipFill>
        <p:spPr>
          <a:xfrm>
            <a:off x="6012000" y="1700280"/>
            <a:ext cx="28573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4617b"/>
                </a:solidFill>
                <a:latin typeface="Calibri"/>
              </a:rPr>
              <a:t>Preparation : </a:t>
            </a:r>
            <a:br>
              <a:rPr sz="2900"/>
            </a:br>
            <a:r>
              <a:rPr b="1" lang="en-GB" sz="2900" spc="-1" strike="noStrike">
                <a:solidFill>
                  <a:srgbClr val="04617b"/>
                </a:solidFill>
                <a:latin typeface="Calibri"/>
              </a:rPr>
              <a:t>1.(Prepare Yourself) 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8440" y="2852640"/>
            <a:ext cx="9134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ew the patient's history and know about possible managemen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actice the interview for possible questions and answ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latives can be present, but , follow the patient’s wis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Preparation :</a:t>
            </a:r>
            <a:br>
              <a:rPr sz="2600"/>
            </a:b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2. (Prepare Your Setting)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2637000"/>
            <a:ext cx="9036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rrange to meet in a quiet roo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ke sure that you are not going to be disturb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f recently examined allow him/her to dress before the interview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Preparation :</a:t>
            </a:r>
            <a:br>
              <a:rPr sz="2600"/>
            </a:b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3.(Prepare Your Patient)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1680" y="2176200"/>
            <a:ext cx="671832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800" spc="-1" strike="noStrike">
                <a:solidFill>
                  <a:srgbClr val="c00000"/>
                </a:solidFill>
                <a:latin typeface="Constantia"/>
              </a:rPr>
              <a:t>Try first to focus on 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at do they know already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at do they want to know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Some patients do not want detai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Always build up graduall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6" descr="D:\PFiles\MSOffice\Clipart\homeanim\ag00039_.gif"/>
          <p:cNvPicPr/>
          <p:nvPr/>
        </p:nvPicPr>
        <p:blipFill>
          <a:blip r:embed="rId1"/>
          <a:stretch/>
        </p:blipFill>
        <p:spPr>
          <a:xfrm>
            <a:off x="7300800" y="1773360"/>
            <a:ext cx="1629000" cy="1404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C:\WINDOWS\Profiles\Dad\Application Data\Microsoft\Media Catalog\Downloaded Clips\cl5d\j0234686.gif"/>
          <p:cNvPicPr/>
          <p:nvPr/>
        </p:nvPicPr>
        <p:blipFill>
          <a:blip r:embed="rId2"/>
          <a:stretch/>
        </p:blipFill>
        <p:spPr>
          <a:xfrm>
            <a:off x="7281720" y="4005360"/>
            <a:ext cx="182412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Delivering the News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560" y="2060640"/>
            <a:ext cx="8699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se simple language, listen, follow verbal and non-verbal c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e at level of understanding and vocabulary of the patien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void excessive bluntness, it may leave the patient isolated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t the tone. e.g. "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I am afraid I have some bad new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1644480" y="1382760"/>
            <a:ext cx="55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Always Remember t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C:\Users\Dr. Kamran\Desktop\download.jpg"/>
          <p:cNvPicPr/>
          <p:nvPr/>
        </p:nvPicPr>
        <p:blipFill>
          <a:blip r:embed="rId1"/>
          <a:stretch/>
        </p:blipFill>
        <p:spPr>
          <a:xfrm>
            <a:off x="3011400" y="4869000"/>
            <a:ext cx="28098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4617b"/>
                </a:solidFill>
                <a:latin typeface="Calibri"/>
              </a:rPr>
              <a:t>Delivering the News. Cont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916280"/>
            <a:ext cx="8447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Give the information in small chunk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void using hopelessness terms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Be truthful, gentle and courteou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Offer hop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Emphasize the positi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Allow questions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Response to Reaction &amp; Care Plan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1412640"/>
            <a:ext cx="8785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GB" sz="2800" spc="-1" strike="noStrike">
                <a:solidFill>
                  <a:srgbClr val="c00000"/>
                </a:solidFill>
                <a:latin typeface="Constantia"/>
              </a:rPr>
              <a:t>Respond to Patient &amp; Family Feeling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2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cknowledge the emotions experienced by the patient and if a patient is silent use open questions, e.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"</a:t>
            </a:r>
            <a:r>
              <a:rPr b="1" i="1" lang="en-GB" sz="2000" spc="-1" strike="noStrike">
                <a:solidFill>
                  <a:srgbClr val="000000"/>
                </a:solidFill>
                <a:latin typeface="Constantia"/>
              </a:rPr>
              <a:t>How are you feeling now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?“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2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llow the patient and family time to</a:t>
            </a:r>
            <a:r>
              <a:rPr b="1" lang="en-GB" sz="2000" spc="-1" strike="noStrike">
                <a:solidFill>
                  <a:srgbClr val="000000"/>
                </a:solidFill>
                <a:latin typeface="Constantia"/>
              </a:rPr>
              <a:t> express their emotions </a:t>
            </a: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and let the patient know you understand and acknowledge their emotion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Response to reaction &amp; Care Plan. cont.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50920" y="1484280"/>
            <a:ext cx="67197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n't leave the patient confus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Provide a clear care plan with treatment options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Identify support systems; involve relatives and friend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Offer to meet and talk to the family if not presen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Make written materials availab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tantia"/>
              </a:rPr>
              <a:t>Summaris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6" descr="D:\PFiles\MSOffice\Clipart\standard\stddir1\bd06785_.wmf"/>
          <p:cNvPicPr/>
          <p:nvPr/>
        </p:nvPicPr>
        <p:blipFill>
          <a:blip r:embed="rId1"/>
          <a:stretch/>
        </p:blipFill>
        <p:spPr>
          <a:xfrm>
            <a:off x="7308720" y="1557360"/>
            <a:ext cx="1533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Content Placeholder 3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4617b"/>
                </a:solidFill>
                <a:latin typeface="Calibri"/>
              </a:rPr>
              <a:t>After the Interview: </a:t>
            </a:r>
            <a:br>
              <a:rPr sz="2300"/>
            </a:br>
            <a:r>
              <a:rPr b="1" lang="en-GB" sz="2300" spc="-1" strike="noStrike">
                <a:solidFill>
                  <a:srgbClr val="04617b"/>
                </a:solidFill>
                <a:latin typeface="Calibri"/>
              </a:rPr>
              <a:t>Always Follow Up and;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8000" y="1413000"/>
            <a:ext cx="892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a clear record of the interview, the terms used, the options discussed and the future plan offere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form all other people looking after the patient what you have don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Parents + Attendants + Nursing staff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arrange if it is needed to have a number of meeting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llow up the patient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Always DOCUMENT every step taken to notify the patient of the bad new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4617b"/>
                </a:solidFill>
                <a:latin typeface="Calibri"/>
              </a:rPr>
              <a:t>What </a:t>
            </a:r>
            <a:r>
              <a:rPr b="1" i="1" lang="en-GB" sz="3200" spc="-1" strike="noStrike">
                <a:solidFill>
                  <a:srgbClr val="c00000"/>
                </a:solidFill>
                <a:latin typeface="Calibri"/>
              </a:rPr>
              <a:t>Not to Do </a:t>
            </a:r>
            <a:r>
              <a:rPr b="1" lang="en-GB" sz="3200" spc="-1" strike="noStrike">
                <a:solidFill>
                  <a:srgbClr val="04617b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3" name="Picture 4" descr="C:\Users\user\Desktop\1227105573778_BadNews.gif"/>
          <p:cNvPicPr/>
          <p:nvPr/>
        </p:nvPicPr>
        <p:blipFill>
          <a:blip r:embed="rId1"/>
          <a:stretch/>
        </p:blipFill>
        <p:spPr>
          <a:xfrm>
            <a:off x="684360" y="1413000"/>
            <a:ext cx="712764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4617b"/>
                </a:solidFill>
                <a:latin typeface="Calibri"/>
              </a:rPr>
              <a:t>What </a:t>
            </a:r>
            <a:r>
              <a:rPr b="1" i="1" lang="en-GB" sz="3200" spc="-1" strike="noStrike">
                <a:solidFill>
                  <a:srgbClr val="c00000"/>
                </a:solidFill>
                <a:latin typeface="Calibri"/>
              </a:rPr>
              <a:t>Not to Do </a:t>
            </a:r>
            <a:r>
              <a:rPr b="1" lang="en-GB" sz="3200" spc="-1" strike="noStrike">
                <a:solidFill>
                  <a:srgbClr val="04617b"/>
                </a:solidFill>
                <a:latin typeface="Calibri"/>
              </a:rPr>
              <a:t>?cont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4000" y="1341360"/>
            <a:ext cx="85039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Break bad news over the pho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Avoid the pat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Leave patient in suspens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Lie to the pat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Tell patient if he or she doesn't want to know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Interrupt excessivel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4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on’t Use jarg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4617b"/>
                </a:solidFill>
                <a:latin typeface="Calibri"/>
              </a:rPr>
              <a:t>What </a:t>
            </a:r>
            <a:r>
              <a:rPr b="1" i="1" lang="en-GB" sz="2900" spc="-1" strike="noStrike">
                <a:solidFill>
                  <a:srgbClr val="c00000"/>
                </a:solidFill>
                <a:latin typeface="Calibri"/>
              </a:rPr>
              <a:t>Not to Do </a:t>
            </a:r>
            <a:r>
              <a:rPr b="1" lang="en-GB" sz="2900" spc="-1" strike="noStrike">
                <a:solidFill>
                  <a:srgbClr val="04617b"/>
                </a:solidFill>
                <a:latin typeface="Calibri"/>
              </a:rPr>
              <a:t>?cont.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4000" y="1341360"/>
            <a:ext cx="8503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Give excessive information as this causes confus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Be judgment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Give a definite time span (just say "days to weeks" or "months to years"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Pretend treatment is working if it isn'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n’t Say “Nothing can be done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o not say </a:t>
            </a:r>
            <a:r>
              <a:rPr b="1" lang="en-GB" sz="2400" spc="-1" strike="noStrike">
                <a:solidFill>
                  <a:srgbClr val="c00000"/>
                </a:solidFill>
                <a:latin typeface="Calibri"/>
              </a:rPr>
              <a:t>"</a:t>
            </a:r>
            <a:r>
              <a:rPr b="1" i="1" lang="en-GB" sz="2400" spc="-1" strike="noStrike">
                <a:solidFill>
                  <a:srgbClr val="c00000"/>
                </a:solidFill>
                <a:latin typeface="Calibri"/>
              </a:rPr>
              <a:t>I know how you feel</a:t>
            </a:r>
            <a:r>
              <a:rPr b="1" lang="en-GB" sz="2400" spc="-1" strike="noStrike">
                <a:solidFill>
                  <a:srgbClr val="c00000"/>
                </a:solidFill>
                <a:latin typeface="Calibri"/>
              </a:rPr>
              <a:t>"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ste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en-GB" sz="2400" spc="-1" strike="noStrike">
                <a:solidFill>
                  <a:srgbClr val="00b050"/>
                </a:solidFill>
                <a:latin typeface="Calibri"/>
              </a:rPr>
              <a:t>I think I can understand how you must be feeling</a:t>
            </a:r>
            <a:r>
              <a:rPr b="1" lang="en-GB" sz="2400" spc="-1" strike="noStrike">
                <a:solidFill>
                  <a:srgbClr val="00b050"/>
                </a:solidFill>
                <a:latin typeface="Calibri"/>
              </a:rPr>
              <a:t>."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Breaking Bad News" in </a:t>
            </a:r>
            <a:br>
              <a:rPr sz="2600"/>
            </a:br>
            <a:r>
              <a:rPr b="1" lang="en-US" sz="2600" spc="-1" strike="noStrike">
                <a:solidFill>
                  <a:srgbClr val="04617b"/>
                </a:solidFill>
                <a:latin typeface="Calibri"/>
              </a:rPr>
              <a:t>the Emergency Departmen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484280"/>
            <a:ext cx="8964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b050"/>
                </a:solidFill>
                <a:latin typeface="Constantia"/>
              </a:rPr>
              <a:t>It is a difficult task becaus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milies do not have time to prepare for the bad new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actitioners do not  have a prior relation  with patient or famil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stressful situation for practition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7" descr="https://first10em.files.wordpress.com/2015/07/despair-creative-commons-black-and-white-notification-of-family-members-death.png?w=440"/>
          <p:cNvPicPr/>
          <p:nvPr/>
        </p:nvPicPr>
        <p:blipFill>
          <a:blip r:embed="rId1"/>
          <a:stretch/>
        </p:blipFill>
        <p:spPr>
          <a:xfrm>
            <a:off x="4427640" y="4768920"/>
            <a:ext cx="2438280" cy="1944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4952880" y="5638680"/>
            <a:ext cx="3505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http://www.dailydosemd.com/wp-content/uploads/2014/07/emergency.jpg"/>
          <p:cNvPicPr/>
          <p:nvPr/>
        </p:nvPicPr>
        <p:blipFill>
          <a:blip r:embed="rId2"/>
          <a:stretch/>
        </p:blipFill>
        <p:spPr>
          <a:xfrm>
            <a:off x="1992240" y="4797360"/>
            <a:ext cx="242892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3360" y="620280"/>
            <a:ext cx="836136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Breaking bad news (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Death Notifications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) In The Emergency Department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79280" y="1773000"/>
            <a:ext cx="885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BE READY F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itial reaction of eruption of grie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actions are varied and Culturally determin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ery rarely yet chances of hostile reaction towards the staf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onstantia"/>
              </a:rPr>
              <a:t>WHAT TO DO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hysician should stay in room with family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s a resour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s a silent presenc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mind family members (especially other children) that it was not their faul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Follow the GRIEV_ING Protocol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see next two slid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388080">
              <a:lnSpc>
                <a:spcPct val="7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6a3"/>
                </a:solidFill>
                <a:latin typeface="Calibri"/>
              </a:rPr>
              <a:t>The GRIEV_ING Protoco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Gath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famil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Resourc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: call for support to assist the famil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Identify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self , identify the deceased patient by name and the knowledge to be disclosed to the fami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Educ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family about the event that occurred for their deceased in the emergenc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V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Verif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at their family member has died (dead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Spa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; give the family personal space and time for emotional moment and absorb the informa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6a3"/>
                </a:solidFill>
                <a:latin typeface="Calibri"/>
              </a:rPr>
              <a:t>The GRIEV_ING Protocol -cont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Inquir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; ask if there are any questions, answer them a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Nuts and bolt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; inquire about organ donation and other issues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as applicab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: </a:t>
            </a:r>
            <a:r>
              <a:rPr b="0" lang="en-US" sz="2600" spc="-1" strike="noStrike">
                <a:solidFill>
                  <a:srgbClr val="c00000"/>
                </a:solidFill>
                <a:latin typeface="Constantia"/>
              </a:rPr>
              <a:t>Giv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m your card or contact information. Offer to answer any question that may arise lat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85520" y="70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Calibri"/>
              </a:rPr>
              <a:t>Conclusio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99680" y="192888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What does the patient know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s more information wante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Give a warning sho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llow deni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xplain (if requeste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isten to concer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ncourage ventilation of feel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ummary –and –pl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Offer availabil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BREAKING BAD NEW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8360" y="1341000"/>
            <a:ext cx="82296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he task of breaking bad news is a testing ground for the entire range of our professional skills and abilit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If we do it badly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he patients or  family members may </a:t>
            </a:r>
            <a:r>
              <a:rPr b="1" i="1" lang="en-US" sz="2600" spc="-1" strike="noStrike">
                <a:solidFill>
                  <a:srgbClr val="ff0000"/>
                </a:solidFill>
                <a:latin typeface="Constantia"/>
              </a:rPr>
              <a:t>never forgive us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if we do it well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hey will </a:t>
            </a:r>
            <a:r>
              <a:rPr b="1" i="1" lang="en-US" sz="2600" spc="-1" strike="noStrike">
                <a:solidFill>
                  <a:srgbClr val="00b050"/>
                </a:solidFill>
                <a:latin typeface="Constantia"/>
              </a:rPr>
              <a:t>never forget us</a:t>
            </a:r>
            <a:r>
              <a:rPr b="0" i="1" lang="en-US" sz="2600" spc="-1" strike="noStrike">
                <a:solidFill>
                  <a:srgbClr val="00b050"/>
                </a:solidFill>
                <a:latin typeface="Constantia"/>
              </a:rPr>
              <a:t>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76a3"/>
                </a:solidFill>
                <a:latin typeface="Constantia"/>
              </a:rPr>
              <a:t>Robert Buckma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Objective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 end of this  lecture you should be able to;</a:t>
            </a:r>
            <a:br>
              <a:rPr sz="54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2492280"/>
            <a:ext cx="822960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fine what is breaking bad news &amp; how to deliver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ognize the challenges for sharing bad n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ly an effective 6 step protocol for breaking bad new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cognize its significance in the emergency depart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actice For Braking Bad New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Mr. Abdull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s seen in the clinic last week, f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mplaint of constipation and bleeding per rectu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lonoscopy was requested with the suspicion o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colorectal carcinoma. The colonoscopy was performed and he was advised to follow up in the clin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oday patient has come to get his results. You review the results in the record which clearly indica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70c0"/>
                </a:solidFill>
                <a:latin typeface="Constantia"/>
              </a:rPr>
              <a:t>Colorectal Cancer with involvement of lymph nodes.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Conduct BBN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 </a:t>
            </a:r>
            <a:r>
              <a:rPr b="0" lang="en-US" sz="2600" spc="-1" strike="noStrike" u="sng">
                <a:solidFill>
                  <a:srgbClr val="c00000"/>
                </a:solidFill>
                <a:uFillTx/>
                <a:latin typeface="Constantia"/>
              </a:rPr>
              <a:t>with the use of 6 Step Protoc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What is “Bad News” in Medicine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1320" y="18288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tion that produces a negative alteration to a person’s expectation about their present and future could be deemed Bad News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 Bad News may not be my Bad New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d News doesn’t have to be fa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Examples of bad news in medicine may include;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8920" y="1628640"/>
            <a:ext cx="880596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umatic Dea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ath after chronic ill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agnosis of uniformly fatal chronic illness e.g. Cystic fibrosi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agnosis of canc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agnosis of permanent disability o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rth def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To some patients or to their families </a:t>
            </a:r>
            <a:br>
              <a:rPr sz="3600"/>
            </a:b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“Bad News”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ay also includ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1320" y="200016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nexpected admission to IC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ng bone fractu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1N1 influenz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eed for surgery e.g.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rnia or Appendicit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alibri"/>
              </a:rPr>
              <a:t>Breaking Bad News “Options”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4920" y="1557000"/>
            <a:ext cx="7007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onstantia"/>
              </a:rPr>
              <a:t>Nondisclo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onstantia"/>
              </a:rPr>
              <a:t>Full Disclo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ve all inform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s soon as it is kn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Constantia"/>
              </a:rPr>
              <a:t>Individualized Disclos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ilors amount and timing of inform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gotiation between  doctor and patien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s soon as it is kn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8" name="Object 0"/>
          <p:cNvGraphicFramePr/>
          <p:nvPr/>
        </p:nvGraphicFramePr>
        <p:xfrm>
          <a:off x="3276720" y="1773360"/>
          <a:ext cx="88092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73360"/>
                    <a:ext cx="8809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Bad News” Consensu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341360"/>
            <a:ext cx="8447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sure Privacy and Adequate 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vide Information Simply and Honestl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ncourage Patients to Express Feeling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rrange Revie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scuss all the available Treatment Optio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vide Information About Support Servic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cument Information Giv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Basic Principles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When to be informed 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soon as information is clearly know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n’t pass on unsure information too so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Where to be informed 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vate set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pers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Support persons pres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oth par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ther support people, family, friends, hospital suppo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4T15:54:43Z</dcterms:created>
  <dc:creator>Owner</dc:creator>
  <dc:description/>
  <dc:language>en-US</dc:language>
  <cp:lastModifiedBy>DR.HANAN</cp:lastModifiedBy>
  <dcterms:modified xsi:type="dcterms:W3CDTF">2016-03-27T04:39:28Z</dcterms:modified>
  <cp:revision>104</cp:revision>
  <dc:subject/>
  <dc:title>Breaking Bad News A Guide for Clinical Staff</dc:title>
</cp:coreProperties>
</file>