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gif" ContentType="image/gif"/>
  <Override PartName="/ppt/media/image4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795C-3644-4164-A893-852746DFC80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C3BE-A0C7-4238-BD15-D7ACE6A15C5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08FD-8A99-483E-AB03-FF6C6D02EA6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6CAA-230E-4841-ABBA-4736AAAECA6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30BB-CB71-45FE-91EB-48E524BC173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AA75-C38B-483F-8858-9A0115FFB9C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A4AF-0A8F-4B9C-B8BD-3C87C4B5228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4526-0686-426F-BA8D-E344225EA22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84D9-526D-4BE3-9F54-650524B3726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99F3-DB96-4641-B779-61A7F8AE00D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FCDD-B011-45F2-8142-9F8F4F59F02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B356-4B7E-4585-BB91-2B1F6354459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EA34-6403-456E-987B-EA15C89CD9B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3729-6F0B-4F92-B026-1AFB04F54D2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4CA9-591B-41D6-A1FE-959E306B0E5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7C83-4EE4-4E16-A78C-2AC6D8A1436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880F-E803-4810-BB76-40E7C41CDD0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17CF-C9FA-4735-8C6D-9091BF951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620C-5703-4424-8455-6C37B784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6B29-7B8F-4D36-BEC4-05F02F7E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6F8C-9C6D-44A9-BA11-6C3F25E99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C550-B53A-42BA-986E-2A476152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8EBF-13D5-4555-B413-3792C6C0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E222-F7B5-403B-9A35-40D9A1E1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E2E6-DE4F-4193-8650-1AE217D3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B76B-0E0D-4B69-A371-DAC8FBC9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5644-CCE4-4896-9472-06DE3D42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EFD5-9BC7-4BF2-8E24-3E85BC4A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302F-1F54-4F71-BC97-DDF2DCA8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5662-E41A-4EEF-9784-3CA31973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531A-EA32-4900-9E63-5514EA95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5018-4A28-4B20-9910-DA02F3D9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23B1-EBE8-4EBA-895B-0C3BD9CC3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3423-E62F-4E8E-8377-3DE154FE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565A-06C5-46B8-AF46-8334B314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D8D9-4C52-4752-AE04-7499E7C1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34C5-4704-4EAF-9569-A8EED1A6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A3D1-228A-41F8-B615-A2FDE830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CFF2-804D-4D7F-9151-0BB9ACD6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AF1C-97BE-4439-867A-E0107EB0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5815-895C-4393-9C87-CDF9E1CD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479A-67E5-44D6-9EC8-02F912D3C063}" type="slidenum">
              <a:rPr b="0" lang="ar-SA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B456-5F00-4A18-AEB4-67A664E939A2}" type="slidenum">
              <a:rPr b="0" lang="ar-SA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hyperlink" Target="http://www.google.com.sa/imgres?q=ALL+THE+BEST&amp;hl=en&amp;safe=active&amp;biw=1152&amp;bih=566&amp;gbv=2&amp;tbm=isch&amp;tbnid=fnRg7fl4vZNbcM:&amp;imgrefurl=http://qiscetmca09.blogspot.com/2010/11/all-best.html&amp;docid=f2nEVg6EopIWKM&amp;w=400&amp;h=353&amp;ei=rb15To2xJMz1sgastcnfDw&amp;zoom=1" TargetMode="External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244440" y="0"/>
            <a:ext cx="8545680" cy="22305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68280" y="3905280"/>
            <a:ext cx="6400800" cy="3409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DR. KAMRAN SATTAR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MBB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MMedEd UoD (UK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AcadMEd AoME (UK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llege of Medicin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ing Saud Univers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3124080" y="1828800"/>
            <a:ext cx="268920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What is Communication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28600" y="9140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649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649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Times New Roman"/>
              </a:rPr>
              <a:t>Is the act by which information is shared between huma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649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Times New Roman"/>
              </a:rPr>
              <a:t>It is the process by which we relate and interact with other peopl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649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Times New Roman"/>
              </a:rPr>
              <a:t>It includes listening &amp; understanding with passion &amp; respect as well as expressing views &amp; ideas and passing information to others in a clear manne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9144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e2d7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COMMUNICATION THEORY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1523520"/>
            <a:ext cx="914400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 is a learned skill based on 3 pillars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uracy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iciency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iveness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700"/>
              </a:spcBef>
              <a:buClr>
                <a:srgbClr val="08376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Times New Roman"/>
              </a:rPr>
              <a:t>All of the above combine to contribute to effectiveness of communicat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ypes of communication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7" name="Picture 2" descr="C:\Users\user\Desktop\New folder\verbal.gif"/>
          <p:cNvPicPr/>
          <p:nvPr/>
        </p:nvPicPr>
        <p:blipFill>
          <a:blip r:embed="rId1"/>
          <a:stretch/>
        </p:blipFill>
        <p:spPr>
          <a:xfrm>
            <a:off x="1752480" y="1143000"/>
            <a:ext cx="579132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6629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Verbal Communication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28600" y="12193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Speaking to the pers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083763"/>
              </a:buClr>
              <a:buSzPct val="85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Look straight in the eye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083763"/>
              </a:buClr>
              <a:buSzPct val="85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make eye contac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083763"/>
              </a:buClr>
              <a:buSzPct val="85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Show respec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Clear messag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083763"/>
              </a:buClr>
              <a:buSzPct val="85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Relevan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083763"/>
              </a:buClr>
              <a:buSzPct val="85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Use understandable languag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083763"/>
              </a:buClr>
              <a:buSzPct val="85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Support by illustrations if needed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Good listener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083763"/>
              </a:buClr>
              <a:buSzPct val="85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Allow others to understand the message and repl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083763"/>
              </a:buClr>
              <a:buSzPct val="85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Listen carefull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083763"/>
              </a:buClr>
              <a:buSzPct val="85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Make a dialogue ant not one way instruct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Communication: Why?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1320" y="23623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  <a:ea typeface="Times New Roman"/>
              </a:rPr>
              <a:t>Effective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communication is the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basis of mutual understanding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&amp; trust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5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Poor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communication causes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a lot of misunderstanding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&amp; hinders work &amp; productivity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742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Communication &amp; Medicine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600" y="990360"/>
            <a:ext cx="8686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lnSpc>
                <a:spcPct val="150000"/>
              </a:lnSpc>
              <a:spcBef>
                <a:spcPts val="751"/>
              </a:spcBef>
              <a:buClr>
                <a:srgbClr val="08376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6fa52"/>
                </a:solidFill>
                <a:latin typeface="Calibri"/>
                <a:ea typeface="Times New Roman"/>
              </a:rPr>
              <a:t>H</a:t>
            </a:r>
            <a:r>
              <a:rPr b="1" lang="cs-CZ" sz="3000" spc="-1" strike="noStrike">
                <a:solidFill>
                  <a:srgbClr val="e6fa52"/>
                </a:solidFill>
                <a:latin typeface="Calibri"/>
                <a:ea typeface="Times New Roman"/>
              </a:rPr>
              <a:t>istorically</a:t>
            </a:r>
            <a:r>
              <a:rPr b="1" lang="en-US" sz="3000" spc="-1" strike="noStrike">
                <a:solidFill>
                  <a:srgbClr val="e6fa52"/>
                </a:solidFill>
                <a:latin typeface="Calibri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</a:t>
            </a:r>
            <a:r>
              <a:rPr b="0" lang="cs-CZ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emphasis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was </a:t>
            </a:r>
            <a:r>
              <a:rPr b="0" lang="cs-CZ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on the biomedical model in medical training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which </a:t>
            </a:r>
            <a:r>
              <a:rPr b="0" lang="cs-CZ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places more value on technical proficiency than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on communication skills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26440" indent="-226440">
              <a:lnSpc>
                <a:spcPct val="120000"/>
              </a:lnSpc>
              <a:spcBef>
                <a:spcPts val="751"/>
              </a:spcBef>
              <a:buClr>
                <a:srgbClr val="08376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e6fa52"/>
                </a:solidFill>
                <a:latin typeface="Calibri"/>
                <a:ea typeface="Times New Roman"/>
              </a:rPr>
              <a:t>Recently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 learning communication skills &amp; evidence based practice become the corner stones of modern medicine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Times New Roman"/>
              </a:rPr>
              <a:t>From the doctors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Times New Roman"/>
              </a:rPr>
              <a:t> What is required</a:t>
            </a:r>
            <a:br>
              <a:rPr sz="3200"/>
            </a:br>
            <a:r>
              <a:rPr b="1" i="1" lang="en-US" sz="3200" spc="-1" strike="noStrike">
                <a:solidFill>
                  <a:srgbClr val="ffc000"/>
                </a:solidFill>
                <a:latin typeface="Calibri"/>
                <a:ea typeface="Times New Roman"/>
              </a:rPr>
              <a:t>Towards your patients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1320" y="1490760"/>
            <a:ext cx="8613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6fa52"/>
                </a:solidFill>
                <a:latin typeface="Calibri"/>
              </a:rPr>
              <a:t>Listen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 to patients and respond to their concerns and preferences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6fa52"/>
                </a:solidFill>
                <a:latin typeface="Calibri"/>
              </a:rPr>
              <a:t>Give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 patients information in way they can understand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6fa52"/>
                </a:solidFill>
                <a:latin typeface="Calibri"/>
              </a:rPr>
              <a:t>Taking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patient’s views into consideration when assessing their condit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499"/>
              </a:spcBef>
              <a:buClr>
                <a:srgbClr val="083763"/>
              </a:buClr>
              <a:buSzPct val="95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6fa52"/>
                </a:solidFill>
                <a:latin typeface="Calibri"/>
              </a:rPr>
              <a:t>Respond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 to patients questions , keep them informed &amp; share  information </a:t>
            </a:r>
            <a:r>
              <a:rPr b="0" lang="en-GB" sz="20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800600" y="149076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83763"/>
              </a:buClr>
              <a:buSzPct val="95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Times New Roman"/>
              </a:rPr>
              <a:t>From the doctors</a:t>
            </a:r>
            <a:r>
              <a:rPr b="1" lang="ar-SA" sz="3200" spc="-1" strike="noStrike">
                <a:solidFill>
                  <a:srgbClr val="ffff00"/>
                </a:solidFill>
                <a:latin typeface="Calibri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Times New Roman"/>
              </a:rPr>
              <a:t> What is required (cont: )</a:t>
            </a:r>
            <a:br>
              <a:rPr sz="3200"/>
            </a:br>
            <a:r>
              <a:rPr b="1" i="1" lang="en-US" sz="3200" spc="-1" strike="noStrike">
                <a:solidFill>
                  <a:srgbClr val="ffc000"/>
                </a:solidFill>
                <a:latin typeface="Calibri"/>
                <a:ea typeface="Times New Roman"/>
              </a:rPr>
              <a:t>Towards your </a:t>
            </a:r>
            <a:r>
              <a:rPr b="1" lang="en-US" sz="3200" spc="-1" strike="noStrike">
                <a:solidFill>
                  <a:srgbClr val="e6fa52"/>
                </a:solidFill>
                <a:latin typeface="Calibri"/>
                <a:ea typeface="Times New Roman"/>
              </a:rPr>
              <a:t>PATIENTS</a:t>
            </a:r>
            <a:r>
              <a:rPr b="1" i="1" lang="en-US" sz="3200" spc="-1" strike="noStrike">
                <a:solidFill>
                  <a:srgbClr val="ffc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02680" y="1676520"/>
            <a:ext cx="891540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6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You must make sure, wherever practical, that arrangements are made to meet patient’s language and communication needs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6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You must be considerate to relatives, carers and partners in providing information and support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From the doctors</a:t>
            </a:r>
            <a:r>
              <a:rPr b="1" lang="ar-SA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 What is required (cont: )</a:t>
            </a:r>
            <a:br>
              <a:rPr sz="3600"/>
            </a:br>
            <a:r>
              <a:rPr b="1" i="1" lang="en-US" sz="3600" spc="-1" strike="noStrike">
                <a:solidFill>
                  <a:srgbClr val="ffc000"/>
                </a:solidFill>
                <a:latin typeface="Calibri"/>
                <a:ea typeface="Times New Roman"/>
              </a:rPr>
              <a:t>Towards your </a:t>
            </a:r>
            <a:r>
              <a:rPr b="1" lang="en-US" sz="3600" spc="-1" strike="noStrike">
                <a:solidFill>
                  <a:srgbClr val="e6fa52"/>
                </a:solidFill>
                <a:latin typeface="Calibri"/>
                <a:ea typeface="Times New Roman"/>
              </a:rPr>
              <a:t>COLLEAGUES</a:t>
            </a:r>
            <a:r>
              <a:rPr b="1" i="1" lang="en-US" sz="3600" spc="-1" strike="noStrike">
                <a:solidFill>
                  <a:srgbClr val="ffc000"/>
                </a:solidFill>
                <a:latin typeface="Calibri"/>
                <a:ea typeface="Times New Roman"/>
              </a:rPr>
              <a:t> 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1320" y="24382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Communicate effectively with colleagues within and outside the team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Make sure your colleagues understand your role and responsibilities in the team and who is responsible for each aspect of patient car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You must treat your colleagues fairly and with respec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60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Why do the doctors need to practice good communication?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51920" y="14479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Doctors need to learn essentials of good communication more than other professionals because patients are humans with sensitive needs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Doctors cannot practice medicine without effective communication skills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oor communication causes a lot of medico-legal and ethical problems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Content Placeholder 3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39621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"/>
          <p:cNvSpPr/>
          <p:nvPr/>
        </p:nvSpPr>
        <p:spPr>
          <a:xfrm>
            <a:off x="152280" y="3995640"/>
            <a:ext cx="876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br>
              <a:rPr sz="1800"/>
            </a:br>
            <a:r>
              <a:rPr b="0" lang="ar-SA" sz="1800" spc="-1" strike="noStrike">
                <a:solidFill>
                  <a:srgbClr val="ffffff"/>
                </a:solidFill>
                <a:latin typeface="Tahoma"/>
                <a:cs typeface="Arial"/>
              </a:rPr>
              <a:t>عن عائشة رضي الله عنها أن رسول اله صلى الله عليه وسلم قال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ar-SA" sz="1800" spc="-1" strike="noStrike">
                <a:solidFill>
                  <a:srgbClr val="ffffff"/>
                </a:solidFill>
                <a:latin typeface="Tahoma"/>
                <a:ea typeface="Arial"/>
              </a:rPr>
              <a:t>” إن الله يحب إذا عمل أحدكم عملا أن يتقنه“</a:t>
            </a:r>
            <a:br>
              <a:rPr sz="1800"/>
            </a:b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Allah loves when one of you to do it well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”                  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ahoma"/>
                <a:cs typeface="Arial"/>
              </a:rPr>
              <a:t>رواه الطبراني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Communication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With whom?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52280" y="16002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4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atients &amp; care-giver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Nurses &amp; auxiliary staff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Colleague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dministrator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Reporting research finding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alking to the media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4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ublic &amp; legislatur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Where to apply our Communication skills ?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51920" y="990360"/>
            <a:ext cx="899172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83763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medical interview is the usual communication encounter and is classified into 4 types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  <a:ea typeface="Times New Roman"/>
              </a:rPr>
              <a:t>1. History taking                      2.  Consultation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  <a:ea typeface="Times New Roman"/>
              </a:rPr>
              <a:t>3.Obtaining informed             4. Breaking bad new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Calibri"/>
                <a:ea typeface="Times New Roman"/>
              </a:rPr>
              <a:t>Consen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77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fa52"/>
                </a:solidFill>
                <a:latin typeface="Calibri"/>
              </a:rPr>
              <a:t>Breaking bad news 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86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Effective communication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560" y="837720"/>
            <a:ext cx="88390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799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Ensures good working relationship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799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Increases patients satisfaction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799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Increases patients understanding of illness &amp; managemen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799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Improves patients compliance with treatmen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799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Reduces medico-legal problem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Reduces uncertainty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-457200"/>
            <a:ext cx="89917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Principles of effective communication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13712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lanning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Interaction rather than a direct transmiss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Flexibility in relation to different individuals and contexts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bility to handle emotional outbreak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Communication with peers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1920" y="12952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Times New Roman"/>
              </a:rPr>
              <a:t>Mutual trust &amp; respec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Times New Roman"/>
              </a:rPr>
              <a:t>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Times New Roman"/>
              </a:rPr>
              <a:t>Exchange informat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Times New Roman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Times New Roman"/>
              </a:rPr>
              <a:t>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Calibri"/>
                <a:ea typeface="Times New Roman"/>
              </a:rPr>
              <a:t>Ask your senior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Communication &amp; Medical care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083763"/>
              </a:buClr>
              <a:buSzPct val="90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Good communication should be established  between the patient , the family and the treating multidisciplinary team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083763"/>
              </a:buClr>
              <a:buSzPct val="90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Patient &amp; family should be encouraged to participate and verbalize in the  ward round discussion about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83763"/>
              </a:buClr>
              <a:buSzPct val="85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Offered medical care &amp; treatment      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83763"/>
              </a:buClr>
              <a:buSzPct val="85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Rehabilitation             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83763"/>
              </a:buClr>
              <a:buSzPct val="85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Follow- up/re-admission plan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01"/>
              </a:spcBef>
              <a:buClr>
                <a:srgbClr val="083763"/>
              </a:buClr>
              <a:buSzPct val="85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Doubts &amp; worries.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20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20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Proper information to patient and family regarding services available and how they can utilize them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20280" indent="-238320">
              <a:lnSpc>
                <a:spcPct val="150000"/>
              </a:lnSpc>
              <a:spcBef>
                <a:spcPts val="601"/>
              </a:spcBef>
              <a:buClr>
                <a:srgbClr val="083763"/>
              </a:buClr>
              <a:buSzPct val="85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alibri"/>
              </a:rPr>
              <a:t>Communication skills: Some techniques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83808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000"/>
                </a:solidFill>
                <a:latin typeface="Calibri"/>
                <a:ea typeface="Times New Roman"/>
              </a:rPr>
              <a:t>PRACTICE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- fluent dialogue with patien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000"/>
                </a:solidFill>
                <a:latin typeface="Calibri"/>
                <a:ea typeface="Times New Roman"/>
              </a:rPr>
              <a:t>USE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- silence effectively, allowing patient enough time to express thoughts or feeling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000"/>
                </a:solidFill>
                <a:latin typeface="Calibri"/>
                <a:ea typeface="Times New Roman"/>
              </a:rPr>
              <a:t>ENCOURAGE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- patients with your supportive word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000"/>
                </a:solidFill>
                <a:latin typeface="Calibri"/>
                <a:ea typeface="Times New Roman"/>
              </a:rPr>
              <a:t>UTILIZE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 - non-verbal communication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e6fa52"/>
                </a:solidFill>
                <a:latin typeface="Calibri"/>
                <a:ea typeface="Times New Roman"/>
              </a:rPr>
              <a:t>Listening vs Hearing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294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c000"/>
                </a:solidFill>
                <a:latin typeface="Calibri"/>
                <a:ea typeface="Times New Roman"/>
              </a:rPr>
              <a:t>Hearing</a:t>
            </a:r>
            <a:r>
              <a:rPr b="1" lang="en-A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- a passive activity; no effor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c000"/>
                </a:solidFill>
                <a:latin typeface="Calibri"/>
                <a:ea typeface="Times New Roman"/>
              </a:rPr>
              <a:t>Listening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85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ttent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85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ctive involvement,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85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Full understanding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83763"/>
              </a:buClr>
              <a:buSzPct val="85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akes time and effor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-457200"/>
            <a:ext cx="89917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Barriers to effective communication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09480" y="12193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901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Personal attitudes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20000"/>
              </a:lnSpc>
              <a:spcBef>
                <a:spcPts val="901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Ignorance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20000"/>
              </a:lnSpc>
              <a:spcBef>
                <a:spcPts val="901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Human failings (tiredness, stress)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20000"/>
              </a:lnSpc>
              <a:spcBef>
                <a:spcPts val="901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Language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20000"/>
              </a:lnSpc>
              <a:spcBef>
                <a:spcPts val="901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Poor time management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20000"/>
              </a:lnSpc>
              <a:spcBef>
                <a:spcPts val="901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Strenuous working environment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Calibri"/>
              </a:rPr>
              <a:t>OBJECTIVES 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934640"/>
            <a:ext cx="87631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</a:rPr>
              <a:t>At the end of today’s session students should be able to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ffff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Understand Communication, its theory and  types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ffff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Describe the Importance of communication in medicine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ffff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Apply the Principles of effective communication in daily life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ffff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Identify the barriers to effective communication and ways to overcome these barriers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Communication 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mmunication Influences Your Thinking about Yourself and Other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mmunication Influences How You Lear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mmunication Represents You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mmunication Skills Are Desired by all organizations / institutions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Conclusion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28600" y="9907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Effective communication is the </a:t>
            </a:r>
            <a:r>
              <a:rPr b="1" i="1" lang="en-US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key to success in professional career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83763"/>
              </a:buClr>
              <a:buSzPct val="95000"/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Good communication is essential for proper doctor-patient relationship and </a:t>
            </a:r>
            <a:r>
              <a:rPr b="1" i="1" lang="en-US" sz="3600" spc="-1" strike="noStrike">
                <a:solidFill>
                  <a:srgbClr val="ffff00"/>
                </a:solidFill>
                <a:latin typeface="Calibri"/>
                <a:ea typeface="Times New Roman"/>
              </a:rPr>
              <a:t>helps avoid problems of misunderstanding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itle 1" descr=""/>
          <p:cNvPicPr/>
          <p:nvPr/>
        </p:nvPicPr>
        <p:blipFill>
          <a:blip r:embed="rId1"/>
          <a:stretch/>
        </p:blipFill>
        <p:spPr>
          <a:xfrm>
            <a:off x="536400" y="304920"/>
            <a:ext cx="7851960" cy="1511280"/>
          </a:xfrm>
          <a:prstGeom prst="rect">
            <a:avLst/>
          </a:prstGeom>
          <a:ln w="0">
            <a:noFill/>
          </a:ln>
        </p:spPr>
      </p:pic>
      <p:pic>
        <p:nvPicPr>
          <p:cNvPr id="168" name="Content Placeholder 2" descr=""/>
          <p:cNvPicPr/>
          <p:nvPr/>
        </p:nvPicPr>
        <p:blipFill>
          <a:blip r:embed="rId2"/>
          <a:stretch/>
        </p:blipFill>
        <p:spPr>
          <a:xfrm>
            <a:off x="536400" y="3230640"/>
            <a:ext cx="7974360" cy="1749240"/>
          </a:xfrm>
          <a:prstGeom prst="rect">
            <a:avLst/>
          </a:prstGeom>
          <a:ln w="0">
            <a:noFill/>
          </a:ln>
        </p:spPr>
      </p:pic>
      <p:pic>
        <p:nvPicPr>
          <p:cNvPr id="169" name="rg_hi" descr="http://t0.gstatic.com/images?q=tbn:ANd9GcQtZVqWJQm8I5qn16DBMp1tM_xSAGaLvtiRqXen13CAGRTwGzX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1676520"/>
            <a:ext cx="3809880" cy="3733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Users\Kamran\Pictures\imagesCAXJJY1Z.jpg"/>
          <p:cNvPicPr/>
          <p:nvPr/>
        </p:nvPicPr>
        <p:blipFill>
          <a:blip r:embed="rId5"/>
          <a:stretch/>
        </p:blipFill>
        <p:spPr>
          <a:xfrm>
            <a:off x="4876920" y="1676520"/>
            <a:ext cx="3828960" cy="3657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Users\vista\Pictures\MM900284065[1].GIF"/>
          <p:cNvPicPr/>
          <p:nvPr/>
        </p:nvPicPr>
        <p:blipFill>
          <a:blip r:embed="rId6"/>
          <a:stretch/>
        </p:blipFill>
        <p:spPr>
          <a:xfrm>
            <a:off x="3581280" y="4572000"/>
            <a:ext cx="16765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52280" y="11426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nstantia"/>
              </a:rPr>
              <a:t>Thought of the Day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Communication forms a part of your self-concept, and it helps you understand yourself and others, solve problems and learn new things, and build your career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2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onstantia"/>
              </a:rPr>
              <a:t>http://catalog.flatworldknowledge.com/bookhub/reader/15?e=mclean-ch01_s01</a:t>
            </a:r>
            <a:endParaRPr b="0" lang="en-US" sz="11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Calibri"/>
              </a:rPr>
              <a:t>https://www.cartoonstock.com/directory/b/back_seat_driver.asp</a:t>
            </a:r>
            <a:endParaRPr b="0" lang="en-US" sz="12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bf5f9"/>
                </a:solidFill>
                <a:latin typeface="Calibri"/>
              </a:rPr>
              <a:t>http://www.docjokes.com/i/tech-cartoons-information-technology-cartoons-randy-glasbergen-todays-cartoon.html</a:t>
            </a:r>
            <a:endParaRPr b="0" lang="en-US" sz="11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12600" y="0"/>
            <a:ext cx="9144000" cy="583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http://www.canstockphoto.com/illustration/communication-skills.html#file_view.php?id=0279247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4" descr=""/>
          <p:cNvPicPr/>
          <p:nvPr/>
        </p:nvPicPr>
        <p:blipFill>
          <a:blip r:embed="rId1"/>
          <a:stretch/>
        </p:blipFill>
        <p:spPr>
          <a:xfrm>
            <a:off x="457200" y="-152280"/>
            <a:ext cx="7851600" cy="2097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1260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fa52"/>
                </a:solidFill>
                <a:latin typeface="Calibri"/>
              </a:rPr>
              <a:t>What is your choice for good communication ?</a:t>
            </a:r>
            <a:r>
              <a:rPr b="1" lang="en-US" sz="6000" spc="-1" strike="noStrike">
                <a:solidFill>
                  <a:srgbClr val="e6fa52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05:46:08Z</dcterms:created>
  <dc:creator>FSC</dc:creator>
  <dc:description/>
  <dc:language>en-US</dc:language>
  <cp:lastModifiedBy>Dr. Kamran</cp:lastModifiedBy>
  <dcterms:modified xsi:type="dcterms:W3CDTF">2015-12-23T06:18:16Z</dcterms:modified>
  <cp:revision>194</cp:revision>
  <dc:subject/>
  <dc:title>CANCER EPIDEM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Lectures\19011-20001\19581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