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CBD4-DA96-4322-B6DA-76562A8DDA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A45E-F585-4475-8C89-3CC4A0A7FEE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1C65-EFDA-42C2-9F28-0CE8BE0CCF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55EC-CC5D-4822-BE9D-2421E6C86C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1E1A-F025-4123-A798-186ECE959B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FA4F-F385-4FF0-9AE0-5D57F38F94C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44FA-C3B9-4FF0-887B-867490A0BA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E10E-02F0-4258-B201-595069EDAB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E501-FDA4-4C6A-A480-1D9DE9F383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E540-6D57-4466-BA42-01EC53F4C8B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FD27-4BDF-426F-A473-22DD12D891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C11C-1813-40B0-A250-09FF768226C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2FCA-2C37-4AFB-B87F-69090D7B79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A1E4-DE85-4F41-BD8D-6C647B6272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00A9-F322-48A9-885F-79F7D82212B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2D45-E730-488B-8B71-06EDC6F4DE5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B2FC-006A-4E1D-A1CB-83FE15E6EE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5B8-4EB0-4058-9CE1-87A977E2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B34-E429-4C49-93E6-37D23603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D02-A84D-495F-9A64-B875085E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84A9-4468-4229-AE79-C17FB00A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F473-70CC-477B-A1E2-6E6D2CF1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569E-1629-41ED-AFD4-E2E80DEC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2D64-F262-454F-A83E-45B7C67A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E310-EBB5-41B3-903A-261680E0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623F-2B81-4101-89E3-20A030BD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FA94-A580-4BF8-93E3-1801720A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1A51-6844-4F75-8454-06198156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8BF7-9884-41EC-8B17-DC805E6E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6FAE-107D-443F-9131-85D232A8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9F15-AE66-449E-B171-DA72F5E5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51B1-0D4C-40DC-8C89-D37F9094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2E9F-8B09-4CE6-9FE6-31972389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6868-3EB5-47A9-ACA3-77A49456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E97-775C-4783-AE4D-8978E902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FFCD-2FFE-4A0E-88AB-A77CD71A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767-905C-45C5-A485-884DC3DE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E80-339C-42F0-B66E-D7930144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41E-D1B0-45BB-8ED0-3B5DF041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477-FC13-4C5C-A08F-69345DCC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B8F-4A98-4F8A-81AF-3D13BCCD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97E9-160E-4C39-980B-7665F3FA31CC}" type="slidenum">
              <a:rPr b="0" lang="ar-SA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3EC3-9C26-4938-83EF-18563A97A7BB}" type="slidenum">
              <a:rPr b="0" lang="ar-SA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hyperlink" Target="http://www.google.com.sa/imgres?q=ALL+THE+BEST&amp;hl=en&amp;safe=active&amp;biw=1152&amp;bih=566&amp;gbv=2&amp;tbm=isch&amp;tbnid=fnRg7fl4vZNbcM:&amp;imgrefurl=http://qiscetmca09.blogspot.com/2010/11/all-best.html&amp;docid=f2nEVg6EopIWKM&amp;w=400&amp;h=353&amp;ei=rb15To2xJMz1sgastcnfDw&amp;zoom=1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244440" y="0"/>
            <a:ext cx="8545680" cy="2230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68280" y="3905280"/>
            <a:ext cx="64008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DR. KAMRAN SATTAR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MBB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MedEd UoD (UK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AcadMEd AoME (UK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llege of Medicin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ing Saud Univers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26892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What is Communication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600" y="9140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Is the act by which information is shared between huma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It is the process by which we relate and interact with other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It includes listening &amp; understanding with passion &amp; respect as well as expressing views &amp; ideas and passing information to others in a clear manne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9144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COMMUNICATION THEORY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523520"/>
            <a:ext cx="91440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 is a learned skill based on 3 pillars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urac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venes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8376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All of the above combine to contribute to effectiveness of communic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communication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7" name="Picture 2" descr="C:\Users\user\Desktop\New folder\verbal.gif"/>
          <p:cNvPicPr/>
          <p:nvPr/>
        </p:nvPicPr>
        <p:blipFill>
          <a:blip r:embed="rId1"/>
          <a:stretch/>
        </p:blipFill>
        <p:spPr>
          <a:xfrm>
            <a:off x="1752480" y="1143000"/>
            <a:ext cx="57913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Verbal Communication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peaking to the pers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Look straight in the eye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make eye contac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Show respec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lear messag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Releva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Use understandable langua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Support by illustrations if neede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Good listene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Allow others to understand the message and repl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Listen carefull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Make a dialogue ant not one way instruc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Communication: Why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1320" y="23623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Effectiv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communication is the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basis of mutual understanding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&amp; trust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5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Poor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ommunication causes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a lot of misunderstanding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&amp; hinders work &amp; productivity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42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Communication &amp; Medicine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99036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50000"/>
              </a:lnSpc>
              <a:spcBef>
                <a:spcPts val="751"/>
              </a:spcBef>
              <a:buClr>
                <a:srgbClr val="08376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6fa52"/>
                </a:solidFill>
                <a:latin typeface="Calibri"/>
                <a:ea typeface="Times New Roman"/>
              </a:rPr>
              <a:t>H</a:t>
            </a:r>
            <a:r>
              <a:rPr b="1" lang="cs-CZ" sz="3000" spc="-1" strike="noStrike">
                <a:solidFill>
                  <a:srgbClr val="e6fa52"/>
                </a:solidFill>
                <a:latin typeface="Calibri"/>
                <a:ea typeface="Times New Roman"/>
              </a:rPr>
              <a:t>istorically</a:t>
            </a:r>
            <a:r>
              <a:rPr b="1" lang="en-US" sz="3000" spc="-1" strike="noStrike">
                <a:solidFill>
                  <a:srgbClr val="e6fa52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</a:t>
            </a:r>
            <a:r>
              <a:rPr b="0" lang="cs-CZ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emphasis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was </a:t>
            </a:r>
            <a:r>
              <a:rPr b="0" lang="cs-CZ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on the biomedical model in medical training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which </a:t>
            </a:r>
            <a:r>
              <a:rPr b="0" lang="cs-CZ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places more value on technical proficiency than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on communication skills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26440" indent="-226440">
              <a:lnSpc>
                <a:spcPct val="120000"/>
              </a:lnSpc>
              <a:spcBef>
                <a:spcPts val="751"/>
              </a:spcBef>
              <a:buClr>
                <a:srgbClr val="08376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e6fa52"/>
                </a:solidFill>
                <a:latin typeface="Calibri"/>
                <a:ea typeface="Times New Roman"/>
              </a:rPr>
              <a:t>Recently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 learning communication skills &amp; evidence based practice become the corner stones of modern medicine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From the doctors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 What is required</a:t>
            </a:r>
            <a:br>
              <a:rPr sz="3200"/>
            </a:br>
            <a:r>
              <a:rPr b="1" i="1" lang="en-US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Towards your patients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1320" y="1490760"/>
            <a:ext cx="8613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6fa52"/>
                </a:solidFill>
                <a:latin typeface="Calibri"/>
              </a:rPr>
              <a:t>Listen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to patients and respond to their concerns and preference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6fa52"/>
                </a:solidFill>
                <a:latin typeface="Calibri"/>
              </a:rPr>
              <a:t>Give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patients information in way they can understand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6fa52"/>
                </a:solidFill>
                <a:latin typeface="Calibri"/>
              </a:rPr>
              <a:t>Taking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atient’s views into consideration when assessing their condi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6fa52"/>
                </a:solidFill>
                <a:latin typeface="Calibri"/>
              </a:rPr>
              <a:t>Respond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to patients questions , keep them informed &amp; share  information </a:t>
            </a:r>
            <a:r>
              <a:rPr b="0" lang="en-GB" sz="2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00600" y="149076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From the doctors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 What is required (cont: )</a:t>
            </a:r>
            <a:br>
              <a:rPr sz="3200"/>
            </a:br>
            <a:r>
              <a:rPr b="1" i="1" lang="en-US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Towards your </a:t>
            </a:r>
            <a:r>
              <a:rPr b="1" lang="en-US" sz="3200" spc="-1" strike="noStrike">
                <a:solidFill>
                  <a:srgbClr val="e6fa52"/>
                </a:solidFill>
                <a:latin typeface="Calibri"/>
                <a:ea typeface="Times New Roman"/>
              </a:rPr>
              <a:t>PATIENTS</a:t>
            </a:r>
            <a:r>
              <a:rPr b="1" i="1" lang="en-US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02680" y="1676520"/>
            <a:ext cx="891540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6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You must make sure, wherever practical, that arrangements are made to meet patient’s language and communication need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6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You must be considerate to relatives, carers and partners in providing information and support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From the doctors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 What is required (cont: )</a:t>
            </a:r>
            <a:br>
              <a:rPr sz="3600"/>
            </a:br>
            <a:r>
              <a:rPr b="1" i="1" lang="en-US" sz="3600" spc="-1" strike="noStrike">
                <a:solidFill>
                  <a:srgbClr val="ffc000"/>
                </a:solidFill>
                <a:latin typeface="Calibri"/>
                <a:ea typeface="Times New Roman"/>
              </a:rPr>
              <a:t>Towards your </a:t>
            </a:r>
            <a:r>
              <a:rPr b="1" lang="en-US" sz="3600" spc="-1" strike="noStrike">
                <a:solidFill>
                  <a:srgbClr val="e6fa52"/>
                </a:solidFill>
                <a:latin typeface="Calibri"/>
                <a:ea typeface="Times New Roman"/>
              </a:rPr>
              <a:t>COLLEAGUES</a:t>
            </a:r>
            <a:r>
              <a:rPr b="1" i="1" lang="en-US" sz="3600" spc="-1" strike="noStrike">
                <a:solidFill>
                  <a:srgbClr val="ffc000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1320" y="24382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ommunicate effectively with colleagues within and outside the tea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ake sure your colleagues understand your role and responsibilities in the team and who is responsible for each aspect of patient car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You must treat your colleagues fairly and with respec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0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Why do the doctors need to practice good communication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192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octors need to learn essentials of good communication more than other professionals because patients are humans with sensitive need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octors cannot practice medicine without effective communication skill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oor communication causes a lot of medico-legal and ethical problems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ntent Placeholder 3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3962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152280" y="399564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Tahoma"/>
                <a:cs typeface="Arial"/>
              </a:rPr>
              <a:t>عن عائشة رضي الله عنها أن رسول اله صلى الله عليه وسلم قال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” إن الله يحب إذا عمل أحدكم عملا أن يتقنه“</a:t>
            </a: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Allah loves when one of you to do it well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”                  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  <a:cs typeface="Arial"/>
              </a:rPr>
              <a:t>رواه الطبران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Communication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With whom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atients &amp; care-giver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Nurses &amp; auxiliary staff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olleagu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dministrator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porting research finding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alking to the media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ublic &amp; legislatur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Where to apply our Communication skills 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1920" y="990360"/>
            <a:ext cx="89917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medical interview is the usual communication encounter and is classified into 4 types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1. History taking                      2.  Consultation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3.Obtaining informed             4. Breaking bad new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Consen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fa52"/>
                </a:solidFill>
                <a:latin typeface="Calibri"/>
              </a:rPr>
              <a:t>Breaking bad news 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Effective communication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560" y="8377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Ensures good working relationship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Increases patients satisfactio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Increases patients understanding of illness &amp; managemen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Improves patients compliance with treatmen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Reduces medico-legal problem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Reduces uncertaint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45720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Principles of effective communication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lanning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teraction rather than a direct transmiss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lexibility in relation to different individuals and context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bility to handle emotional outbreak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Communication with peers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1920" y="12952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Mutual trust &amp; respec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Exchange inform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Ask your senior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Communication &amp; Medical care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90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Good communication should be established  between the patient , the family and the treating multidisciplinary team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90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atient &amp; family should be encouraged to participate and verbalize in the  ward round discussion about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ffered medical care &amp; treatment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habilitation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ollow- up/re-admission plan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oubts &amp; worries.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Proper information to patient and family regarding services available and how they can utilize them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alibri"/>
              </a:rPr>
              <a:t>Communication skills: Some techniques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8380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PRACTICE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- fluent dialogue with patien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USE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- silence effectively, allowing patient enough time to express thoughts or feeling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ENCOURAGE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- patients with your supportive word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UTILIZE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- non-verbal communication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e6fa52"/>
                </a:solidFill>
                <a:latin typeface="Calibri"/>
                <a:ea typeface="Times New Roman"/>
              </a:rPr>
              <a:t>Listening vs Hearing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c000"/>
                </a:solidFill>
                <a:latin typeface="Calibri"/>
                <a:ea typeface="Times New Roman"/>
              </a:rPr>
              <a:t>Hearing</a:t>
            </a: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- a passive activity; no effor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c000"/>
                </a:solidFill>
                <a:latin typeface="Calibri"/>
                <a:ea typeface="Times New Roman"/>
              </a:rPr>
              <a:t>Listening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tten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ctive involvement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ull understanding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akes time and effor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-45720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Barriers to effective communication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Personal attitude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Ignoranc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Human failings (tiredness, stress)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Languag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Poor time managemen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Strenuous working environmen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Calibri"/>
              </a:rPr>
              <a:t>OBJECTIVES 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</a:rPr>
              <a:t>At the end of today’s session students should be able to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ffff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Understand Communication, its theory and  type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ffff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Describe the Importance of communication in medicin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ffff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Apply the Principles of effective communication in daily lif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ffff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Identify the barriers to effective communication and ways to overcome these barriers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Communication 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munication Influences Your Thinking about Yourself and Oth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munication Influences How You Lear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munication Represents Yo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munication Skills Are Desired by all organizations / institution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Conclusion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Effective communication is the </a:t>
            </a:r>
            <a:r>
              <a:rPr b="1" i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key to success in professional career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Good communication is essential for proper doctor-patient relationship and </a:t>
            </a:r>
            <a:r>
              <a:rPr b="1" i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helps avoid problems of misunderstanding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536400" y="304920"/>
            <a:ext cx="7851960" cy="1511280"/>
          </a:xfrm>
          <a:prstGeom prst="rect">
            <a:avLst/>
          </a:prstGeom>
          <a:ln w="0">
            <a:noFill/>
          </a:ln>
        </p:spPr>
      </p:pic>
      <p:pic>
        <p:nvPicPr>
          <p:cNvPr id="168" name="Content Placeholder 2" descr=""/>
          <p:cNvPicPr/>
          <p:nvPr/>
        </p:nvPicPr>
        <p:blipFill>
          <a:blip r:embed="rId2"/>
          <a:stretch/>
        </p:blipFill>
        <p:spPr>
          <a:xfrm>
            <a:off x="536400" y="3230640"/>
            <a:ext cx="7974360" cy="1749240"/>
          </a:xfrm>
          <a:prstGeom prst="rect">
            <a:avLst/>
          </a:prstGeom>
          <a:ln w="0">
            <a:noFill/>
          </a:ln>
        </p:spPr>
      </p:pic>
      <p:pic>
        <p:nvPicPr>
          <p:cNvPr id="169" name="rg_hi" descr="http://t0.gstatic.com/images?q=tbn:ANd9GcQtZVqWJQm8I5qn16DBMp1tM_xSAGaLvtiRqXen13CAGRTwGzX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676520"/>
            <a:ext cx="3809880" cy="373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Kamran\Pictures\imagesCAXJJY1Z.jpg"/>
          <p:cNvPicPr/>
          <p:nvPr/>
        </p:nvPicPr>
        <p:blipFill>
          <a:blip r:embed="rId5"/>
          <a:stretch/>
        </p:blipFill>
        <p:spPr>
          <a:xfrm>
            <a:off x="4876920" y="1676520"/>
            <a:ext cx="3828960" cy="3657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Users\vista\Pictures\MM900284065[1].GIF"/>
          <p:cNvPicPr/>
          <p:nvPr/>
        </p:nvPicPr>
        <p:blipFill>
          <a:blip r:embed="rId6"/>
          <a:stretch/>
        </p:blipFill>
        <p:spPr>
          <a:xfrm>
            <a:off x="3581280" y="4572000"/>
            <a:ext cx="16765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5228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Thought of the Day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Communication forms a part of your self-concept, and it helps you understand yourself and others, solve problems and learn new things, and build your career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http://catalog.flatworldknowledge.com/bookhub/reader/15?e=mclean-ch01_s01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alibri"/>
              </a:rPr>
              <a:t>https://www.cartoonstock.com/directory/b/back_seat_driver.asp</a:t>
            </a:r>
            <a:endParaRPr b="0" lang="en-US" sz="1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f5f9"/>
                </a:solidFill>
                <a:latin typeface="Calibri"/>
              </a:rPr>
              <a:t>http://www.docjokes.com/i/tech-cartoons-information-technology-cartoons-randy-glasbergen-todays-cartoon.html</a:t>
            </a:r>
            <a:endParaRPr b="0" lang="en-US" sz="11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2600" y="0"/>
            <a:ext cx="9144000" cy="583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http://www.canstockphoto.com/illustration/communication-skills.html#file_view.php?id=0279247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4" descr=""/>
          <p:cNvPicPr/>
          <p:nvPr/>
        </p:nvPicPr>
        <p:blipFill>
          <a:blip r:embed="rId1"/>
          <a:stretch/>
        </p:blipFill>
        <p:spPr>
          <a:xfrm>
            <a:off x="457200" y="-152280"/>
            <a:ext cx="7851600" cy="2097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260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fa52"/>
                </a:solidFill>
                <a:latin typeface="Calibri"/>
              </a:rPr>
              <a:t>What is your choice for good communication ?</a:t>
            </a:r>
            <a:r>
              <a:rPr b="1" lang="en-US" sz="6000" spc="-1" strike="noStrike">
                <a:solidFill>
                  <a:srgbClr val="e6fa52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5:46:08Z</dcterms:created>
  <dc:creator>FSC</dc:creator>
  <dc:description/>
  <dc:language>en-US</dc:language>
  <cp:lastModifiedBy>Dr. Kamran</cp:lastModifiedBy>
  <dcterms:modified xsi:type="dcterms:W3CDTF">2015-12-23T06:18:16Z</dcterms:modified>
  <cp:revision>194</cp:revision>
  <dc:subject/>
  <dc:title>CANCER EPIDEM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Lectures\19011-20001\1958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