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B2C9-4AE5-4D06-879D-62FCA5730A85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E60F-239C-4BA0-9F48-7AC2501A64EF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A3C1-787C-4B83-85AF-15B212B11931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A0CB-8741-48A1-BF37-B3ED12FE6F94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9443-A408-4379-890A-47E6D4B3ADC4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2F1CA-A415-427F-99B2-C8BC1C250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C1ACA-2CE5-4000-88D1-49952469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D01AC-AE2D-4F30-90C0-C391DF4DD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62130-6D7B-4C22-9992-E2B248F2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2861-08D7-4AB4-BAF5-4CDDE81BC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5337-8F14-4FF7-B906-FBD53063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01ED-6C55-4AEE-8183-54B6E793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8B38-788A-431C-910B-7569275F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9AD5-1409-46E8-859F-A65F8B6D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E5FE-0C2F-4B23-8BDB-27830BF4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5254-E31A-461A-98AD-4A39AC84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AA69D-E124-4CD6-AA59-3D0B999D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CBE6-1193-4E74-886E-67118E77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A505-60C9-48B7-9441-F0DFB0DF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E409-4A2E-4F14-8ABB-1FD12002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9ACB-24B8-4A0A-A560-29C3289E9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F52F-A1BB-4F06-8855-D1858AF4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A3676-4947-4377-BFB2-590895A3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CC22A-3C59-44CA-AFDC-859427B2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B958B-883A-4050-A705-756BAD20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E9F9C-CF43-40D6-BF20-4FEA3A89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BC09E-9C71-4BD0-84BF-C1AC8427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768B2-6A3D-4D04-9F2E-4A4F15F0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30C4D-3B32-467C-B797-AB4F1365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6068-299E-4687-A189-FD05A0DECD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B8BA-57EC-4176-9BE1-30DE1C0FA4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http://2.bp.blogspot.com/-2G5MYerDFqY/TjkKC5S-1FI/AAAAAAAAASA/G55Qxx4yFFA/s1600/Peptic+Ulcer.jpg"/>
          <p:cNvPicPr/>
          <p:nvPr/>
        </p:nvPicPr>
        <p:blipFill>
          <a:blip r:embed="rId1"/>
          <a:stretch/>
        </p:blipFill>
        <p:spPr>
          <a:xfrm>
            <a:off x="900000" y="620640"/>
            <a:ext cx="6193080" cy="25210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179280" y="3284640"/>
            <a:ext cx="8425080" cy="19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lockers and proton pump inhibito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427640" y="4206960"/>
            <a:ext cx="4537080" cy="19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of. Hanan Hagar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42920" y="356760"/>
            <a:ext cx="8750160" cy="62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gulation of gastric secre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rietal cells secrete acid in response to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 (neurotransmitter): M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rin (hormone): CCK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eptors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</a:t>
            </a: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cholecystokini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amine (local hormone): 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ep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n pump (H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K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Pase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showimage.jpg"/>
          <p:cNvPicPr/>
          <p:nvPr/>
        </p:nvPicPr>
        <p:blipFill>
          <a:blip r:embed="rId1"/>
          <a:stretch/>
        </p:blipFill>
        <p:spPr>
          <a:xfrm>
            <a:off x="106200" y="115920"/>
            <a:ext cx="892980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reatment of peptic ul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adication of H. pylori infe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secretory dr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Proton pump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6600cc"/>
                </a:solidFill>
                <a:latin typeface="Times New Roman"/>
                <a:ea typeface="Times New Roman"/>
              </a:rPr>
              <a:t>2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receptor blo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Antimuscarinic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osal cytoprotective ag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12840" indent="-8128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Prostaglandin analog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tralizing agents (antacid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peptic-ulcers.jpg"/>
          <p:cNvPicPr/>
          <p:nvPr/>
        </p:nvPicPr>
        <p:blipFill>
          <a:blip r:embed="rId1"/>
          <a:stretch/>
        </p:blipFill>
        <p:spPr>
          <a:xfrm>
            <a:off x="6732720" y="3645000"/>
            <a:ext cx="24112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http://www.nature.com/nrd/journal/v2/n2/images/nrd1010-f2.gif"/>
          <p:cNvPicPr/>
          <p:nvPr/>
        </p:nvPicPr>
        <p:blipFill>
          <a:blip r:embed="rId1"/>
          <a:srcRect l="1600" t="1410" r="1600" b="394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214200" y="71280"/>
            <a:ext cx="8858520" cy="671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astric hyposecretory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Hyposecretory drug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gast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ion </a:t>
            </a:r>
            <a:r>
              <a:rPr b="1" lang="en-US" sz="3200" spc="-1" strike="noStrike">
                <a:solidFill>
                  <a:srgbClr val="6600cc"/>
                </a:solidFill>
                <a:latin typeface="Wingdings 3"/>
                <a:ea typeface="Wingdings 3"/>
              </a:rPr>
              <a:t>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e healing &amp; relieve 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clud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n pump inhibi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eptor blo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muscarinic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Proton pump inhibitor drugs.jpg"/>
          <p:cNvPicPr/>
          <p:nvPr/>
        </p:nvPicPr>
        <p:blipFill>
          <a:blip r:embed="rId1"/>
          <a:stretch/>
        </p:blipFill>
        <p:spPr>
          <a:xfrm>
            <a:off x="324000" y="333360"/>
            <a:ext cx="864072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7640" y="189000"/>
            <a:ext cx="8785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42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42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n-CL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ton Pump Inhibitors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(PPI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42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42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e</a:t>
            </a:r>
            <a:r>
              <a:rPr b="1" lang="en-US" sz="34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prazole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Lanso</a:t>
            </a:r>
            <a:r>
              <a:rPr b="1" lang="en-US" sz="34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prazol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842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to</a:t>
            </a:r>
            <a:r>
              <a:rPr b="1" lang="en-US" sz="34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prazole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Ra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praz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s by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rreversible </a:t>
            </a:r>
            <a:r>
              <a:rPr b="1" lang="en-US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inhibition of proton pump   (H+/ K+ ATPase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is responsible for final step in gastric acid secretion from the parietal cell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ovalently bind to the pump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5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357120" y="1071720"/>
            <a:ext cx="8429760" cy="53575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428760" y="42876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astric secretion by parietal cell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428760" y="404640"/>
            <a:ext cx="8429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bjectives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derstand the key points of pathophysiology of the peptic ulcer disease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umerate various classes of dugs used in peptic ulcer diseas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now the characteristic pharmacokinetics, pharmacodynamics and side effects of drugs used in peptic ulcer disease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now the cytoprotective drugs mainly misoprostol and its use in NSAIDs-induced peptic ulcer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y different antacids that are used to relief pain of peptic ulcer.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y potential adverse drug interactions of anti-ulcer drugs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856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dynam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most potent inhibitor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acid secretion available to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 marked inhibition of basal &amp; meal stimulated-acid secre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0-98%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pepsin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e mucosal healing &amp; decrease 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Proton pump inhibitors heal ulcers faster than H</a:t>
            </a:r>
            <a:r>
              <a:rPr b="1" lang="en-US" sz="3200" spc="-1" strike="noStrike" baseline="-25000">
                <a:solidFill>
                  <a:srgbClr val="6600cc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blockers, and have H. pylori inhibitory proper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4978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kinetics of PP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or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pro-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as enteric coated formulations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unstable in acidic medium in stomach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rapidly absorbed from the intest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activated within the acidic medium of parietal cell canalicu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neutral pH, PPIs are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activ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not combined with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lockers or antaci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569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availability is reduced by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one hour before the me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long duration of action (&gt; 12 h-24 h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daily dose is suffici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zed in the liver by Cyt-P45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e reduction is required in severe liver fail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4560" y="333000"/>
            <a:ext cx="9001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0" indent="0" algn="r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3600" indent="0" algn="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 of P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3600" indent="0" algn="r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3600" indent="23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adication of H. pylori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combined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ntimicrobial drug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3600" indent="23760" algn="r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ant severe peptic ulcer ( 4-8 week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3600" indent="23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roesophageal reflux disease (GER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3600" indent="23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secretory conditions as Zollinger Ellison syndrome and gastrinoma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First choic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3600" indent="0" algn="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0" indent="0" algn="r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3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llinger Ellison  syndro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3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disease in which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Gastrin -secreting tumor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the stomach to produce too much acid, resulting in peptic ulc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mptom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dominal pain and diarrh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astrin produc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3600" indent="23760"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ietal cell hyperplasia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(trophic facto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3600" indent="23760"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ssive gastric acid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3600" indent="23760"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3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96472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360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verse effects to PP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3600" indent="23760" algn="r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3600" indent="23760" algn="r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T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rrhea &amp; abdominal pa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3600" indent="23760" algn="r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lorhydria &amp; hypergastrinaem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3600" indent="23760" algn="r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ric mucosal hyperplasi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3600" indent="23760" algn="r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99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bacterial flor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99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risk of community-acquired respiratory infections &amp; nosocomial pneumon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36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18ff"/>
                </a:solidFill>
                <a:latin typeface="Times New Roman"/>
                <a:ea typeface="Times New Roman"/>
              </a:rPr>
              <a:t>Long term use may lead 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3600" indent="23760" algn="r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min 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fici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3600" indent="23760" algn="r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magnesaemi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3600" indent="23760" algn="r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teoporo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3600"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3600"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96472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360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verse effects to PP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3600"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3600" indent="23760">
              <a:lnSpc>
                <a:spcPct val="15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aution should be given not to combine omeprazole (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YP2C19 inhibi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nd clopidogrel (CYP2C19 is required for activation of clopidogre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1280" y="333000"/>
            <a:ext cx="8964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2 receptor bloc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ime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tidine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ani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ti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Famo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tidine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Niza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ti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chanism of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</a:t>
            </a:r>
            <a:r>
              <a:rPr b="0" lang="en-US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reversibly and competitivel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ors on the parietal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4920" y="333000"/>
            <a:ext cx="8964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kinetic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oral 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before me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motidine is the most potent dru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ed to first pass metabolism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except nizatidine that has the greatest bioavailabi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ation of action (4-12 h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zed by l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ed mainly in u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10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1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139680" y="0"/>
            <a:ext cx="8894880" cy="65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http://body-disease.com/wp-content/uploads/2012/05/Peptic-ulcers.jpg"/>
          <p:cNvPicPr/>
          <p:nvPr/>
        </p:nvPicPr>
        <p:blipFill>
          <a:blip r:embed="rId1"/>
          <a:stretch/>
        </p:blipFill>
        <p:spPr>
          <a:xfrm>
            <a:off x="4932360" y="3557520"/>
            <a:ext cx="3887640" cy="32562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70920" y="692280"/>
            <a:ext cx="54896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eptic ulcer disease (PU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ocalized lesion of the mucous membrane of the stomach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gastric ulcer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duodenum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duodenal ulcer)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ically extending through the muscularis muco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http://images.medicinenet.com/images/image_collection/anatomy/peptic-ulcer.jpg"/>
          <p:cNvPicPr/>
          <p:nvPr/>
        </p:nvPicPr>
        <p:blipFill>
          <a:blip r:embed="rId2"/>
          <a:srcRect l="0" t="0" r="0" b="6038"/>
          <a:stretch/>
        </p:blipFill>
        <p:spPr>
          <a:xfrm>
            <a:off x="5560920" y="333360"/>
            <a:ext cx="345600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4560" y="333360"/>
            <a:ext cx="9001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logical action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basal and food stimulated-acid se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lock 90% of nocturnal acid secretion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hich depend largely on histamine) &amp; 60-70% of total 24 hr acid secretion.  Therefore, it is better to be given </a:t>
            </a:r>
            <a:r>
              <a:rPr b="1" lang="en-US" sz="3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before night slee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pepsin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e mucosal healing &amp; decrease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14200" y="333000"/>
            <a:ext cx="8786880" cy="63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611280" y="404640"/>
            <a:ext cx="85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79280" y="260280"/>
            <a:ext cx="8785440" cy="59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: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Clr>
                <a:srgbClr val="1818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R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eartburn/ dyspepsia)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algn="r">
              <a:lnSpc>
                <a:spcPct val="110000"/>
              </a:lnSpc>
              <a:spcBef>
                <a:spcPts val="601"/>
              </a:spcBef>
              <a:buClr>
                <a:srgbClr val="1818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ulcer healing i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oder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s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>
              <a:lnSpc>
                <a:spcPct val="110000"/>
              </a:lnSpc>
              <a:spcBef>
                <a:spcPts val="601"/>
              </a:spcBef>
              <a:buClr>
                <a:srgbClr val="1818ff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odenal Ulcer (6-8 weeks)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>
              <a:lnSpc>
                <a:spcPct val="110000"/>
              </a:lnSpc>
              <a:spcBef>
                <a:spcPts val="601"/>
              </a:spcBef>
              <a:buClr>
                <a:srgbClr val="1818ff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ign gastric ulcer (8-12 weeks)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1818ff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of bleeding from stress-related gastritis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Clr>
                <a:srgbClr val="1818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anesthetic medication (to prevent aspiration pneumonitis)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Clr>
                <a:srgbClr val="1818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–ulcer healing maintenance therapy.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1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750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verse effects of H</a:t>
            </a:r>
            <a:r>
              <a:rPr b="1" lang="en-US" sz="34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block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T disturbance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sea &amp; vom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effects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ache - confu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lderly, hepatic dysfunction, renal dysfunc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dycardia and hypotension (rapid I.V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T-P450 inhibition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Only Cimetidine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decreas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sm of warfarin, phenytoin, benzodiazepi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08000" y="404280"/>
            <a:ext cx="8856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crine effect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Only Cimetid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alactorrhe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yperprolactinemia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ntiandrogenic action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ynecomastia –impotence) due to inhibition of dihydrotestosterone binding to androgen recep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eca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e reduction of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eptor blockers in severe renal or hepatic failure and elde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08000" y="189000"/>
            <a:ext cx="9360000" cy="65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staglandin analo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isoprost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8720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aglandin analogues (PGE1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8720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 se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8720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ve measures 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6600cc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mucous/bicarbo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&amp; gastric mucosal blood flow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8720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ly, must be taken 3-4 times/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8720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NSAIDS-induced peptic ulc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dverse effec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18720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ominal cramps; diarrh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18720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erine contraction (dysmenorrhea or abort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18720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ginal blee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1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1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1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1000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10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1000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1000"/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1000"/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1280" y="-360"/>
            <a:ext cx="8893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tac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drugs are mainly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organic sal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.g.: NaHCO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 CaCO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 Al(OH)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 Mg(OH)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-1584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s by direct chemical neutralization of HCL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pepsin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-1584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ef pain of peptic ulcer &amp; dyspep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-1584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ntacid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rption of some drugs as     tetracycline, fluoroquinolones, ir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aHCO3 (Sodium bicarbonate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ga-I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fective, but systemic alkalosis may occu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indicated in CVS pati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56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07640" y="-360"/>
            <a:ext cx="8785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luminum hydroxide</a:t>
            </a:r>
            <a:r>
              <a:rPr b="1" lang="ga-I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phophatemia </a:t>
            </a:r>
            <a:r>
              <a:rPr b="0" lang="ga-I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eakness, malaise, anorex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iz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agnesium hydroxi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rrhe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ension &amp; Cardiac arr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lcium carbonate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k-alkali syndro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ercalcem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fail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ga-IE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rption of 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tracyc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umma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for H. pylori prior to beginning thera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-reducing medications are prescribed in case of  PUD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ithout H pylori infec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-reducing medications for PUD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or bloc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Is should be used for acute therapy only if H2RAs fail or cannot be used, or as part of treatment for H. pylo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 H. pylori eradication is required to prevent relap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UD with H pylori infections can be treated wit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ple therapy or quadrable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thophysiology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imbalance betwe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ssive factors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acid 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epsin)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ensive factors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e.g. prostaglandi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ucus &amp; bicarbonate laye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nowadays,  it seems tha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 pylor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very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2.bp.blogspot.com/-zN3IB-FURUw/T3ru_QUuyII/AAAAAAAAAMk/TNcfyjgf2t8/s1600/673911_xlarge.jpg"/>
          <p:cNvPicPr/>
          <p:nvPr/>
        </p:nvPicPr>
        <p:blipFill>
          <a:blip r:embed="rId1"/>
          <a:srcRect l="0" t="0" r="0" b="6095"/>
          <a:stretch/>
        </p:blipFill>
        <p:spPr>
          <a:xfrm>
            <a:off x="142920" y="115920"/>
            <a:ext cx="8893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7640" y="476280"/>
            <a:ext cx="88930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thophysiolog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ssive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ydrochloric acid and pepsi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roy gastric and duodenal mucos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ensive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ts val="3600"/>
              </a:lnSpc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us and bicarbonat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n secretions protect muco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ts val="3600"/>
              </a:lnSpc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aglandin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GE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 PG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protect mucosa b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ts val="3600"/>
              </a:lnSpc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ing acid secre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ts val="3600"/>
              </a:lnSpc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mucus and bicarbonate p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ts val="3600"/>
              </a:lnSpc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ing mucosal blood flow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78920" y="189000"/>
            <a:ext cx="8821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thophysiology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Helicobacter pylor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major etiological factor in peptic ulcer disease (95% in duodenal and 80% in gastric ulce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3240000" cy="2735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thCAV5U2Q1.jpg"/>
          <p:cNvPicPr/>
          <p:nvPr/>
        </p:nvPicPr>
        <p:blipFill>
          <a:blip r:embed="rId2"/>
          <a:stretch/>
        </p:blipFill>
        <p:spPr>
          <a:xfrm>
            <a:off x="611280" y="3141720"/>
            <a:ext cx="41544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07640" y="189000"/>
            <a:ext cx="8785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tiology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. pylori 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(e.g.) NSAIDs; corticoster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ffe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tic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secretory states 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Zollinger Ellison syndrom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421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astric secre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 and intrinsic factor (Parietal cell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psinogens (Chief cell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us, bicarbonate (mucus-secreting cell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arem</dc:creator>
  <dc:description/>
  <dc:language>en-US</dc:language>
  <cp:lastModifiedBy>Hanan Hagar</cp:lastModifiedBy>
  <dcterms:modified xsi:type="dcterms:W3CDTF">2019-11-26T09:39:30Z</dcterms:modified>
  <cp:revision>108</cp:revision>
  <dc:subject/>
  <dc:title>PowerPoint Presentation</dc:title>
</cp:coreProperties>
</file>