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B221-7D5A-4A10-BCE3-6CDFA7BF549A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8422-1B8A-43F2-91A6-B6DF0424F794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59EB-15CC-4013-881B-476EF4B181D5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FD89-E791-4310-AA56-7CC28EC79B22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E0EB-F513-4D22-BD95-72D0E1A026D8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3E7F-A194-4BBC-BEC4-58CF73E2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D7C9-94C7-42CF-9F99-3B23BF64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6D61-F982-49F8-B04A-359CD6C4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D0DE-61C8-45AE-8E2D-7A75D2C8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C0FA-19AC-413B-B372-4D5455DC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0EED-4780-49B9-8C69-C93B565B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ABD3-3518-4577-8B64-1CB3F3A3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7375-7568-44B6-9498-4194F07D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2083-9CAE-48CA-9F78-8DD3A3D9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2CD3-4DDD-49ED-ABB5-E9C752F8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6640-4F88-4141-84DF-196CC070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48A6-4EC7-4B0B-8996-CA962E1A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E1E3-37F0-419A-8645-9A7D3475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9298-9F55-4091-AAB9-5F13EFCA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AC1A-0205-49A6-A0B0-50623550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1175-30F8-4E84-95A3-D76E358A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17BB-6957-4C5A-8FB6-939341D9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9990-6202-44E9-A285-701DCEE2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1330-1FE4-48F2-9299-C898A711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3DB7-449F-4866-9DCE-27DB35FD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657B3-8F6A-4A75-BD52-96166BE4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6F35-067A-4440-B612-7FA4668A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7B70-0686-40E4-BA99-CCEAEC29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F952-58C2-4AD5-9C3C-CC9D08B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A40F-CA92-4E7F-899F-43380E8014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5D5C-4673-423B-945D-9A44A984A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http://2.bp.blogspot.com/-2G5MYerDFqY/TjkKC5S-1FI/AAAAAAAAASA/G55Qxx4yFFA/s1600/Peptic+Ulcer.jpg"/>
          <p:cNvPicPr/>
          <p:nvPr/>
        </p:nvPicPr>
        <p:blipFill>
          <a:blip r:embed="rId1"/>
          <a:stretch/>
        </p:blipFill>
        <p:spPr>
          <a:xfrm>
            <a:off x="900000" y="620640"/>
            <a:ext cx="619308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179280" y="3284640"/>
            <a:ext cx="842508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ockers and proton pump inhibi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27640" y="4206960"/>
            <a:ext cx="453708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f. Hanan Haga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2920" y="356760"/>
            <a:ext cx="875016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gulation of gastric secre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ietal cells secrete acid in response t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 (neurotransmitter): M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n (hormone): CC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holecystokin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mine (local hormone):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n pump (H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Pas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showimage.jpg"/>
          <p:cNvPicPr/>
          <p:nvPr/>
        </p:nvPicPr>
        <p:blipFill>
          <a:blip r:embed="rId1"/>
          <a:stretch/>
        </p:blipFill>
        <p:spPr>
          <a:xfrm>
            <a:off x="106200" y="115920"/>
            <a:ext cx="89298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eatment of peptic ul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dication of H. pylori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secretory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Proton pump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Times New Roman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receptor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Antimuscarinic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cytoprotectiv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Prostaglandin analog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izing agents (antacid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peptic-ulcers.jpg"/>
          <p:cNvPicPr/>
          <p:nvPr/>
        </p:nvPicPr>
        <p:blipFill>
          <a:blip r:embed="rId1"/>
          <a:stretch/>
        </p:blipFill>
        <p:spPr>
          <a:xfrm>
            <a:off x="6732720" y="3645000"/>
            <a:ext cx="2411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www.nature.com/nrd/journal/v2/n2/images/nrd1010-f2.gif"/>
          <p:cNvPicPr/>
          <p:nvPr/>
        </p:nvPicPr>
        <p:blipFill>
          <a:blip r:embed="rId1"/>
          <a:srcRect l="1600" t="1410" r="1600" b="394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14200" y="71280"/>
            <a:ext cx="885852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astric hyposecretory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Hyposecretory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gas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ion </a:t>
            </a:r>
            <a:r>
              <a:rPr b="1" lang="en-US" sz="3200" spc="-1" strike="noStrike">
                <a:solidFill>
                  <a:srgbClr val="6600cc"/>
                </a:solidFill>
                <a:latin typeface="Wingdings 3"/>
                <a:ea typeface="Wingdings 3"/>
              </a:rPr>
              <a:t>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healing &amp; relieve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clud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n pump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Proton pump inhibitor drugs.jpg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8785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n-CL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on Pump Inhibitor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(PP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e</a:t>
            </a:r>
            <a:r>
              <a:rPr b="1" lang="en-US" sz="3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razol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anso</a:t>
            </a:r>
            <a:r>
              <a:rPr b="1" lang="en-US" sz="3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razol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to</a:t>
            </a:r>
            <a:r>
              <a:rPr b="1" lang="en-US" sz="3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razol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Ra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r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b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rreversible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nhibition of proton pump   (H+/ K+ ATPase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responsible for final step in gastric acid secretion from the parietal cell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valently bind to the pump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5357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428760" y="4287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astric secretion by parietal cell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28760" y="4046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derstand the key points of pathophysiology of the peptic ulcer disease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umerate various classes of dugs used in peptic ulcer diseas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 the characteristic pharmacokinetics, pharmacodynamics and side effects of drugs used in peptic ulcer disease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 the cytoprotective drugs mainly misoprostol and its use in NSAIDs-induced peptic ulcer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y different antacids that are used to relief pain of peptic ulcer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y potential adverse drug interactions of anti-ulcer drugs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potent inhibi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cid secretion available to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marked inhibition of basal &amp; meal stimulated-acid secre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-98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pepsi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mucosal healing &amp; decrease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Proton pump inhibitors heal ulcers faster than H</a:t>
            </a:r>
            <a:r>
              <a:rPr b="1" lang="en-US" sz="3200" spc="-1" strike="noStrike" baseline="-25000">
                <a:solidFill>
                  <a:srgbClr val="6600cc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blockers, and have H. pylori inhibitory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 of PP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o-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enteric coated formulation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unstable in acidic medium in stomac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rapidly absorbed from the intest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ctivated within the acidic medium of parietal cell canalic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neutral pH, PPIs ar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activ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not combined with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ockers or antaci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569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availability is reduced by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ne hour before the m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long duration of action (&gt; 12 h-24 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daily dose is suffic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in the liver by Cyt-P4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is required in severe liver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4560" y="333000"/>
            <a:ext cx="900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P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dication of H. pylori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combin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microbial dru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severe peptic ulcer ( 4-8 week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oesophageal reflux disease (GER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ecretory conditions as Zollinger Ellison syndrome and gastrinoma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First cho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llinger Ellison  syndr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ease in which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Gastrin -secreting tumor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the stomach to produce too much acid, resulting in peptic ulc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mptom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ominal pain and 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astrin produ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etal cell hyperplasi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(trophic fact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ive gastric acid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64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 to PP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 &amp; abdominal p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lorhydria &amp; hypergastrinae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mucosal hyperplasi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bacterial flo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risk of community-acquired respiratory infections &amp; nosocomial pneumo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Long term use may lea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magnesaem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por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64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 to PP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lnSpc>
                <a:spcPct val="15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aution should be given not to combine omeprazole (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P2C19 inhibi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clopidogrel (CYP2C19 is required for activation of clopidogre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1280" y="33300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2 receptor blo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ime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tidine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ni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t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amo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tidine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iza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t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eversibly and competitivel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 on the parietal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4920" y="33300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oral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efore me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otidine is the most potent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ed to first pass metabolism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except nizatidine that has the greatest bioavaila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of action (4-12 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l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ed mainly in u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39680" y="0"/>
            <a:ext cx="889488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http://body-disease.com/wp-content/uploads/2012/05/Peptic-ulcers.jpg"/>
          <p:cNvPicPr/>
          <p:nvPr/>
        </p:nvPicPr>
        <p:blipFill>
          <a:blip r:embed="rId1"/>
          <a:stretch/>
        </p:blipFill>
        <p:spPr>
          <a:xfrm>
            <a:off x="4932360" y="3557520"/>
            <a:ext cx="3887640" cy="3256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0920" y="692280"/>
            <a:ext cx="5489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eptic ulcer disease (PU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calized lesion of the mucous membrane of the stomac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astric ulcer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duodenu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uodenal ulcer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ically extending through the muscularis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images.medicinenet.com/images/image_collection/anatomy/peptic-ulcer.jpg"/>
          <p:cNvPicPr/>
          <p:nvPr/>
        </p:nvPicPr>
        <p:blipFill>
          <a:blip r:embed="rId2"/>
          <a:srcRect l="0" t="0" r="0" b="6038"/>
          <a:stretch/>
        </p:blipFill>
        <p:spPr>
          <a:xfrm>
            <a:off x="5560920" y="333360"/>
            <a:ext cx="345600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4560" y="333360"/>
            <a:ext cx="9001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asal and food stimulated-acid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lock 90% of nocturnal acid secretion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ich depend largely on histamine) &amp; 60-70% of total 24 hr acid secretion.  Therefore, it is better to be given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before night slee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pepsi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mucosal healing &amp; decreas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14200" y="333000"/>
            <a:ext cx="87868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11280" y="40464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79280" y="260280"/>
            <a:ext cx="8785440" cy="59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: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rtburn/ dyspepsia)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r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ulcer healing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der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s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denal Ulcer (6-8 weeks)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ign gastric ulcer (8-12 weeks)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bleeding from stress-related gastritis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anesthetic medication (to prevent aspiration pneumonitis)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–ulcer healing maintenance therapy.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750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 of H</a:t>
            </a:r>
            <a:r>
              <a:rPr b="1" lang="en-US" sz="3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block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disturbanc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effects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 - conf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lderly, hepatic dysfunction, renal dysfun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dycardia and hypotension (rapid I.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-P450 inhibition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Only Cimetidine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decre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warfarin, phenytoin, benzodiazep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8000" y="404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e effect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Only Cimetid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alactorrhe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perprolactinemi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androgenic actio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ynecomastia –impotence) due to inhibition of dihydrotestosterone binding to androgen 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ca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of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 blockers in severe renal or hepatic failure and eld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9360000" cy="65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staglandin analo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sopros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72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alogues (PGE1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72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72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ve measures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mucous/bi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&amp; gastric mucosal blood flow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72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, must be taken 3-4 times/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72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NSAIDS-induced peptic ul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18720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cramps; 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18720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rine contraction (dysmenorrhea or abor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18720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 blee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1280" y="-360"/>
            <a:ext cx="8893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ac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are mainl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organic sa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: NaH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Ca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Al(OH)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Mg(OH)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-1584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by direct chemical neutralization of HC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pepsi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-1584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f pain of peptic ulcer &amp; dyspep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-1584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ntacid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ion of some drugs as     tetracycline, fluoroquinolones, i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HCO3 (Sodium bicarbonate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ective, but systemic alkalosis may 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ed in CVS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7640" y="-360"/>
            <a:ext cx="878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uminum hydroxide</a:t>
            </a:r>
            <a:r>
              <a:rPr b="1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phophatemia </a:t>
            </a:r>
            <a:r>
              <a:rPr b="0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eakness, malaise, anorex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z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gnesium hydrox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 &amp; Cardiac arr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cium carbonate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k-alkali syndr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ercalc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fail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ga-IE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ion of 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for H. pylori prior to beginning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-reducing medications are prescribed in case of  PU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out H pylori in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-reducing medications for PU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Is should be used for acute therapy only if H2RAs fail or cannot be used, or as part of treatment for H. pyl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H. pylori eradication is required to prevent rela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D with H pylori infections can be treated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le therapy or quadrable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ophysiolog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mbalance betwe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ve factor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cid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psin)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sive factor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e.g. prostagland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ucus &amp; bicarbonate laye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nowadays,  it seems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pylor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very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2.bp.blogspot.com/-zN3IB-FURUw/T3ru_QUuyII/AAAAAAAAAMk/TNcfyjgf2t8/s1600/673911_xlarge.jpg"/>
          <p:cNvPicPr/>
          <p:nvPr/>
        </p:nvPicPr>
        <p:blipFill>
          <a:blip r:embed="rId1"/>
          <a:srcRect l="0" t="0" r="0" b="6095"/>
          <a:stretch/>
        </p:blipFill>
        <p:spPr>
          <a:xfrm>
            <a:off x="142920" y="115920"/>
            <a:ext cx="889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7640" y="476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ophysiolog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v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drochloric acid and pepsi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oy gastric and duodenal muco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siv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3600"/>
              </a:lnSpc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us and bicarbonat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secretions protect muco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3600"/>
              </a:lnSpc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G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PG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rotect mucosa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ts val="36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ng acid secre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ts val="36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mucus and bicarbonate 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ts val="36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mucosal blood f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78920" y="189000"/>
            <a:ext cx="8821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ophysiolog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Helicobacter pylor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ajor etiological factor in peptic ulcer disease (95% in duodenal and 80% in gastric ulc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240000" cy="2735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thCAV5U2Q1.jpg"/>
          <p:cNvPicPr/>
          <p:nvPr/>
        </p:nvPicPr>
        <p:blipFill>
          <a:blip r:embed="rId2"/>
          <a:stretch/>
        </p:blipFill>
        <p:spPr>
          <a:xfrm>
            <a:off x="611280" y="3141720"/>
            <a:ext cx="4154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7640" y="189000"/>
            <a:ext cx="878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tiolog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. pylori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(e.g.) NSAIDs; cortico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ff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ecretory states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Zollinger Ellison syndro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astric secre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and intrinsic factor (Parietal cel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sinogens (Chief cel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us, bicarbonate (mucus-secreting cel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m</dc:creator>
  <dc:description/>
  <dc:language>en-US</dc:language>
  <cp:lastModifiedBy>Hanan Hagar</cp:lastModifiedBy>
  <dcterms:modified xsi:type="dcterms:W3CDTF">2019-11-26T09:39:30Z</dcterms:modified>
  <cp:revision>108</cp:revision>
  <dc:subject/>
  <dc:title>PowerPoint Presentation</dc:title>
</cp:coreProperties>
</file>