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B17A22-BB6F-496C-BCBA-8C4A2EAB8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3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41921523-6654-450A-90D9-B732B99A9A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4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408EEF0-90B0-4DCE-8DD7-F1D5085590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0BA6D030-259A-4E08-94E7-719355FEE0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0C4-7647-424C-86CA-544E5B17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9F7-36F1-4804-89E1-68F1C2D3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E3A-0DE5-4634-A06F-57384081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91D-56EF-49D1-90DB-FD12B6B4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E678-B2E7-455D-9AD9-C2471658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A028-B9F7-4A36-ADC2-89E1E896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EF2A-8CBA-4BFC-B9A6-06C4A32E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1101-D2AA-4DBE-B7F6-3C01B558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9F72-4044-48CD-BEFB-51B8E895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0242-79CA-449D-A189-498CE30C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0688-C1DC-4E03-92B2-4325B37C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C6E-D054-476D-8E51-96A12E54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D00B-A7E6-45F7-945E-F1F3C5E9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EE94-D51E-4AAC-B691-0297C4E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62D7-1360-49C5-AE7D-FE1186DC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DB54-7768-429E-972F-4FB9046F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4B0E-FB01-4666-ABB1-83FD5AC4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32D59-7D5D-4092-9113-E1F90650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0663B-4FC0-4FD5-AED2-1273886A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4BBA0-84CE-4517-B534-32D8CF52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FD7F9-6E0E-43A3-8C12-25818EA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30B1-77A8-46EF-B925-22BEA170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1A8-612E-47A1-B351-6ABC1D10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FFE25-8030-4D56-A029-A24F205A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03FF-5318-45BD-9010-11267A81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0111-6EA9-469D-8A32-F8511B6E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63CE2-0EE9-4C0C-A196-1CA09DA9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79EA3-759E-4B68-BABB-BCFDC286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AFF8D-6E1F-4CB8-A4EA-595D392F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28A8-2909-4026-AFEE-178540D0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10B-5465-4146-A0E6-BC89D656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0B9-D05E-4030-A791-6D4DB0DE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B76-0CDA-442C-9AF8-D83EE4CA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50D-6A36-4EF3-B540-B47902CC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6CE-AB27-4234-93DE-8FFC62FD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1AF-0586-487E-AD1D-54CA124B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0DC86F2D-BE9C-45ED-9B82-D64EB2D6EAE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F28D87B-5D00-4C23-B9B9-E9F4FD14ED2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338299C4-CF0C-4A1B-B163-8CBD4E44ACA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stoperative_nausea_and_vomiting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stoperative_nausea_and_vomiting" TargetMode="External"/><Relationship Id="rId2" Type="http://schemas.openxmlformats.org/officeDocument/2006/relationships/hyperlink" Target="http://en.wikipedia.org/wiki/Substance_P" TargetMode="External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6600cc"/>
                </a:solidFill>
                <a:latin typeface="Calibri"/>
              </a:rPr>
              <a:t>Antiemetic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85920" y="2643120"/>
            <a:ext cx="6729120" cy="2080800"/>
          </a:xfrm>
          <a:prstGeom prst="rect">
            <a:avLst/>
          </a:prstGeom>
          <a:solidFill>
            <a:srgbClr val="ffffff"/>
          </a:solidFill>
          <a:ln w="0">
            <a:solidFill>
              <a:srgbClr val="6600cc"/>
            </a:solidFill>
          </a:ln>
        </p:spPr>
        <p:txBody>
          <a:bodyPr numCol="1" spcCol="0"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Condensed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Condensed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Condensed"/>
              </a:rPr>
              <a:t>College of 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14200" y="189000"/>
            <a:ext cx="871488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33520" indent="0">
              <a:lnSpc>
                <a:spcPct val="95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Chemical transmitters &amp; receptors involved in vomiting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ch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(Muscarinic receptors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opamine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(D2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Histamine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(Histaminergic receptors H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rotonin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  (5 -HT3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ubstance P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(Neurokinin receptors, NK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Opioid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(Opioid receptors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892720" cy="648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Classification of Antieme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5-HT3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nt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cept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nt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K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nt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-recept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nt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scarinic recept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nt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nabinoid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Glucocorticoid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24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34920" y="189000"/>
            <a:ext cx="8964360" cy="64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85780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Serotonin (5-HT3) antagonist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an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tr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ni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tr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lly or parenterall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long duration of action, first pass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potent antiemetic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by blocking 5-HT3 receptor centrally 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(in vomiting center, CTZ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peripherally 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(5HT3 receptors on GI vagal afferent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64216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Uses of 5-HT3 antagonist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hoice for prevention of moderate to severe eme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motherapy-induced nausea and vomiting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CINV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pecially cispla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-radiation NV&amp; Post-operative N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ir effects is augmented by combination with corticosteroids and NK</a:t>
            </a:r>
            <a:r>
              <a:rPr b="1" lang="en-US" sz="3200" spc="-1" strike="noStrike" baseline="-22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t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9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9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14200" y="189000"/>
            <a:ext cx="878652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Side eff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minimal as they are well toler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dache, dizziness and constip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or ECG abnormalities (QT prolongatio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9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786520" cy="647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D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 receptor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ck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opamine receptors in the C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types exi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kinetics dru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leptics (antipsycho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786520" cy="647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Times New Roman"/>
              </a:rPr>
              <a:t>D2 receptor antagonists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Prokinetics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980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peridone: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980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oclopramide: oral, i.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980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prokinetic agents (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ncreased upper GI motility &amp; gastric emptyin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9800" indent="0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9800" indent="0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786520" cy="647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kinetic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5 HT4 agonist activity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stroesophageal reflux disease (GER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stroparesis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(impaired gastric emptying after surger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iemetic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blocking D2 receptors in CT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ctive against vomiting due to cytotoxic drugs, gastroenteritis, surgery, toxins, uremia,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9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9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9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44360" y="260280"/>
            <a:ext cx="8856360" cy="633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Side effects (only for metoclopramide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yskinesia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extra-pyramidal side effects)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lactorrhea, menstrual disorders, impo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ural hypotension (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blocking ac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dation, drow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Can domperidone produce these side effe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oclopramide crosses BBB but domperi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not cross in a significant am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both have antiemetic effects as CTZ h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ncomplete blood brain barri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840" y="404640"/>
            <a:ext cx="8643600" cy="5690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the main different classes  of antiemetic drugs according to their mechanism of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e characteristic pharmacokinetics &amp; dynamics of different classes of antiemetic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selective drugs that can be used according to the cause of vom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the adjuvant antieme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he major side effects for the different classes of antieme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78652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Other D2 receptor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Neuroleptics (Antipsycho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6600cc"/>
              </a:buClr>
              <a:buSzPct val="78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promazine (CPZ), droperid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6600cc"/>
              </a:buClr>
              <a:buSzPct val="78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for postoperative vomiting  and chemotherapy-induced eme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Side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6600cc"/>
              </a:buClr>
              <a:buSzPct val="78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ra pyramidal symptom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6600cc"/>
              </a:buClr>
              <a:buSzPct val="78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6600cc"/>
              </a:buClr>
              <a:buSzPct val="78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ural hypotens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49800" cy="645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9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Neurokinin1 (NK1) receptor ant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Aprepitant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s centrally a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substance P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 antagonist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blocking neurokinin 1 receptors in vagal afferent fibers in STN and area postre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ually combined with 5-H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tagonists and corticosteroids in prevention of chemotherapy-induced nausea and vomiting and post- operative N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85780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3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-receptor antagonist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lude drugs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henhydramine, Prometha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lizine, Cycli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sick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ning sickness in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thazine: severe morning sickness of pregnanc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(if only essentia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85780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minent se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icholinergic effects or atropine like actions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(dry mouth, dilated pupils, urinary retention, constip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857800" cy="6525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Muscarinic receptor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oscine (scopolam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lly, injection, pat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as transdermal patches in motion sicknes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applied to the postauricular area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impulses from vestibular appar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sick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in chemotherapy-induced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9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9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1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857800" cy="6525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chycardia, blurred vision, dry mout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ipation, urinary retention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(atropine-l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0920" y="142920"/>
            <a:ext cx="8642160" cy="645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Glucocorticoi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xamethasone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ylprednisol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Used in chemotherapy-induced vomit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ombined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H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tagonists or NK1 receptor antagonis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499240" cy="645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Glucocorticoi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Side effect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erglyc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ar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steopo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d intraocular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d susceptibility to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d appetite &amp; 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142920"/>
            <a:ext cx="8821440" cy="645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Summa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choice of antiemetic depends on the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Motion sickness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scarinic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ihistami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Vomiting with pregnancy (morning sicknes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oid all drugs in the first trimes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idoxine (B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methazine (late pregnan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42920" y="260280"/>
            <a:ext cx="9000720" cy="633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rug- induced vomiting (CTZ), uremia, gastr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pamine ant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ost operative nausea &amp;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pamine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Vomiting due to cytotoxic drug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H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t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corticoi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472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335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omi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forceful expulsion of gastric content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ough the mou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vomiting be considered as a disea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 manifest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many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dise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2720" cy="4392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438760" cy="5562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9000"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Thank you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Questions</a:t>
            </a: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 ?</a:t>
            </a: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2144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53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onsequences of vomi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re vomiting may result in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SzPct val="80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SzPct val="80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cid-base imbal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SzPct val="80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ctrolyte deple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SzPct val="80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spiration,  pneumon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472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How is vomiting induc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Vomiting center respond to input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er cortical centers stimulatio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C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urbance of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vestibular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moreceptor trigger zon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CTZ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eriphery (Pharynx, GIT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a sensory ner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472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3352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 Higher cortical centers stimulation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ting smells or s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Disturbance of vestibular syste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sickness (H1 &amp; M1 recepto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he periphery via sensory ner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T irr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or biliay st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857800" cy="633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timulation of chemoreceptor trigger zone (CTZ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Z is an area of medulla that communicate with vomiting center to initiate vomi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Z is physiologically outside BB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Z contains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eptors, 5 H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eptors &amp; opioid recep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imula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metogenic drugs (opioids, general anesthetics, digitalis, L-dopa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hemicals and toxins (blood, CSF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adiation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remi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8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Diagram showing relationships between factors on the pathway for nausea."/>
          <p:cNvPicPr/>
          <p:nvPr/>
        </p:nvPicPr>
        <p:blipFill>
          <a:blip r:embed="rId1"/>
          <a:srcRect l="1769" t="5411" r="3539" b="5411"/>
          <a:stretch/>
        </p:blipFill>
        <p:spPr>
          <a:xfrm>
            <a:off x="365040" y="1249200"/>
            <a:ext cx="8492760" cy="52876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357120" y="214200"/>
            <a:ext cx="8459280" cy="86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spcBef>
                <a:spcPts val="641"/>
              </a:spcBef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Receptors Associated with Nausea and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352680" y="2819520"/>
            <a:ext cx="2731680" cy="821160"/>
          </a:xfrm>
          <a:prstGeom prst="rect">
            <a:avLst/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miting Centre (medu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132000" y="1052640"/>
            <a:ext cx="2582640" cy="45540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ebral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4419360" y="1600200"/>
            <a:ext cx="360" cy="11430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419720" y="1905120"/>
            <a:ext cx="25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cipatory em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819520" y="1676520"/>
            <a:ext cx="137124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>
              <a:lnSpc>
                <a:spcPct val="6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6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6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283520" y="2637000"/>
            <a:ext cx="1752120" cy="8211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stibular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 flipH="1">
            <a:off x="5910120" y="3068280"/>
            <a:ext cx="1254240" cy="36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724360" y="3213000"/>
            <a:ext cx="16761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sic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203640" y="5486400"/>
            <a:ext cx="2736360" cy="45540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rynx &amp; 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4495680" y="4267080"/>
            <a:ext cx="360" cy="12193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495680" y="4572000"/>
            <a:ext cx="28191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o &amp; radio therapy Gastroenter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08000" y="2492280"/>
            <a:ext cx="2501640" cy="133920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oreceptorTrigger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0" y="3933720"/>
            <a:ext cx="2133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Outside B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2276280" y="3089160"/>
            <a:ext cx="114300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-468360" y="1268280"/>
            <a:ext cx="281916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6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i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esth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3395520" y="3714840"/>
            <a:ext cx="25142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scarinic, 5 H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3492360" y="6021360"/>
            <a:ext cx="20570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 H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recep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179280" y="4365720"/>
            <a:ext cx="230472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 H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pamine D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ioid receptor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bstance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7273800" y="3591000"/>
            <a:ext cx="19778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scarinic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staminic H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219320" y="0"/>
            <a:ext cx="6933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Lucida Casual"/>
              </a:rPr>
              <a:t>Pathophysiology of 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1834920" y="1268280"/>
            <a:ext cx="360" cy="11430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  <Words>866</Words>
  <Paragraphs>2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karem</dc:creator>
  <dc:description/>
  <dc:language>en-US</dc:language>
  <cp:lastModifiedBy>نوف</cp:lastModifiedBy>
  <dcterms:modified xsi:type="dcterms:W3CDTF">2019-12-02T07:07:39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