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F7745-F27C-4253-9C27-7104EA38B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3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29C9497C-EA1A-4E9B-AC7D-EFBA367D45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4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7D5F031F-3E41-4B1D-B8F9-33151A2821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60C65887-4AFB-4909-B7D1-8014B79B69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58A-A32E-4CD8-AAE5-A30C943F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D4B-B073-4C8B-80A1-E47B3A5D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2490-43B4-4E05-8C30-CD141899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AA1-37C4-4F15-8D0F-F127216F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ED0F-489F-4302-8966-C1C85407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1CBD-72D1-4F35-B5B1-8AE685D9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84F6-85B1-46B1-9DD7-1EE02E8C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62E9-399D-489C-AAB0-0767B6A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067C-F1BD-4AF2-AC4F-C87C0AFE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E8F8-1D11-43E7-9226-2CB36545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8BBA-41E5-4944-80A6-28B784F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89D-C33F-4799-B978-9445FE71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0ACC-C400-4D41-BDD6-99C13D3A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83DD-9F8B-4328-B32E-11E897E8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6E7F-95DE-4513-8BAD-FEBA97C6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37A0-0316-476C-B34F-B3A51125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DCB6-18DB-4F27-A07D-3215624F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808D3-F313-4E17-87FD-76C046F2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56D6-346C-43B1-9420-BB652FFD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9579-816B-46B1-859F-897A1BB7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0D95-F6CC-4E34-89ED-549ECF3F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6F3F-9DA4-4933-902F-4A536F97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C3D-00D2-4F3B-BE50-39F77768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FA53-0496-4FD1-8455-7817F3E3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F71AB-6BA0-44A0-BCE6-1D5D226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E945-0828-4964-BB36-2A6E7FAC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0977E-9A69-4C9A-82CC-567AAF7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75F4D-5229-47EE-B38A-F4688268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707AB-0351-459C-AD17-AEE74C3B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9AD8-EDDF-40C2-9D9D-FE85B32E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C16-96E8-4246-B20A-75B4DC90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840-3DF4-4B98-AA9E-926462AF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11A-49C3-458B-B121-CA13D2ED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DF4-107C-49B2-A656-1CD581AD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99C-2DBB-456D-9FE8-16F17300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E87-92CD-45F5-827A-C6E6E1CF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EC623CAA-AD8D-42CB-97EF-ED246250AA5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68EF5F0C-67E6-4DA0-97E5-1C098A77F28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675C32D-20A6-445A-8806-E3F611D2E09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stoperative_nausea_and_vomiting" TargetMode="Externa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stoperative_nausea_and_vomiting" TargetMode="External"/><Relationship Id="rId2" Type="http://schemas.openxmlformats.org/officeDocument/2006/relationships/hyperlink" Target="http://en.wikipedia.org/wiki/Substance_P" TargetMode="External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6600cc"/>
                </a:solidFill>
                <a:latin typeface="Calibri"/>
              </a:rPr>
              <a:t>Antiemetic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85920" y="2643120"/>
            <a:ext cx="6729120" cy="2080800"/>
          </a:xfrm>
          <a:prstGeom prst="rect">
            <a:avLst/>
          </a:prstGeom>
          <a:solidFill>
            <a:srgbClr val="ffffff"/>
          </a:solidFill>
          <a:ln w="0">
            <a:solidFill>
              <a:srgbClr val="6600cc"/>
            </a:solidFill>
          </a:ln>
        </p:spPr>
        <p:txBody>
          <a:bodyPr numCol="1" spcCol="0" anchor="t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Condensed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Condensed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 Condensed"/>
              </a:rPr>
              <a:t>College of 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14200" y="189000"/>
            <a:ext cx="871488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33520" indent="0">
              <a:lnSpc>
                <a:spcPct val="95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Chemical transmitters &amp; receptors involved in vomiting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ch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(Muscarinic receptor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opamine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(D2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Histamine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(Histaminergic receptors H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rotonin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  (5 -HT3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ubstance P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(Neurokinin receptors, NK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Opioid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(Opioid receptor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92720" cy="648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Classification of Antieme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5-HT3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cept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-recept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scarinic receptor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nabinoid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Glucocorticoid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24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34920" y="189000"/>
            <a:ext cx="8964360" cy="64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Serotonin (5-HT3) antagonist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dan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t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ni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etr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lly or parenterall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long duration of action, first pass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potent antiemetic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by blocking 5-HT3 receptor centrally 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(in vomiting center, CTZ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peripherally 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(5HT3 receptors on GI vagal afferent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64216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Uses of 5-HT3 antagonists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hoice for prevention of moderate to severe eme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motherapy-induced nausea and vomiting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CINV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pecially cispla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-radiation NV&amp; Post-operative N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ir effects is augmented by combination with corticosteroids and NK</a:t>
            </a:r>
            <a:r>
              <a:rPr b="1" lang="en-US" sz="3200" spc="-1" strike="noStrike" baseline="-22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9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9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9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14200" y="189000"/>
            <a:ext cx="87865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rtl="1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Side eff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minimal as they are well toler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adache, dizziness and constip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or ECG abnormalities (QT prolongatio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9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786520" cy="647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D</a:t>
            </a:r>
            <a:r>
              <a:rPr b="1" lang="en-US" sz="3600" spc="-1" strike="noStrike" baseline="-25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 receptor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opamine receptors in the CT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wo types exi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kinetics dru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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leptics (antipsycho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786520" cy="647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r>
              <a:rPr b="1" lang="en-US" sz="3900" spc="-1" strike="noStrike">
                <a:solidFill>
                  <a:srgbClr val="0033cc"/>
                </a:solidFill>
                <a:latin typeface="Times New Roman"/>
              </a:rPr>
              <a:t>D2 receptor antagonists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Prokinetics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peridone: 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oclopramide: oral, i.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prokinetic agents (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ncreased upper GI motility &amp; gastric emptyin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9800" indent="0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009800" indent="0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786520" cy="647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kinetic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5 HT4 agonist activity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stroesophageal reflux disease (GER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stroparesis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(impaired gastric emptying after surger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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emetic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blocking D2 receptors in CT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6600cc"/>
              </a:buClr>
              <a:buSzPct val="75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fective against vomiting due to cytotoxic drugs, gastroenteritis, surgery, toxins, uremia,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9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9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4360" y="260280"/>
            <a:ext cx="8856360" cy="633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Side effects (only for metoclopramide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yskinesia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extra-pyramidal side effects)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lactorrhea, menstrual disorders, impo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ural hypotension (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blocking ac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00cc"/>
              </a:buClr>
              <a:buSzPct val="70000"/>
              <a:buFont typeface="Wingdings" charset="2"/>
              <a:buChar char="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dation, drow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Can domperidone produce these side effec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oclopramide crosses BBB but domperi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not cross in a significant am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both have antiemetic effects as CTZ h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ncomplete blood brain barri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840" y="404640"/>
            <a:ext cx="8643600" cy="5690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the main different classes  of antiemetic drugs according to their mechanism of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characteristic pharmacokinetics &amp; dynamics of different classes of antiemetic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he selective drugs that can be used according to the cause of 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the adjuvant antieme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the major side effects for the different classes of antieme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7865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Other D2 receptor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Neuroleptics (Antipsycho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6600cc"/>
              </a:buClr>
              <a:buSzPct val="78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promazine (CPZ), droperid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6600cc"/>
              </a:buClr>
              <a:buSzPct val="78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for postoperative vomiting  and chemotherapy-induced eme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Side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6600cc"/>
              </a:buClr>
              <a:buSzPct val="78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ra pyramidal symptom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6600cc"/>
              </a:buClr>
              <a:buSzPct val="78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6600cc"/>
              </a:buClr>
              <a:buSzPct val="78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tural hypotens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49800" cy="645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9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Neurokinin1 (NK1) receptor ant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Aprepitant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s centrally a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substance P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 antagonist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blocking neurokinin 1 receptors in vagal afferent fibers in STN and area postre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ually combined with 5-H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agonists and corticosteroids in prevention of chemotherapy-induced nausea and vomiting and post- operative N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3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-receptor antagonists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lude drugs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phenhydramine, Prometh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lizine, Cycli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sick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ning sickness in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thazine: severe morning sickness of pregnanc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(if only essentia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minent se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cholinergic effects or atropine like actions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(dry mouth, dilated pupils, urinary retention, constip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52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Muscarinic receptor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oscine (scopolam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ally, injection, pat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as transdermal patches in motion sicknes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applied to the postauricular area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impulses from vestibular appar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sick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 in chemotherapy-induced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4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9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1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1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1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525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chycardia, blurred vision, dry mout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ipation, urinary retention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(atropine-l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0920" y="142920"/>
            <a:ext cx="8642160" cy="645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Glucocorticoi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examethasone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ylprednisol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Used in chemotherapy-induced vomit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ombined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H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agonists or NK1 receptor antagonis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499240" cy="645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Glucocorticoi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Side effect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ergly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ar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steopo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d intraocular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d susceptibility to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d appetite &amp;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79280" y="142920"/>
            <a:ext cx="8821440" cy="645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Summa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choice of antiemetic depends on the et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59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Motion sickness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scarinic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histam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Vomiting with pregnancy (morning sicknes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oid all drugs in the first trimes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idoxine (B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methazine (late pregnan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42920" y="260280"/>
            <a:ext cx="9000720" cy="633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rug- induced vomiting (CTZ), uremia, gast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pamine ant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ost operative 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pamine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Vomiting due to cytotoxic drug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H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corticoi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47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3352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omi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forceful expulsion of gastric content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ough the mou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vomiting be considered as a dise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 manifest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many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dise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2720" cy="4392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438760" cy="5562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9000"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Questions</a:t>
            </a: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 ?</a:t>
            </a: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82144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5335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onsequences of vomi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re vomiting may result in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SzPct val="80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hyd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SzPct val="80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cid-base im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SzPct val="80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lectrolyte deple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33cc"/>
              </a:buClr>
              <a:buSzPct val="80000"/>
              <a:buFont typeface="Wingdings" charset="2"/>
              <a:buChar char=""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spiration,  pneumon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47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How is vomiting induc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omiting center respond to input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er cortical centers stimulatio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C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urbance of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vestibu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emoreceptor trigger zon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(CTZ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eriphery (Pharynx, GIT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a sensory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4720" cy="640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53352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 Higher cortical centers stimulation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useating smells or sigh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Disturbance of vestibular syste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sickness (H1 &amp; M1 recepto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he periphery via sensory ner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T irr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or biliay st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2920" y="189000"/>
            <a:ext cx="8857800" cy="6335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timulation of chemoreceptor trigger zone (CTZ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Z is an area of medulla that communicate with vomiting center to initiate vomi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Z is physiologically outside BB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TZ contains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eptors, 5 H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ceptors &amp; opioid recep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33cc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imula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metogenic drugs (opioids, general anesthetics, digitalis, L-dopa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hemicals and toxins (blood, CSF)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adiation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33cc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remia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3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8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8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Diagram showing relationships between factors on the pathway for nausea."/>
          <p:cNvPicPr/>
          <p:nvPr/>
        </p:nvPicPr>
        <p:blipFill>
          <a:blip r:embed="rId1"/>
          <a:srcRect l="1769" t="5411" r="3539" b="5411"/>
          <a:stretch/>
        </p:blipFill>
        <p:spPr>
          <a:xfrm>
            <a:off x="365040" y="1249200"/>
            <a:ext cx="8492760" cy="52876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357120" y="214200"/>
            <a:ext cx="8459280" cy="869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80000"/>
              </a:lnSpc>
              <a:spcBef>
                <a:spcPts val="641"/>
              </a:spcBef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Receptors Associated with Nausea and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3352680" y="2819520"/>
            <a:ext cx="2731680" cy="821160"/>
          </a:xfrm>
          <a:prstGeom prst="rect">
            <a:avLst/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miting Centre (medul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132000" y="1052640"/>
            <a:ext cx="2582640" cy="45540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ebral co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419360" y="1600200"/>
            <a:ext cx="360" cy="11430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419720" y="1905120"/>
            <a:ext cx="2590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cipatory em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819520" y="1676520"/>
            <a:ext cx="137124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283520" y="2637000"/>
            <a:ext cx="1752120" cy="8211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stibular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H="1">
            <a:off x="5910120" y="3068280"/>
            <a:ext cx="1254240" cy="360"/>
          </a:xfrm>
          <a:prstGeom prst="line">
            <a:avLst/>
          </a:prstGeom>
          <a:ln w="1905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724360" y="3213000"/>
            <a:ext cx="16761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sick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203640" y="5486400"/>
            <a:ext cx="2736360" cy="45540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rynx &amp; G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 flipV="1">
            <a:off x="4495680" y="4267080"/>
            <a:ext cx="360" cy="121932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4495680" y="4572000"/>
            <a:ext cx="28191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o &amp; radio therapy Gastroente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08000" y="2492280"/>
            <a:ext cx="2501640" cy="133920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>
            <a:solidFill>
              <a:srgbClr val="7d5fa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oreceptorTrigger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0" y="3933720"/>
            <a:ext cx="2133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Outside B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>
            <a:off x="2276280" y="3089160"/>
            <a:ext cx="11430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-468360" y="1268280"/>
            <a:ext cx="281916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mo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i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6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esth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3395520" y="3714840"/>
            <a:ext cx="25142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scarinic, 5 H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3492360" y="6021360"/>
            <a:ext cx="20570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 H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recep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179280" y="4365720"/>
            <a:ext cx="23047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 H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pamine D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pioid receptor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bstance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7273800" y="3591000"/>
            <a:ext cx="19778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scarinic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staminic H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219320" y="0"/>
            <a:ext cx="6933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Lucida Casual"/>
              </a:rPr>
              <a:t>Pathophysiology of 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1834920" y="1268280"/>
            <a:ext cx="360" cy="11430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6</TotalTime>
  <Application>LibreOffice/7.4.7.2$Linux_X86_64 LibreOffice_project/40$Build-2</Application>
  <AppVersion>15.0000</AppVersion>
  <Words>866</Words>
  <Paragraphs>2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>karem</dc:creator>
  <dc:description/>
  <dc:language>en-US</dc:language>
  <cp:lastModifiedBy>نوف</cp:lastModifiedBy>
  <dcterms:modified xsi:type="dcterms:W3CDTF">2019-12-02T07:07:39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