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6.xml.rels" ContentType="application/vnd.openxmlformats-package.relationships+xml"/>
  <Override PartName="/ppt/notesSlides/notesSlide4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jpeg" ContentType="image/jpeg"/>
  <Override PartName="/ppt/media/image6.gif" ContentType="image/gif"/>
  <Override PartName="/ppt/media/image7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C3CEC-4740-4422-BCF7-075C93CF7334}" type="slidenum">
              <a:rPr b="0" lang="ar-S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6C891-1CBE-4E4C-92AD-1473BAEA4A3B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CB70-E09A-40AF-872B-4234A1E9D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3048-52C8-462C-9E60-CCA80E1E5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5AC3-0729-4FD0-8940-B35CE3F26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0096-B147-4111-8A4B-94410D6B6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312C-A49E-4751-BC85-3A247E02D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424E-3021-40EF-AED7-D9B8A174A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A2DE-CB5E-4EC2-9079-F1DB25757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AA9B-C816-483F-93E3-7BCA926E6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9361-BA4A-41EB-A978-CCA6D43CF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B316-F982-453A-8F07-CA0479174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F44D-0226-4485-9ED5-14A1E560E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F180-64EC-48FA-AAE6-FF02E899A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DCF27-8D04-4B5C-8D80-DC6885020AC9}" type="slidenum">
              <a:rPr b="0" lang="ar-SA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nflammation" TargetMode="External"/><Relationship Id="rId2" Type="http://schemas.openxmlformats.org/officeDocument/2006/relationships/hyperlink" Target="http://en.wikipedia.org/wiki/Small_intestine" TargetMode="External"/><Relationship Id="rId3" Type="http://schemas.openxmlformats.org/officeDocument/2006/relationships/hyperlink" Target="http://en.wikipedia.org/wiki/Colon_(anatomy)" TargetMode="External"/><Relationship Id="rId4" Type="http://schemas.openxmlformats.org/officeDocument/2006/relationships/hyperlink" Target="http://en.wikipedia.org/wiki/Crohn%27s_disease" TargetMode="External"/><Relationship Id="rId5" Type="http://schemas.openxmlformats.org/officeDocument/2006/relationships/hyperlink" Target="http://en.wikipedia.org/wiki/Ulcerative_colitis" TargetMode="External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image" Target="../media/image6.gif"/><Relationship Id="rId7" Type="http://schemas.openxmlformats.org/officeDocument/2006/relationships/image" Target="../media/image6.gif"/><Relationship Id="rId8" Type="http://schemas.openxmlformats.org/officeDocument/2006/relationships/image" Target="../media/image6.gif"/><Relationship Id="rId9" Type="http://schemas.openxmlformats.org/officeDocument/2006/relationships/image" Target="../media/image6.gif"/><Relationship Id="rId10" Type="http://schemas.openxmlformats.org/officeDocument/2006/relationships/image" Target="../media/image6.gif"/><Relationship Id="rId11" Type="http://schemas.openxmlformats.org/officeDocument/2006/relationships/image" Target="../media/image6.gif"/><Relationship Id="rId12" Type="http://schemas.openxmlformats.org/officeDocument/2006/relationships/image" Target="../media/image6.gif"/><Relationship Id="rId13" Type="http://schemas.openxmlformats.org/officeDocument/2006/relationships/image" Target="../media/image6.gif"/><Relationship Id="rId1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83920" y="729720"/>
            <a:ext cx="8023320" cy="215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ugs and biological and immune therapy in inflammatory bowel disease (IBD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563840" y="3446280"/>
            <a:ext cx="6024240" cy="167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00000"/>
                </a:solidFill>
                <a:latin typeface="SimSun"/>
                <a:ea typeface="Times New Roman"/>
              </a:rPr>
              <a:t>Prof. Hanan Hag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00000"/>
                </a:solidFill>
                <a:latin typeface="SimSun"/>
                <a:ea typeface="Times New Roman"/>
              </a:rPr>
              <a:t>Pharmacology Un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00000"/>
                </a:solidFill>
                <a:latin typeface="SimSun"/>
                <a:ea typeface="Times New Roman"/>
              </a:rPr>
              <a:t>College of Medic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270000" y="285480"/>
            <a:ext cx="8550000" cy="62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0cb8"/>
                </a:solidFill>
                <a:latin typeface="Times New Roman"/>
                <a:ea typeface="Times New Roman"/>
              </a:rPr>
              <a:t>Treatment of IB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1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reatment objectiv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hievement of remission </a:t>
            </a:r>
            <a:r>
              <a:rPr b="1" lang="en-US" sz="3200" spc="-1" strike="noStrike">
                <a:solidFill>
                  <a:srgbClr val="080cb8"/>
                </a:solidFill>
                <a:latin typeface="Times New Roman"/>
                <a:ea typeface="Times New Roman"/>
              </a:rPr>
              <a:t>(Induction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vention of disease flares </a:t>
            </a:r>
            <a:r>
              <a:rPr b="1" lang="en-US" sz="3200" spc="-1" strike="noStrike">
                <a:solidFill>
                  <a:srgbClr val="080cb8"/>
                </a:solidFill>
                <a:latin typeface="Times New Roman"/>
                <a:ea typeface="Times New Roman"/>
              </a:rPr>
              <a:t>(maintenance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ize bowel func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ntain nutritional statu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quality of lif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1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10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10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10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10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159840" y="285480"/>
            <a:ext cx="8874360" cy="62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0cb8"/>
                </a:solidFill>
                <a:latin typeface="Times New Roman"/>
                <a:ea typeface="Times New Roman"/>
              </a:rPr>
              <a:t>Treatment of IB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tepwise therap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2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-amino salicylic acid compounds (5-ASA) or aminosalicylat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2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ucocorticoi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2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munomodulator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2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ological therapy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TNF-</a:t>
            </a:r>
            <a:r>
              <a:rPr b="1" lang="el-GR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α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inhibitors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2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gery in severe condi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1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10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100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1000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1000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39"/>
          <p:cNvGrpSpPr/>
          <p:nvPr/>
        </p:nvGrpSpPr>
        <p:grpSpPr>
          <a:xfrm>
            <a:off x="520560" y="1216080"/>
            <a:ext cx="7558200" cy="4780080"/>
            <a:chOff x="520560" y="1216080"/>
            <a:chExt cx="7558200" cy="4780080"/>
          </a:xfrm>
        </p:grpSpPr>
        <p:sp>
          <p:nvSpPr>
            <p:cNvPr id="65" name="Rectangle 38"/>
            <p:cNvSpPr/>
            <p:nvPr/>
          </p:nvSpPr>
          <p:spPr>
            <a:xfrm>
              <a:off x="520560" y="1216080"/>
              <a:ext cx="7558200" cy="4780080"/>
            </a:xfrm>
            <a:prstGeom prst="rect">
              <a:avLst/>
            </a:prstGeom>
            <a:noFill/>
            <a:ln w="25560">
              <a:solidFill>
                <a:srgbClr val="ff5b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6" name="Group 4"/>
            <p:cNvGrpSpPr/>
            <p:nvPr/>
          </p:nvGrpSpPr>
          <p:grpSpPr>
            <a:xfrm>
              <a:off x="1112760" y="1320480"/>
              <a:ext cx="6925680" cy="4444200"/>
              <a:chOff x="1112760" y="1320480"/>
              <a:chExt cx="6925680" cy="4444200"/>
            </a:xfrm>
          </p:grpSpPr>
          <p:sp>
            <p:nvSpPr>
              <p:cNvPr id="67" name="AutoShape 3"/>
              <p:cNvSpPr/>
              <p:nvPr/>
            </p:nvSpPr>
            <p:spPr>
              <a:xfrm>
                <a:off x="1112760" y="1320480"/>
                <a:ext cx="6919920" cy="443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8" name="Freeform 5"/>
              <p:cNvSpPr/>
              <p:nvPr/>
            </p:nvSpPr>
            <p:spPr>
              <a:xfrm>
                <a:off x="1114200" y="1322280"/>
                <a:ext cx="6924240" cy="4442400"/>
              </a:xfrm>
              <a:custGeom>
                <a:avLst/>
                <a:gdLst>
                  <a:gd name="textAreaLeft" fmla="*/ 0 w 6924240"/>
                  <a:gd name="textAreaRight" fmla="*/ 6924600 w 6924240"/>
                  <a:gd name="textAreaTop" fmla="*/ 0 h 4442400"/>
                  <a:gd name="textAreaBottom" fmla="*/ 4442760 h 4442400"/>
                </a:gdLst>
                <a:ahLst/>
                <a:rect l="textAreaLeft" t="textAreaTop" r="textAreaRight" b="textAreaBottom"/>
                <a:pathLst>
                  <a:path w="3823" h="1897">
                    <a:moveTo>
                      <a:pt x="1912" y="0"/>
                    </a:moveTo>
                    <a:lnTo>
                      <a:pt x="0" y="1897"/>
                    </a:lnTo>
                    <a:lnTo>
                      <a:pt x="3823" y="1897"/>
                    </a:lnTo>
                    <a:lnTo>
                      <a:pt x="1912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69" name="Group 13"/>
            <p:cNvGrpSpPr/>
            <p:nvPr/>
          </p:nvGrpSpPr>
          <p:grpSpPr>
            <a:xfrm>
              <a:off x="645480" y="1582200"/>
              <a:ext cx="1336320" cy="4180680"/>
              <a:chOff x="645480" y="1582200"/>
              <a:chExt cx="1336320" cy="4180680"/>
            </a:xfrm>
          </p:grpSpPr>
          <p:sp>
            <p:nvSpPr>
              <p:cNvPr id="70" name="Rectangle 7"/>
              <p:cNvSpPr/>
              <p:nvPr/>
            </p:nvSpPr>
            <p:spPr>
              <a:xfrm>
                <a:off x="780840" y="1911240"/>
                <a:ext cx="8542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33"/>
                    </a:solidFill>
                    <a:latin typeface="Tahoma"/>
                  </a:rPr>
                  <a:t>Severe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1" name="Rectangle 8"/>
              <p:cNvSpPr/>
              <p:nvPr/>
            </p:nvSpPr>
            <p:spPr>
              <a:xfrm>
                <a:off x="741960" y="3492000"/>
                <a:ext cx="12398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33"/>
                    </a:solidFill>
                    <a:latin typeface="Tahoma"/>
                  </a:rPr>
                  <a:t>Moderate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2" name="Rectangle 9"/>
              <p:cNvSpPr/>
              <p:nvPr/>
            </p:nvSpPr>
            <p:spPr>
              <a:xfrm>
                <a:off x="759600" y="4903920"/>
                <a:ext cx="5569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33"/>
                    </a:solidFill>
                    <a:latin typeface="Tahoma"/>
                  </a:rPr>
                  <a:t>Mild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3" name="Line 15"/>
              <p:cNvSpPr/>
              <p:nvPr/>
            </p:nvSpPr>
            <p:spPr>
              <a:xfrm flipV="1">
                <a:off x="645480" y="1582200"/>
                <a:ext cx="0" cy="4180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440" rIns="82440" tIns="41040" bIns="41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pic>
          <p:nvPicPr>
            <p:cNvPr id="74" name="Picture 5" descr=""/>
            <p:cNvPicPr/>
            <p:nvPr/>
          </p:nvPicPr>
          <p:blipFill>
            <a:blip r:embed="rId1"/>
            <a:srcRect l="0" t="42632" r="0" b="0"/>
            <a:stretch/>
          </p:blipFill>
          <p:spPr>
            <a:xfrm>
              <a:off x="1110960" y="3211920"/>
              <a:ext cx="6921000" cy="254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Picture 6" descr=""/>
            <p:cNvPicPr/>
            <p:nvPr/>
          </p:nvPicPr>
          <p:blipFill>
            <a:blip r:embed="rId2"/>
            <a:srcRect l="0" t="75957" r="0" b="0"/>
            <a:stretch/>
          </p:blipFill>
          <p:spPr>
            <a:xfrm>
              <a:off x="1112400" y="4707720"/>
              <a:ext cx="6921000" cy="106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Rectangle 10"/>
            <p:cNvSpPr/>
            <p:nvPr/>
          </p:nvSpPr>
          <p:spPr>
            <a:xfrm>
              <a:off x="4535280" y="3539880"/>
              <a:ext cx="360" cy="34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" name="Rectangle 11"/>
            <p:cNvSpPr/>
            <p:nvPr/>
          </p:nvSpPr>
          <p:spPr>
            <a:xfrm>
              <a:off x="3406680" y="3428280"/>
              <a:ext cx="2254680" cy="2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Narrow"/>
                </a:rPr>
                <a:t>Systemic Corticosteroids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" name="Rectangle 12"/>
            <p:cNvSpPr/>
            <p:nvPr/>
          </p:nvSpPr>
          <p:spPr>
            <a:xfrm>
              <a:off x="4577040" y="5150880"/>
              <a:ext cx="360" cy="34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" name="Rectangle 13"/>
            <p:cNvSpPr/>
            <p:nvPr/>
          </p:nvSpPr>
          <p:spPr>
            <a:xfrm>
              <a:off x="3907080" y="5107680"/>
              <a:ext cx="1526400" cy="2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Aminosalicylates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" name="Rectangle 14"/>
            <p:cNvSpPr/>
            <p:nvPr/>
          </p:nvSpPr>
          <p:spPr>
            <a:xfrm>
              <a:off x="4577040" y="4856040"/>
              <a:ext cx="360" cy="34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" name="Rectangle 16"/>
            <p:cNvSpPr/>
            <p:nvPr/>
          </p:nvSpPr>
          <p:spPr>
            <a:xfrm>
              <a:off x="4191480" y="1752480"/>
              <a:ext cx="707760" cy="2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Narrow"/>
                </a:rPr>
                <a:t>Surgery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" name="Rectangle 17"/>
            <p:cNvSpPr/>
            <p:nvPr/>
          </p:nvSpPr>
          <p:spPr>
            <a:xfrm>
              <a:off x="4577040" y="2178000"/>
              <a:ext cx="360" cy="34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" name="Rectangle 18"/>
            <p:cNvSpPr/>
            <p:nvPr/>
          </p:nvSpPr>
          <p:spPr>
            <a:xfrm>
              <a:off x="4577040" y="3029040"/>
              <a:ext cx="360" cy="34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" name="Rectangle 19"/>
            <p:cNvSpPr/>
            <p:nvPr/>
          </p:nvSpPr>
          <p:spPr>
            <a:xfrm>
              <a:off x="4577040" y="2603520"/>
              <a:ext cx="360" cy="34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" name="Rectangle 20"/>
            <p:cNvSpPr/>
            <p:nvPr/>
          </p:nvSpPr>
          <p:spPr>
            <a:xfrm>
              <a:off x="4577040" y="4562640"/>
              <a:ext cx="360" cy="34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" name="Text Box 21"/>
            <p:cNvSpPr/>
            <p:nvPr/>
          </p:nvSpPr>
          <p:spPr>
            <a:xfrm>
              <a:off x="3882240" y="4216320"/>
              <a:ext cx="326016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Oral Steroids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" name="Text Box 22"/>
            <p:cNvSpPr/>
            <p:nvPr/>
          </p:nvSpPr>
          <p:spPr>
            <a:xfrm>
              <a:off x="3882240" y="3744360"/>
              <a:ext cx="136296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AZA/6-MP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" name="Text Box 23"/>
            <p:cNvSpPr/>
            <p:nvPr/>
          </p:nvSpPr>
          <p:spPr>
            <a:xfrm>
              <a:off x="3719520" y="2635200"/>
              <a:ext cx="163008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Cyclosporin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" name="Line 24"/>
            <p:cNvSpPr/>
            <p:nvPr/>
          </p:nvSpPr>
          <p:spPr>
            <a:xfrm>
              <a:off x="1956240" y="4701600"/>
              <a:ext cx="5237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" name="Line 25"/>
            <p:cNvSpPr/>
            <p:nvPr/>
          </p:nvSpPr>
          <p:spPr>
            <a:xfrm>
              <a:off x="3117960" y="3232440"/>
              <a:ext cx="2923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" name="Text Box 26"/>
            <p:cNvSpPr/>
            <p:nvPr/>
          </p:nvSpPr>
          <p:spPr>
            <a:xfrm>
              <a:off x="4052160" y="2163600"/>
              <a:ext cx="110412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Infliximab 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2" name="Rectangle 39"/>
          <p:cNvSpPr/>
          <p:nvPr/>
        </p:nvSpPr>
        <p:spPr>
          <a:xfrm>
            <a:off x="1899000" y="235080"/>
            <a:ext cx="527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pwise therapy For IB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55080" y="-360"/>
            <a:ext cx="8999640" cy="656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0cb8"/>
                </a:solidFill>
                <a:latin typeface="Times New Roman"/>
                <a:ea typeface="Times New Roman"/>
              </a:rPr>
              <a:t>5-amino salicylic acid compounds (5-ASA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0cb8"/>
                </a:solidFill>
                <a:latin typeface="Times New Roman"/>
                <a:ea typeface="Times New Roman"/>
              </a:rPr>
              <a:t>Aminosalicyl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0cb8"/>
                </a:solidFill>
                <a:latin typeface="Times New Roman"/>
                <a:ea typeface="Times New Roman"/>
              </a:rPr>
              <a:t>Mechanism of a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e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opical anti-inflammatory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 due t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hibition of prostaglandins and leukotrien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rease neutrophil chemotaxi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ioxidant activity (scavenging free radical production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1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10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10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10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1000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1000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51920" y="198360"/>
            <a:ext cx="8804520" cy="636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80cb8"/>
                </a:solidFill>
                <a:latin typeface="Times New Roman"/>
                <a:ea typeface="Times New Roman"/>
              </a:rPr>
              <a:t>Aminosalicylates (5-ASA)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-ASA itself is absorbed from the proximal small intestin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formulations are used to overcome rapid absorption of 5-ASA from the proximal small intesti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aminosalicylates are used for induction and maintenance of remis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1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1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52280" y="131400"/>
            <a:ext cx="8826480" cy="64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0cb8"/>
                </a:solidFill>
                <a:latin typeface="Times New Roman"/>
                <a:ea typeface="Times New Roman"/>
              </a:rPr>
              <a:t>Aminosalicylat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formulations of aminosalicylates ar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zo compound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buClr>
                <a:srgbClr val="080cb8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lfasalazin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buClr>
                <a:srgbClr val="080cb8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lsalazid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buClr>
                <a:srgbClr val="080cb8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lsalazin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alamin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buClr>
                <a:srgbClr val="080cb8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aco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buClr>
                <a:srgbClr val="080cb8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ntas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buClr>
                <a:srgbClr val="080cb8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as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buClr>
                <a:srgbClr val="080cb8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was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ajor differences are in </a:t>
            </a:r>
            <a:r>
              <a:rPr b="1" lang="en-US" sz="3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mechanism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3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it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ivery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500"/>
                                        <p:tgtEl>
                                          <p:spTgt spid="9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9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175680" y="220680"/>
            <a:ext cx="8836200" cy="634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zo compound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9724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se compounds contain (5-ASA) that 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9724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ed by azo bond </a:t>
            </a:r>
            <a:r>
              <a:rPr b="1" lang="en-US" sz="3200" spc="-1" strike="noStrike">
                <a:solidFill>
                  <a:srgbClr val="080cb8"/>
                </a:solidFill>
                <a:latin typeface="Times New Roman"/>
                <a:ea typeface="Times New Roman"/>
              </a:rPr>
              <a:t>(N=N)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97240" indent="0">
              <a:lnSpc>
                <a:spcPct val="95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597240" indent="-59724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ulfapyridine moiety </a:t>
            </a:r>
            <a:r>
              <a:rPr b="1" lang="en-US" sz="3200" spc="-1" strike="noStrike">
                <a:solidFill>
                  <a:srgbClr val="080cb8"/>
                </a:solidFill>
                <a:latin typeface="Times New Roman"/>
                <a:ea typeface="Times New Roman"/>
              </a:rPr>
              <a:t>(Sulfasalazi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97240" indent="-59724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another molecule of 5-ASA </a:t>
            </a:r>
            <a:r>
              <a:rPr b="1" lang="en-US" sz="3200" spc="-1" strike="noStrike">
                <a:solidFill>
                  <a:srgbClr val="080cb8"/>
                </a:solidFill>
                <a:latin typeface="Times New Roman"/>
                <a:ea typeface="Times New Roman"/>
              </a:rPr>
              <a:t>(Olsalazi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97240" indent="-59724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inert compound </a:t>
            </a:r>
            <a:r>
              <a:rPr b="1" lang="en-US" sz="3200" spc="-1" strike="noStrike">
                <a:solidFill>
                  <a:srgbClr val="080cb8"/>
                </a:solidFill>
                <a:latin typeface="Times New Roman"/>
                <a:ea typeface="Times New Roman"/>
              </a:rPr>
              <a:t>(Balsalazide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9724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97240"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0cb8"/>
                </a:solidFill>
                <a:latin typeface="Times New Roman"/>
                <a:ea typeface="Times New Roman"/>
              </a:rPr>
              <a:t>Sulfasalazine 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-ASA + sulphapyridin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97240" indent="0" rtl="1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0cb8"/>
                </a:solidFill>
                <a:latin typeface="Times New Roman"/>
                <a:ea typeface="Times New Roman"/>
              </a:rPr>
              <a:t>Olsalazine: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-ASA + 5-AS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97240" indent="0" rtl="1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0cb8"/>
                </a:solidFill>
                <a:latin typeface="Times New Roman"/>
                <a:ea typeface="Times New Roman"/>
              </a:rPr>
              <a:t>Balsalazide: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-ASA +  inert carri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97240" indent="0" rtl="1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1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1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1000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1000"/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1000"/>
                                        <p:tgtEl>
                                          <p:spTgt spid="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104760" y="220680"/>
            <a:ext cx="8709120" cy="634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zo compound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5000"/>
              </a:lnSpc>
              <a:spcBef>
                <a:spcPts val="799"/>
              </a:spcBef>
              <a:buClr>
                <a:srgbClr val="080cb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0cb8"/>
                </a:solidFill>
                <a:latin typeface="Times New Roman"/>
                <a:ea typeface="Times New Roman"/>
              </a:rPr>
              <a:t>Azo structur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uces absorption of 5-ASA 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mall intesti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1800"/>
              </a:spcBef>
              <a:buClr>
                <a:srgbClr val="080cb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0cb8"/>
                </a:solidFill>
                <a:latin typeface="Times New Roman"/>
                <a:ea typeface="Times New Roman"/>
              </a:rPr>
              <a:t>In the terminal ileum and colo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zo bond is cleaved by azoreductase enzyme produced by bacterial flora releasing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-AS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the terminal ileum and col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285840"/>
            <a:ext cx="9144000" cy="64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0cb8"/>
                </a:solidFill>
                <a:latin typeface="Times New Roman"/>
                <a:ea typeface="Times New Roman"/>
              </a:rPr>
              <a:t>Sulfasalazine (Azulfidi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-dru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combination of 5-ASA + sulfapyrid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given orally (enteric coated tablets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ttle amount is absorbed </a:t>
            </a:r>
            <a:r>
              <a:rPr b="1" lang="en-US" sz="3200" spc="-1" strike="noStrike">
                <a:solidFill>
                  <a:srgbClr val="080cb8"/>
                </a:solidFill>
                <a:latin typeface="Times New Roman"/>
                <a:ea typeface="Times New Roman"/>
              </a:rPr>
              <a:t>(10%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80cb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0cb8"/>
                </a:solidFill>
                <a:latin typeface="Times New Roman"/>
                <a:ea typeface="Times New Roman"/>
              </a:rPr>
              <a:t>In the terminal ileum and colon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lfasalazine is broken by azoreductase int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5-AS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absorbed, active moiety acting locally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ulphapyridin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absorbed, causes most of side effects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1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1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1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10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100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1000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161640" y="285480"/>
            <a:ext cx="8831160" cy="62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0cb8"/>
                </a:solidFill>
                <a:latin typeface="Times New Roman"/>
                <a:ea typeface="Times New Roman"/>
              </a:rPr>
              <a:t>Mechanism of action of sulfasalaz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-ASA has anti-inflammatory action due t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hibition of prostaglandins and leukotrien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rease neutrophil chemotaxi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ioxidant activity (scavenging free radical production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270000" y="285480"/>
            <a:ext cx="8550000" cy="62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lammatory Bowel Diseases (IBD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a group of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Times New Roman"/>
                <a:hlinkClick r:id="rId1"/>
              </a:rPr>
              <a:t>inflammator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nditions of the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Times New Roman"/>
                <a:hlinkClick r:id="rId2"/>
              </a:rPr>
              <a:t>small intestin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Times New Roman"/>
                <a:hlinkClick r:id="rId3"/>
              </a:rPr>
              <a:t>col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major types of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B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re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Times New Roman"/>
                <a:hlinkClick r:id="rId4"/>
              </a:rPr>
              <a:t>Crohn's disea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Times New Roman"/>
                <a:hlinkClick r:id="rId5"/>
              </a:rPr>
              <a:t>ulcerative coliti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-360" y="204840"/>
            <a:ext cx="8967960" cy="63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0cb8"/>
                </a:solidFill>
                <a:latin typeface="Times New Roman"/>
                <a:ea typeface="Times New Roman"/>
              </a:rPr>
              <a:t>Side effects of sulfasalaz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ystalluri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ne marrow depress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galoblastic anemi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lic acid deficiency (should be provided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airment of male fertility </a:t>
            </a:r>
            <a:r>
              <a:rPr b="1" i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Oligospermia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stitial nephritis due to 5-AS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42560" y="177480"/>
            <a:ext cx="9001080" cy="63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80cb8"/>
                </a:solidFill>
                <a:latin typeface="Times New Roman"/>
                <a:ea typeface="Times New Roman"/>
              </a:rPr>
              <a:t>Mesalamine compound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ulations that have been designed to deliver 5-ASA in terminal small bowel &amp; large col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80cb8"/>
                </a:solidFill>
                <a:latin typeface="Times New Roman"/>
                <a:ea typeface="Times New Roman"/>
              </a:rPr>
              <a:t>Mesalamine</a:t>
            </a:r>
            <a:r>
              <a:rPr b="1" lang="en-US" sz="3200" spc="-1" strike="noStrike">
                <a:solidFill>
                  <a:srgbClr val="080cb8"/>
                </a:solidFill>
                <a:latin typeface="Times New Roman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080cb8"/>
                </a:solidFill>
                <a:latin typeface="Times New Roman"/>
                <a:ea typeface="Times New Roman"/>
              </a:rPr>
              <a:t>formulations ar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lfa fre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ll tolera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e less side effects compared to sulfasalaz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in patient sensitive to sulfa drug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10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10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1000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1000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52280" y="131400"/>
            <a:ext cx="8826480" cy="64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80cb8"/>
                </a:solidFill>
                <a:latin typeface="Times New Roman"/>
                <a:ea typeface="Times New Roman"/>
              </a:rPr>
              <a:t>Mesalamines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buClr>
                <a:srgbClr val="080cb8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aco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ally, delayed release tablets, distal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eum, colon, pH sensitive coa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buClr>
                <a:srgbClr val="080cb8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ntas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ally, sustained release capsules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mach, col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50000"/>
              </a:lnSpc>
              <a:buClr>
                <a:srgbClr val="080cb8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as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tally (suppository), rect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15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buClr>
                <a:srgbClr val="080cb8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was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ctally (suspension as enema)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ct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5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500"/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54080" y="177480"/>
            <a:ext cx="8851680" cy="63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0cb8"/>
                </a:solidFill>
                <a:latin typeface="Times New Roman"/>
                <a:ea typeface="Times New Roman"/>
              </a:rPr>
              <a:t>Mesalamin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972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5972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ral formul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97240" indent="-5972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ich releases 5-ASA in the distal small bow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972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ondary to pH changes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97240" indent="-5972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eases start at the pylorus and continues throughout the small bowel and col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972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972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sacol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-ASA coated in pH-sensitive resin that dissolve at pH 7 </a:t>
            </a:r>
            <a:r>
              <a:rPr b="0" lang="en-US" sz="3200" spc="-1" strike="noStrike">
                <a:solidFill>
                  <a:srgbClr val="080cb8"/>
                </a:solidFill>
                <a:latin typeface="Times New Roman"/>
                <a:ea typeface="Times New Roman"/>
              </a:rPr>
              <a:t>(delayed release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972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972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entasa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ogranules that release 5-ASA     throughout the small intestine </a:t>
            </a:r>
            <a:r>
              <a:rPr b="0" lang="en-US" sz="3200" spc="-1" strike="noStrike">
                <a:solidFill>
                  <a:srgbClr val="080cb8"/>
                </a:solidFill>
                <a:latin typeface="Times New Roman"/>
                <a:ea typeface="Times New Roman"/>
              </a:rPr>
              <a:t>(sustained release)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5" dur="1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0" dur="1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1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0" dur="10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1000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0" dur="1000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154080" y="177480"/>
            <a:ext cx="8802720" cy="63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12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0cb8"/>
                </a:solidFill>
                <a:latin typeface="Times New Roman"/>
                <a:ea typeface="Times New Roman"/>
              </a:rPr>
              <a:t>Mesalami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ctal formulation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lease 5-ASA in the distal colo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anasa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uppositori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Rowasa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enema)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7" dur="1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2" dur="1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7" dur="10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1000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7" dur="1000"/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4280" y="189000"/>
            <a:ext cx="8979120" cy="637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0cb8"/>
                </a:solidFill>
                <a:latin typeface="Times New Roman"/>
                <a:ea typeface="Times New Roman"/>
              </a:rPr>
              <a:t>Clinical uses of 5-amino salicylic acid compound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uction and maintenance of remission in mild to moderate IBD (First line of treatment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heumatoid arthritis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Sulfasalazine only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tal formulations are used in </a:t>
            </a:r>
            <a:r>
              <a:rPr b="1" lang="ga-I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al ulcerative colitis, 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ulcerative proctitis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roctosigmoiditis.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1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1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10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154080" y="380880"/>
            <a:ext cx="878040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0cb8"/>
                </a:solidFill>
                <a:latin typeface="Times New Roman"/>
                <a:ea typeface="Times New Roman"/>
              </a:rPr>
              <a:t>Glucocorticoid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80cb8"/>
                </a:solidFill>
                <a:latin typeface="Times New Roman"/>
                <a:ea typeface="Times New Roman"/>
              </a:rPr>
              <a:t>Mechanism of action of glucocorticoid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hibits phospholipase A2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hibits gene transcription of NO synthase, cyclo-oxygenase-2 (COX-2)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hibit production of inflammatory cytokine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5440" y="182160"/>
            <a:ext cx="9088560" cy="653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0cb8"/>
                </a:solidFill>
                <a:latin typeface="Times New Roman"/>
                <a:ea typeface="Times New Roman"/>
              </a:rPr>
              <a:t>Glucocorticoid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al preparation: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e.g. prednisone, prednisol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enteral preparation: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e.g. hydrocortisone, methyl prednisol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1009800" indent="-609840">
              <a:lnSpc>
                <a:spcPct val="110000"/>
              </a:lnSpc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er rate of absorption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1009800" indent="-609840">
              <a:lnSpc>
                <a:spcPct val="110000"/>
              </a:lnSpc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adverse effects compared to rectal administ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tal preparation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e.g. Hydrocortis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enema or suppository, give topical effec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absorption rate than ora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ide effects &amp; maximum tissue eff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6" dur="1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1" dur="1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10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7" dur="10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2" dur="10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10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1000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7" dur="1000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222120" y="242640"/>
            <a:ext cx="8723520" cy="635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0cb8"/>
                </a:solidFill>
                <a:latin typeface="Times New Roman"/>
                <a:ea typeface="Times New Roman"/>
              </a:rPr>
              <a:t>Budesonide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potent synthetic prednisolone analo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orally </a:t>
            </a:r>
            <a:r>
              <a:rPr b="0" lang="en-US" sz="3200" spc="-1" strike="noStrike">
                <a:solidFill>
                  <a:srgbClr val="080cb8"/>
                </a:solidFill>
                <a:latin typeface="Times New Roman"/>
                <a:ea typeface="Times New Roman"/>
              </a:rPr>
              <a:t>(controlled release tablets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 release drug in ileum and col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oral bioavailability (10%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subject to extensive </a:t>
            </a:r>
            <a:r>
              <a:rPr b="0" lang="en-US" sz="3200" spc="-1" strike="noStrike">
                <a:solidFill>
                  <a:srgbClr val="080cb8"/>
                </a:solidFill>
                <a:latin typeface="Times New Roman"/>
                <a:ea typeface="Times New Roman"/>
              </a:rPr>
              <a:t>first pass metabolis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80c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cb8"/>
                </a:solidFill>
                <a:latin typeface="Times New Roman"/>
                <a:ea typeface="Times New Roman"/>
              </a:rPr>
              <a:t>Has low bioavailab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treatment of active mild to moderate Crohn’s disease involving ileum and proximal col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192240" y="184320"/>
            <a:ext cx="8759520" cy="64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0cb8"/>
                </a:solidFill>
                <a:latin typeface="Times New Roman"/>
                <a:ea typeface="Times New Roman"/>
              </a:rPr>
              <a:t>Uses of glucocorticoid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icated for acute flares of disease (moderate –to- severe active IBD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not useful in maintaining remissio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ot effective as prophylactic therapy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80c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80cb8"/>
                </a:solidFill>
                <a:uFillTx/>
                <a:latin typeface="Times New Roman"/>
                <a:ea typeface="Times New Roman"/>
              </a:rPr>
              <a:t>Oral glucocorticoids</a:t>
            </a:r>
            <a:r>
              <a:rPr b="1" lang="en-US" sz="3200" spc="-1" strike="noStrike">
                <a:solidFill>
                  <a:srgbClr val="080cb8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commonly used in active conditio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80c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80cb8"/>
                </a:solidFill>
                <a:uFillTx/>
                <a:latin typeface="Times New Roman"/>
                <a:ea typeface="Times New Roman"/>
              </a:rPr>
              <a:t>Rectal glucocorticoids</a:t>
            </a:r>
            <a:r>
              <a:rPr b="1" lang="en-US" sz="3200" spc="-1" strike="noStrike">
                <a:solidFill>
                  <a:srgbClr val="080cb8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preferred in IBD involving rectum or sigmoid col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270000" y="285480"/>
            <a:ext cx="8550000" cy="62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lammatory Bowel Diseases (IBD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lcerative coliti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1009800" indent="-609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ronic mucosal inflammation of the col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1009800" indent="-6098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rohn's diseas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CD)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1009800" indent="-609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ronic transmural inflammation of gastrointestinal tra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1009800" indent="-6098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1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1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10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92240" y="184320"/>
            <a:ext cx="8759520" cy="64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0cb8"/>
                </a:solidFill>
                <a:latin typeface="Times New Roman"/>
                <a:ea typeface="Times New Roman"/>
              </a:rPr>
              <a:t>Uses of glucocorticoid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th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heumatoid arthrit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munosuppressive drug for organ transpla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iemetic during cancer chemotherap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87200" y="165240"/>
            <a:ext cx="8825040" cy="64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80cb8"/>
                </a:solidFill>
                <a:latin typeface="Times New Roman"/>
                <a:ea typeface="Times New Roman"/>
              </a:rPr>
              <a:t>Immunomodulators</a:t>
            </a:r>
            <a:r>
              <a:rPr b="1" lang="en-US" sz="3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mmunomodulators include: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hotrexate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rine analogs include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1" marL="1009800" indent="-60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zathioprin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1009800" indent="-60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-mercaptopur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re used to induce and maintain remission in IBD in active moderate-to-severe conditions or steroid dependent  or steroid resistant (refractory) Patien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1009800" indent="-60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1009800" indent="-609840">
              <a:lnSpc>
                <a:spcPct val="11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163440" y="177480"/>
            <a:ext cx="8794800" cy="63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009800" indent="-60984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urine analogue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1009800" indent="-60984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zathioprine &amp; 6-mercaptopurin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1009800" indent="-6098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zathioprine is </a:t>
            </a:r>
            <a:r>
              <a:rPr b="1" lang="en-US" sz="3200" spc="-1" strike="noStrike">
                <a:solidFill>
                  <a:srgbClr val="080cb8"/>
                </a:solidFill>
                <a:latin typeface="Times New Roman"/>
                <a:ea typeface="Times New Roman"/>
              </a:rPr>
              <a:t>pro-drug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6-mercaptopur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1009800" indent="-60984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hibits purine synthesis and inhibits synthesis of DNA, RNA, and protein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1009800" indent="-60984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may decrease proliferation of immune cells, which lowers autoimmune activit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1009800" indent="-609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uction and maintenance of remiss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1009800" indent="-6098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active IB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1009800" indent="-60984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2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7" dur="1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2" dur="1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7" dur="10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2" dur="10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7" dur="10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270000" y="217080"/>
            <a:ext cx="8742240" cy="635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009800" indent="-609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dverse effect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1009800" indent="-609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1009800" indent="-609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one marrow depression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ucopenia, thrombocytopenia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1009800" indent="-609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strointestinal toxicit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1009800" indent="-609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patic dysfunc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1009800" indent="-609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lete blood count &amp; liver function tests are required in all pati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270000" y="227160"/>
            <a:ext cx="8742240" cy="63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009800" indent="-60984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Methotrexat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1009800" indent="-60984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1009800" indent="-60984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folic acid antagonis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1009800" indent="-60984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hibit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hydrofolate reductase required for folic acid activation 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trahydrofola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1009800" indent="-60984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airs DNA synthe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1009800" indent="-60984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ally, I.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1009800" indent="-60984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induce and maintain remiss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1009800" indent="-609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U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1009800" indent="-609840">
              <a:lnSpc>
                <a:spcPct val="100000"/>
              </a:lnSpc>
              <a:buClr>
                <a:srgbClr val="c000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lammatory bowel disease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1009800" indent="-609840">
              <a:lnSpc>
                <a:spcPct val="100000"/>
              </a:lnSpc>
              <a:buClr>
                <a:srgbClr val="c000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heumatoid arthrit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1009800" indent="-609840">
              <a:lnSpc>
                <a:spcPct val="100000"/>
              </a:lnSpc>
              <a:buClr>
                <a:srgbClr val="c000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c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4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9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nodeType="clickEffect" fill="hold">
                      <p:stCondLst>
                        <p:cond delay="indefinite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4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9" dur="5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4" dur="5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9" dur="500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nodeType="clickEffect" fill="hold">
                      <p:stCondLst>
                        <p:cond delay="indefinite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4" dur="500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9" dur="500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4" dur="500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"/>
          <p:cNvPicPr/>
          <p:nvPr/>
        </p:nvPicPr>
        <p:blipFill>
          <a:blip r:embed="rId1">
            <a:lum bright="-10000"/>
          </a:blip>
          <a:stretch/>
        </p:blipFill>
        <p:spPr>
          <a:xfrm>
            <a:off x="2124000" y="225360"/>
            <a:ext cx="4103640" cy="626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58760" y="227160"/>
            <a:ext cx="8742240" cy="63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0098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dverse effects of methotrexat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100980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e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1009800" indent="-609840">
              <a:lnSpc>
                <a:spcPct val="115000"/>
              </a:lnSpc>
              <a:buClr>
                <a:srgbClr val="c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galoblastic anem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1009800" indent="-609840">
              <a:lnSpc>
                <a:spcPct val="115000"/>
              </a:lnSpc>
              <a:buClr>
                <a:srgbClr val="c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ne marrow depres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1009800" indent="-609840">
              <a:lnSpc>
                <a:spcPct val="115000"/>
              </a:lnSpc>
              <a:buClr>
                <a:srgbClr val="c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ratogen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78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80cb8"/>
                </a:solidFill>
                <a:latin typeface="Times New Roman"/>
                <a:ea typeface="Times New Roman"/>
              </a:rPr>
              <a:t>Monoclonal antibodies used in IBD</a:t>
            </a:r>
            <a:br>
              <a:rPr sz="3400"/>
            </a:br>
            <a:r>
              <a:rPr b="1" lang="en-US" sz="3400" spc="-1" strike="noStrike">
                <a:solidFill>
                  <a:srgbClr val="080cb8"/>
                </a:solidFill>
                <a:latin typeface="Times New Roman"/>
                <a:ea typeface="Times New Roman"/>
              </a:rPr>
              <a:t>(TNF-</a:t>
            </a:r>
            <a:r>
              <a:rPr b="1" lang="el-GR" sz="3400" spc="-1" strike="noStrike">
                <a:solidFill>
                  <a:srgbClr val="080cb8"/>
                </a:solidFill>
                <a:latin typeface="Times New Roman"/>
                <a:ea typeface="Times New Roman"/>
              </a:rPr>
              <a:t>α</a:t>
            </a:r>
            <a:r>
              <a:rPr b="1" lang="en-US" sz="3400" spc="-1" strike="noStrike">
                <a:solidFill>
                  <a:srgbClr val="080cb8"/>
                </a:solidFill>
                <a:latin typeface="Times New Roman"/>
                <a:ea typeface="Times New Roman"/>
              </a:rPr>
              <a:t> inhibitors)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09160" y="1599840"/>
            <a:ext cx="8526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lixima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alimumab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rtolizuma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 by binding  to TNF-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us preventing its binding to cell surface recepto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poptosis of T-lymphocytes and monocyt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64880" y="223560"/>
            <a:ext cx="8847000" cy="63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80cb8"/>
                </a:solidFill>
                <a:latin typeface="Times New Roman"/>
                <a:ea typeface="Times New Roman"/>
              </a:rPr>
              <a:t>Infliximab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80cb8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chimeric mouse-human monoclonal antibod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80cb8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% murine – 75% huma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80cb8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NF-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hibito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80cb8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hibits soluble or membrane –bound  TNF-α located on activated T lymphocyte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80cb8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intravenously as infusion (5-10 mg/kg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80cb8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s long half life (8-10 days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80cb8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weeks to give clinical respon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1" dur="1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6" dur="1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1" dur="10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6" dur="10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1" dur="10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6" dur="1000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1" dur="1000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175680" y="223560"/>
            <a:ext cx="8836200" cy="63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0cb8"/>
                </a:solidFill>
                <a:latin typeface="Times New Roman"/>
                <a:ea typeface="Times New Roman"/>
              </a:rPr>
              <a:t>Uses of infliximab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850"/>
              </a:spcBef>
              <a:buClr>
                <a:srgbClr val="080cb8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moderate to severe active Crohn’s disease and ulcerative colitis.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850"/>
              </a:spcBef>
              <a:buClr>
                <a:srgbClr val="080cb8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ients not responding to immunomodulators or glucocorticoids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850"/>
              </a:spcBef>
              <a:buClr>
                <a:srgbClr val="080cb8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eatment of rheumatoid arthriti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850"/>
              </a:spcBef>
              <a:buClr>
                <a:srgbClr val="080cb8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soriasi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2" dur="indefinite" restart="never" nodeType="tmRoot">
          <p:childTnLst>
            <p:seq>
              <p:cTn id="733" dur="indefinite" nodeType="mainSeq">
                <p:childTnLst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8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3" dur="1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nodeType="clickEffect" fill="hold">
                      <p:stCondLst>
                        <p:cond delay="indefinite"/>
                      </p:stCondLst>
                      <p:childTnLst>
                        <p:par>
                          <p:cTn id="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8" dur="1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3" dur="10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nodeType="clickEffect" fill="hold">
                      <p:stCondLst>
                        <p:cond delay="indefinite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8" dur="1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222120" y="192960"/>
            <a:ext cx="861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Differences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between Crohn's disease and UC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76040" y="907920"/>
          <a:ext cx="8810640" cy="5553360"/>
        </p:xfrm>
        <a:graphic>
          <a:graphicData uri="http://schemas.openxmlformats.org/drawingml/2006/table">
            <a:tbl>
              <a:tblPr/>
              <a:tblGrid>
                <a:gridCol w="2157480"/>
                <a:gridCol w="3808440"/>
                <a:gridCol w="2844720"/>
              </a:tblGrid>
              <a:tr h="1066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80cb8"/>
                          </a:solidFill>
                          <a:latin typeface="Times New Roman"/>
                          <a:ea typeface="Times New Roman"/>
                        </a:rPr>
                        <a:t>Crohn's diseas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80cb8"/>
                          </a:solidFill>
                          <a:latin typeface="Times New Roman"/>
                          <a:ea typeface="Times New Roman"/>
                        </a:rPr>
                        <a:t>Ulcerative coliti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3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80cb8"/>
                          </a:solidFill>
                          <a:latin typeface="Times New Roman"/>
                          <a:ea typeface="Times New Roman"/>
                        </a:rPr>
                        <a:t>Location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ffect any part of the GIT, from </a:t>
                      </a:r>
                      <a:r>
                        <a:rPr b="1" lang="en-US" sz="2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mouth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to </a:t>
                      </a:r>
                      <a:r>
                        <a:rPr b="1" lang="en-US" sz="2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anu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stricted to colon &amp; rectum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9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80cb8"/>
                          </a:solidFill>
                          <a:latin typeface="Times New Roman"/>
                          <a:ea typeface="Times New Roman"/>
                        </a:rPr>
                        <a:t>Distribution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Patchy areas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of inflammation </a:t>
                      </a:r>
                      <a:r>
                        <a:rPr b="1" i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Skip lesions)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Continuous area 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f inflammation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3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80cb8"/>
                          </a:solidFill>
                          <a:latin typeface="Times New Roman"/>
                          <a:ea typeface="Times New Roman"/>
                        </a:rPr>
                        <a:t>Depth of </a:t>
                      </a:r>
                      <a:r>
                        <a:rPr b="1" lang="en-US" sz="2500" spc="-1" strike="noStrike">
                          <a:solidFill>
                            <a:srgbClr val="080cb8"/>
                          </a:solidFill>
                          <a:latin typeface="Times New Roman"/>
                          <a:ea typeface="Times New Roman"/>
                        </a:rPr>
                        <a:t>inflammation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y be transmural, deep into tissues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hallow, mucosal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4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80cb8"/>
                          </a:solidFill>
                          <a:latin typeface="Times New Roman"/>
                          <a:ea typeface="Times New Roman"/>
                        </a:rPr>
                        <a:t>Complications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rictures, Obstruction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bscess, Fistul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xic megacolon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lon cancer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61560" y="177840"/>
            <a:ext cx="9001080" cy="627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0cb8"/>
                </a:solidFill>
                <a:latin typeface="Times New Roman"/>
                <a:ea typeface="Times New Roman"/>
              </a:rPr>
              <a:t>Side effec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ute or early infusion-related adverse reactions </a:t>
            </a:r>
            <a:r>
              <a:rPr b="1" lang="en-US" sz="3200" spc="-1" strike="noStrike">
                <a:solidFill>
                  <a:srgbClr val="080cb8"/>
                </a:solidFill>
                <a:latin typeface="Times New Roman"/>
                <a:ea typeface="Times New Roman"/>
              </a:rPr>
              <a:t>(Allergic reactions or anaphylaxis in 10% of patients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ayed type hypersensitivity reaction </a:t>
            </a:r>
            <a:r>
              <a:rPr b="1" lang="en-US" sz="3200" spc="-1" strike="noStrike">
                <a:solidFill>
                  <a:srgbClr val="080cb8"/>
                </a:solidFill>
                <a:latin typeface="Times New Roman"/>
                <a:ea typeface="Times New Roman"/>
              </a:rPr>
              <a:t>(serum sickness-like reaction,  in 5% of patients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-treatment with diphenhydramine, acetaminophen, corticosteroids is recommend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9" dur="indefinite" restart="never" nodeType="tmRoot">
          <p:childTnLst>
            <p:seq>
              <p:cTn id="760" dur="indefinite" nodeType="mainSeq">
                <p:childTnLst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5" dur="1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nodeType="clickEffect" fill="hold">
                      <p:stCondLst>
                        <p:cond delay="indefinite"/>
                      </p:stCondLst>
                      <p:childTnLst>
                        <p:par>
                          <p:cTn id="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0" dur="1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5" dur="10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77760" y="198360"/>
            <a:ext cx="8934480" cy="639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0cb8"/>
                </a:solidFill>
                <a:latin typeface="Times New Roman"/>
                <a:ea typeface="Times New Roman"/>
              </a:rPr>
              <a:t>Side effects (Cont.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risk of opportunistic infections </a:t>
            </a:r>
            <a:r>
              <a:rPr b="1" lang="en-US" sz="3200" spc="-1" strike="noStrike">
                <a:solidFill>
                  <a:srgbClr val="080cb8"/>
                </a:solidFill>
                <a:latin typeface="Times New Roman"/>
                <a:ea typeface="Times New Roman"/>
              </a:rPr>
              <a:t>(Latent tuberculosis, sepsis, hepatitis B, fungal infections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s of response to infliximab over time due to the development of antibodies to infliximab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vere hepatic failu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re risk of lymphoma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6" dur="indefinite" restart="never" nodeType="tmRoot">
          <p:childTnLst>
            <p:seq>
              <p:cTn id="777" dur="indefinite" nodeType="mainSeq">
                <p:childTnLst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2" dur="1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nodeType="clickEffect" fill="hold">
                      <p:stCondLst>
                        <p:cond delay="indefinite"/>
                      </p:stCondLst>
                      <p:childTnLst>
                        <p:par>
                          <p:cTn id="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7" dur="10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nodeType="clickEffect" fill="hold">
                      <p:stCondLst>
                        <p:cond delay="indefinite"/>
                      </p:stCondLst>
                      <p:childTnLst>
                        <p:par>
                          <p:cTn id="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2" dur="10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nodeType="clickEffect" fill="hold">
                      <p:stCondLst>
                        <p:cond delay="indefinite"/>
                      </p:stCondLst>
                      <p:childTnLst>
                        <p:par>
                          <p:cTn id="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7" dur="10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204840"/>
            <a:ext cx="822960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80cb8"/>
                </a:solidFill>
                <a:latin typeface="Times New Roman"/>
                <a:ea typeface="Times New Roman"/>
              </a:rPr>
              <a:t>Adalimumab (HUMIRA)</a:t>
            </a:r>
            <a:r>
              <a:rPr b="0" lang="en-US" sz="4000" spc="-1" strike="noStrike">
                <a:solidFill>
                  <a:srgbClr val="080cb8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62000" y="1126800"/>
            <a:ext cx="885024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lly humanized IgG antibody to TNF-α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alimumab is TNFα inhibi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binds to TNFα, preventing it from activating TNF receptor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s an advantage that it is given by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subcutaneous injec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pproved for treatment of, moderate to severe Crohn’s disease, rheumatoid arthritis, psoriasi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8" dur="indefinite" restart="never" nodeType="tmRoot">
          <p:childTnLst>
            <p:seq>
              <p:cTn id="799" dur="indefinite" nodeType="mainSeq">
                <p:childTnLst>
                  <p:par>
                    <p:cTn id="800" nodeType="clickEffect" fill="hold">
                      <p:stCondLst>
                        <p:cond delay="indefinite"/>
                      </p:stCondLst>
                      <p:childTnLst>
                        <p:par>
                          <p:cTn id="8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4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nodeType="clickEffect" fill="hold">
                      <p:stCondLst>
                        <p:cond delay="indefinite"/>
                      </p:stCondLst>
                      <p:childTnLst>
                        <p:par>
                          <p:cTn id="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9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nodeType="clickEffect" fill="hold">
                      <p:stCondLst>
                        <p:cond delay="indefinite"/>
                      </p:stCondLst>
                      <p:childTnLst>
                        <p:par>
                          <p:cTn id="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4" dur="1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9" dur="10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nodeType="clickEffect" fill="hold">
                      <p:stCondLst>
                        <p:cond delay="indefinite"/>
                      </p:stCondLst>
                      <p:childTnLst>
                        <p:par>
                          <p:cTn id="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4" dur="10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80cb8"/>
                </a:solidFill>
                <a:latin typeface="Times New Roman"/>
                <a:ea typeface="Times New Roman"/>
              </a:rPr>
              <a:t>Certolizumab pegol (Cimzia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05920" y="1055520"/>
            <a:ext cx="8480520" cy="50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b fragment of a humanized antibody directed against TNF-α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rtolizumab is attached to polyethylene glycol to increase its half-life in circul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ubcutaneously for the treatment of Crohn's disease &amp; rheumatoid arthriti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0" y="272520"/>
            <a:ext cx="8747280" cy="627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80cb8"/>
                </a:solidFill>
                <a:latin typeface="Times New Roman"/>
                <a:ea typeface="Times New Roman"/>
              </a:rPr>
              <a:t>Summary for drugs used in IB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5-aminosalicylic acid compou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zo compound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cb8"/>
                </a:solidFill>
                <a:latin typeface="Times New Roman"/>
                <a:ea typeface="Times New Roman"/>
              </a:rPr>
              <a:t>sulfasalazine, olsalazine, balsalazi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alamines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cb8"/>
                </a:solidFill>
                <a:latin typeface="Times New Roman"/>
                <a:ea typeface="Times New Roman"/>
              </a:rPr>
              <a:t>Pentasa, Asacol, Rowasa, Canas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Glucocorticoi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80cb8"/>
                </a:solidFill>
                <a:latin typeface="Times New Roman"/>
                <a:ea typeface="Times New Roman"/>
              </a:rPr>
              <a:t>prednisone, prednisolone, hydrocortisone, budesoni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mmunomodul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hotrex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rine analogues: Azathioprine&amp;6mercaptopur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NF-alpha inhibitors (monoclonal antibodi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liximab – Adalimumab - Cetrolizuma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  <p:timing>
    <p:tnLst>
      <p:par>
        <p:cTn id="825" dur="indefinite" restart="never" nodeType="tmRoot">
          <p:childTnLst>
            <p:seq>
              <p:cTn id="826" dur="indefinite" nodeType="mainSeq">
                <p:childTnLst>
                  <p:par>
                    <p:cTn id="827" nodeType="clickEffect" fill="hold">
                      <p:stCondLst>
                        <p:cond delay="indefinite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1" dur="3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2" dur="3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3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nodeType="clickEffect" fill="hold">
                      <p:stCondLst>
                        <p:cond delay="indefinite"/>
                      </p:stCondLst>
                      <p:childTnLst>
                        <p:par>
                          <p:cTn id="8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8" dur="3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9" dur="3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3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nodeType="clickEffect" fill="hold">
                      <p:stCondLst>
                        <p:cond delay="indefinite"/>
                      </p:stCondLst>
                      <p:childTnLst>
                        <p:par>
                          <p:cTn id="8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5" dur="3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6" dur="3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3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nodeType="clickEffect" fill="hold">
                      <p:stCondLst>
                        <p:cond delay="indefinite"/>
                      </p:stCondLst>
                      <p:childTnLst>
                        <p:par>
                          <p:cTn id="8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2" dur="3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3" dur="3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3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nodeType="clickEffect" fill="hold">
                      <p:stCondLst>
                        <p:cond delay="indefinite"/>
                      </p:stCondLst>
                      <p:childTnLst>
                        <p:par>
                          <p:cTn id="8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9" dur="30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0" dur="3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3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nodeType="clickEffect" fill="hold">
                      <p:stCondLst>
                        <p:cond delay="indefinite"/>
                      </p:stCondLst>
                      <p:childTnLst>
                        <p:par>
                          <p:cTn id="8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6" dur="30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7" dur="30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30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nodeType="clickEffect" fill="hold">
                      <p:stCondLst>
                        <p:cond delay="indefinite"/>
                      </p:stCondLst>
                      <p:childTnLst>
                        <p:par>
                          <p:cTn id="8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3" dur="3000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4" dur="30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30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nodeType="clickEffect" fill="hold">
                      <p:stCondLst>
                        <p:cond delay="indefinite"/>
                      </p:stCondLst>
                      <p:childTnLst>
                        <p:par>
                          <p:cTn id="8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0" dur="3000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1" dur="30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30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7" dur="3000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8" dur="3000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3000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nodeType="clickEffect" fill="hold">
                      <p:stCondLst>
                        <p:cond delay="indefinite"/>
                      </p:stCondLst>
                      <p:childTnLst>
                        <p:par>
                          <p:cTn id="8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3000"/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5" dur="3000" fill="hold"/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3000" fill="hold"/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nodeType="clickEffect" fill="hold">
                      <p:stCondLst>
                        <p:cond delay="indefinite"/>
                      </p:stCondLst>
                      <p:childTnLst>
                        <p:par>
                          <p:cTn id="8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3000"/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2" dur="3000" fill="hold"/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3000" fill="hold"/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nodeType="clickEffect" fill="hold">
                      <p:stCondLst>
                        <p:cond delay="indefinite"/>
                      </p:stCondLst>
                      <p:childTnLst>
                        <p:par>
                          <p:cTn id="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8" dur="3000"/>
                                        <p:tgtEl>
                                          <p:spTgt spid="1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9" dur="3000" fill="hold"/>
                                        <p:tgtEl>
                                          <p:spTgt spid="1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3000" fill="hold"/>
                                        <p:tgtEl>
                                          <p:spTgt spid="1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3000"/>
                                        <p:tgtEl>
                                          <p:spTgt spid="1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4" dur="3000" fill="hold"/>
                                        <p:tgtEl>
                                          <p:spTgt spid="1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3000" fill="hold"/>
                                        <p:tgtEl>
                                          <p:spTgt spid="1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3"/>
          <p:cNvSpPr/>
          <p:nvPr/>
        </p:nvSpPr>
        <p:spPr>
          <a:xfrm>
            <a:off x="449280" y="601560"/>
            <a:ext cx="2511360" cy="8254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Bernard MT Condensed"/>
              </a:rPr>
              <a:t>Inductive Therap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396720" y="1246320"/>
            <a:ext cx="3214800" cy="47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41280" indent="-341280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Narrow"/>
                <a:ea typeface="Arial"/>
              </a:rPr>
              <a:t>For U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1280" indent="-341280">
              <a:lnSpc>
                <a:spcPts val="2599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Aminosalicyl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1280" indent="-341280">
              <a:lnSpc>
                <a:spcPts val="2599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Corticosteroi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1280" indent="-341280">
              <a:lnSpc>
                <a:spcPts val="25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Immunosupress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1280" indent="-341280">
              <a:lnSpc>
                <a:spcPts val="25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Infliximab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1280" indent="-341280">
              <a:lnSpc>
                <a:spcPts val="25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1280" indent="-341280">
              <a:lnSpc>
                <a:spcPts val="2599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1280" indent="-341280">
              <a:lnSpc>
                <a:spcPts val="2599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Narrow"/>
                <a:ea typeface="Arial"/>
              </a:rPr>
              <a:t>For C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1280" indent="-341280">
              <a:lnSpc>
                <a:spcPts val="2599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Aminosalicyl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1280" indent="-341280">
              <a:lnSpc>
                <a:spcPts val="2599"/>
              </a:lnSpc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Corticosteroi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1280" indent="-341280">
              <a:lnSpc>
                <a:spcPts val="2599"/>
              </a:lnSpc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Antibiot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1280" indent="-341280">
              <a:lnSpc>
                <a:spcPts val="2599"/>
              </a:lnSpc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Biolog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1280" indent="-341280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5157720" y="1479600"/>
            <a:ext cx="314316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41280" indent="-341280">
              <a:lnSpc>
                <a:spcPts val="2500"/>
              </a:lnSpc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Aminosalicyl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1280" indent="-341280">
              <a:lnSpc>
                <a:spcPts val="2500"/>
              </a:lnSpc>
              <a:spcBef>
                <a:spcPts val="601"/>
              </a:spcBef>
              <a:buSzPct val="10288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Immunosupress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1280" indent="-341280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Azathiopr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1280" indent="-341280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6-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1280" indent="-341280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Methotrex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1280" indent="-341280">
              <a:lnSpc>
                <a:spcPts val="2500"/>
              </a:lnSpc>
              <a:spcBef>
                <a:spcPts val="6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Infliximab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1280" indent="-341280">
              <a:lnSpc>
                <a:spcPts val="2500"/>
              </a:lnSpc>
              <a:spcBef>
                <a:spcPts val="601"/>
              </a:spcBef>
              <a:buSzPct val="102884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NO corticosteroi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1280" indent="-341280">
              <a:lnSpc>
                <a:spcPts val="2500"/>
              </a:lnSpc>
              <a:spcBef>
                <a:spcPts val="6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5113440" y="590400"/>
            <a:ext cx="2928960" cy="8254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Bernard MT Condensed"/>
              </a:rPr>
              <a:t>Maintenance Therap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new_pa2"/>
          <p:cNvPicPr/>
          <p:nvPr/>
        </p:nvPicPr>
        <p:blipFill>
          <a:blip r:embed="rId1"/>
          <a:stretch/>
        </p:blipFill>
        <p:spPr>
          <a:xfrm>
            <a:off x="250920" y="1231920"/>
            <a:ext cx="8893080" cy="439272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8439120" cy="556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900" spc="-1" strike="noStrike">
                <a:solidFill>
                  <a:srgbClr val="000000"/>
                </a:solidFill>
                <a:latin typeface="Bodoni MT Black"/>
              </a:rPr>
              <a:t>Thank you</a:t>
            </a:r>
            <a:br>
              <a:rPr sz="6900"/>
            </a:br>
            <a:br>
              <a:rPr sz="6900"/>
            </a:br>
            <a:br>
              <a:rPr sz="6900"/>
            </a:br>
            <a:br>
              <a:rPr sz="6900"/>
            </a:br>
            <a:r>
              <a:rPr b="0" lang="en-US" sz="6900" spc="-1" strike="noStrike">
                <a:solidFill>
                  <a:srgbClr val="000000"/>
                </a:solidFill>
                <a:latin typeface="Bodoni MT Black"/>
              </a:rPr>
              <a:t>Questions</a:t>
            </a:r>
            <a:r>
              <a:rPr b="0" lang="en-US" sz="6900" spc="-1" strike="noStrike">
                <a:solidFill>
                  <a:srgbClr val="000000"/>
                </a:solidFill>
                <a:latin typeface="Bodoni MT Black"/>
              </a:rPr>
              <a:t> ?</a:t>
            </a:r>
            <a:r>
              <a:rPr b="0" lang="en-US" sz="3800" spc="-1" strike="noStrike">
                <a:solidFill>
                  <a:srgbClr val="000000"/>
                </a:solidFill>
                <a:latin typeface="Bodoni MT Black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404640" y="420840"/>
          <a:ext cx="8345520" cy="5503680"/>
        </p:xfrm>
        <a:graphic>
          <a:graphicData uri="http://schemas.openxmlformats.org/drawingml/2006/table">
            <a:tbl>
              <a:tblPr/>
              <a:tblGrid>
                <a:gridCol w="2883240"/>
                <a:gridCol w="2732040"/>
                <a:gridCol w="2730240"/>
              </a:tblGrid>
              <a:tr h="753840">
                <a:tc gridSpan="3">
                  <a:txBody>
                    <a:bodyPr lIns="90000" rIns="171360" tIns="133200" bIns="133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ga-IE" sz="3200" spc="-1" strike="noStrike">
                          <a:solidFill>
                            <a:srgbClr val="000000"/>
                          </a:solidFill>
                          <a:latin typeface="proxima_nova_rgbold"/>
                        </a:rPr>
                        <a:t>Presentatio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171360">
                    <a:lnL w="5760">
                      <a:solidFill>
                        <a:srgbClr val="979797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4320">
                      <a:solidFill>
                        <a:srgbClr val="979797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98640">
                <a:tc>
                  <a:txBody>
                    <a:bodyPr lIns="90000" rIns="171360" tIns="133200" bIns="1332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proxima_nova_rgregular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171360">
                    <a:lnL w="5760">
                      <a:solidFill>
                        <a:srgbClr val="979797"/>
                      </a:solidFill>
                    </a:lnL>
                    <a:lnR w="4320">
                      <a:solidFill>
                        <a:srgbClr val="979797"/>
                      </a:solidFill>
                    </a:lnR>
                    <a:lnT w="4320">
                      <a:solidFill>
                        <a:srgbClr val="979797"/>
                      </a:solidFill>
                    </a:lnT>
                    <a:lnB w="4320">
                      <a:solidFill>
                        <a:srgbClr val="97979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71360" rIns="171360" tIns="133200" bIns="1332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ga-IE" sz="2400" spc="-1" strike="noStrike">
                          <a:solidFill>
                            <a:srgbClr val="000000"/>
                          </a:solidFill>
                          <a:latin typeface="proxima_nova_rgbold"/>
                        </a:rPr>
                        <a:t>Crohn Disea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71360" marR="171360">
                    <a:lnL w="4320">
                      <a:solidFill>
                        <a:srgbClr val="979797"/>
                      </a:solidFill>
                    </a:lnL>
                    <a:lnR w="4320">
                      <a:solidFill>
                        <a:srgbClr val="979797"/>
                      </a:solidFill>
                    </a:lnR>
                    <a:lnT w="4320">
                      <a:solidFill>
                        <a:srgbClr val="979797"/>
                      </a:solidFill>
                    </a:lnT>
                    <a:lnB w="4320">
                      <a:solidFill>
                        <a:srgbClr val="97979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71360" rIns="171360" tIns="133200" bIns="1332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ga-IE" sz="2400" spc="-1" strike="noStrike">
                          <a:solidFill>
                            <a:srgbClr val="000000"/>
                          </a:solidFill>
                          <a:latin typeface="proxima_nova_rgbold"/>
                        </a:rPr>
                        <a:t>Ulcerative Colit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71360" marR="171360">
                    <a:lnL w="4320">
                      <a:solidFill>
                        <a:srgbClr val="979797"/>
                      </a:solidFill>
                    </a:lnL>
                    <a:lnR>
                      <a:noFill/>
                    </a:lnR>
                    <a:lnT w="4320">
                      <a:solidFill>
                        <a:srgbClr val="979797"/>
                      </a:solidFill>
                    </a:lnT>
                    <a:lnB w="4320">
                      <a:solidFill>
                        <a:srgbClr val="97979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49160">
                <a:tc>
                  <a:txBody>
                    <a:bodyPr lIns="90000" rIns="171360" tIns="133200" bIns="133200"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ga-IE" sz="2400" spc="-1" strike="noStrike">
                          <a:solidFill>
                            <a:srgbClr val="000000"/>
                          </a:solidFill>
                          <a:latin typeface="proxima_nova_rgregular"/>
                        </a:rPr>
                        <a:t>Bleed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171360">
                    <a:lnL w="5760">
                      <a:solidFill>
                        <a:srgbClr val="979797"/>
                      </a:solidFill>
                    </a:lnL>
                    <a:lnR w="4320">
                      <a:solidFill>
                        <a:srgbClr val="979797"/>
                      </a:solidFill>
                    </a:lnR>
                    <a:lnT w="4320">
                      <a:solidFill>
                        <a:srgbClr val="979797"/>
                      </a:solidFill>
                    </a:lnT>
                    <a:lnB w="4320">
                      <a:solidFill>
                        <a:srgbClr val="97979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71360" rIns="171360" tIns="133200" bIns="1332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ga-IE" sz="2400" spc="-1" strike="noStrike">
                          <a:solidFill>
                            <a:srgbClr val="000000"/>
                          </a:solidFill>
                          <a:latin typeface="proxima_nova_rgregular"/>
                        </a:rPr>
                        <a:t>Occasion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71360" marR="171360">
                    <a:lnL w="4320">
                      <a:solidFill>
                        <a:srgbClr val="979797"/>
                      </a:solidFill>
                    </a:lnL>
                    <a:lnR w="4320">
                      <a:solidFill>
                        <a:srgbClr val="979797"/>
                      </a:solidFill>
                    </a:lnR>
                    <a:lnT w="4320">
                      <a:solidFill>
                        <a:srgbClr val="979797"/>
                      </a:solidFill>
                    </a:lnT>
                    <a:lnB w="4320">
                      <a:solidFill>
                        <a:srgbClr val="97979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71360" rIns="171360" tIns="133200" bIns="1332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ga-IE" sz="2400" spc="-1" strike="noStrike">
                          <a:solidFill>
                            <a:srgbClr val="000000"/>
                          </a:solidFill>
                          <a:latin typeface="proxima_nova_rgregular"/>
                        </a:rPr>
                        <a:t>Very comm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71360" marR="171360">
                    <a:lnL w="4320">
                      <a:solidFill>
                        <a:srgbClr val="979797"/>
                      </a:solidFill>
                    </a:lnL>
                    <a:lnR>
                      <a:noFill/>
                    </a:lnR>
                    <a:lnT w="4320">
                      <a:solidFill>
                        <a:srgbClr val="979797"/>
                      </a:solidFill>
                    </a:lnT>
                    <a:lnB w="4320">
                      <a:solidFill>
                        <a:srgbClr val="97979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50960">
                <a:tc>
                  <a:txBody>
                    <a:bodyPr lIns="90000" rIns="171360" tIns="133200" bIns="133200"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ga-IE" sz="2400" spc="-1" strike="noStrike">
                          <a:solidFill>
                            <a:srgbClr val="000000"/>
                          </a:solidFill>
                          <a:latin typeface="proxima_nova_rgregular"/>
                        </a:rPr>
                        <a:t>Obstruc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171360">
                    <a:lnL w="5760">
                      <a:solidFill>
                        <a:srgbClr val="979797"/>
                      </a:solidFill>
                    </a:lnL>
                    <a:lnR w="4320">
                      <a:solidFill>
                        <a:srgbClr val="979797"/>
                      </a:solidFill>
                    </a:lnR>
                    <a:lnT w="4320">
                      <a:solidFill>
                        <a:srgbClr val="979797"/>
                      </a:solidFill>
                    </a:lnT>
                    <a:lnB w="4320">
                      <a:solidFill>
                        <a:srgbClr val="97979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71360" rIns="171360" tIns="133200" bIns="1332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ga-IE" sz="2400" spc="-1" strike="noStrike">
                          <a:solidFill>
                            <a:srgbClr val="000000"/>
                          </a:solidFill>
                          <a:latin typeface="proxima_nova_rgregular"/>
                        </a:rPr>
                        <a:t>Comm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71360" marR="171360">
                    <a:lnL w="4320">
                      <a:solidFill>
                        <a:srgbClr val="979797"/>
                      </a:solidFill>
                    </a:lnL>
                    <a:lnR w="4320">
                      <a:solidFill>
                        <a:srgbClr val="979797"/>
                      </a:solidFill>
                    </a:lnR>
                    <a:lnT w="4320">
                      <a:solidFill>
                        <a:srgbClr val="979797"/>
                      </a:solidFill>
                    </a:lnT>
                    <a:lnB w="4320">
                      <a:solidFill>
                        <a:srgbClr val="97979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71360" rIns="171360" tIns="133200" bIns="1332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ga-IE" sz="2400" spc="-1" strike="noStrike">
                          <a:solidFill>
                            <a:srgbClr val="000000"/>
                          </a:solidFill>
                          <a:latin typeface="proxima_nova_rgregular"/>
                        </a:rPr>
                        <a:t>Uncomm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71360" marR="171360">
                    <a:lnL w="4320">
                      <a:solidFill>
                        <a:srgbClr val="979797"/>
                      </a:solidFill>
                    </a:lnL>
                    <a:lnR>
                      <a:noFill/>
                    </a:lnR>
                    <a:lnT w="4320">
                      <a:solidFill>
                        <a:srgbClr val="979797"/>
                      </a:solidFill>
                    </a:lnT>
                    <a:lnB w="4320">
                      <a:solidFill>
                        <a:srgbClr val="97979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49160">
                <a:tc>
                  <a:txBody>
                    <a:bodyPr lIns="90000" rIns="171360" tIns="133200" bIns="133200"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ga-IE" sz="2400" spc="-1" strike="noStrike">
                          <a:solidFill>
                            <a:srgbClr val="000000"/>
                          </a:solidFill>
                          <a:latin typeface="proxima_nova_rgregular"/>
                        </a:rPr>
                        <a:t>Fistula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171360">
                    <a:lnL w="5760">
                      <a:solidFill>
                        <a:srgbClr val="979797"/>
                      </a:solidFill>
                    </a:lnL>
                    <a:lnR w="4320">
                      <a:solidFill>
                        <a:srgbClr val="979797"/>
                      </a:solidFill>
                    </a:lnR>
                    <a:lnT w="4320">
                      <a:solidFill>
                        <a:srgbClr val="979797"/>
                      </a:solidFill>
                    </a:lnT>
                    <a:lnB w="4320">
                      <a:solidFill>
                        <a:srgbClr val="97979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71360" rIns="171360" tIns="133200" bIns="1332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ga-IE" sz="2400" spc="-1" strike="noStrike">
                          <a:solidFill>
                            <a:srgbClr val="000000"/>
                          </a:solidFill>
                          <a:latin typeface="proxima_nova_rgregular"/>
                        </a:rPr>
                        <a:t>Comm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71360" marR="171360">
                    <a:lnL w="4320">
                      <a:solidFill>
                        <a:srgbClr val="979797"/>
                      </a:solidFill>
                    </a:lnL>
                    <a:lnR w="4320">
                      <a:solidFill>
                        <a:srgbClr val="979797"/>
                      </a:solidFill>
                    </a:lnR>
                    <a:lnT w="4320">
                      <a:solidFill>
                        <a:srgbClr val="979797"/>
                      </a:solidFill>
                    </a:lnT>
                    <a:lnB w="4320">
                      <a:solidFill>
                        <a:srgbClr val="97979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71360" rIns="171360" tIns="133200" bIns="1332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ga-IE" sz="2400" spc="-1" strike="noStrike">
                          <a:solidFill>
                            <a:srgbClr val="000000"/>
                          </a:solidFill>
                          <a:latin typeface="proxima_nova_rgregular"/>
                        </a:rPr>
                        <a:t>No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71360" marR="171360">
                    <a:lnL w="4320">
                      <a:solidFill>
                        <a:srgbClr val="979797"/>
                      </a:solidFill>
                    </a:lnL>
                    <a:lnR>
                      <a:noFill/>
                    </a:lnR>
                    <a:lnT w="4320">
                      <a:solidFill>
                        <a:srgbClr val="979797"/>
                      </a:solidFill>
                    </a:lnT>
                    <a:lnB w="4320">
                      <a:solidFill>
                        <a:srgbClr val="97979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50960">
                <a:tc>
                  <a:txBody>
                    <a:bodyPr lIns="90000" rIns="171360" tIns="133200" bIns="133200"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ga-IE" sz="2400" spc="-1" strike="noStrike">
                          <a:solidFill>
                            <a:srgbClr val="000000"/>
                          </a:solidFill>
                          <a:latin typeface="proxima_nova_rgregular"/>
                        </a:rPr>
                        <a:t>Weight lo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171360">
                    <a:lnL w="5760">
                      <a:solidFill>
                        <a:srgbClr val="979797"/>
                      </a:solidFill>
                    </a:lnL>
                    <a:lnR w="4320">
                      <a:solidFill>
                        <a:srgbClr val="979797"/>
                      </a:solidFill>
                    </a:lnR>
                    <a:lnT w="4320">
                      <a:solidFill>
                        <a:srgbClr val="979797"/>
                      </a:solidFill>
                    </a:lnT>
                    <a:lnB w="4320">
                      <a:solidFill>
                        <a:srgbClr val="97979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71360" rIns="171360" tIns="133200" bIns="1332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ga-IE" sz="2400" spc="-1" strike="noStrike">
                          <a:solidFill>
                            <a:srgbClr val="000000"/>
                          </a:solidFill>
                          <a:latin typeface="proxima_nova_rgregular"/>
                        </a:rPr>
                        <a:t>Comm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71360" marR="171360">
                    <a:lnL w="4320">
                      <a:solidFill>
                        <a:srgbClr val="979797"/>
                      </a:solidFill>
                    </a:lnL>
                    <a:lnR w="4320">
                      <a:solidFill>
                        <a:srgbClr val="979797"/>
                      </a:solidFill>
                    </a:lnR>
                    <a:lnT w="4320">
                      <a:solidFill>
                        <a:srgbClr val="979797"/>
                      </a:solidFill>
                    </a:lnT>
                    <a:lnB w="4320">
                      <a:solidFill>
                        <a:srgbClr val="97979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71360" rIns="171360" tIns="133200" bIns="1332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ga-IE" sz="2400" spc="-1" strike="noStrike">
                          <a:solidFill>
                            <a:srgbClr val="000000"/>
                          </a:solidFill>
                          <a:latin typeface="proxima_nova_rgregular"/>
                        </a:rPr>
                        <a:t>Uncomm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71360" marR="171360">
                    <a:lnL w="4320">
                      <a:solidFill>
                        <a:srgbClr val="979797"/>
                      </a:solidFill>
                    </a:lnL>
                    <a:lnR>
                      <a:noFill/>
                    </a:lnR>
                    <a:lnT w="4320">
                      <a:solidFill>
                        <a:srgbClr val="979797"/>
                      </a:solidFill>
                    </a:lnT>
                    <a:lnB w="4320">
                      <a:solidFill>
                        <a:srgbClr val="97979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50960">
                <a:tc>
                  <a:txBody>
                    <a:bodyPr lIns="90000" rIns="171360" tIns="133200" bIns="133200"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ga-IE" sz="2400" spc="-1" strike="noStrike">
                          <a:solidFill>
                            <a:srgbClr val="000000"/>
                          </a:solidFill>
                          <a:latin typeface="proxima_nova_rgregular"/>
                        </a:rPr>
                        <a:t>Perianal disea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171360">
                    <a:lnL w="5760">
                      <a:solidFill>
                        <a:srgbClr val="979797"/>
                      </a:solidFill>
                    </a:lnL>
                    <a:lnR w="4320">
                      <a:solidFill>
                        <a:srgbClr val="979797"/>
                      </a:solidFill>
                    </a:lnR>
                    <a:lnT w="4320">
                      <a:solidFill>
                        <a:srgbClr val="979797"/>
                      </a:solidFill>
                    </a:lnT>
                    <a:lnB w="4320">
                      <a:solidFill>
                        <a:srgbClr val="97979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71360" rIns="171360" tIns="133200" bIns="1332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ga-IE" sz="2400" spc="-1" strike="noStrike">
                          <a:solidFill>
                            <a:srgbClr val="000000"/>
                          </a:solidFill>
                          <a:latin typeface="proxima_nova_rgregular"/>
                        </a:rPr>
                        <a:t>Comm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71360" marR="171360">
                    <a:lnL w="4320">
                      <a:solidFill>
                        <a:srgbClr val="979797"/>
                      </a:solidFill>
                    </a:lnL>
                    <a:lnR w="4320">
                      <a:solidFill>
                        <a:srgbClr val="979797"/>
                      </a:solidFill>
                    </a:lnR>
                    <a:lnT w="4320">
                      <a:solidFill>
                        <a:srgbClr val="979797"/>
                      </a:solidFill>
                    </a:lnT>
                    <a:lnB w="4320">
                      <a:solidFill>
                        <a:srgbClr val="97979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71360" rIns="171360" tIns="133200" bIns="1332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ga-IE" sz="2400" spc="-1" strike="noStrike">
                          <a:solidFill>
                            <a:srgbClr val="000000"/>
                          </a:solidFill>
                          <a:latin typeface="proxima_nova_rgregular"/>
                        </a:rPr>
                        <a:t>Ra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71360" marR="171360">
                    <a:lnL w="4320">
                      <a:solidFill>
                        <a:srgbClr val="979797"/>
                      </a:solidFill>
                    </a:lnL>
                    <a:lnR>
                      <a:noFill/>
                    </a:lnR>
                    <a:lnT w="4320">
                      <a:solidFill>
                        <a:srgbClr val="979797"/>
                      </a:solidFill>
                    </a:lnT>
                    <a:lnB w="4320">
                      <a:solidFill>
                        <a:srgbClr val="979797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212760" y="870120"/>
            <a:ext cx="4673520" cy="44002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humbod190infbow_002"/>
          <p:cNvPicPr/>
          <p:nvPr/>
        </p:nvPicPr>
        <p:blipFill>
          <a:blip r:embed="rId2"/>
          <a:stretch/>
        </p:blipFill>
        <p:spPr>
          <a:xfrm>
            <a:off x="4954680" y="896760"/>
            <a:ext cx="3806640" cy="43275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4"/>
          <p:cNvSpPr/>
          <p:nvPr/>
        </p:nvSpPr>
        <p:spPr>
          <a:xfrm>
            <a:off x="4981680" y="5226840"/>
            <a:ext cx="297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ohn's disea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436680" y="5324400"/>
            <a:ext cx="374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lcerative colit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9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270000" y="285480"/>
            <a:ext cx="8550000" cy="62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0cb8"/>
                </a:solidFill>
                <a:latin typeface="Times New Roman"/>
                <a:ea typeface="Times New Roman"/>
              </a:rPr>
              <a:t>Caus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know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uto-immune disorder due to 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normal activation of the immune syste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usceptibility is genetically inherit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1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1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10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153720" y="285480"/>
            <a:ext cx="8396280" cy="62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0cb8"/>
                </a:solidFill>
                <a:latin typeface="Times New Roman"/>
                <a:ea typeface="Times New Roman"/>
              </a:rPr>
              <a:t>Symptom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1800"/>
              </a:spcBef>
              <a:buClr>
                <a:srgbClr val="080cb8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dominal pa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1800"/>
              </a:spcBef>
              <a:buClr>
                <a:srgbClr val="080cb8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m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1800"/>
              </a:spcBef>
              <a:buClr>
                <a:srgbClr val="080cb8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arrhe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1800"/>
              </a:spcBef>
              <a:buClr>
                <a:srgbClr val="080cb8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tal bleed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1800"/>
              </a:spcBef>
              <a:buClr>
                <a:srgbClr val="080cb8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ight lo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1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10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10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10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100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270000" y="285480"/>
            <a:ext cx="8550000" cy="62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0cb8"/>
                </a:solidFill>
                <a:latin typeface="Times New Roman"/>
                <a:ea typeface="Times New Roman"/>
              </a:rPr>
              <a:t>Complicati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1800"/>
              </a:spcBef>
              <a:buClr>
                <a:srgbClr val="080cb8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em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1800"/>
              </a:spcBef>
              <a:buClr>
                <a:srgbClr val="080cb8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dominal obstruction (Crohn’s diseas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1800"/>
              </a:spcBef>
              <a:buClr>
                <a:srgbClr val="080cb8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ga col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1800"/>
              </a:spcBef>
              <a:buClr>
                <a:srgbClr val="080cb8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on canc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1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10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10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arem</dc:creator>
  <dc:description/>
  <dc:language>en-US</dc:language>
  <cp:lastModifiedBy>User</cp:lastModifiedBy>
  <dcterms:modified xsi:type="dcterms:W3CDTF">2018-12-01T20:30:38Z</dcterms:modified>
  <cp:revision>134</cp:revision>
  <dc:subject/>
  <dc:title>PowerPoint Presentation</dc:title>
</cp:coreProperties>
</file>