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31FC-F1EB-4686-8A4D-86307C5B9A5C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4286-8136-44FC-81D8-4305E7BFF1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823-7735-4992-812C-0FAAA5F6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646-2EAB-416C-B9DA-E018CA15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18D-F034-4D57-A673-D86DB8A3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72B-93B4-4373-A77F-C9ED793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296-1BE5-4FB8-B1EB-2F0777A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C2F-0FCB-4B10-B2AF-ADF97AD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6A9-D50E-4874-B5AF-A8851C33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E63-02D3-47A3-A8DC-E5FA079D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3AD-E04A-4909-8ADD-FD80403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4E5-1580-4F5A-8C3A-DA73ECC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1E8-41D3-4545-BFED-99C77F8B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0DC-EF03-485C-ACCC-E182CEF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5E7-EB0B-4319-96BA-0BF1AB4B3D27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flammation" TargetMode="External"/><Relationship Id="rId2" Type="http://schemas.openxmlformats.org/officeDocument/2006/relationships/hyperlink" Target="http://en.wikipedia.org/wiki/Small_intestine" TargetMode="External"/><Relationship Id="rId3" Type="http://schemas.openxmlformats.org/officeDocument/2006/relationships/hyperlink" Target="http://en.wikipedia.org/wiki/Colon_(anatomy)" TargetMode="External"/><Relationship Id="rId4" Type="http://schemas.openxmlformats.org/officeDocument/2006/relationships/hyperlink" Target="http://en.wikipedia.org/wiki/Crohn%27s_disease" TargetMode="External"/><Relationship Id="rId5" Type="http://schemas.openxmlformats.org/officeDocument/2006/relationships/hyperlink" Target="http://en.wikipedia.org/wiki/Ulcerative_coliti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3920" y="729720"/>
            <a:ext cx="8023320" cy="21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and biological and immune therapy in inflammatory bowel disease (IB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63840" y="3446280"/>
            <a:ext cx="6024240" cy="16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imSu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imSu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imSun"/>
                <a:ea typeface="Times New Roman"/>
              </a:rPr>
              <a:t>College of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Treatment of I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ment of remission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Indu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disease flare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mainten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ze bowel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nutritional stat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qualit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9840" y="285480"/>
            <a:ext cx="88743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Treatment of I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epwise ther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mino salicylic acid compounds (5-ASA) or aminosalicyl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modu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therap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NF-</a:t>
            </a:r>
            <a:r>
              <a:rPr b="1" lang="el-G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inhibi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ery in severe con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9"/>
          <p:cNvGrpSpPr/>
          <p:nvPr/>
        </p:nvGrpSpPr>
        <p:grpSpPr>
          <a:xfrm>
            <a:off x="520560" y="1216080"/>
            <a:ext cx="7558200" cy="4780080"/>
            <a:chOff x="520560" y="1216080"/>
            <a:chExt cx="7558200" cy="4780080"/>
          </a:xfrm>
        </p:grpSpPr>
        <p:sp>
          <p:nvSpPr>
            <p:cNvPr id="65" name="Rectangle 38"/>
            <p:cNvSpPr/>
            <p:nvPr/>
          </p:nvSpPr>
          <p:spPr>
            <a:xfrm>
              <a:off x="520560" y="1216080"/>
              <a:ext cx="7558200" cy="4780080"/>
            </a:xfrm>
            <a:prstGeom prst="rect">
              <a:avLst/>
            </a:prstGeom>
            <a:noFill/>
            <a:ln w="25560">
              <a:solidFill>
                <a:srgbClr val="ff5b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6" name="Group 4"/>
            <p:cNvGrpSpPr/>
            <p:nvPr/>
          </p:nvGrpSpPr>
          <p:grpSpPr>
            <a:xfrm>
              <a:off x="1112760" y="1320480"/>
              <a:ext cx="6925680" cy="4444200"/>
              <a:chOff x="1112760" y="1320480"/>
              <a:chExt cx="6925680" cy="4444200"/>
            </a:xfrm>
          </p:grpSpPr>
          <p:sp>
            <p:nvSpPr>
              <p:cNvPr id="67" name="AutoShape 3"/>
              <p:cNvSpPr/>
              <p:nvPr/>
            </p:nvSpPr>
            <p:spPr>
              <a:xfrm>
                <a:off x="1112760" y="1320480"/>
                <a:ext cx="6919920" cy="443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>
                <a:off x="1114200" y="1322280"/>
                <a:ext cx="6924240" cy="4442400"/>
              </a:xfrm>
              <a:custGeom>
                <a:avLst/>
                <a:gdLst>
                  <a:gd name="textAreaLeft" fmla="*/ 0 w 6924240"/>
                  <a:gd name="textAreaRight" fmla="*/ 6924600 w 6924240"/>
                  <a:gd name="textAreaTop" fmla="*/ 0 h 4442400"/>
                  <a:gd name="textAreaBottom" fmla="*/ 4442760 h 4442400"/>
                </a:gdLst>
                <a:ahLst/>
                <a:rect l="textAreaLeft" t="textAreaTop" r="textAreaRight" b="textAreaBottom"/>
                <a:pathLst>
                  <a:path w="3823" h="1897">
                    <a:moveTo>
                      <a:pt x="1912" y="0"/>
                    </a:moveTo>
                    <a:lnTo>
                      <a:pt x="0" y="1897"/>
                    </a:lnTo>
                    <a:lnTo>
                      <a:pt x="3823" y="1897"/>
                    </a:lnTo>
                    <a:lnTo>
                      <a:pt x="19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" name="Group 13"/>
            <p:cNvGrpSpPr/>
            <p:nvPr/>
          </p:nvGrpSpPr>
          <p:grpSpPr>
            <a:xfrm>
              <a:off x="645480" y="1582200"/>
              <a:ext cx="1336320" cy="4180680"/>
              <a:chOff x="645480" y="1582200"/>
              <a:chExt cx="1336320" cy="4180680"/>
            </a:xfrm>
          </p:grpSpPr>
          <p:sp>
            <p:nvSpPr>
              <p:cNvPr id="70" name="Rectangle 7"/>
              <p:cNvSpPr/>
              <p:nvPr/>
            </p:nvSpPr>
            <p:spPr>
              <a:xfrm>
                <a:off x="780840" y="1911240"/>
                <a:ext cx="85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ahoma"/>
                  </a:rPr>
                  <a:t>Severe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8"/>
              <p:cNvSpPr/>
              <p:nvPr/>
            </p:nvSpPr>
            <p:spPr>
              <a:xfrm>
                <a:off x="741960" y="3492000"/>
                <a:ext cx="1239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ahoma"/>
                  </a:rPr>
                  <a:t>Moderate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9"/>
              <p:cNvSpPr/>
              <p:nvPr/>
            </p:nvSpPr>
            <p:spPr>
              <a:xfrm>
                <a:off x="759600" y="4903920"/>
                <a:ext cx="556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ahoma"/>
                  </a:rPr>
                  <a:t>Mild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Line 15"/>
              <p:cNvSpPr/>
              <p:nvPr/>
            </p:nvSpPr>
            <p:spPr>
              <a:xfrm flipV="1">
                <a:off x="645480" y="1582200"/>
                <a:ext cx="0" cy="418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4" name="Picture 5" descr=""/>
            <p:cNvPicPr/>
            <p:nvPr/>
          </p:nvPicPr>
          <p:blipFill>
            <a:blip r:embed="rId1"/>
            <a:srcRect l="0" t="42632" r="0" b="0"/>
            <a:stretch/>
          </p:blipFill>
          <p:spPr>
            <a:xfrm>
              <a:off x="1110960" y="3211920"/>
              <a:ext cx="6921000" cy="25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" descr=""/>
            <p:cNvPicPr/>
            <p:nvPr/>
          </p:nvPicPr>
          <p:blipFill>
            <a:blip r:embed="rId2"/>
            <a:srcRect l="0" t="75957" r="0" b="0"/>
            <a:stretch/>
          </p:blipFill>
          <p:spPr>
            <a:xfrm>
              <a:off x="1112400" y="4707720"/>
              <a:ext cx="6921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0"/>
            <p:cNvSpPr/>
            <p:nvPr/>
          </p:nvSpPr>
          <p:spPr>
            <a:xfrm>
              <a:off x="4535280" y="353988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3406680" y="3428280"/>
              <a:ext cx="2254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ystemic Corticosteroid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4577040" y="515088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3907080" y="5107680"/>
              <a:ext cx="15264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minosalicylat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4577040" y="485604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4191480" y="1752480"/>
              <a:ext cx="707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urg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4577040" y="217800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4577040" y="302904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4577040" y="260352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20"/>
            <p:cNvSpPr/>
            <p:nvPr/>
          </p:nvSpPr>
          <p:spPr>
            <a:xfrm>
              <a:off x="4577040" y="456264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3882240" y="4216320"/>
              <a:ext cx="32601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ral Steroid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Text Box 22"/>
            <p:cNvSpPr/>
            <p:nvPr/>
          </p:nvSpPr>
          <p:spPr>
            <a:xfrm>
              <a:off x="3882240" y="3744360"/>
              <a:ext cx="13629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ZA/6-M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Text Box 23"/>
            <p:cNvSpPr/>
            <p:nvPr/>
          </p:nvSpPr>
          <p:spPr>
            <a:xfrm>
              <a:off x="3719520" y="2635200"/>
              <a:ext cx="1630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yclospor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>
              <a:off x="1956240" y="4701600"/>
              <a:ext cx="523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>
              <a:off x="3117960" y="3232440"/>
              <a:ext cx="29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6"/>
            <p:cNvSpPr/>
            <p:nvPr/>
          </p:nvSpPr>
          <p:spPr>
            <a:xfrm>
              <a:off x="4052160" y="2163600"/>
              <a:ext cx="1104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fliximab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Rectangle 39"/>
          <p:cNvSpPr/>
          <p:nvPr/>
        </p:nvSpPr>
        <p:spPr>
          <a:xfrm>
            <a:off x="1899000" y="23508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wise therapy For IB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5080" y="-360"/>
            <a:ext cx="8999640" cy="65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5-amino salicylic acid compounds (5-A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minosalicy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pical anti-inflammato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prostaglandins and leukotrie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neutrophil chemot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oxidant activity (scavenging free radical produ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98360"/>
            <a:ext cx="880452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minosalicylates (5-ASA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itself is absorbed from the proximal small intest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formulations are used to overcome rapid absorption of 5-ASA from the proximal small inte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minosalicylates are used for induction and maintenance of re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131400"/>
            <a:ext cx="88264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minosalicyl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formulations of aminosalicylates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comp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asalaz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salaz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salaz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alam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c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differences are in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t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680" y="220680"/>
            <a:ext cx="8836200" cy="63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o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ompounds contain (5-ASA) that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ed by azo bond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N=N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lfapyridine moiety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Sulfasalaz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other molecule of 5-ASA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Olsalaz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ert compound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Balsalazid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lfasalazine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+ sulphapyrid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Olsalazine: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+ 5-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Balsalazid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+  inert c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rtl="1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760" y="220680"/>
            <a:ext cx="8709120" cy="63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o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08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zo structu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absorption of 5-ASA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n the terminal ileum and col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bond is cleaved by azoreductase enzyme produced by bacterial flora releas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terminal ileum and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144000" cy="64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lfasalazine (Azulfid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-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ion of 5-ASA + sulfapyri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 (enteric coated table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amount is absorbed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8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n the terminal ileum and col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asalazine is broken by azoreductase 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A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bsorbed, active moiety acting local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lphapyrid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sorbed, causes most of side effec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1640" y="285480"/>
            <a:ext cx="88311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chanism of action of sulfas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has anti-inflammatory action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prostaglandins and leukotrie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neutrophil chemot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oxidant activity (scavenging free radical produ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Bowel Diseases (IB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group of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flamm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ditions of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small intest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typ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Crohn's dis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ulcerative colit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04840"/>
            <a:ext cx="8967960" cy="63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ide effects of sulfas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stallu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marrow de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loblastic an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ic acid deficiency (should be provid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ment of male fertility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Oligosperm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nephritis due to 5-A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2560" y="177480"/>
            <a:ext cx="900108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 compou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ions that have been designed to deliver 5-ASA in terminal small bowel &amp; large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formulations 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a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tole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ess side effects compared to sulfas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patient sensitive to sulfa dru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1400"/>
            <a:ext cx="88264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c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delayed release tablets, dist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um, colon, pH sensitive co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a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lly, sustained release capsul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mach,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ly (suppository), rec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tally (suspension as enema)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4080" y="177480"/>
            <a:ext cx="885168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al form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eleases 5-ASA in the distal small bow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to pH chang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s start at the pylorus and continues throughout the small bowel and col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aco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coated in pH-sensitive resin that dissolve at pH 7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delayed relea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ntasa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granules that release 5-ASA     throughout the small intestine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sustained releas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4080" y="177480"/>
            <a:ext cx="880272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tal formul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 5-ASA in the distal col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nas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posito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owas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ema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4280" y="189000"/>
            <a:ext cx="8979120" cy="63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linical uses of 5-amino salicylic acid compou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 and maintenance of remission in mild to moderate IBD (First line of treatmen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umatoid arthritis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ulfasalazine on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 formulations are used in </a:t>
            </a: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ulcerative colitis, 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lcerative proctit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tosigmoiditis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4080" y="380880"/>
            <a:ext cx="8780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chanism of action of glucocorticoi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phospholipase A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gene transcription of NO synthase, cyclo-oxygenase-2 (COX-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production of inflammatory cytokin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5440" y="182160"/>
            <a:ext cx="9088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preparation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.g. prednisone,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preparation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.g. hydrocort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te of absorp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dverse effects compared to rectal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 prepara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.g. Hydrocorti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ema or suppository, give topical eff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absorption rate than 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ide effects &amp; maximum tissu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2120" y="242640"/>
            <a:ext cx="8723520" cy="63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Budesoni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tent synthetic prednisolone ana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controlled release tablet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release drug in ileum and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ral bioavailability (10%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bject to extensive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first pass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Has low bio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eatment of active mild to moderate Crohn’s disease involving ileum and proximal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2240" y="184320"/>
            <a:ext cx="875952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Uses of 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d for acute flares of disease (moderate –to- severe active IB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ot useful in maintaining remi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 effective as prophylactic therap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c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0cb8"/>
                </a:solidFill>
                <a:uFillTx/>
                <a:latin typeface="Times New Roman"/>
                <a:ea typeface="Times New Roman"/>
              </a:rPr>
              <a:t>Oral glucocorticoids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monly used in active condi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c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0cb8"/>
                </a:solidFill>
                <a:uFillTx/>
                <a:latin typeface="Times New Roman"/>
                <a:ea typeface="Times New Roman"/>
              </a:rPr>
              <a:t>Rectal glucocorticoids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eferred in IBD involving rectum or sigmoid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Bowel Diseases (IB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lcerative colit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mucosal inflammation of the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hn's dise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transmural inflammation of gastrointestinal t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92240" y="184320"/>
            <a:ext cx="875952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Uses of 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umatoid art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ive drug for organ trans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 during cancer chemotherap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7200" y="165240"/>
            <a:ext cx="882504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mmunomodulators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mmunomodulators includ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trex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analogs inclu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thiopr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mercaptop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used to induce and maintain remission in IBD in active moderate-to-severe conditions or steroid dependent  or steroid resistant (refractory) Pat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3440" y="177480"/>
            <a:ext cx="879480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ine analog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athioprine &amp; 6-mercaptop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thioprine i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pro-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6-mercaptop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purine synthesis and inhibits synthesis of DNA, RNA, and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decrease proliferation of immune cells, which lowers autoimmun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 and maintenance of remi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tive I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70000" y="217080"/>
            <a:ext cx="874224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ne marrow depressio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penia, thrombocytop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 dys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blood count &amp; liver function tests are required in all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70000" y="227160"/>
            <a:ext cx="87422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otrex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lic acid antagoni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hydrofolate reductase required for folic acid activation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trahydrofo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s DNA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I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duce and maintain re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bowel dise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umatoid art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24000" y="225360"/>
            <a:ext cx="41036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8760" y="227160"/>
            <a:ext cx="87422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 of methotrex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loblas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marrow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toge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78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onoclonal antibodies used in IBD</a:t>
            </a:r>
            <a:br>
              <a:rPr sz="3400"/>
            </a:b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TNF-</a:t>
            </a:r>
            <a:r>
              <a:rPr b="1" lang="el-GR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α</a:t>
            </a: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inhibito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9160" y="1599840"/>
            <a:ext cx="852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xi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limuma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o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inding  to TNF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us preventing its binding to cell surface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poptosis of T-lymphocytes and monoc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4880" y="223560"/>
            <a:ext cx="8847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nflixima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imeric mouse-human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 murine – 75% hu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F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soluble or membrane –bound  TNF-α located on activated T lymphocy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ntravenously as infusion (5-10 mg/k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 half life (8-10 day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to give clinical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5680" y="223560"/>
            <a:ext cx="88362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Uses of inflixima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derate to severe active Crohn’s disease and ulcerative coliti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not responding to immunomodulators or glucocorticoid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rheumatoid arthrit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oria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22120" y="19296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fference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between Crohn's disease and U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6040" y="907920"/>
          <a:ext cx="8810640" cy="5553360"/>
        </p:xfrm>
        <a:graphic>
          <a:graphicData uri="http://schemas.openxmlformats.org/drawingml/2006/table">
            <a:tbl>
              <a:tblPr/>
              <a:tblGrid>
                <a:gridCol w="2157480"/>
                <a:gridCol w="3808440"/>
                <a:gridCol w="28447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Crohn's disea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Ulcerative colit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Locatio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ect any part of the GIT, from </a:t>
                      </a: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out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</a:t>
                      </a: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n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ricted to colon &amp; rect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atchy areas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inflammation </a:t>
                      </a: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kip lesions)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ntinuous are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flamma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Depth of </a:t>
                      </a:r>
                      <a:r>
                        <a:rPr b="1" lang="en-US" sz="25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inflamm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be transmural, deep into tissue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ow, mucosal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Complicatio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ctures, Obstr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, Fistu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xic megacol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n canc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560" y="177840"/>
            <a:ext cx="900108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ide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or early infusion-related adverse reaction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Allergic reactions or anaphylaxis in 10% of patien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type hypersensitivity reaction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serum sickness-like reaction,  in 5% of patien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reatment with diphenhydramine, acetaminophen, corticosteroids is recommen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7760" y="198360"/>
            <a:ext cx="893448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ide effect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isk of opportunistic infection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Latent tuberculosis, sepsis, hepatitis B, fungal infe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response to infliximab over time due to the development of antibodies to inflixim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patic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 risk of lympho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dalimumab (HUMIRA)</a:t>
            </a:r>
            <a:r>
              <a:rPr b="0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2000" y="1126800"/>
            <a:ext cx="8850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humanized IgG antibody to TNF-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limumab is TNFα inhib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inds to TNFα, preventing it from activating TNF recep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advantage that it is given by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bcutaneous inj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pproved for treatment of, moderate to severe Crohn’s disease, rheumatoid arthritis, psoria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ertolizumab pegol (Cimz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920" y="1055520"/>
            <a:ext cx="84805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 fragment of a humanized antibody directed against TNF-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olizumab is attached to polyethylene glycol to increase its half-life in circ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 for the treatment of Crohn's disease &amp; rheumatoid arthr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72520"/>
            <a:ext cx="8747280" cy="62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mmary for drugs used in IB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aminosalicylic acid comp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compou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lfasalazine, olsalazine, balsalaz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alamin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Pentasa, Asacol, Rowasa, Cana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ucocortic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prednisone, prednisolone, hydrocortisone, budeson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omodul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trex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analogues: Azathioprine&amp;6mercaptopur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NF-alpha inhibitors (monoclonal antibod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ximab – Adalimumab - Cetrolizum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3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3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3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3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3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3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3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49280" y="601560"/>
            <a:ext cx="2511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ernard MT Condensed"/>
              </a:rPr>
              <a:t>Inductive Therap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96720" y="1246320"/>
            <a:ext cx="32148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For U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inosalicy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munosupr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flixima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For 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inosalicy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tibio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iolog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57720" y="1479600"/>
            <a:ext cx="3143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inosalicy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munosupr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zathiopr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6-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thotrex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flixima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 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113440" y="590400"/>
            <a:ext cx="29289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ernard MT Condensed"/>
              </a:rPr>
              <a:t>Maintenance Therap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6900"/>
            </a:br>
            <a:br>
              <a:rPr sz="6900"/>
            </a:br>
            <a:br>
              <a:rPr sz="6900"/>
            </a:br>
            <a:br>
              <a:rPr sz="6900"/>
            </a:br>
            <a:r>
              <a:rPr b="0" lang="en-US" sz="6900" spc="-1" strike="noStrike">
                <a:solidFill>
                  <a:srgbClr val="000000"/>
                </a:solidFill>
                <a:latin typeface="Bodoni MT Black"/>
              </a:rPr>
              <a:t>Questions</a:t>
            </a:r>
            <a:r>
              <a:rPr b="0" lang="en-US" sz="6900" spc="-1" strike="noStrike">
                <a:solidFill>
                  <a:srgbClr val="000000"/>
                </a:solidFill>
                <a:latin typeface="Bodoni MT Black"/>
              </a:rPr>
              <a:t> ?</a:t>
            </a:r>
            <a:r>
              <a:rPr b="0" lang="en-US" sz="38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04640" y="420840"/>
          <a:ext cx="8345520" cy="5503680"/>
        </p:xfrm>
        <a:graphic>
          <a:graphicData uri="http://schemas.openxmlformats.org/drawingml/2006/table">
            <a:tbl>
              <a:tblPr/>
              <a:tblGrid>
                <a:gridCol w="2883240"/>
                <a:gridCol w="2732040"/>
                <a:gridCol w="2730240"/>
              </a:tblGrid>
              <a:tr h="753840">
                <a:tc gridSpan="3">
                  <a:txBody>
                    <a:bodyPr lIns="90000" rIns="171360" tIns="133200" bIns="13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3200" spc="-1" strike="noStrike">
                          <a:solidFill>
                            <a:srgbClr val="000000"/>
                          </a:solidFill>
                          <a:latin typeface="proxima_nova_rgbold"/>
                        </a:rPr>
                        <a:t>Pre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8640">
                <a:tc>
                  <a:txBody>
                    <a:bodyPr lIns="90000" rIns="171360" tIns="133200" bIns="1332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bold"/>
                        </a:rPr>
                        <a:t>Crohn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bold"/>
                        </a:rPr>
                        <a:t>Ulcerative Col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Blee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Occas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Very 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Ob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Fistul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Weight l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Perianal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R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12760" y="870120"/>
            <a:ext cx="4673520" cy="44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umbod190infbow_002"/>
          <p:cNvPicPr/>
          <p:nvPr/>
        </p:nvPicPr>
        <p:blipFill>
          <a:blip r:embed="rId2"/>
          <a:stretch/>
        </p:blipFill>
        <p:spPr>
          <a:xfrm>
            <a:off x="4954680" y="896760"/>
            <a:ext cx="3806640" cy="4327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4981680" y="5226840"/>
            <a:ext cx="29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hn's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6680" y="5324400"/>
            <a:ext cx="37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-immune disorder due to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ormal activation of the immun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sceptibility is genetically inheri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3720" y="285480"/>
            <a:ext cx="839628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ymp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 blee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om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obstruction (Crohn’s dise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m</dc:creator>
  <dc:description/>
  <dc:language>en-US</dc:language>
  <cp:lastModifiedBy>User</cp:lastModifiedBy>
  <dcterms:modified xsi:type="dcterms:W3CDTF">2018-12-01T20:30:38Z</dcterms:modified>
  <cp:revision>134</cp:revision>
  <dc:subject/>
  <dc:title>PowerPoint Presentation</dc:title>
</cp:coreProperties>
</file>