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3D1-2FAE-4CDA-BDC8-C0FEBA3B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38F-F45C-45DB-BBD9-575202CB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3E3-1F16-4F78-B6BE-8AE2F59B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C18-1430-47D8-832F-8DBFE35F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1C26-A195-4673-8046-16BB2ABC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2B86-4F6B-466E-A985-426F9B38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8B6A-B83A-470A-8BFA-A19844FE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416A-D44C-48FC-8704-FB1A580B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7FEC-677D-4189-9C2D-40C9023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83E5-49D7-47BE-AF96-D0FE6215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D803-05DD-4A79-9C87-AC938B0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1D9-E39F-4F02-9586-6207C4DD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B302-9430-430E-A7A1-2804F46D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ED63-4825-4E84-961F-4E904D67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252E-2F67-4A58-8D53-28AA4989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06D9-6FA8-4D87-B66F-2A9FB77C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2F25-A2C4-412B-91B3-B78E1473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AF6C8-CE26-40AC-BBC4-7DB8D69F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E09D-68A4-4A95-92EB-0E446DB3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6AD74-CF3A-4C4B-B2BC-59A079A3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C280-F64B-4FB2-A9F3-53E72254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D832-CBEF-42EE-9B42-09025CEB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53A-1B99-452F-8B86-60534968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A46C-24A4-4D47-9421-08CA57DB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143C-F3E4-421F-A50E-EA6A9B5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F7C9-0684-4F34-A415-2B6CDA5D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12F5-465C-4625-B967-D7BBBC4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5F6F-C78A-4E98-862C-215BE27C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2331-F68C-4D0B-8A89-44B470D4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9ADD-75A3-4BED-8BC9-FF045979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D332F-C30F-455B-91B2-3D9719B8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5D469-9FFC-4B41-A713-C3150FEF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1B50A-D2EF-493B-B651-940E044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F4D-AEB0-4533-9053-8A963A2D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C64BC-E958-4ADA-9B2B-98472F9B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CBF0-D6A7-4AC3-9B75-904E4364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6D946-908E-4059-BEE2-C7BDFF39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2F34-B0FC-43A0-B56A-58C037C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92F5-D12B-455C-AF2C-22DF21A6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32245-7187-4239-A063-0D40209B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E9AC-4824-4425-BF49-171FACAE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0037-DDED-49D9-AA6E-65E6B264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E905-A341-4E29-8E54-F0705FCB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30C-1146-4069-B1B8-ECD09F43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4C5-A36B-4127-B04C-F6D5EDF7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C04-203D-47A6-9203-03FC7D34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40E-4E21-4D09-827F-C1883AF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F8A-64EB-425B-9C55-524AFEB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55EF-0D31-4838-8C16-D60F1DAB46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DDAD-2BBC-4224-BEED-AB9438B712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F60F-3584-4833-9495-F196C6755E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9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2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0CA1-E35A-4992-B543-04F4ABB28C8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571680" y="1052640"/>
            <a:ext cx="82296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used in treating constipation and I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1547640" y="3284640"/>
            <a:ext cx="6337440" cy="180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Depart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College, KS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onset of action (1-3 d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obstructio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should be taken with enough wa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ating, flatulence, dis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 with other drug absorption e.g. iron, cardiac glycos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motic Lax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water solubl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T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ly absorbable compounds (salts or sug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main in  the bowel, attract and retain  water b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mosi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by  increasing  the volume of fece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eristals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vacuation of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motic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x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gars :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lactulose, sorbitol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ts (Saline laxative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50000"/>
              </a:lnSpc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sulphate or hydrox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50000"/>
              </a:lnSpc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or potassium phospha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lyethylene glycol (PE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ulo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synthetic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cchari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fructose and galact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absorb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 colon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bacteria into fructose and galacto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ugars are fermented into lactic acid and acetic acid that function a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smotic lax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chronic 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c encephalopathy (Hyperammon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ul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the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centration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t, This favors the formation of the n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able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apping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 and reducing its back diffusion into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y lactulose is commonly used in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rh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ul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ctic acid + Ace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fication of the  col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ptio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o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ml for constipation and 30 ml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liver cirrhosi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859280" y="270828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2484360" y="206064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9"/>
          <p:cNvCxnSpPr/>
          <p:nvPr/>
        </p:nvCxnSpPr>
        <p:spPr>
          <a:xfrm>
            <a:off x="5651280" y="2421000"/>
            <a:ext cx="1080" cy="57528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onset of action (2-3  day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cramps and flatu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lyte disturb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50560" y="214200"/>
            <a:ext cx="871380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motic laxativ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ne Laxativ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oorly absorbable 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evacuation o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ate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effec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within 1-3 h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sulphate </a:t>
            </a:r>
            <a:r>
              <a:rPr b="1" lang="en-US" sz="3200" spc="-1" strike="noStrike">
                <a:solidFill>
                  <a:srgbClr val="850aff"/>
                </a:solidFill>
                <a:latin typeface="Times New Roman"/>
                <a:ea typeface="Times New Roman"/>
              </a:rPr>
              <a:t>(Epson’s salt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hydroxide </a:t>
            </a:r>
            <a:r>
              <a:rPr b="1" lang="en-US" sz="3200" spc="-1" strike="noStrike">
                <a:solidFill>
                  <a:srgbClr val="850aff"/>
                </a:solidFill>
                <a:latin typeface="Times New Roman"/>
                <a:ea typeface="Times New Roman"/>
              </a:rPr>
              <a:t>(milk of magnes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phosphate or potassium phosph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tonic or hypotonic solution should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acute constipa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920" y="142920"/>
            <a:ext cx="8642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urbance of fluid and electrolyte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hyd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have system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salt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gestive 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salts are contraindicated 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failur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ermagnes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920" y="142920"/>
            <a:ext cx="8642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phosph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phosphatemia &amp; hypernatremi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renal failure → deposition of calcium phosphate “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calcino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250920" y="6206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nd of this lecture, students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lax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pharmacological properties of differen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axatives, their pharmacokinetics, uses and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drugs used to treat irritable bowel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lanced Polyethylene Glycol (P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tonic solution of polyethylene glycol &amp; electroly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sulf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Cl, KCl, Na bicarbon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lonic lavag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whole bowel irrigation prior to colonoscopy or surgery (4L over 2-4 hou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fluid or electrolyte im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flatulence and cr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imulant Laxativ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most powerful group among lax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hould be used with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hraquinone derivative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senna, cascara, alo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acodyl (Diphenyl methane derivat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or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imulant Laxative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via direct stimulation of enteric nervous system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peristalsis &amp; pur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tients who are neurologically im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- bound patients in long- term care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1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003640" y="115920"/>
            <a:ext cx="4069080" cy="64087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42560" y="214200"/>
            <a:ext cx="47163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stor 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20 ml on empty stomach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in small intest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ble oil degraded by lip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850aff"/>
                </a:solidFill>
                <a:latin typeface="Times New Roman"/>
                <a:ea typeface="Times New Roman"/>
              </a:rPr>
              <a:t>ricinole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glyce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inoleic acid is very irritating to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et of action = 2-6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be employed after oral ingestion of a to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hraquinone glycos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enna, cascara, aloe ve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in colon, hydrolyzed by bacterial colon into sugar + Anthranol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as direct stimulant action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24000" y="3141720"/>
            <a:ext cx="849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hraquinone glycos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onset of action (8-12 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wel movements in 12 h (orally) or  2 h (rectally as supposito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ed use→ brown pigmentation of the colon 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lanosis col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07640" y="213840"/>
            <a:ext cx="9001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sacody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henyl methane, given o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on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et of action = orally (6-12 h)/per rectum (1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2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79280" y="190440"/>
          <a:ext cx="8750520" cy="6118200"/>
        </p:xfrm>
        <a:graphic>
          <a:graphicData uri="http://schemas.openxmlformats.org/drawingml/2006/table">
            <a:tbl>
              <a:tblPr/>
              <a:tblGrid>
                <a:gridCol w="1940040"/>
                <a:gridCol w="2709720"/>
                <a:gridCol w="2048040"/>
                <a:gridCol w="2052720"/>
              </a:tblGrid>
              <a:tr h="790560">
                <a:tc gridSpan="4">
                  <a:txBody>
                    <a:bodyPr lIns="47160" rIns="47160" tIns="23760" bIns="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mmon stimulant purgat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ype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te of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set of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388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c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qui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qui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 12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e v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qui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576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acody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henylmeth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740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or O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inole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Picture 2" descr="↓"/>
          <p:cNvPicPr/>
          <p:nvPr/>
        </p:nvPicPr>
        <p:blipFill>
          <a:blip r:embed="rId1"/>
          <a:stretch/>
        </p:blipFill>
        <p:spPr>
          <a:xfrm>
            <a:off x="-303120" y="-13644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↓"/>
          <p:cNvPicPr/>
          <p:nvPr/>
        </p:nvPicPr>
        <p:blipFill>
          <a:blip r:embed="rId2"/>
          <a:stretch/>
        </p:blipFill>
        <p:spPr>
          <a:xfrm>
            <a:off x="-239760" y="-136440"/>
            <a:ext cx="114480" cy="13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↓"/>
          <p:cNvPicPr/>
          <p:nvPr/>
        </p:nvPicPr>
        <p:blipFill>
          <a:blip r:embed="rId3"/>
          <a:stretch/>
        </p:blipFill>
        <p:spPr>
          <a:xfrm>
            <a:off x="-182520" y="-13644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↓"/>
          <p:cNvPicPr/>
          <p:nvPr/>
        </p:nvPicPr>
        <p:blipFill>
          <a:blip r:embed="rId4"/>
          <a:stretch/>
        </p:blipFill>
        <p:spPr>
          <a:xfrm>
            <a:off x="-90360" y="-136440"/>
            <a:ext cx="11412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 of stimulant lax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cramps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ed us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endence &amp; destruction of myenteric plexus leading 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tonic col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or oil  # in pregnancy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flex  contraction  of  uterus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b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cal Softene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Lubricants)/surfac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non absorbed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eithe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creasing surface tens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ftening the fe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promoting defe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constipation in patients with hard stool or specific conditions and for people who should avoid straining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constip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frequent defecation, often with strain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nd the passage of hard, uncomfortable st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accompanied by other symptom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appet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tu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&amp; rectal 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ha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6"/>
          <a:stretch/>
        </p:blipFill>
        <p:spPr>
          <a:xfrm>
            <a:off x="6156360" y="3429000"/>
            <a:ext cx="28083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cal Softene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Lubricants)/surfac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s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ffin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ocus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dioctyl sulfosucc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ype of surfact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decreasing surface tension of feces allowing water to interact with the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 (12-72 hours) or enema (5-20 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hospitalized patients→↓constipation &amp; s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affin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ineral oil, given or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as lubricant thus softening the feces and promoting defe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radiology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pa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s absorption of fat soluble vitam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yc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bric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rectally (supposi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179280" y="189000"/>
          <a:ext cx="8786880" cy="6432480"/>
        </p:xfrm>
        <a:graphic>
          <a:graphicData uri="http://schemas.openxmlformats.org/drawingml/2006/table">
            <a:tbl>
              <a:tblPr/>
              <a:tblGrid>
                <a:gridCol w="2595600"/>
                <a:gridCol w="2879640"/>
                <a:gridCol w="3311640"/>
              </a:tblGrid>
              <a:tr h="100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gativ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e of 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set 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Bulk purgativ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mall &amp; large intest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2-72 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lay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82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aline purgativ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mall &amp; large intest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-3 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api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Lactulo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l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2-72 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lay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52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Mineral 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l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 – 8 hou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ocus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mall and large intest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Enema 5-20 minute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rally 12 – 72 hou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39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timula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mall intest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l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ee the previous t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85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rotonin 5HT4-receptor agoni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ucalop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ion of 5HT 4 receptors 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nterokinetic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CVS 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for chronic constipation in w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loride secretion activ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Lubipro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chronic constipation &amp; IBS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imulates type 2 chloride in the small intestine→↑Cl –fluid rich fluid,→ intestinal mo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Linacl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s chloride se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chronic constipation &amp; IBS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ADR is 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1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10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ioid receptor antagonis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Methylnaltrex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- receptor ant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not cross the BB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in opioid-induced constipation in patients receiving palliative care for advance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rritable bowel syndrome (IB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bowel disorder characteriz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dominal discomfo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loating, pain, disten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mps) associated with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teration in bow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bi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arrhea or constipation or bot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ymptomatic treatment of IB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spasmodics e.g. mebev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oses of tricyclic antidepressants (amitriptyline) act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rgic a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visceral afferent s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xatives in IBS with Constip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diarrheals in IBS with diarrhe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iphenoxylate – loperam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etron (IBS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aserod (IBS-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oset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5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agon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antagonism of the enteric nervous system of the gastrointestinal tract results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colon mo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unpleasant visceral afferent pain sensation (nausea, pain, bloat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82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uses of constipation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motility in colon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ecrease in water and fiber contents of di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y in evacuatio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Local painful conditions: anal fissures, p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Lack of muscular exerci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-induced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</a:t>
            </a:r>
            <a:r>
              <a:rPr b="0" lang="ga-IE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nticholinergics</a:t>
            </a: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, a</a:t>
            </a:r>
            <a:r>
              <a:rPr b="0" lang="ga-IE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ntidepressants, iron, bismuth,</a:t>
            </a: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ga-IE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pioids, antacids, NSAIDs, sympathomimetics, antipsychotics</a:t>
            </a: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, </a:t>
            </a:r>
            <a:r>
              <a:rPr b="0" lang="ga-IE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lcium channel blockers</a:t>
            </a: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s of Alosetr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IBS with severe diarrhea in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have not had success with any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 and ischemic colitis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aking alosetron must sign a cons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starting to take the medic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gasero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 5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nteric nervous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peristal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term treatment of IBS-associated with constipation in women &lt;55 years old with no history of heart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aserod has CVS 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still be used in limited emergency situation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79280" y="712800"/>
          <a:ext cx="8785440" cy="5592600"/>
        </p:xfrm>
        <a:graphic>
          <a:graphicData uri="http://schemas.openxmlformats.org/drawingml/2006/table">
            <a:tbl>
              <a:tblPr/>
              <a:tblGrid>
                <a:gridCol w="2305080"/>
                <a:gridCol w="2808360"/>
                <a:gridCol w="367200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ing 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48–72 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ute &amp; chronic const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ol softe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24–72 hours; rectal, 5 --20 minu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ention of straining after rectal surgery and in acute perianal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motic lax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actulo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24–72 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chronic constip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hepatic encephalopat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opioid const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ine lax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0.5–3 hours; rectal, 30 minu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treatment of moderate-to-severe constipation; acute constipation; bowel preparation for colonosco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Rectangle 2"/>
          <p:cNvSpPr/>
          <p:nvPr/>
        </p:nvSpPr>
        <p:spPr>
          <a:xfrm>
            <a:off x="2700360" y="0"/>
            <a:ext cx="27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6" descr="نتيجة بحث الصور عن ‪stimulant purgatives‬‏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2360" cy="64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Constipa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Measures 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intak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iber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 in di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Regular exerci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Regulation of bowel habi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Avoid drugs causing constip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Use drugs (laxatives or purgative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tions used in constipation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hasten the transit of food thr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astrointestinal tract are called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xat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 purgativ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assification of laxative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forming laxat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motic laxativ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nt laxat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 softeners (lubricant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secretagogues (Chloride secretion activator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oid receptor antagoni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tonin (5-HT4) agoni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lk (fiber) Lax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etary fibe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gestible parts of vegetables &amp; fru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 pow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philic colloid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llium seed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yl cellulo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xymethyl cellulose (CM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ynthetic fibers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Polycarbophi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ary fibers and h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drophilic colloids are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sorbable substanc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 the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lk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stinal content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 water reten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pressure on the walls of  intest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 stretch receptors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stals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vacuation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50920" y="4508640"/>
            <a:ext cx="85690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m</dc:creator>
  <dc:description/>
  <dc:language>en-US</dc:language>
  <cp:lastModifiedBy>Hanan Hagar</cp:lastModifiedBy>
  <dcterms:modified xsi:type="dcterms:W3CDTF">2019-12-22T09:54:27Z</dcterms:modified>
  <cp:revision>189</cp:revision>
  <dc:subject/>
  <dc:title>PowerPoint Presentation</dc:title>
</cp:coreProperties>
</file>