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D09-1E5A-4656-9832-94DF8FD1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1505-F3B0-43CF-A27F-328777C8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DAE-8D29-4B2E-AE5A-500E284E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942-5AF8-4C9F-83BC-84D64E5E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BE95-27C4-413D-B540-01BCE9CA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26B6-F41C-424E-962B-21114B4B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93A4-3FFE-42F7-AF2A-02146A37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C18D-54ED-4F16-A15D-7671E73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8A39-661F-4C27-9137-7609E548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30F5-8675-42D4-AB99-69A1D5FE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604B-8F52-48F9-9B6F-0F5EB3A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E65-834E-4F9B-96F5-CD064C02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7B10-A0A2-425D-BA99-92641CA7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10D4-DA5C-4156-AE2E-8A78865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D884-77FB-420C-94CF-E8500E17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3B50-ADD8-451D-B20B-956D3DB0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8B4F-0D2E-4657-BBCA-5AD054F7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2C35-01FE-451B-B797-0A0FE22B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3EBB8-577B-44C1-801B-4B7BEE6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FB53-29E3-49FA-A16A-E54C7402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1B5B-BCA6-4023-A95B-FC3EF654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DDEF-AA32-4575-A515-17B1CAE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0AE-5FE1-4F79-9D95-852A9B0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D72F-7BFE-4017-9A0B-40598D6D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D69B-03FC-48D9-A804-DB6CA32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1DAD-5E0A-426B-9535-84611BC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0207-BF54-4926-AA72-F41FF23D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EC88-6CF6-4D61-85C7-A954FD80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848B-A5CA-4EAF-B16A-88FAEEE9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175FC-2470-4626-B9D0-7FDA8D8E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1912-EC8E-447E-9C97-85CA70DF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39DA-44CB-4D54-90BC-364D62F1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677B-7D63-4197-854F-FBBD2B54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589-FC46-4343-B114-60339D21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2DC3-8823-4472-B5E3-CABD6376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24C9-9FBB-4AD2-9792-9406EBAC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01A43-6984-4004-A086-9DC66CDF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0728-7C93-4DB2-AF74-5FB80F5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51FEF-EDD3-4798-AB92-3AC8107D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13462-51C4-43B7-9DAD-4F2ABC8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23649-672B-4966-A613-48A0CE39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AB84-1049-4E93-A0C4-19B75297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FB780-1B5E-4EBA-A39B-2EFED882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560-AC75-4D17-B201-E50ABC5C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BEB-67A5-4365-AEF0-ABCE9E04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BB3-943B-4C5F-81F3-2FEB22B2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824F-88C3-4B59-A517-8FC364D6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789-7847-42EC-B24E-0B73D93D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5A18-068D-41DF-AD3E-8DFD39ADEA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8317-C341-4221-9F94-92CD0BB24E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CC0C-3C9B-41CC-809F-F83F255A30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9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2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F122-4D7C-4C6B-B1D7-421D3E2F1E6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571680" y="1052640"/>
            <a:ext cx="82296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used in treating constipation and I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547640" y="3284640"/>
            <a:ext cx="6337440" cy="1800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Depart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College, KS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 (1-3 day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obstruc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should be taken with enough wat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ating, flatulence, dis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 with other drug absorption e.g. iron, cardiac glycos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tic Lax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water solubl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T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ly absorbable compounds (salts or sug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main in  the bowel, attract and retain  water b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si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by  increasing  the volume of fece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eristalsi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vacuation of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tic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x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gars :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lactulose, sorbitol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ts (Saline laxative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50000"/>
              </a:lnSpc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ulphate or hydrox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150000"/>
              </a:lnSpc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or potassium phosph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lyethylene glycol (PE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ulo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synthetic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cchari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ructose and galact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 colo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bacteria into fructose and galacto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8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ugars are fermented into lactic acid and acetic acid that function a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smotic lax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chronic 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 encephalopathy (Hyperammone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ul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the 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oncentration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t, This favors the formation of the n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able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from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rapping 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 and reducing its back diffusion into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y lactulose is commonly used in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rh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tul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ctic acid + Ace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ification of the  col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ptio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ml for constipation and 30 ml f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liver cirrhosi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859280" y="270828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2484360" y="2060640"/>
            <a:ext cx="6858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9"/>
          <p:cNvCxnSpPr/>
          <p:nvPr/>
        </p:nvCxnSpPr>
        <p:spPr>
          <a:xfrm>
            <a:off x="5651280" y="2421000"/>
            <a:ext cx="1080" cy="57528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 (2-3  day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cramps and flatul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lyte disturba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250560" y="214200"/>
            <a:ext cx="87138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smotic laxa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ne Laxa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oorly absorbable 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evacuation o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ate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effec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within 1-3 h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ulphate </a:t>
            </a:r>
            <a:r>
              <a:rPr b="1" lang="en-US" sz="3200" spc="-1" strike="noStrike">
                <a:solidFill>
                  <a:srgbClr val="850aff"/>
                </a:solidFill>
                <a:latin typeface="Times New Roman"/>
                <a:ea typeface="Times New Roman"/>
              </a:rPr>
              <a:t>(Epson’s salt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hydroxide </a:t>
            </a:r>
            <a:r>
              <a:rPr b="1" lang="en-US" sz="3200" spc="-1" strike="noStrike">
                <a:solidFill>
                  <a:srgbClr val="850aff"/>
                </a:solidFill>
                <a:latin typeface="Times New Roman"/>
                <a:ea typeface="Times New Roman"/>
              </a:rPr>
              <a:t>(milk of magnes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phosphate or potassium phosph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nic or hypotonic solution should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acute constip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642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urbance of fluid and electrolyte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have systemic eff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sal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gestive 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alts are contraindicated 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failure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ermagnesm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852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642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phosph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phosphatemia &amp; hypernatremi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hythm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renal failure → deposition of calcium phosphate “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calcin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250920" y="6206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end of this lecture, students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 lax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pharmacological properties of differen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laxatives, their pharmacokinetics, uses and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drugs used to treat irritable bowel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alanced Polyethylene Glycol (P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tonic solution of polyethylene glycol &amp; electroly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sulf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NaCl, KCl, Na bicarbon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lonic lavag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whole bowel irrigation prior to colonoscopy or surgery (4L over 2-4 hour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fluid or electrolyte im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flatulence and cr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imulant Laxativ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most powerful group among lax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hould be used with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hraquinone derivative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enna, cascara, alo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acodyl (Diphenyl methane derivati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or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imulant Laxative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via direct stimulation of enteric nervous system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d peristalsis &amp; pur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tients who are neurologically im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- bound patients in long- term care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003640" y="115920"/>
            <a:ext cx="4069080" cy="64087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42560" y="214200"/>
            <a:ext cx="47163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stor O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20 ml on empty stomach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in small intest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ble oil degraded by lip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850aff"/>
                </a:solidFill>
                <a:latin typeface="Times New Roman"/>
                <a:ea typeface="Times New Roman"/>
              </a:rPr>
              <a:t>ricinoleic a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glyce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inoleic acid is very irritating to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f action = 2-6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be employed after oral ingestion of a to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hraquinone glycos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nna, cascara, aloe ve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in colon, hydrolyzed by bacterial colon into sugar + Anthranol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as direct stimulant action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24000" y="3141720"/>
            <a:ext cx="849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hraquinone glycosi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 (8-12 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wel movements in 12 h (orally) or  2 h (rectally as suppositor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ed use→ brown pigmentation of the colon 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lanosis col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07640" y="213840"/>
            <a:ext cx="9001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isacody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henyl methane, given or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on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set of action = orally (6-12 h)/per rectum (1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3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532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79280" y="190440"/>
          <a:ext cx="8750520" cy="6118200"/>
        </p:xfrm>
        <a:graphic>
          <a:graphicData uri="http://schemas.openxmlformats.org/drawingml/2006/table">
            <a:tbl>
              <a:tblPr/>
              <a:tblGrid>
                <a:gridCol w="1940040"/>
                <a:gridCol w="2709720"/>
                <a:gridCol w="2048040"/>
                <a:gridCol w="2052720"/>
              </a:tblGrid>
              <a:tr h="790560">
                <a:tc gridSpan="4">
                  <a:txBody>
                    <a:bodyPr lIns="47160" rIns="47160" tIns="23760" bIns="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mon stimulant purgati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ype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te of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nset of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388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ca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qui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qui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 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e v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qui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2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576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acody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henylmeth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8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7400"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or 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inole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160" rIns="47160" tIns="23760" bIns="237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6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8" name="Picture 2" descr="↓"/>
          <p:cNvPicPr/>
          <p:nvPr/>
        </p:nvPicPr>
        <p:blipFill>
          <a:blip r:embed="rId1"/>
          <a:stretch/>
        </p:blipFill>
        <p:spPr>
          <a:xfrm>
            <a:off x="-303120" y="-13644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↓"/>
          <p:cNvPicPr/>
          <p:nvPr/>
        </p:nvPicPr>
        <p:blipFill>
          <a:blip r:embed="rId2"/>
          <a:stretch/>
        </p:blipFill>
        <p:spPr>
          <a:xfrm>
            <a:off x="-239760" y="-13644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↓"/>
          <p:cNvPicPr/>
          <p:nvPr/>
        </p:nvPicPr>
        <p:blipFill>
          <a:blip r:embed="rId3"/>
          <a:stretch/>
        </p:blipFill>
        <p:spPr>
          <a:xfrm>
            <a:off x="-182520" y="-13644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↓"/>
          <p:cNvPicPr/>
          <p:nvPr/>
        </p:nvPicPr>
        <p:blipFill>
          <a:blip r:embed="rId4"/>
          <a:stretch/>
        </p:blipFill>
        <p:spPr>
          <a:xfrm>
            <a:off x="-90360" y="-136440"/>
            <a:ext cx="11412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of stimulant lax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cramps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ed us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ence &amp; destruction of myenteric plexus leading 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tonic col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or oil  # in pregnancy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flex  contraction  of  uterus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bor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10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cal Softene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Lubricants)/surf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on absorbed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eithe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creasing surface tens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oftening the fe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promoting defe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constipation in patients with hard stool or specific conditions and for people who should avoid straining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constipa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infrequent defecation, often with strain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nd the passage of hard, uncomfortable stoo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ccompanied by other symptom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appet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tu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&amp; rectal 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har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6"/>
          <a:stretch/>
        </p:blipFill>
        <p:spPr>
          <a:xfrm>
            <a:off x="6156360" y="3429000"/>
            <a:ext cx="2808360" cy="32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cal Softener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Lubricants)/surfacta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s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ffin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1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10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ocus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 dioctyl sulfosucc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ype of surfa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decreasing surface tension of feces allowing water to interact with the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 (12-72 hours) or enema (5-20 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hospitalized patients→↓constipation &amp; s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affin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ineral oil, given or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as lubricant thus softening the feces and promoting defe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radiology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pa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absorption of fat soluble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bric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rectally (supposi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1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1000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1000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179280" y="189000"/>
          <a:ext cx="8786880" cy="6432480"/>
        </p:xfrm>
        <a:graphic>
          <a:graphicData uri="http://schemas.openxmlformats.org/drawingml/2006/table">
            <a:tbl>
              <a:tblPr/>
              <a:tblGrid>
                <a:gridCol w="2595600"/>
                <a:gridCol w="2879640"/>
                <a:gridCol w="3311640"/>
              </a:tblGrid>
              <a:tr h="100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gativ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te of 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set ti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Bulk purgativ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&amp; large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2-72 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ay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82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aline purgativ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&amp; large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-3 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api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Lactulo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l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12-72 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lay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5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Mineral o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l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6 – 8 hou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Docus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and large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Enema 5-20 minute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rally 12 – 72 hou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139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timula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mall intest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Col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See the previous t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8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rotonin 5HT4-receptor ag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ucalop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ion of 5HT 4 receptors 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nterokinetic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CVS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for chronic constipation in wo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loride secretion activato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Lubiprost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chronic constipation &amp; IBS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timulates type 2 chloride in the small intestine→↑Cl –fluid rich fluid,→ intestinal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Linaclot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s chloride se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chronic constipation &amp; IBS-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ADR is 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10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10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10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ioid receptor antagonis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Methylnaltrex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- receptor antag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not cross the BB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used in opioid-induced constipation in patients receiving palliative care for advanced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5" dur="1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1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itable bowel syndrome (IB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bowel disorder characteriz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dominal discomfo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loating, pain, disten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mps) associated with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teration in bow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bi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arrhea or constipation or bot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ymptomatic treatment of IB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spasmodics e.g. mebev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oses of tricyclic antidepressants (amitriptyline) act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a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visceral afferent s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xatives in IBS with Constip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diarrheals in IBS with diarrhe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iphenoxylate – loperam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setron (IBS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aserod (IBS-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oset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5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agon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antagonism of the enteric nervous system of the gastrointestinal tract results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colon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unpleasant visceral afferent pain sensation (nausea, pain, bloat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82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uses of constipation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motility in colon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Decrease in water and fiber contents of di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y in evacuatio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ocal painful conditions: anal fissures, pi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spcBef>
                <a:spcPts val="850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Lack of muscular exerci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-induced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ticholinergics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, a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ntidepressants, iron, bismuth,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pioids, antacids, NSAIDs, sympathomimetics, antipsychotics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, </a:t>
            </a:r>
            <a:r>
              <a:rPr b="0" lang="ga-IE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alcium channel blockers</a:t>
            </a:r>
            <a:r>
              <a:rPr b="0" lang="en-US" sz="3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 of Alosetr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IBS with severe diarrhea i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have not had success with any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ers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 and ischemic colitis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taking alosetron must sign a consen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starting to take the medic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gasero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 5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enteric nervous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peristal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term treatment of IBS-associated with constipation in women &lt;55 years old with no history of heart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gaserod has CVS 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still be used in limited emergency situa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179280" y="712800"/>
          <a:ext cx="8785440" cy="5592600"/>
        </p:xfrm>
        <a:graphic>
          <a:graphicData uri="http://schemas.openxmlformats.org/drawingml/2006/table">
            <a:tbl>
              <a:tblPr/>
              <a:tblGrid>
                <a:gridCol w="2305080"/>
                <a:gridCol w="2808360"/>
                <a:gridCol w="3672000"/>
              </a:tblGrid>
              <a:tr h="97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ing 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48–72 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te &amp; chronic 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ol softe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24–72 hours; rectal, 5 --20 minu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ention of straining after rectal surgery and in acute perianal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motic lax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lactulo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24–72 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hronic constip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hepatic encephalopat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opioid 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ine laxa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0.5–3 hours; rectal, 30 minu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treatment of moderate-to-severe constipation; acute constipation; bowel preparation for colonosco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8" name="Rectangle 2"/>
          <p:cNvSpPr/>
          <p:nvPr/>
        </p:nvSpPr>
        <p:spPr>
          <a:xfrm>
            <a:off x="2700360" y="0"/>
            <a:ext cx="27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6" descr="نتيجة بحث الصور عن ‪stimulant purgatives‬‏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2360" cy="64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of Constipa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Measures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intak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fiber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s in di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Regular exerci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Regulation of bowel habi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Avoid drugs causing constip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Use drugs (laxatives or purgative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ations used in constipation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hasten the transit of food thr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astrointestinal tract are called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x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r purgativ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assification of laxative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forming lax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motic laxativ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nt laxat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 softeners (lubricant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secretagogues (Chloride secretion activator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oid receptor antag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otonin (5-HT4) agonis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lk (fiber) Lax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etary fibers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gestible parts of vegetables &amp; fru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 pow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philic colloid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llium seed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yl cellulo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xymethyl cellulose (CM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ynthetic fibers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Polycarbophi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ary fibers and h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drophilic colloids are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sorbable substanc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 the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lk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testinal content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y water reten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pressure on the walls of  intest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 stretch receptors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stalsi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vacuation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50920" y="4508640"/>
            <a:ext cx="856908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m</dc:creator>
  <dc:description/>
  <dc:language>en-US</dc:language>
  <cp:lastModifiedBy>Hanan Hagar</cp:lastModifiedBy>
  <dcterms:modified xsi:type="dcterms:W3CDTF">2019-12-22T09:54:27Z</dcterms:modified>
  <cp:revision>189</cp:revision>
  <dc:subject/>
  <dc:title>PowerPoint Presentation</dc:title>
</cp:coreProperties>
</file>