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4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92B8-FCAC-4AE2-8AA9-BC126E966E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E3A-D7DB-4447-BF8F-A8BFDB8A98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4026-616D-4076-B04F-C68B7AF499D2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E8F-C0E2-4CFB-8C4E-50EDC43A739F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FC49-C2B3-4D89-891A-5DE505526150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230-5A8D-4059-8E18-B57A3037830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8F97-C212-4D3B-B6D9-11D0A78BB221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41BE-1AB1-4B3A-9660-978127397DD4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7546-8F1F-4DDF-9946-5AD4EDC19082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45AB-0A95-4860-ABC8-C1562457B04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BDF-5A1B-4384-BFD0-7741D55ACD7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2781-D8F0-4FB0-86CD-49AA668783F7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AC5D-1DD5-4204-9DD0-1B01816AB7EF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FE5A-BFF9-4C4B-B0A6-EF0872592DD1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1B80-B370-4368-9362-F319C6F6531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D92F-D6E4-4C9E-9CA1-B61674DA6E16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99AB-B0CC-46E1-8A60-7E0C260415B6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42C0-67EA-4C65-BE14-C9B7013BCEB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ACA-2BA9-4BA4-AA0B-B0D3F68B25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D1A8-AB05-4A92-8495-1EF7958FE14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28AD-7C7F-49FC-AD80-24D6635B57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B192-BBEA-48C8-8C89-C7BB12CC2497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274-ECA2-46F8-BFF2-9F1697702A5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4F87-4469-4A5A-9FA7-F56DDEFA296C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1311-45F8-41F5-B405-E14982A4A226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6654-1281-4C59-9307-B0E9B6C63293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894-253A-4430-B612-487D6848F836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A21-5103-48F0-9280-22139F6BB798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536A-3D1B-4CB8-A6B7-D54457E63603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5D94-7C77-457E-A3C5-FBCA3056C74A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D8B3-BCAF-4868-8887-1EA454A54677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D259-5D50-487B-A30D-5F079DF09EAE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01D0-2D8A-4FD0-9144-08E6B1E2063C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07D-21F6-4A4E-A7F5-891FC3006C9D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62CD-5F17-4DFF-B3FF-DFBED7B164BF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D13B-C195-4D5D-B62B-E12556685DEE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5786-B649-413C-B3D2-D5563B1A54A9}" type="slidenum">
              <a:rPr b="0" lang="ar-E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E42F-DF16-4DD0-BD49-4B4C081D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732B-231F-4598-A6BD-59491529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16E-A295-4AEF-B9A9-73886A52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8BE-BEAD-409E-8198-782E2A5B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F1F-A516-4F93-9C75-74F2BCCF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1AFB-D0A1-467C-9798-158D486E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4FDD-CD54-4B35-84AF-A0EC8CCB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45E-F65B-4FC7-9FD7-DF748D0A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4399-C16A-44BA-A69C-EE974154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5B4E-BAE5-42E6-AED1-7351C989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AAFC-56D5-4EB2-B755-AEDEFDB7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3E1-9485-4E8C-A7B6-FD91C20B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5042-1EAE-4F3E-8466-2DAAECB5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70FE-6168-4707-A5EA-6546510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412B-0B99-404C-A14A-B455EC30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9098-F1DC-4D85-BB47-8C53794F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8F3C-CF19-4030-90F2-35DFAAA8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75C7-C46D-4DE8-A7B9-5087C280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7962-3BD0-43EF-993D-38FC8B2D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57C08-3849-47D4-8425-86FE3D01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30D3-1197-4FA0-9D8B-76A14371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D519E-64AA-48D6-9F8E-FD4B26AB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63D8-6D8B-4928-897B-99AF27C1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DFBC-46D6-458A-A0D3-94BF29E9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4C1D-99B7-4169-8F3E-505D4098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5B18-809B-4AAB-B837-B1C7415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2EAD-EE35-44E1-8D20-C6A866D8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F78A-54F0-47E8-8715-E56FD465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D334-B9F7-476D-B142-DDD65E54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A9EF-66D3-4206-8898-20BF6033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22F0-8546-49F2-9FDB-A853643E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C095-EDF4-4032-A55D-0A4C097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7AB5-E9FB-4049-8CE6-D37AE27D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45C-E7CC-4BAC-865E-388373A8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9474-FE28-4306-86AB-A38E2BEE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B3BE4-27B1-4FFB-824D-2C643DFA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2FFF6-B940-4293-8822-DF5866A4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539D-C71D-4A7D-812D-A43F52D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5727-586C-4669-BBB2-16CA0DD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7D94-B07E-41FA-9653-0C650BE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C5FA-693A-4130-B5E1-2C33D44A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67FC2-EE97-41B2-8E26-65386DE7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ACA49-7508-42A4-8E41-FCA8AE7B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7F2-436A-4748-AE7D-6354E685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2AD-372A-4E7A-9DEC-A4D4B1C4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230-383B-4671-A2DE-EB31AC9E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66D-10DD-4ED6-B81D-F3EA7BBF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373-2F38-4BCC-8077-B9D52930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505-38D7-40B8-9274-8264809881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C989-19AF-45F9-8519-6CFD6787BE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2AE-3EAD-4D66-856E-F63CC863B8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9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9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0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20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25D0-7257-4CB5-882A-25BB735362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99840" y="3657240"/>
            <a:ext cx="5715000" cy="1981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Ishfaq Bukhar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Depart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olle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914400" y="2209680"/>
            <a:ext cx="762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eatment of dysentery and amebiasi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52280" y="152280"/>
            <a:ext cx="8763120" cy="65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ife Cycl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ntamoeba histolyt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exists in two for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ysts (infective stage)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an survive outside the human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When ingested, liberate trophozoites in the lumen of the intest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ophozoites (non-infective; invasive stage)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y and feed on intestinal bacterial flor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y may invade and ulcerate wall  of lar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e or may migrate to liver or other tissu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In rectu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rophozoites transform to cysts and are excreted in fe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sts ingestion in contaminated food or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beration of trophozoites in the c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asion of intestinal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ication of trophozoites within colon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stemic invasion to other organs (liver, lungs, bra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yst formation in rectum and excretio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fe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463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LIFE CYCLE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154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linical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s show varying degree of illness from no symptoms to mild diarrhea to severe dysen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76320" y="75960"/>
            <a:ext cx="8991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inical 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amebiasis =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assing cysts in st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d to moderate intestinal diseas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lit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intestinal infectio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moebic dysente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oma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calized granulomatous lesion of  col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 abscess, and other extra-intestinal disease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d3903"/>
                </a:solidFill>
                <a:latin typeface="Arial"/>
              </a:rPr>
              <a:t>ANTIAMEBIC DRUG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▪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Luminal amebicid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▪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issue or systemic amebic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al  amebicid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ts on the parasites in the lumen of the bow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treatment of asymptomatic amebiasis (carrie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loxanide furo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doqu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omomyc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issue or systemic amebicid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991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 on ameba in t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.g. the intestinal wall and/or other extra-intest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ssues as liver, brain and l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treatment of systemic form of the disease (invasive amebiasis) e.g. intestinal wall infection or liver abs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</a:rPr>
              <a:t>Incl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tronidazole/ tinidaz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metine / dehydroemet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loroquine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(liver on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24852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METRONIDAZO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ssue amoebic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s o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rophozo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onidazole inhibits D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es not eradicate cysts from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 of choi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re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vasive amebic infections (intestinal &amp; extra-intestinal amebia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6019920" y="914400"/>
            <a:ext cx="685800" cy="5335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harmacokinetic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orally or I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ption is rapid and comple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de distribution to all tissues and body fluids (CSF, saliva, mil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ma half life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8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bolized in liver by mixed function oxidase followed by glucuronida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onsider drug interactio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reted in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ance is decreased in liver impair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Objectiv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880" y="1868040"/>
            <a:ext cx="830592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different causes of dysent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scribe different classes of drugs used in treatment of both bacillary dysentery and amebic dysent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describe actions, side effects of drugs for treating bacillary dysent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 the pharmacokinetics, actions, clinical applications and side effects of antiamebic dru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ble to differentiate between types of antiamebic drugs; luminal amebicides, and tissue amebici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Clinical Us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e drug of choice in all tissue ameb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luminal amoeb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B. should be followed by luminal amebic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ard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chomon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bacteri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eudo-membranous colit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Clostridium diffici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ptic ulce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Helicobacter pylo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57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Side effe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GIT: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y mouth, metallic tas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sea, vomiting, diarrhe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V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 Thrush (Moniliasis, yeast infe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CNS: Neurotoxicological effect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mnia, dizz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pheral neuropathy, par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ephalopathy, convulsion (IV infusion, r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ysuri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rk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eutrop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sulfiram-like effec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f taken with alcoh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1000" fill="hold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 – Alcohol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sulfiram like-effect of metronidaz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bining metronidazole and alcohol causes nausea, vomiting, abdominal distress, flushing, headache, tachycardia, hyperventil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3"/>
          <p:cNvSpPr/>
          <p:nvPr/>
        </p:nvSpPr>
        <p:spPr>
          <a:xfrm>
            <a:off x="2286000" y="5791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6172200" y="586728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2666880" y="502920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6629400" y="510552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7"/>
          <p:cNvSpPr/>
          <p:nvPr/>
        </p:nvSpPr>
        <p:spPr>
          <a:xfrm flipV="1">
            <a:off x="6400800" y="533376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066680" y="388620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hydrogen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4952880" y="380988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ldehy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hydrogen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228600" y="5105520"/>
            <a:ext cx="205740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hano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3124080" y="5181480"/>
            <a:ext cx="28195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etaldehy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7086600" y="5181480"/>
            <a:ext cx="1905120" cy="1143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et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 intera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zyme inhibito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cimetidine, ketoconaz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duration of action of metronid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cer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phenytoin and phenobarbito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rease duration of action of metronid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onidazole inhibits CYP-450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2C9 &amp; 3A4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s anticoagulant effect of warfa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s lithium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1000" fill="hold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1000" fill="hold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1000" fill="hold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CONTRAINDICATIONS / PRECAU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gnancy and breast feeding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▪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renal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patic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Arial"/>
              </a:rPr>
              <a:t>Tinidaz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inidazo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s similar activity to metronidaz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better pot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Advantages of tinidazo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o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tion of action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2-14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imp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ing reg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 bet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ity profile than metronidaz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1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10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10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10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Emetine</a:t>
            </a:r>
            <a:r>
              <a:rPr b="0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and dehydroemetine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067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met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kaloid derived from ipeca whil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hydroemet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ynthetic ana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are effective against tissue trophozoites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histolytic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ing irreversible block of protein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major toxicity concern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y have been almost completely replaced by metronidaz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1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7596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erratic oral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n preferably subcutaneously but could be given by IM,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EVER I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s long plasma half life about 5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bolized &amp; excreted slowly via kidney so they have 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umulative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uld not be used for more than 10 days (usually 3-5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metine</a:t>
            </a:r>
            <a:r>
              <a:rPr b="0" lang="en-US" sz="3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and dehydroemeti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1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1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39760"/>
            <a:ext cx="7543800" cy="59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Clinical Use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stinal wall inf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oebic liver abs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re forms of amebias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ute amoebic dysenter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dehydroemetine is preferable due to less toxicity (3-5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Adverse Effects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hydroemetine is less toxic than eme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ausea, vomiting,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erious toxicities: cardio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ension, cardiac arrhythmias, heart fail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utio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rug should not be used in patients with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ardiac or ren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ease, i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young children, or in pregnancy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10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Dysente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ysentery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an inflammatory disorder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, especially of the colon, that result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evere diarrh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aining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ucus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/or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e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bdomin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any kind of in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5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c00000"/>
                </a:solidFill>
                <a:uFillTx/>
                <a:latin typeface="Arial"/>
              </a:rPr>
              <a:t>Chloroquine</a:t>
            </a:r>
            <a:endParaRPr b="1" lang="en-US" sz="3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-malarial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in combination with metronidazole or dehydroemetine f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mebic liver diseas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ritus is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, vomiting, abdominal pain, anorex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rring of 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lysis in G6PD deficient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1000"/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uminal amoebicid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eradicate cyst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 histolyt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after treatment of invasive dise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loxanide furo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doquin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 Parom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Tetracy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loxanide furo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 of diloxanide + furoic acid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plits in the intestine liberating diloxan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unabsorb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loxanide is the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moebicidal agen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sorbed portion is excreted in urin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loxanide furo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 is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moebicidal action against lumin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ctive against trophozoites in intestinal wall or extra-intestinal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5486400" cy="50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Use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 f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ymptomatic intestinal infection (cysts passe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radicate cysts of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histolyt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fter treatment of invasive disease with systemic amebic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u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, vomiting, abdominal cram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ntraind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hildren (less than 2 yea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odoquin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ly absorbed, excreted in fe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 is un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against the luminal forms of amebia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al amoebicide f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ymptomatic amebia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58120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Adverse Effect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sea, vomiting,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ripheral neuropath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ing optic neu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ment of the thyroid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ne sensi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rference with thyroid function tes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crease protein-bound serum iodine,  decrease in measured (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ptak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oquinol should be used with caution in patients with optic neuropathy, or thyroid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continu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produces persistent diarrhea or signs of iodine toxicity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rmatitis, urticaria, pruritus, fev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Paromomycin Sul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 antibioti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ignificantly absorbed from G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only against luminal forms of ame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irect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icidal action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auses leakage by its action on cell membrane of parasit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Indirec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illing of bacterial flora essential for proliferation of pathogenic amoeba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mount absorbed is excreted unchanged in urine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may accumulate with renal insufficienc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nodeType="clickEffect" fill="hold">
                      <p:stCondLst>
                        <p:cond delay="indefinite"/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Paromomycin Sulph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chronic amebiasis to eliminate cysts (in cysts passer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l distress and diarrh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ca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renal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GIT ulc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es of Dysente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entery results from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vir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,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bac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s, or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arasit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es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e two most common caus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ic dysentery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rotozoal infection mainly by Entameba Histolyti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7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ary dysentery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bacterial infection mainly by shigell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80880" y="15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1905120" y="228600"/>
            <a:ext cx="5105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457200" y="228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mmary for treatment of amebias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52280" y="1103400"/>
          <a:ext cx="8763120" cy="5106960"/>
        </p:xfrm>
        <a:graphic>
          <a:graphicData uri="http://schemas.openxmlformats.org/drawingml/2006/table">
            <a:tbl>
              <a:tblPr/>
              <a:tblGrid>
                <a:gridCol w="4068720"/>
                <a:gridCol w="4694400"/>
              </a:tblGrid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ymptomatic dysente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st carriers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minal amebici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loxanide or iodoquinol or Paromomyci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30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bic colitis and dysente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eboma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 extra-intestinal disea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onidazole or tinidazole followed by luminal amebici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441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patic absc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onidazole or tinidazole or choroquine or dehydroemet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cillary dysente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ed b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uoroquinolo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ciprofloxacin, ofloxa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a-lactam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icillin, amoxicillin, third-generation cephalosporins (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ceﬁxime, ceftriax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crolid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ithromyc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trimoxazo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imethoprim-sulfamethoxazole) (TMP-SMX) commonly used in traveler's diarrh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icrobial therapy is typically administered for 5 day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cillary dysenter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 to ampicillin, amoxicillin and sulfonamides, has been reported worldwide, and these agents are not recommended as empirical therap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quinolones are first-line treatment for shigellosi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therapy include third generation cephalosporin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luoroquinolon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profloxac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against a variety of gram-positive and gram-negative bacteri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bacterial DNA synthesis and growth (DNA gyrase &amp; topoisomerases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oquinolones are first-line treatment for shigellosis.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415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9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l diarrhe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shigella, salmonella and E co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tract inf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tract inf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 tissues, bones, and joint infec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5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nodeType="clickEffect" fill="hold">
                      <p:stCondLst>
                        <p:cond delay="indefinite"/>
                      </p:stCondLst>
                      <p:childTnLst>
                        <p:par>
                          <p:cTn id="1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1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6415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9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path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mage of growing cartilag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disord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usea, vomiting, diarrhe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isord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dache, dizzines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dis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longed QT interval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toxi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toxic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1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1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, pregnancy, nursing m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leps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hythm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not be combined with antacids, divalent 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669960" y="762120"/>
            <a:ext cx="460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Contraindicated in: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ephalospori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fixi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parenetra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ftriax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afe and effec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3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 cephalospori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interfering with synthesis of peptidoglycan, a major structural component of bacterial cell wa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children or patient allergic to sulfonamides, cephalosporins or azithromycin may be us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Arial"/>
              </a:rPr>
              <a:t>SUMMA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</a:t>
            </a: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luid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ntak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al rehydration therapy or Intravenous fluid therap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matic luminal amebiasis is treated by luminal amebicides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(diloxanide, or iodoquinol or paromomycin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etronidazol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ainstay of therapy for invasive amebias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testinal amebiasis)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ed by luminal amebicides to prevent relaps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quine has also been used for patients with hepatic amebia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oemetine is useful but not preferable due to CVS tox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iprofloxaci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drug of choice in bacillary dysentery. </a:t>
            </a:r>
            <a:r>
              <a:rPr b="1" lang="en-U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children and pregnancy,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eftriaxon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efixime</a:t>
            </a:r>
            <a:r>
              <a:rPr b="1" lang="ar-SA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ho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6500"/>
            </a:br>
            <a:br>
              <a:rPr sz="6500"/>
            </a:br>
            <a:br>
              <a:rPr sz="6500"/>
            </a:br>
            <a:br>
              <a:rPr sz="6500"/>
            </a:br>
            <a:r>
              <a:rPr b="1" lang="en-US" sz="6500" spc="-1" strike="noStrike">
                <a:solidFill>
                  <a:srgbClr val="000000"/>
                </a:solidFill>
                <a:latin typeface="Bodoni MT Black"/>
              </a:rPr>
              <a:t>Questions ?</a:t>
            </a:r>
            <a:r>
              <a:rPr b="1" lang="en-US" sz="35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Treatment of Dysenter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 algn="just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fluid inta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oral rehydration therapy or intravenous fluid thera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just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Antimicrobial agen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not be given until stool analysis is done to specify the etiological agen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Anti diarrheal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iarrheal drug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712440"/>
            <a:ext cx="8839440" cy="59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phenoxylate, loperam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should be avoided i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sence of high fev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if the stool is bloody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difficile infe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ntraindicated because they delay fecal excretion that can prolong fev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1199"/>
              </a:spcBef>
              <a:buClr>
                <a:srgbClr val="cc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ncreases the risk of toxin retention and precipitation of toxic megacol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iarrheal drugs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per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opioid-receptor 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on the   μ-opioid receptors in the myenteric plexus of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liability for 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phenoxylate + a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opioid-receptor 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ross B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high liability for ad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de effects are mainly due to atrop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5943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MOEBIASI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0" name="Picture 5" descr="http://accessmedicine.com/loadBinary.aspx?name=ryan5&amp;filename=ryan5_c051f001ab.gif"/>
          <p:cNvPicPr/>
          <p:nvPr/>
        </p:nvPicPr>
        <p:blipFill>
          <a:blip r:embed="rId1">
            <a:lum bright="-16000"/>
          </a:blip>
          <a:srcRect l="0" t="0" r="0" b="15381"/>
          <a:stretch/>
        </p:blipFill>
        <p:spPr>
          <a:xfrm>
            <a:off x="152280" y="11430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Amebiasis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biasis is a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protozoal infec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intestinal tr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due to ingestion of foods or water contaminated with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ysts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Entameba Histolytica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2T10:03:36Z</dcterms:created>
  <dc:creator>administrator</dc:creator>
  <dc:description/>
  <dc:language>en-US</dc:language>
  <cp:lastModifiedBy>Hanan Hagar</cp:lastModifiedBy>
  <dcterms:modified xsi:type="dcterms:W3CDTF">2019-12-24T09:37:00Z</dcterms:modified>
  <cp:revision>293</cp:revision>
  <dc:subject/>
  <dc:title>CHEMOTHERAPY OF AMOEBIASIS</dc:title>
</cp:coreProperties>
</file>