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4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7292-ACB2-493F-AE3B-D3EA5F5273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18D1-FE3D-497B-9A1B-3B4DC2ADBD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A644-F7B4-4EFF-9565-182C4AF138C9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96DB-B8D5-4FB9-9B89-0028E794853C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4CB1-2F9E-4F53-8812-EB90753194DD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BFA7-1259-412D-A4F9-6F542BA282E5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F0D7-5B21-4F1A-9D3A-434319AF5FC0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EAF9-C387-495F-BAEE-09CB2992CE7A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9698-3D15-43B5-8700-6290409F3B1E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9EE2-9ACB-4F84-9CAF-AF94DF51953B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3479-FB8D-4B33-B0FB-3A54C4A153C9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283F-28C8-4508-AFC1-80F3392B1C66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D58D-EE58-476E-B575-E7EB1353033F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29B8-1CB0-47BE-AE09-092E90E2E9FA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580E-4E8B-4C9D-8F16-000B591DAB5B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44BD-A6FD-4F47-A189-097BD4DA9C73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23CE-771A-4779-BB25-DF45ABE5855F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E87E-7E8C-4E10-9C3A-301A7A38935B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987A-F3C2-4F1F-82F0-3B70AC3546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CCAC-5B14-47E2-B975-F7759DB72A79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FF1B-7218-47D7-8DCD-B404E658CE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B254-011B-4F70-A71F-881674C04008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F469-E748-425B-98F8-B326EE0AF211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E41A-1751-4A47-AE9F-C9E8091EAD7D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5E0F-5140-4914-B19A-436D1D6D73CA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8DAA-3A9A-4C8E-82CB-0F760C8DDD61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E7CD-9C38-4F17-9948-BA39176492EA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0A29-3592-4318-AAAE-414CE0876CE5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2943-487F-4738-B103-D68A1668D059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F57D-E72F-41EE-8545-3E233BAE3EBD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6F49-DE30-4C6F-A61F-C44DD0E26CF8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11EB-EA5E-4E71-A0AA-9D22786317A1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4026-579D-44A6-B4F0-E84A5BC3D936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B534-FB96-4A34-8818-5BCE48D37268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4206-6E41-42A6-9702-17D51BDFA966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FC6F-2607-4F05-BF67-3A1EF9D4134F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66BD-53B2-443E-966B-6461960FB30C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C37-FF92-44AF-AC5B-C0C89254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CF1-97F6-4C06-A80F-A403C9A0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76E-7EBC-471D-84CC-AB08FDEB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9DE-98C7-406A-837A-4995B288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E1AF-AAEE-499A-868F-1EA95D23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054B-FAC2-4789-A623-BC767F1F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EA5E-FD9B-4557-95A2-D09DC77F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1D26-0C9B-4F40-87A6-DDB916C5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671A-3B58-4D00-91C0-824CCADE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AE70-AF1B-4539-A25B-D95DF804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5407-4A97-402F-ABD0-CBA9E0E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8D5-DF67-4BF8-800A-60D142BC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FC8F-CFDB-4ECD-8A46-EBD60FC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4978-08E0-4F5F-B991-DFA3180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6CAF-79F4-46B1-A7F5-98C2D492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9556-4330-490D-B7F0-E1AD5E9A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7231-EEC8-4361-8864-24B3FFE6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63E3-CCA8-4498-A7F8-D6D64A37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0EAD-6BCF-4F4C-A028-7A00E12E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4C1B-9DFD-4493-A6B7-DC60FB1B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672C9-06CE-4264-B624-52B61EB6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FA92-A633-4EE0-9D58-C3A44F8F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7BD-0EA5-4AE4-B1D9-E7DEB593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7218C-C87C-4F9E-BB34-5D80010E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1789-53F2-46AA-BE6D-3A7626AC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124D-9343-4219-B997-59B5BAA4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1507-3F4A-4F7C-9EB1-0F325E8E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C4CF-F7EB-457E-82A2-7CBA87AB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F918-0969-46FE-BC5F-5E5545F4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13C1E-C18F-49A6-BB21-9EAB4BB7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90C4-A3D5-4172-BB21-3F63722A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D380-4402-4B03-B5B4-7DF33741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65C6-BCA4-48B0-8977-E64B32A4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A0D-AFD8-4F31-82AC-CC5F8DDA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FA04F-78B0-4A28-9354-908EBBB0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D41E7-7F3E-40B9-8E3F-4B350806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C363-D242-4DDB-A270-FF7752B1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18346-EE31-4E0A-A30E-D642A2E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9912D-72D5-48C8-9CE9-81E7B1D1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5CB4D-C597-43E2-83BC-C2174BB7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5B582-1C71-49F2-82AB-B56F5284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F7F2E-0566-482E-8464-994EB563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1CB35-BABB-4B9E-94D9-4D85337B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6ED-CDB9-4850-B27F-E7441860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991-E95D-4CBC-8B6A-51800B8D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84A-38A5-4B19-A1CA-D2A54744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2BE-DED2-42BB-991A-8D60970E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E72-B6A8-4192-B1F3-40049530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9738-759A-4FCB-9C4F-DBCD92A99A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9450-863B-4273-BBBD-615FA188B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C84F-AF8F-49F7-B6C3-39B139BCF2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9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9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0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ACEA-D546-437B-A94F-CEA0F1D864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99840" y="3657240"/>
            <a:ext cx="5715000" cy="1981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Ishfaq Bukhar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Depart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Colle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914400" y="2209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eatment of dysentery and amebiasi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52280" y="152280"/>
            <a:ext cx="8763120" cy="65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ife Cycl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tamoeba histolytic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xists in two form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Cysts (infective stage)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an survive outside the human 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ngested, liberate trophozoites in the lumen of the intest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ophozoites (non-infective; invasive stage)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ultiply and feed on intestinal bacterial flor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y may invade and ulcerate wall  of lar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testine or may migrate to liver or other tissu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In rectu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rophozoites transform to cysts and are excreted in fec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Life Cyc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ysts ingestion in contaminated food o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beration of trophozoites in the co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asion of intestinal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ication of trophozoites within colon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stemic invasion to other organs (liver, lungs, bra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yst formation in rectum and excretio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 fe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463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LIFE CYC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154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7631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linical 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ients show varying degree of illness from no symptoms to mild diarrhea to severe dysen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76320" y="75960"/>
            <a:ext cx="899136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inical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amebiasis =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passing cysts in st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d to moderate intestinal diseas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olit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intestinal infection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moebic dysent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boma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calized granulomatous lesion of  col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c abscess, and other extra-intestinal disease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d3903"/>
                </a:solidFill>
                <a:latin typeface="Arial"/>
              </a:rPr>
              <a:t>ANTIAMEBIC DRUG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Luminal amebicid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▪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issue or systemic amebici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inal  amebicid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cts on the parasites in the lumen of the bow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for treatment of asymptomatic amebiasis (carrie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loxanide furo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odoqui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omomyc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issue or systemic amebicid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9913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 on ameba in t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.g. the intestinal wall and/or other extra-intes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ssues as liver, brain and l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for treatment of systemic form of the disease (invasive amebiasis) e.g. intestinal wall infection or liver absc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</a:rPr>
              <a:t>Inclu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tronidazole/ tinidaz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metine / dehydroemet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hloroquine 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(liver on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24852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Arial"/>
              </a:rPr>
              <a:t>METRONIDAZOL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ssue amoebic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s on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rophozo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onidazole inhibits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not eradicate cysts from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rug of choi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re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asive amebic infections (intestinal &amp; extra-intestinal amebia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6019920" y="914400"/>
            <a:ext cx="685800" cy="5335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harmacokinetics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orally or I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orption is rapid and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de distribution to all tissues and body fluids (CSF, saliva, mil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ma half life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8 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abolized in liver by mixed function oxidase followed by glucuronidatio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consider drug interact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reted in u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ance is decreased in liver impai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86804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 different causes of dysente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scribe different classes of drugs used in treatment of both bacillary dysentery and amebic dysente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ble to describe actions, side effects of drugs for treating bacillary dysente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 the pharmacokinetics, actions, clinical applications and side effects of antiamebic dru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ble to differentiate between types of antiamebic drugs; luminal amebicides, and tissue amebici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Arial"/>
              </a:rPr>
              <a:t>Clinical Us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drug of choice in all tissue ameb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luminal amoebi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B. should be followed by luminal ameb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ardi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chomon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erobic bacterial inf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eudo-membranous colit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Clostridium diffici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ptic ulcer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Helicobacter pylo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Side effec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GI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y mouth, metallic tas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usea, vomiting, diarrhea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V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l Thrush (Moniliasis, yeast infe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CNS: Neurotoxicological effect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omnia, dizz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pheral neuropathy, paresth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cephalopathy, convulsion (IV infusion, r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ysuria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k u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isulfiram-like effe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f taken with alcoh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rug – Alcohol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isulfiram like-effect of metronidaz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bining metronidazole and alcohol causes nausea, vomiting, abdominal distress, flushing, headache, tachycardia, hyperventi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3"/>
          <p:cNvSpPr/>
          <p:nvPr/>
        </p:nvSpPr>
        <p:spPr>
          <a:xfrm>
            <a:off x="2286000" y="57913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6172200" y="58672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2666880" y="5029200"/>
            <a:ext cx="0" cy="685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6629400" y="5105520"/>
            <a:ext cx="0" cy="685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7"/>
          <p:cNvSpPr/>
          <p:nvPr/>
        </p:nvSpPr>
        <p:spPr>
          <a:xfrm flipV="1">
            <a:off x="6400800" y="533376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066680" y="3886200"/>
            <a:ext cx="281952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lcoho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hydrogen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4952880" y="3809880"/>
            <a:ext cx="281952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ldehy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hydrogen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228600" y="5105520"/>
            <a:ext cx="205740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han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124080" y="5181480"/>
            <a:ext cx="281952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etaldehy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7086600" y="5181480"/>
            <a:ext cx="190512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et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rug inter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zyme inhibitor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cimetidine, ketoconaz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duration of action of metronid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ucer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phenytoin and phenobarbito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rease duration of action of metronid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onidazole inhibits CYP-450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2C9 &amp; 3A4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s anticoagulant effect of warfa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s lithium tox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CONTRAINDICATIONS / PRECAU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nancy and breast feeding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in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rena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hepatic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Arial"/>
              </a:rPr>
              <a:t>Tinidaz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inidazo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similar activity to metronidaz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better poten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Advantages of tinidazo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on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ation of action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2-14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imp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ing reg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 bet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ity profile than metronidaz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10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</a:rPr>
              <a:t>Emetine</a:t>
            </a:r>
            <a:r>
              <a:rPr b="0" lang="en-US" sz="3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</a:rPr>
              <a:t>and dehydroemetine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met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lkaloid derived from ipeca whil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hydroemet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ynthetic ana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are effective against tissue trophozoites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histolytic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ing irreversible block of protein 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of major toxicity concern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y have been almost completely replaced by metronidaz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75960" y="12189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erratic oral absor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preferably subcutaneously but could be given by IM,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EVER I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s long plasma half life about 5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abolized &amp; excreted slowly via kidney so they have 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umulative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uld not be used for more than 10 days (usually 3-5 day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metine</a:t>
            </a:r>
            <a:r>
              <a:rPr b="0" lang="en-US" sz="3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and dehydroemeti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543800" cy="59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</a:rPr>
              <a:t>Clinical Use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stinal wall inf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oebic liver abs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re forms of amebias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cute amoebic dysente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dehydroemetine is preferable due to less toxicity (3-5 day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</a:rPr>
              <a:t>Adverse Effect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hydroemetine is less toxic than eme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I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ausea, vomiting, diarr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erious toxicities: cardiotox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tension, cardiac arrhythmias, heart fail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utio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rug should not be used in patients with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ardiac or ren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ease, i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young children, or in pregnancy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ysenter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ysenter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an inflammatory disorder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e, especially of the colon, that result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evere diarrhe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ing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ucus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/or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ec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bdominal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any kind of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</a:rPr>
              <a:t>Chloroquine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i-malarial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in combination with metronidazole or dehydroemetine for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mebic liver diseas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ritus is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, vomiting, abdominal pain, anorex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rring of 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sis in G6PD deficient pat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uminal amoebicid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eradicate cys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 histolyt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after treatment of invasive disea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loxanide furo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odoqui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Parom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Tetracy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loxanide furo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 of diloxanide + furoic acid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plits in the intestine liberating diloxan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unabsorb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loxanide is the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moebicidal agen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rbed portion is excreted in urin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loxanide furo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of action is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moebicidal action against lumin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ctive against trophozoites in intestinal wall or extra-intestinal t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486400" cy="50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Us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of choice for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ymptomatic intestinal infection (cysts passer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radicate cysts of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histolytic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fter treatment of invasive disease with systemic amebic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tu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, vomiting, abdominal cram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ontraind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ildren (less than 2 yea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odoquin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ly absorbed, excreted in fe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of action is unkn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against the luminal forms of amebia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ses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inal amoebicide f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ymptomatic amebia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2581200" cy="24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Adverse Effects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sea, vomiting, diarr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eripheral neuropath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luding optic neu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ment of the thyroid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dine sensi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ference with thyroid function test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rease protein-bound serum iodine,  decrease in measured (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3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uptak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doquinol should be used with caution in patients with optic neuropathy, or thyroid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continu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produces persistent diarrhea or signs of iodine toxicity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dermatitis, urticaria, pruritus, fev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Paromomycin Sul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glycoside antibiot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r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ignificantly absorbed from G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only against luminal forms of ame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</a:t>
            </a:r>
            <a:r>
              <a:rPr b="1" lang="en-US" sz="30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direc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bicidal action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auses leakage by its action on cell membrane of parasit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Indirec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lling of bacterial flora essential for proliferation of pathogenic amoeba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amount absorbed is excreted unchanged in urine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may accumulate with renal insufficiency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Paromomycin Sul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chronic amebiasis to eliminate cysts (in cysts passer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ers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ointestinal distress and diarrh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ca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renal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GIT ulc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auses of Dysenter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entery results from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vir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s,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bac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s, or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arasit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fe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he two most common caus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bic dysentery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protozoal infection mainly by Entameba Histolyti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ary dysentery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bacterial infection mainly by shigell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905120" y="228600"/>
            <a:ext cx="5105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457200" y="228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ummary for treatment of amebia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52280" y="1103400"/>
          <a:ext cx="8763120" cy="5106960"/>
        </p:xfrm>
        <a:graphic>
          <a:graphicData uri="http://schemas.openxmlformats.org/drawingml/2006/table">
            <a:tbl>
              <a:tblPr/>
              <a:tblGrid>
                <a:gridCol w="4068720"/>
                <a:gridCol w="4694400"/>
              </a:tblGrid>
              <a:tr h="136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ymptomatic dysente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st carrier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minal amebicid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loxanide or iodoquinol or Paromomycin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3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bic colitis and dysente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boma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 extra-intestinal disea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ronidazole or tinidazole followed by luminal amebicid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441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patic absce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ronidazole or tinidazole or choroquine or dehydroemet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cillary dysenter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ed b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uoroquinolon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as 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ciprofloxacin, ofloxa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ta-lactam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icillin, amoxicillin, third-generation cephalosporins (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ceﬁxime, ceftriax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crolid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ithro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trimoxazo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rimethoprim-sulfamethoxazole) (TMP-SMX) commonly used in traveler's diarrh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icrobial therapy is typically administered for 5 day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cillary dysenter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ce to ampicillin, amoxicillin and sulfonamides, has been reported worldwide, and these agents are not recommended as empirical therap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oquinolones are first-line treatment for shigellosis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ine therapy include third generation cephalosporin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uoroquinolon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profloxac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against a variety of gram-positive and gram-negative bacteri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bacterial DNA synthesis and growth (DNA gyrase &amp; topoisomerases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oquinolones are first-line treatment for shigellosis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415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9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l diarrhe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shigella, salmonella and E col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tract inf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tract inf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 tissues, bones, and joint infec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10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415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9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ropath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mage of growing cartilag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disord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usea, vomiting, diarrhe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disord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adache, dizzines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disord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longed QT interval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totoxic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toxic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1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1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, pregnancy, nursing m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lep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hythm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not be combined with antacids, divalent 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1"/>
          <p:cNvSpPr/>
          <p:nvPr/>
        </p:nvSpPr>
        <p:spPr>
          <a:xfrm>
            <a:off x="669960" y="762120"/>
            <a:ext cx="460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Contraindicated in: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ephalospori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fixi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parenetra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ftriax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safe and effec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on cephalospori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interfering with synthesis of peptidoglycan, a major structural component of bacterial cell wa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children or patient allergic to sulfonamides, cephalosporins or azithromycin may be u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SUMMAR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</a:t>
            </a:r>
            <a:r>
              <a:rPr b="1" i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luid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ntak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al rehydration therapy or Intravenous fluid therap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luminal amebiasis is treated by luminal amebicides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(diloxanide, or iodoquinol or paromomycin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etronidazo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ainstay of therapy for invasive amebias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estinal amebiasis)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ed by luminal amebicides to prevent relaps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quine has also been used for patients with hepatic amebiasi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hydroemetine is useful but not preferable due to CVS tox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iprofloxac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rug of choice in bacillary dysentery.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 children and pregnancy,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eftriaxon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efixime</a:t>
            </a:r>
            <a:r>
              <a:rPr b="1" lang="ar-SA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cho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3080" cy="43927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838080"/>
            <a:ext cx="84391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Bodoni MT Black"/>
              </a:rPr>
              <a:t>Thank you</a:t>
            </a:r>
            <a:br>
              <a:rPr sz="6500"/>
            </a:br>
            <a:br>
              <a:rPr sz="6500"/>
            </a:br>
            <a:br>
              <a:rPr sz="6500"/>
            </a:b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Bodoni MT Black"/>
              </a:rPr>
              <a:t>Questions ?</a:t>
            </a:r>
            <a:r>
              <a:rPr b="1" lang="en-US" sz="35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reatment of Dysenter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 algn="just">
              <a:lnSpc>
                <a:spcPct val="10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fluid inta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oral rehydration therapy or intravenous fluid thera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10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Antimicrobial agen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not be given until stool analysis is done to specify the etiological age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Anti diarrheal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diarrheal drug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712440"/>
            <a:ext cx="8839440" cy="59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phenoxylate, loperam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should be avoided 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1199"/>
              </a:spcBef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ence of high fe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1199"/>
              </a:spcBef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if the stool is bloody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1199"/>
              </a:spcBef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difficile infe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1199"/>
              </a:spcBef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ontraindicated because they delay fecal excretion that can prolong fev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1199"/>
              </a:spcBef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increases the risk of toxin retention and precipitation of toxic megacol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diarrheal drug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pera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opioid-receptor 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on the   μ-opioid receptors in the myenteric plexus of the large intes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ross B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liability for 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phenoxylate + a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opioid-receptor 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ross B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high liability for 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effects are mainly due to atrop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5943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MOEBIASI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0" name="Picture 5" descr="http://accessmedicine.com/loadBinary.aspx?name=ryan5&amp;filename=ryan5_c051f001ab.gif"/>
          <p:cNvPicPr/>
          <p:nvPr/>
        </p:nvPicPr>
        <p:blipFill>
          <a:blip r:embed="rId1">
            <a:lum bright="-16000"/>
          </a:blip>
          <a:srcRect l="0" t="0" r="0" b="15381"/>
          <a:stretch/>
        </p:blipFill>
        <p:spPr>
          <a:xfrm>
            <a:off x="152280" y="1143000"/>
            <a:ext cx="87631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7631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Amebiasis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biasis is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rotozoal infec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testinal tr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due to ingestion of foods or water contaminated with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ysts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Entameba Histolytica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2T10:03:36Z</dcterms:created>
  <dc:creator>administrator</dc:creator>
  <dc:description/>
  <dc:language>en-US</dc:language>
  <cp:lastModifiedBy>Hanan Hagar</cp:lastModifiedBy>
  <dcterms:modified xsi:type="dcterms:W3CDTF">2019-12-24T09:37:00Z</dcterms:modified>
  <cp:revision>293</cp:revision>
  <dc:subject/>
  <dc:title>CHEMOTHERAPY OF AMOEBIASIS</dc:title>
</cp:coreProperties>
</file>