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10058400" cy="6702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4400" y="726840"/>
            <a:ext cx="5029200" cy="334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Arial Narrow"/>
              </a:rPr>
              <a:t>Click to move the slide</a:t>
            </a: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0" y="889956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0335-4902-4151-A75B-908EDA6FDAA2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0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27200"/>
            <a:ext cx="5022720" cy="3346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inioMM_367 RG 585 NO 11 OP"/>
              </a:rPr>
              <a:t>	</a:t>
            </a:r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27200"/>
            <a:ext cx="5022720" cy="3346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The anticoagulant effect of vitamin K antagonists, such as warfarin, is due to the synthesis of non-functional clotting factors. Prothrombin, factors VII, IX and X as well as anticoagulant protein C and protein S are all inactivated by vitamin K antagonists</a:t>
            </a:r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27200"/>
            <a:ext cx="5022720" cy="3346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27200"/>
            <a:ext cx="5022720" cy="3346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Arial Narrow"/>
              </a:rPr>
              <a:t>C</a:t>
            </a:r>
            <a:r>
              <a:rPr b="1" lang="pl-PL" sz="1100" spc="-1" strike="noStrike">
                <a:solidFill>
                  <a:srgbClr val="ffff00"/>
                </a:solidFill>
                <a:latin typeface="Arial Narrow"/>
              </a:rPr>
              <a:t>a2+</a:t>
            </a:r>
            <a:r>
              <a:rPr b="1" lang="en-US" sz="1100" spc="-1" strike="noStrike">
                <a:solidFill>
                  <a:srgbClr val="ffff00"/>
                </a:solidFill>
                <a:latin typeface="Arial Narrow"/>
              </a:rPr>
              <a:t> a</a:t>
            </a:r>
            <a:r>
              <a:rPr b="1" lang="pl-PL" sz="1100" spc="-1" strike="noStrike">
                <a:solidFill>
                  <a:srgbClr val="ffff00"/>
                </a:solidFill>
                <a:latin typeface="Arial Narrow"/>
              </a:rPr>
              <a:t>re required for promotion and </a:t>
            </a:r>
            <a:r>
              <a:rPr b="1" lang="en-US" sz="11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pl-PL" sz="1100" spc="-1" strike="noStrike">
                <a:solidFill>
                  <a:srgbClr val="ffff00"/>
                </a:solidFill>
                <a:latin typeface="Arial Narrow"/>
              </a:rPr>
              <a:t>acceleration of almost all blood clotting reactions</a:t>
            </a:r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Removal of Ca2+ with calcium chelators such as EDTA ethylenediamine tetra-acetic acid or citrate is used to prevent clotting in test tube</a:t>
            </a:r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27200"/>
            <a:ext cx="5022720" cy="3346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Thrombin plays a key role in coagulation as it is responsible for generation of fibrin mesh</a:t>
            </a:r>
            <a:endParaRPr b="1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1904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996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4308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996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4308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26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914868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268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26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476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401904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476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996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4308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996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4308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1D1-7D4C-4D90-B9C4-A57B46E4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26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191-A60A-47DE-B29F-F6E91279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42C-EEC1-48A0-9CD5-D6F8A138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27F6-0001-4977-83C1-96A547A1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51E-3BE1-4B64-8122-A727D377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914868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268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7AC-20B1-4E02-83D9-45E03C5B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2A6-F28D-4114-915F-C99E3B93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476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F07-FF9F-45CD-AF00-EAC2E7B5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0FA-CD84-450B-9BA2-85B71055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401904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D80-5AE5-4C37-8BB5-5591F2AF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4476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674-C2AF-45B9-9005-95D4FC5F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4996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43080" y="166500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4996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43080" y="4019040"/>
            <a:ext cx="294552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96E-03DB-408D-B9BC-F4F49E87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914868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268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01904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665000"/>
            <a:ext cx="446436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19040"/>
            <a:ext cx="9148680" cy="21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39880" indent="-277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76480" indent="-2224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568520" indent="-223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16000" indent="-223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16000" indent="-2235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16000" indent="-2235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" name="Line 6"/>
          <p:cNvSpPr/>
          <p:nvPr/>
        </p:nvSpPr>
        <p:spPr>
          <a:xfrm>
            <a:off x="457200" y="1371600"/>
            <a:ext cx="9148680" cy="0"/>
          </a:xfrm>
          <a:prstGeom prst="line">
            <a:avLst/>
          </a:prstGeom>
          <a:ln w="507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1029"/>
          <p:cNvSpPr/>
          <p:nvPr/>
        </p:nvSpPr>
        <p:spPr>
          <a:xfrm>
            <a:off x="457200" y="2286000"/>
            <a:ext cx="9148680" cy="0"/>
          </a:xfrm>
          <a:prstGeom prst="line">
            <a:avLst/>
          </a:prstGeom>
          <a:ln w="507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39880" indent="-277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76480" indent="-2224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568520" indent="-223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16000" indent="-223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16000" indent="-2235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16000" indent="-2235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27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6"/>
          <p:cNvSpPr/>
          <p:nvPr/>
        </p:nvSpPr>
        <p:spPr>
          <a:xfrm>
            <a:off x="457200" y="1371600"/>
            <a:ext cx="9148680" cy="0"/>
          </a:xfrm>
          <a:prstGeom prst="line">
            <a:avLst/>
          </a:prstGeom>
          <a:ln w="507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39880" indent="-277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76480" indent="-22248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568520" indent="-2239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50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16000" indent="-22356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16000" indent="-2235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16000" indent="-22356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60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502920" y="6106680"/>
            <a:ext cx="234612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436920" y="6106680"/>
            <a:ext cx="3184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7208640" y="6106680"/>
            <a:ext cx="234612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MY" sz="2400" spc="-1" strike="noStrike">
                <a:solidFill>
                  <a:srgbClr val="00b7a5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BFD7-DFB7-49E3-8D95-158F7B90E60F}" type="slidenum">
              <a:rPr b="1" lang="en-MY" sz="2400" spc="-1" strike="noStrike">
                <a:solidFill>
                  <a:srgbClr val="00b7a5"/>
                </a:solidFill>
                <a:latin typeface="Arial Narrow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34800" y="227160"/>
            <a:ext cx="9029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Anticoagulants</a:t>
            </a:r>
            <a:endParaRPr b="1" lang="en-US" sz="7200" spc="-1" strike="noStrike">
              <a:solidFill>
                <a:srgbClr val="00b7a5"/>
              </a:solidFill>
              <a:latin typeface="Arial Narrow"/>
            </a:endParaRPr>
          </a:p>
        </p:txBody>
      </p:sp>
      <p:pic>
        <p:nvPicPr>
          <p:cNvPr id="125" name="Picture 6" descr="bd20052_"/>
          <p:cNvPicPr/>
          <p:nvPr/>
        </p:nvPicPr>
        <p:blipFill>
          <a:blip r:embed="rId1"/>
          <a:stretch/>
        </p:blipFill>
        <p:spPr>
          <a:xfrm>
            <a:off x="0" y="2360520"/>
            <a:ext cx="4162320" cy="3962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bd06856_"/>
          <p:cNvPicPr/>
          <p:nvPr/>
        </p:nvPicPr>
        <p:blipFill>
          <a:blip r:embed="rId2"/>
          <a:stretch/>
        </p:blipFill>
        <p:spPr>
          <a:xfrm>
            <a:off x="7010280" y="1751040"/>
            <a:ext cx="2730600" cy="184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hm00163_"/>
          <p:cNvPicPr/>
          <p:nvPr/>
        </p:nvPicPr>
        <p:blipFill>
          <a:blip r:embed="rId3"/>
          <a:stretch/>
        </p:blipFill>
        <p:spPr>
          <a:xfrm>
            <a:off x="3886200" y="1751040"/>
            <a:ext cx="259092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3"/>
          <p:cNvSpPr/>
          <p:nvPr/>
        </p:nvSpPr>
        <p:spPr>
          <a:xfrm>
            <a:off x="1068480" y="3492360"/>
            <a:ext cx="2535120" cy="1478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5978520" y="3421080"/>
            <a:ext cx="2536920" cy="1477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457200" y="1827360"/>
            <a:ext cx="9296280" cy="4495680"/>
          </a:xfrm>
          <a:prstGeom prst="bevel">
            <a:avLst>
              <a:gd name="adj" fmla="val 7500"/>
            </a:avLst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Narrow"/>
              </a:rPr>
              <a:t>Indirect Thrombin inhibitors</a:t>
            </a:r>
            <a:endParaRPr b="1" lang="en-US" sz="6000" spc="-1" strike="noStrike">
              <a:solidFill>
                <a:srgbClr val="00b7a5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1350"/>
                </a:solidFill>
                <a:latin typeface="Times New Roman"/>
              </a:rPr>
              <a:t>Heparin and </a:t>
            </a:r>
            <a:endParaRPr b="1" lang="en-US" sz="4800" spc="-1" strike="noStrike">
              <a:solidFill>
                <a:srgbClr val="00b7a5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1350"/>
                </a:solidFill>
                <a:latin typeface="Times New Roman"/>
              </a:rPr>
              <a:t>heparin- related agents</a:t>
            </a:r>
            <a:endParaRPr b="1" lang="en-US" sz="4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395360" y="298440"/>
            <a:ext cx="72914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380880" y="303120"/>
            <a:ext cx="9220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Narrow"/>
              </a:rPr>
              <a:t>Parenteral  Anticoagulants</a:t>
            </a:r>
            <a:endParaRPr b="1" lang="en-US" sz="66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Heparin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Unfractionated Heparin)</a:t>
            </a:r>
            <a:endParaRPr b="1" lang="en-US" sz="40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65000"/>
            <a:ext cx="93772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02840" indent="-301320" algn="just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rmally occurs as macromolecule in mast cells with histamine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( its physiological role is unknown 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02840" indent="-301320" algn="just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ommercial preparations are extracted from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beef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lung or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pig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intestine </a:t>
            </a:r>
            <a:r>
              <a:rPr b="1" lang="en-US" sz="3600" spc="-1" strike="noStrike">
                <a:solidFill>
                  <a:srgbClr val="92d050"/>
                </a:solidFill>
                <a:latin typeface="Arial Narrow"/>
              </a:rPr>
              <a:t>(can cause hypersensitivity reaction)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02840" indent="-301320" algn="just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Heparin stops the expansion of a thrombus and prevents the formation of new thrombi </a:t>
            </a:r>
            <a:r>
              <a:rPr b="1" lang="en-US" sz="3600" spc="-1" strike="noStrike" u="sng">
                <a:solidFill>
                  <a:srgbClr val="92d050"/>
                </a:solidFill>
                <a:uFillTx/>
                <a:latin typeface="Arial Narrow"/>
              </a:rPr>
              <a:t>but it does not dissolve an existing thrombu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0284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2680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Heparin and related H- agents</a:t>
            </a: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1739520"/>
            <a:ext cx="945360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 algn="just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eparin is an 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injectable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 Narrow"/>
              </a:rPr>
              <a:t>rapidly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acting anticoagulant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 algn="just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ctive i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vitro and in vivo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 algn="just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Low–molecular–weight forms (LMWHs), 1/3 the size of UFH are used as well and have many advantages over UFH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Narrow"/>
              </a:rPr>
              <a:t>Heparin: Mechanism of action</a:t>
            </a: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0880" y="1674360"/>
            <a:ext cx="922032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31200" indent="-247680" algn="just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Indirect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 Thrombin Inhibitor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31200" indent="-247680" algn="just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t acts indirectly by increasing the activity of the endogenous anticoagulant “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 Narrow"/>
              </a:rPr>
              <a:t>antithrombin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 Narrow"/>
              </a:rPr>
              <a:t>III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(1000 folds) which  inhibits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activated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clotting factors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mainly thrombin  </a:t>
            </a: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(factor IIa) and Xa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31200" indent="-247680" algn="just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When Heparin binds to antithrombin III, it causes conformational changes that accelerates its rate of action 1000 fold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1200" indent="-247680" algn="just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1200" indent="-247680" algn="just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  <a:p>
            <a:pPr marL="331200" indent="-2476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26960" y="74520"/>
            <a:ext cx="7794360" cy="12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 Narrow"/>
              </a:rPr>
              <a:t>Heparin: Mechanism of action</a:t>
            </a: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grpSp>
        <p:nvGrpSpPr>
          <p:cNvPr id="170" name="Group 13"/>
          <p:cNvGrpSpPr/>
          <p:nvPr/>
        </p:nvGrpSpPr>
        <p:grpSpPr>
          <a:xfrm>
            <a:off x="533520" y="2905200"/>
            <a:ext cx="1591920" cy="966240"/>
            <a:chOff x="533520" y="2905200"/>
            <a:chExt cx="1591920" cy="966240"/>
          </a:xfrm>
        </p:grpSpPr>
        <p:sp>
          <p:nvSpPr>
            <p:cNvPr id="171" name="Oval 3"/>
            <p:cNvSpPr/>
            <p:nvPr/>
          </p:nvSpPr>
          <p:spPr>
            <a:xfrm>
              <a:off x="533520" y="3053520"/>
              <a:ext cx="1005480" cy="817920"/>
            </a:xfrm>
            <a:prstGeom prst="ellipse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172" name="AutoShape 6"/>
            <p:cNvSpPr/>
            <p:nvPr/>
          </p:nvSpPr>
          <p:spPr>
            <a:xfrm>
              <a:off x="1287720" y="3425400"/>
              <a:ext cx="837720" cy="222840"/>
            </a:xfrm>
            <a:prstGeom prst="flowChartDecision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868320" y="2905200"/>
              <a:ext cx="335160" cy="222840"/>
            </a:xfrm>
            <a:prstGeom prst="flowChartProcess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</p:grpSp>
      <p:grpSp>
        <p:nvGrpSpPr>
          <p:cNvPr id="174" name="Group 18"/>
          <p:cNvGrpSpPr/>
          <p:nvPr/>
        </p:nvGrpSpPr>
        <p:grpSpPr>
          <a:xfrm>
            <a:off x="2895480" y="2284560"/>
            <a:ext cx="2133360" cy="1488600"/>
            <a:chOff x="2895480" y="2284560"/>
            <a:chExt cx="2133360" cy="1488600"/>
          </a:xfrm>
        </p:grpSpPr>
        <p:sp>
          <p:nvSpPr>
            <p:cNvPr id="175" name="Freeform 9"/>
            <p:cNvSpPr/>
            <p:nvPr/>
          </p:nvSpPr>
          <p:spPr>
            <a:xfrm>
              <a:off x="2895480" y="2656440"/>
              <a:ext cx="2133360" cy="111672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116720"/>
                <a:gd name="textAreaBottom" fmla="*/ 1116720 h 1116720"/>
              </a:gdLst>
              <a:ahLst/>
              <a:rect l="textAreaLeft" t="textAreaTop" r="textAreaRight" b="textAreaBottom"/>
              <a:pathLst>
                <a:path w="1008" h="720">
                  <a:moveTo>
                    <a:pt x="0" y="720"/>
                  </a:moveTo>
                  <a:lnTo>
                    <a:pt x="0" y="432"/>
                  </a:lnTo>
                  <a:lnTo>
                    <a:pt x="336" y="336"/>
                  </a:lnTo>
                  <a:lnTo>
                    <a:pt x="0" y="192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72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176" name="AutoShape 16"/>
            <p:cNvSpPr/>
            <p:nvPr/>
          </p:nvSpPr>
          <p:spPr>
            <a:xfrm>
              <a:off x="3708360" y="2284560"/>
              <a:ext cx="914400" cy="595440"/>
            </a:xfrm>
            <a:prstGeom prst="pentagon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</p:grpSp>
      <p:sp>
        <p:nvSpPr>
          <p:cNvPr id="177" name="Freeform 17"/>
          <p:cNvSpPr/>
          <p:nvPr/>
        </p:nvSpPr>
        <p:spPr>
          <a:xfrm>
            <a:off x="152280" y="1414440"/>
            <a:ext cx="4694400" cy="893880"/>
          </a:xfrm>
          <a:custGeom>
            <a:avLst/>
            <a:gdLst>
              <a:gd name="textAreaLeft" fmla="*/ 0 w 4694400"/>
              <a:gd name="textAreaRight" fmla="*/ 4694760 w 469440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688" h="576">
                <a:moveTo>
                  <a:pt x="336" y="576"/>
                </a:moveTo>
                <a:lnTo>
                  <a:pt x="336" y="432"/>
                </a:lnTo>
                <a:lnTo>
                  <a:pt x="720" y="432"/>
                </a:lnTo>
                <a:lnTo>
                  <a:pt x="720" y="576"/>
                </a:lnTo>
                <a:lnTo>
                  <a:pt x="1488" y="576"/>
                </a:lnTo>
                <a:lnTo>
                  <a:pt x="1488" y="432"/>
                </a:lnTo>
                <a:lnTo>
                  <a:pt x="1920" y="432"/>
                </a:lnTo>
                <a:lnTo>
                  <a:pt x="2160" y="240"/>
                </a:lnTo>
                <a:lnTo>
                  <a:pt x="2496" y="432"/>
                </a:lnTo>
                <a:lnTo>
                  <a:pt x="2688" y="432"/>
                </a:lnTo>
                <a:lnTo>
                  <a:pt x="2688" y="0"/>
                </a:lnTo>
                <a:lnTo>
                  <a:pt x="0" y="0"/>
                </a:lnTo>
                <a:lnTo>
                  <a:pt x="0" y="576"/>
                </a:lnTo>
                <a:lnTo>
                  <a:pt x="336" y="576"/>
                </a:lnTo>
                <a:close/>
              </a:path>
            </a:pathLst>
          </a:custGeom>
          <a:solidFill>
            <a:srgbClr val="7b00e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1302840" y="137016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Heparin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421200" y="245736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ntithrombin III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3124080" y="304632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rombin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2438280" y="3451320"/>
            <a:ext cx="335160" cy="1042920"/>
          </a:xfrm>
          <a:prstGeom prst="downArrow">
            <a:avLst>
              <a:gd name="adj1" fmla="val 50000"/>
              <a:gd name="adj2" fmla="val 87560"/>
            </a:avLst>
          </a:prstGeom>
          <a:solidFill>
            <a:srgbClr val="00b7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82" name="Freeform 23"/>
          <p:cNvSpPr/>
          <p:nvPr/>
        </p:nvSpPr>
        <p:spPr>
          <a:xfrm>
            <a:off x="228600" y="4591080"/>
            <a:ext cx="4694400" cy="893880"/>
          </a:xfrm>
          <a:custGeom>
            <a:avLst/>
            <a:gdLst>
              <a:gd name="textAreaLeft" fmla="*/ 0 w 4694400"/>
              <a:gd name="textAreaRight" fmla="*/ 4694760 w 469440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688" h="576">
                <a:moveTo>
                  <a:pt x="336" y="576"/>
                </a:moveTo>
                <a:lnTo>
                  <a:pt x="336" y="432"/>
                </a:lnTo>
                <a:lnTo>
                  <a:pt x="720" y="432"/>
                </a:lnTo>
                <a:lnTo>
                  <a:pt x="720" y="576"/>
                </a:lnTo>
                <a:lnTo>
                  <a:pt x="1488" y="576"/>
                </a:lnTo>
                <a:lnTo>
                  <a:pt x="1488" y="432"/>
                </a:lnTo>
                <a:lnTo>
                  <a:pt x="1920" y="432"/>
                </a:lnTo>
                <a:lnTo>
                  <a:pt x="2160" y="240"/>
                </a:lnTo>
                <a:lnTo>
                  <a:pt x="2496" y="432"/>
                </a:lnTo>
                <a:lnTo>
                  <a:pt x="2688" y="432"/>
                </a:lnTo>
                <a:lnTo>
                  <a:pt x="2688" y="0"/>
                </a:lnTo>
                <a:lnTo>
                  <a:pt x="0" y="0"/>
                </a:lnTo>
                <a:lnTo>
                  <a:pt x="0" y="576"/>
                </a:lnTo>
                <a:lnTo>
                  <a:pt x="336" y="576"/>
                </a:lnTo>
                <a:close/>
              </a:path>
            </a:pathLst>
          </a:custGeom>
          <a:solidFill>
            <a:srgbClr val="7b00e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grpSp>
        <p:nvGrpSpPr>
          <p:cNvPr id="183" name="Group 24"/>
          <p:cNvGrpSpPr/>
          <p:nvPr/>
        </p:nvGrpSpPr>
        <p:grpSpPr>
          <a:xfrm>
            <a:off x="685800" y="5354640"/>
            <a:ext cx="1593360" cy="968040"/>
            <a:chOff x="685800" y="5354640"/>
            <a:chExt cx="1593360" cy="968040"/>
          </a:xfrm>
        </p:grpSpPr>
        <p:sp>
          <p:nvSpPr>
            <p:cNvPr id="184" name="Oval 25"/>
            <p:cNvSpPr/>
            <p:nvPr/>
          </p:nvSpPr>
          <p:spPr>
            <a:xfrm>
              <a:off x="685800" y="5503320"/>
              <a:ext cx="1006560" cy="819360"/>
            </a:xfrm>
            <a:prstGeom prst="ellipse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185" name="AutoShape 26"/>
            <p:cNvSpPr/>
            <p:nvPr/>
          </p:nvSpPr>
          <p:spPr>
            <a:xfrm>
              <a:off x="1440720" y="5875920"/>
              <a:ext cx="838440" cy="223200"/>
            </a:xfrm>
            <a:prstGeom prst="flowChartDecision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186" name="AutoShape 27"/>
            <p:cNvSpPr/>
            <p:nvPr/>
          </p:nvSpPr>
          <p:spPr>
            <a:xfrm>
              <a:off x="1020960" y="5354640"/>
              <a:ext cx="335520" cy="223200"/>
            </a:xfrm>
            <a:prstGeom prst="flowChartProcess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</p:grpSp>
      <p:grpSp>
        <p:nvGrpSpPr>
          <p:cNvPr id="187" name="Group 28"/>
          <p:cNvGrpSpPr/>
          <p:nvPr/>
        </p:nvGrpSpPr>
        <p:grpSpPr>
          <a:xfrm>
            <a:off x="2840040" y="5027760"/>
            <a:ext cx="2133360" cy="1488600"/>
            <a:chOff x="2840040" y="5027760"/>
            <a:chExt cx="2133360" cy="1488600"/>
          </a:xfrm>
        </p:grpSpPr>
        <p:sp>
          <p:nvSpPr>
            <p:cNvPr id="188" name="Freeform 29"/>
            <p:cNvSpPr/>
            <p:nvPr/>
          </p:nvSpPr>
          <p:spPr>
            <a:xfrm>
              <a:off x="2840040" y="5399640"/>
              <a:ext cx="2133360" cy="111672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116720"/>
                <a:gd name="textAreaBottom" fmla="*/ 1116720 h 1116720"/>
              </a:gdLst>
              <a:ahLst/>
              <a:rect l="textAreaLeft" t="textAreaTop" r="textAreaRight" b="textAreaBottom"/>
              <a:pathLst>
                <a:path w="1008" h="720">
                  <a:moveTo>
                    <a:pt x="0" y="720"/>
                  </a:moveTo>
                  <a:lnTo>
                    <a:pt x="0" y="432"/>
                  </a:lnTo>
                  <a:lnTo>
                    <a:pt x="336" y="336"/>
                  </a:lnTo>
                  <a:lnTo>
                    <a:pt x="0" y="192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72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189" name="AutoShape 30"/>
            <p:cNvSpPr/>
            <p:nvPr/>
          </p:nvSpPr>
          <p:spPr>
            <a:xfrm>
              <a:off x="3652920" y="5027760"/>
              <a:ext cx="914400" cy="595440"/>
            </a:xfrm>
            <a:prstGeom prst="pentagon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</p:grpSp>
      <p:sp>
        <p:nvSpPr>
          <p:cNvPr id="190" name="Rectangle 30"/>
          <p:cNvSpPr/>
          <p:nvPr/>
        </p:nvSpPr>
        <p:spPr>
          <a:xfrm>
            <a:off x="5029200" y="167472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Heparin binds to both antithrombin III and thrombin to form a ternary complex 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1455480" y="468648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Heparin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2819520" y="602784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rombin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240120" y="602784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ntithrombin III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26960" y="74520"/>
            <a:ext cx="7794360" cy="12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 Narrow"/>
              </a:rPr>
              <a:t>Heparin: Mechanism of action</a:t>
            </a: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3124080" y="304632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96" name="Freeform 23"/>
          <p:cNvSpPr/>
          <p:nvPr/>
        </p:nvSpPr>
        <p:spPr>
          <a:xfrm>
            <a:off x="228600" y="4591080"/>
            <a:ext cx="4694400" cy="893880"/>
          </a:xfrm>
          <a:custGeom>
            <a:avLst/>
            <a:gdLst>
              <a:gd name="textAreaLeft" fmla="*/ 0 w 4694400"/>
              <a:gd name="textAreaRight" fmla="*/ 4694760 w 469440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2688" h="576">
                <a:moveTo>
                  <a:pt x="336" y="576"/>
                </a:moveTo>
                <a:lnTo>
                  <a:pt x="336" y="432"/>
                </a:lnTo>
                <a:lnTo>
                  <a:pt x="720" y="432"/>
                </a:lnTo>
                <a:lnTo>
                  <a:pt x="720" y="576"/>
                </a:lnTo>
                <a:lnTo>
                  <a:pt x="1488" y="576"/>
                </a:lnTo>
                <a:lnTo>
                  <a:pt x="1488" y="432"/>
                </a:lnTo>
                <a:lnTo>
                  <a:pt x="1920" y="432"/>
                </a:lnTo>
                <a:lnTo>
                  <a:pt x="2160" y="240"/>
                </a:lnTo>
                <a:lnTo>
                  <a:pt x="2496" y="432"/>
                </a:lnTo>
                <a:lnTo>
                  <a:pt x="2688" y="432"/>
                </a:lnTo>
                <a:lnTo>
                  <a:pt x="2688" y="0"/>
                </a:lnTo>
                <a:lnTo>
                  <a:pt x="0" y="0"/>
                </a:lnTo>
                <a:lnTo>
                  <a:pt x="0" y="576"/>
                </a:lnTo>
                <a:lnTo>
                  <a:pt x="336" y="576"/>
                </a:lnTo>
                <a:close/>
              </a:path>
            </a:pathLst>
          </a:custGeom>
          <a:solidFill>
            <a:srgbClr val="7b00e4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grpSp>
        <p:nvGrpSpPr>
          <p:cNvPr id="197" name="Group 24"/>
          <p:cNvGrpSpPr/>
          <p:nvPr/>
        </p:nvGrpSpPr>
        <p:grpSpPr>
          <a:xfrm>
            <a:off x="685800" y="5354640"/>
            <a:ext cx="1593360" cy="968040"/>
            <a:chOff x="685800" y="5354640"/>
            <a:chExt cx="1593360" cy="968040"/>
          </a:xfrm>
        </p:grpSpPr>
        <p:sp>
          <p:nvSpPr>
            <p:cNvPr id="198" name="Oval 25"/>
            <p:cNvSpPr/>
            <p:nvPr/>
          </p:nvSpPr>
          <p:spPr>
            <a:xfrm>
              <a:off x="685800" y="5503320"/>
              <a:ext cx="1006560" cy="819360"/>
            </a:xfrm>
            <a:prstGeom prst="ellipse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199" name="AutoShape 26"/>
            <p:cNvSpPr/>
            <p:nvPr/>
          </p:nvSpPr>
          <p:spPr>
            <a:xfrm>
              <a:off x="1440720" y="5875920"/>
              <a:ext cx="838440" cy="223200"/>
            </a:xfrm>
            <a:prstGeom prst="flowChartDecision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200" name="AutoShape 27"/>
            <p:cNvSpPr/>
            <p:nvPr/>
          </p:nvSpPr>
          <p:spPr>
            <a:xfrm>
              <a:off x="1020960" y="5354640"/>
              <a:ext cx="335520" cy="223200"/>
            </a:xfrm>
            <a:prstGeom prst="flowChartProcess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</p:grpSp>
      <p:grpSp>
        <p:nvGrpSpPr>
          <p:cNvPr id="201" name="Group 28"/>
          <p:cNvGrpSpPr/>
          <p:nvPr/>
        </p:nvGrpSpPr>
        <p:grpSpPr>
          <a:xfrm>
            <a:off x="2840040" y="5027760"/>
            <a:ext cx="2133360" cy="1488600"/>
            <a:chOff x="2840040" y="5027760"/>
            <a:chExt cx="2133360" cy="1488600"/>
          </a:xfrm>
        </p:grpSpPr>
        <p:sp>
          <p:nvSpPr>
            <p:cNvPr id="202" name="Freeform 29"/>
            <p:cNvSpPr/>
            <p:nvPr/>
          </p:nvSpPr>
          <p:spPr>
            <a:xfrm>
              <a:off x="2840040" y="5399640"/>
              <a:ext cx="2133360" cy="111672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116720"/>
                <a:gd name="textAreaBottom" fmla="*/ 1116720 h 1116720"/>
              </a:gdLst>
              <a:ahLst/>
              <a:rect l="textAreaLeft" t="textAreaTop" r="textAreaRight" b="textAreaBottom"/>
              <a:pathLst>
                <a:path w="1008" h="720">
                  <a:moveTo>
                    <a:pt x="0" y="720"/>
                  </a:moveTo>
                  <a:lnTo>
                    <a:pt x="0" y="432"/>
                  </a:lnTo>
                  <a:lnTo>
                    <a:pt x="336" y="336"/>
                  </a:lnTo>
                  <a:lnTo>
                    <a:pt x="0" y="192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72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203" name="AutoShape 30"/>
            <p:cNvSpPr/>
            <p:nvPr/>
          </p:nvSpPr>
          <p:spPr>
            <a:xfrm>
              <a:off x="3652920" y="5027760"/>
              <a:ext cx="914400" cy="595440"/>
            </a:xfrm>
            <a:prstGeom prst="pentagon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</p:grpSp>
      <p:grpSp>
        <p:nvGrpSpPr>
          <p:cNvPr id="204" name="Group 31"/>
          <p:cNvGrpSpPr/>
          <p:nvPr/>
        </p:nvGrpSpPr>
        <p:grpSpPr>
          <a:xfrm>
            <a:off x="7513560" y="5027760"/>
            <a:ext cx="1760400" cy="1488600"/>
            <a:chOff x="7513560" y="5027760"/>
            <a:chExt cx="1760400" cy="1488600"/>
          </a:xfrm>
        </p:grpSpPr>
        <p:sp>
          <p:nvSpPr>
            <p:cNvPr id="205" name="Freeform 32"/>
            <p:cNvSpPr/>
            <p:nvPr/>
          </p:nvSpPr>
          <p:spPr>
            <a:xfrm>
              <a:off x="7513560" y="5399640"/>
              <a:ext cx="1760400" cy="1116720"/>
            </a:xfrm>
            <a:custGeom>
              <a:avLst/>
              <a:gdLst>
                <a:gd name="textAreaLeft" fmla="*/ 0 w 1760400"/>
                <a:gd name="textAreaRight" fmla="*/ 1760760 w 1760400"/>
                <a:gd name="textAreaTop" fmla="*/ 0 h 1116720"/>
                <a:gd name="textAreaBottom" fmla="*/ 1116720 h 1116720"/>
              </a:gdLst>
              <a:ahLst/>
              <a:rect l="textAreaLeft" t="textAreaTop" r="textAreaRight" b="textAreaBottom"/>
              <a:pathLst>
                <a:path w="1008" h="720">
                  <a:moveTo>
                    <a:pt x="0" y="720"/>
                  </a:moveTo>
                  <a:lnTo>
                    <a:pt x="0" y="432"/>
                  </a:lnTo>
                  <a:lnTo>
                    <a:pt x="336" y="336"/>
                  </a:lnTo>
                  <a:lnTo>
                    <a:pt x="0" y="192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720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206" name="AutoShape 33"/>
            <p:cNvSpPr/>
            <p:nvPr/>
          </p:nvSpPr>
          <p:spPr>
            <a:xfrm>
              <a:off x="8184240" y="5027760"/>
              <a:ext cx="754560" cy="595440"/>
            </a:xfrm>
            <a:prstGeom prst="pentagon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</p:grpSp>
      <p:grpSp>
        <p:nvGrpSpPr>
          <p:cNvPr id="207" name="Group 34"/>
          <p:cNvGrpSpPr/>
          <p:nvPr/>
        </p:nvGrpSpPr>
        <p:grpSpPr>
          <a:xfrm>
            <a:off x="6400800" y="5256360"/>
            <a:ext cx="1591920" cy="968040"/>
            <a:chOff x="6400800" y="5256360"/>
            <a:chExt cx="1591920" cy="968040"/>
          </a:xfrm>
        </p:grpSpPr>
        <p:sp>
          <p:nvSpPr>
            <p:cNvPr id="208" name="Oval 35"/>
            <p:cNvSpPr/>
            <p:nvPr/>
          </p:nvSpPr>
          <p:spPr>
            <a:xfrm>
              <a:off x="6400800" y="5405040"/>
              <a:ext cx="1005480" cy="819360"/>
            </a:xfrm>
            <a:prstGeom prst="ellipse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209" name="AutoShape 36"/>
            <p:cNvSpPr/>
            <p:nvPr/>
          </p:nvSpPr>
          <p:spPr>
            <a:xfrm>
              <a:off x="7155000" y="5777640"/>
              <a:ext cx="837720" cy="223200"/>
            </a:xfrm>
            <a:prstGeom prst="flowChartDecision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  <p:sp>
          <p:nvSpPr>
            <p:cNvPr id="210" name="AutoShape 37"/>
            <p:cNvSpPr/>
            <p:nvPr/>
          </p:nvSpPr>
          <p:spPr>
            <a:xfrm>
              <a:off x="6735600" y="5256360"/>
              <a:ext cx="335160" cy="223200"/>
            </a:xfrm>
            <a:prstGeom prst="flowChartProcess">
              <a:avLst/>
            </a:prstGeom>
            <a:solidFill>
              <a:srgbClr val="00b7a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b7a5"/>
                </a:solidFill>
                <a:latin typeface="Arial Narrow"/>
              </a:endParaRPr>
            </a:p>
          </p:txBody>
        </p:sp>
      </p:grpSp>
      <p:sp>
        <p:nvSpPr>
          <p:cNvPr id="211" name="AutoShape 38"/>
          <p:cNvSpPr/>
          <p:nvPr/>
        </p:nvSpPr>
        <p:spPr>
          <a:xfrm>
            <a:off x="5257800" y="5560920"/>
            <a:ext cx="1066680" cy="5209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7b00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12" name="Rectangle 30"/>
          <p:cNvSpPr/>
          <p:nvPr/>
        </p:nvSpPr>
        <p:spPr>
          <a:xfrm>
            <a:off x="533520" y="1674720"/>
            <a:ext cx="9296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Heparin dissociates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eaving the thrombin bound to its inhibitor</a:t>
            </a:r>
            <a:endParaRPr b="1" lang="en-US" sz="3200" spc="-1" strike="noStrike">
              <a:solidFill>
                <a:srgbClr val="00b7a5"/>
              </a:solidFill>
              <a:latin typeface="Arial Narrow"/>
            </a:endParaRPr>
          </a:p>
          <a:p>
            <a:pPr marL="457200" indent="-45720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nce dissociated, Heparin is free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 to bind to another antithrombin molecule and subsequently inhibits more thrombin</a:t>
            </a:r>
            <a:endParaRPr b="1" lang="en-US" sz="30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1302840" y="461016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Heparin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7139160" y="595152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rombin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421200" y="618012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ntithrombin III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731200" y="465624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ntithrombin III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2819520" y="594216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rombin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379080"/>
            <a:ext cx="899640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 Narrow"/>
              </a:rPr>
              <a:t>UFH : Pharmacokinetics</a:t>
            </a: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1358640"/>
            <a:ext cx="982980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29840" indent="-321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parin is not absorbed from the GI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840" indent="-321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t should be administered by IV  or SC  injection.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 Narrow"/>
              </a:rPr>
              <a:t>Not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 Narrow"/>
              </a:rPr>
              <a:t> injected IM as it causes haematomas at injection site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840" indent="-321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nce in the blood stream, UFH binds to plasma proteins, endothelial cells and macrophag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840" indent="-321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parin does not cross the placenta;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therefor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 Narrow"/>
              </a:rPr>
              <a:t>it is the drug of choice as anticoagulat during pregnanc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840" indent="-32148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ose monitoring of t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 Narrow"/>
              </a:rPr>
              <a:t>activated partial thromboplastin time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 Narrow"/>
              </a:rPr>
              <a:t>(aPTT)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s necessary in patients receiving UFH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840" indent="-321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175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6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75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75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276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75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75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Heparin: Therapeutic uses</a:t>
            </a: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600" y="1665000"/>
            <a:ext cx="93772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 algn="just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Due to its rapid onset of action, it is used to 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initiate immediate anticoagulation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n thromboembolic disease (PE, DVT, MI) mainly as induction for oral vitamin K antagonists (VKAs) 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 algn="just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Prevention of postoperative DVT (in patient undergoing hip replacement)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 algn="just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Prevention of coagulation during renal dialysis or cardiac surgery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1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Narrow"/>
              </a:rPr>
              <a:t>Disadvantages of  UFH</a:t>
            </a: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600" y="1665000"/>
            <a:ext cx="960120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inconvenience of administration by injection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need for regular monitoring (aPTT)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UFH carries a risk of 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heparin-induced thrombocytopenia (HIT)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, a fall in the platelet count and increased risk of thrombosis due to binding to platelets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607680"/>
            <a:ext cx="91486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1" i="1" lang="en-US" sz="3800" spc="-1" strike="noStrike">
                <a:solidFill>
                  <a:srgbClr val="ffff00"/>
                </a:solidFill>
                <a:latin typeface="Arial Narrow"/>
              </a:rPr>
              <a:t>Heparin-induced thrombocytopenia (HIT )</a:t>
            </a:r>
            <a:br>
              <a:rPr sz="3800"/>
            </a:b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Generally, if the number of platelets is too low, excessive bleeding can occur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f the number of platelets is too high, blood clots can form thrombosi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However, There are disorders that reduce the number of platelets, such as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heparin-induced thrombocytopenia (HIT)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that typically cause thrombosis, or clots, instead of bleeding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://cache.eb.com/eb/image?id=98328&amp;rendTypeId=4"/>
          <p:cNvPicPr/>
          <p:nvPr/>
        </p:nvPicPr>
        <p:blipFill>
          <a:blip r:embed="rId1"/>
          <a:stretch/>
        </p:blipFill>
        <p:spPr>
          <a:xfrm>
            <a:off x="7027920" y="136440"/>
            <a:ext cx="2695680" cy="2395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/>
          <p:cNvSpPr/>
          <p:nvPr/>
        </p:nvSpPr>
        <p:spPr>
          <a:xfrm>
            <a:off x="434880" y="831960"/>
            <a:ext cx="25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LOs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334800" y="1903320"/>
            <a:ext cx="9555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troduction  about coagulation cascade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assify drugs acting as anticoagulants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laborate on their mechanism of action, correlating that with methods  of monitoring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  <a:p>
            <a:pPr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ntrast the limitations &amp; benefits of injectable  anticoagulants in  clinical settings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  <a:p>
            <a:pPr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mphasis on the limitations of VKAs &amp; on variables altering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  or modifying their response.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UFH: Adverse effects</a:t>
            </a: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6320" y="1665000"/>
            <a:ext cx="99820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75840" indent="-281520">
              <a:lnSpc>
                <a:spcPct val="90000"/>
              </a:lnSpc>
              <a:spcBef>
                <a:spcPts val="1426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 Narrow"/>
              </a:rPr>
              <a:t>The major adverse effect of heparin is</a:t>
            </a:r>
            <a:r>
              <a:rPr b="1" lang="en-US" sz="3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800" spc="-1" strike="noStrike">
                <a:solidFill>
                  <a:srgbClr val="ff0000"/>
                </a:solidFill>
                <a:latin typeface="Arial Narrow"/>
              </a:rPr>
              <a:t>bleeding</a:t>
            </a:r>
            <a:endParaRPr b="1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marL="375840" indent="-281520">
              <a:lnSpc>
                <a:spcPct val="90000"/>
              </a:lnSpc>
              <a:spcBef>
                <a:spcPts val="1426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 Narrow"/>
              </a:rPr>
              <a:t>Allergic reactions (chills, fever, urticaria) </a:t>
            </a:r>
            <a:r>
              <a:rPr b="1" lang="en-US" sz="3800" spc="-1" strike="noStrike">
                <a:solidFill>
                  <a:srgbClr val="ffffff"/>
                </a:solidFill>
                <a:latin typeface="Arial Narrow"/>
              </a:rPr>
              <a:t>as heparin is of animal origin and should be used cautiously in patients with allergy </a:t>
            </a:r>
            <a:endParaRPr b="1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marL="375840" indent="-281520">
              <a:lnSpc>
                <a:spcPct val="90000"/>
              </a:lnSpc>
              <a:spcBef>
                <a:spcPts val="1426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 Narrow"/>
              </a:rPr>
              <a:t>Long-term heparin therapy is associated with </a:t>
            </a:r>
            <a:r>
              <a:rPr b="1" i="1" lang="en-US" sz="3800" spc="-1" strike="noStrike">
                <a:solidFill>
                  <a:srgbClr val="ff0000"/>
                </a:solidFill>
                <a:latin typeface="Arial Narrow"/>
              </a:rPr>
              <a:t>osteoporosis</a:t>
            </a:r>
            <a:endParaRPr b="1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marL="375840" indent="-281520">
              <a:lnSpc>
                <a:spcPct val="90000"/>
              </a:lnSpc>
              <a:spcBef>
                <a:spcPts val="1426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Arial Narrow"/>
              </a:rPr>
              <a:t>Heparin-induced thrombocytopenia (HIT )</a:t>
            </a:r>
            <a:br>
              <a:rPr sz="3800"/>
            </a:br>
            <a:br>
              <a:rPr sz="3800"/>
            </a:br>
            <a:r>
              <a:rPr b="1" i="1" lang="en-US" sz="3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Heparin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Contraindications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71520" indent="-27792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leeding disorders, hemophilia 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  <a:p>
            <a:pPr marL="371520" indent="-27792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Patients with hypersensitivity to                                                                     the drug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  <a:p>
            <a:pPr marL="371520" indent="-27792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Recent surgery of the brain, eye or   spinal cord, threatened abortion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  <a:p>
            <a:pPr marL="371520" indent="-2779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7908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Narrow"/>
              </a:rPr>
              <a:t>Reversal of Heparin Action</a:t>
            </a: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34800" y="1522080"/>
            <a:ext cx="934272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 algn="just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Discontinuation of the drug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 algn="just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eparin is strongly acidic and is neutralized by i.v.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 Narrow"/>
              </a:rPr>
              <a:t>protamine sulfate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(a strongly basic protein)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 algn="just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t combines with heparin to form a stable complex devoid of anticoagulant activity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6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1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1360"/>
            <a:ext cx="9148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4400"/>
            </a:br>
            <a:r>
              <a:rPr b="1" lang="en-US" sz="3800" spc="-1" strike="noStrike">
                <a:solidFill>
                  <a:srgbClr val="fafd00"/>
                </a:solidFill>
                <a:latin typeface="Arial Narrow"/>
              </a:rPr>
              <a:t> </a:t>
            </a:r>
            <a:br>
              <a:rPr sz="4000"/>
            </a:b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1370160"/>
            <a:ext cx="967752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MWHs are derived from the chemical or enzymatic degradation of UFH into fragments approximately one-third the size of hepari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ave equal efficacy,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without  frequent  laboratory monitoring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( suitable for  outpatient therapy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MY" sz="3200" spc="-1" strike="noStrike">
                <a:solidFill>
                  <a:srgbClr val="ffff00"/>
                </a:solidFill>
                <a:latin typeface="Arial Narrow"/>
              </a:rPr>
              <a:t>Have a more predictable anticoagulant response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MY" sz="32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MY" sz="3200" spc="-1" strike="noStrike">
                <a:solidFill>
                  <a:srgbClr val="ffffff"/>
                </a:solidFill>
                <a:latin typeface="Arial Narrow"/>
              </a:rPr>
              <a:t>( better bioavailability, longer  t 1/2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Binding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to platelets and osteoblasts is reduced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with LMWH compared with UFH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457200" y="30312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Low-Molecular-Weight Heparins</a:t>
            </a:r>
            <a:endParaRPr b="1" lang="en-US" sz="48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531360"/>
            <a:ext cx="9148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4400"/>
            </a:br>
            <a:r>
              <a:rPr b="1" lang="en-US" sz="3800" spc="-1" strike="noStrike">
                <a:solidFill>
                  <a:srgbClr val="fafd00"/>
                </a:solidFill>
                <a:latin typeface="Arial Narrow"/>
              </a:rPr>
              <a:t> </a:t>
            </a:r>
            <a:br>
              <a:rPr sz="4000"/>
            </a:b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1370160"/>
            <a:ext cx="967752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eparin fragments (e.g. </a:t>
            </a:r>
            <a:r>
              <a:rPr b="1" lang="en-US" sz="3200" spc="-1" strike="noStrike">
                <a:solidFill>
                  <a:srgbClr val="fdff65"/>
                </a:solidFill>
                <a:latin typeface="Arial Narrow"/>
              </a:rPr>
              <a:t>enoxaparin, dalteparin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)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ynthetic pentasaccharide (</a:t>
            </a:r>
            <a:r>
              <a:rPr b="1" lang="en-US" sz="3200" spc="-1" strike="noStrike">
                <a:solidFill>
                  <a:srgbClr val="fdff65"/>
                </a:solidFill>
                <a:latin typeface="Arial Narrow"/>
              </a:rPr>
              <a:t>fondaparinux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re used increasingly in place of unfractionated hepari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MWHs increase the action of antithrombin III on </a:t>
            </a:r>
            <a:r>
              <a:rPr b="1" lang="en-US" sz="3200" spc="-1" strike="noStrike">
                <a:solidFill>
                  <a:srgbClr val="92d050"/>
                </a:solidFill>
                <a:latin typeface="Arial Narrow"/>
              </a:rPr>
              <a:t>factor X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but not its action on </a:t>
            </a:r>
            <a:r>
              <a:rPr b="1" lang="en-US" sz="3200" spc="-1" strike="noStrike" u="sng">
                <a:solidFill>
                  <a:srgbClr val="92d050"/>
                </a:solidFill>
                <a:uFillTx/>
                <a:latin typeface="Arial Narrow"/>
              </a:rPr>
              <a:t>thrombin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, because the molecules are too small to bind to both enzyme and inhibito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57200" y="30312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d1c1"/>
                </a:solidFill>
                <a:latin typeface="Arial Narrow"/>
              </a:rPr>
              <a:t>Examples of LMWHs:</a:t>
            </a:r>
            <a:endParaRPr b="1" lang="en-US" sz="48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Narrow"/>
              </a:rPr>
              <a:t>Synthetic Heparin Derivatives</a:t>
            </a: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1665000"/>
            <a:ext cx="982980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34160" indent="-32508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cd1c1"/>
                </a:solidFill>
                <a:latin typeface="Arial Narrow"/>
              </a:rPr>
              <a:t>Fondaparinux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s a synthetic compound that inhibits factor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Arial Narrow"/>
              </a:rPr>
              <a:t>Xa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y antithrombin </a:t>
            </a:r>
            <a:r>
              <a:rPr b="1" lang="en-US" sz="4000" spc="-1" strike="noStrike" u="sng">
                <a:solidFill>
                  <a:srgbClr val="fcd1c1"/>
                </a:solidFill>
                <a:uFillTx/>
                <a:latin typeface="Arial Narrow"/>
              </a:rPr>
              <a:t>but does not inhibit </a:t>
            </a:r>
            <a:r>
              <a:rPr b="1" lang="en-US" sz="4000" spc="-1" strike="noStrike" u="sng">
                <a:solidFill>
                  <a:srgbClr val="92d050"/>
                </a:solidFill>
                <a:uFillTx/>
                <a:latin typeface="Arial Narrow"/>
              </a:rPr>
              <a:t>thrombin</a:t>
            </a:r>
            <a:r>
              <a:rPr b="1" lang="en-US" sz="4000" spc="-1" strike="noStrike" u="sng">
                <a:solidFill>
                  <a:srgbClr val="fcd1c1"/>
                </a:solidFill>
                <a:uFillTx/>
                <a:latin typeface="Arial Narrow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-325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Advantages: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-32508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Fondaparinux can be given once a day at a fixed dose without coagulation monitoring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34160" indent="-32508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Less likely than UFH or LMWHs to trigger HIT 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304920" y="1293840"/>
          <a:ext cx="9448560" cy="4759200"/>
        </p:xfrm>
        <a:graphic>
          <a:graphicData uri="http://schemas.openxmlformats.org/drawingml/2006/table">
            <a:tbl>
              <a:tblPr/>
              <a:tblGrid>
                <a:gridCol w="3105000"/>
                <a:gridCol w="2894040"/>
                <a:gridCol w="3449520"/>
              </a:tblGrid>
              <a:tr h="1031760"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Arial"/>
                        </a:rPr>
                        <a:t>Drug characteristics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b7a5"/>
                        </a:gs>
                        <a:gs pos="100000">
                          <a:srgbClr val="0055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Arial"/>
                        </a:rPr>
                        <a:t>Heparin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 Rounded MT Bold"/>
                          <a:ea typeface="Arial"/>
                        </a:rPr>
                        <a:t>(UFH) 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b00e4"/>
                        </a:gs>
                        <a:gs pos="100000">
                          <a:srgbClr val="39006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Arial Rounded MT Bold"/>
                          <a:ea typeface="Arial"/>
                        </a:rPr>
                        <a:t>LMWH</a:t>
                      </a:r>
                      <a:endParaRPr b="1" lang="en-US" sz="40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b00e4"/>
                        </a:gs>
                        <a:gs pos="100000">
                          <a:srgbClr val="39006a"/>
                        </a:gs>
                      </a:gsLst>
                      <a:lin ang="5400000"/>
                    </a:gradFill>
                  </a:tcPr>
                </a:tc>
              </a:tr>
              <a:tr h="1166040"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00"/>
                          </a:solidFill>
                          <a:latin typeface="Arial Rounded MT Bold"/>
                          <a:ea typeface="Arial"/>
                        </a:rPr>
                        <a:t>IV ½ life</a:t>
                      </a:r>
                      <a:endParaRPr b="1" lang="en-US" sz="27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7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b7a5"/>
                        </a:gs>
                        <a:gs pos="100000">
                          <a:srgbClr val="0055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hours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dff65"/>
                          </a:solidFill>
                          <a:latin typeface="Arial"/>
                          <a:ea typeface="Arial"/>
                        </a:rPr>
                        <a:t>4 hours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1240"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00"/>
                          </a:solidFill>
                          <a:latin typeface="Arial Rounded MT Bold"/>
                          <a:ea typeface="Arial"/>
                        </a:rPr>
                        <a:t>Bioavailability after SC injection</a:t>
                      </a:r>
                      <a:endParaRPr b="1" lang="en-US" sz="27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7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b7a5"/>
                        </a:gs>
                        <a:gs pos="100000">
                          <a:srgbClr val="0055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dff65"/>
                          </a:solidFill>
                          <a:latin typeface="Arial"/>
                          <a:ea typeface="Arial"/>
                        </a:rPr>
                        <a:t>90%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6040"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Rounded MT Bold"/>
                          <a:ea typeface="Arial"/>
                        </a:rPr>
                        <a:t>Anticoagulant response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b7a5"/>
                        </a:gs>
                        <a:gs pos="100000">
                          <a:srgbClr val="0055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able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dff65"/>
                          </a:solidFill>
                          <a:latin typeface="Arial"/>
                          <a:ea typeface="Arial"/>
                        </a:rPr>
                        <a:t>Predictable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Rectangle 1"/>
          <p:cNvSpPr/>
          <p:nvPr/>
        </p:nvSpPr>
        <p:spPr>
          <a:xfrm>
            <a:off x="380880" y="41904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Differences between UFH and LMW Heparins</a:t>
            </a:r>
            <a:endParaRPr b="1" lang="en-US" sz="40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380880" y="419040"/>
          <a:ext cx="9204480" cy="6135840"/>
        </p:xfrm>
        <a:graphic>
          <a:graphicData uri="http://schemas.openxmlformats.org/drawingml/2006/table">
            <a:tbl>
              <a:tblPr/>
              <a:tblGrid>
                <a:gridCol w="2971800"/>
                <a:gridCol w="3189240"/>
                <a:gridCol w="3043440"/>
              </a:tblGrid>
              <a:tr h="1884960"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Rounded MT Bold"/>
                          <a:ea typeface="Arial"/>
                        </a:rPr>
                        <a:t>Major adverse effect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b7a5"/>
                        </a:gs>
                        <a:gs pos="100000">
                          <a:srgbClr val="0055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equent bleeding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T, osteoporosis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ss frequent bleeding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ss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8920"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Rounded MT Bold"/>
                          <a:ea typeface="Arial"/>
                        </a:rPr>
                        <a:t>Specific antagonist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b7a5"/>
                        </a:gs>
                        <a:gs pos="100000">
                          <a:srgbClr val="0055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tamine sulphate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dff65"/>
                          </a:solidFill>
                          <a:latin typeface="Arial"/>
                          <a:ea typeface="Arial"/>
                        </a:rPr>
                        <a:t>-Incomplete-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4200"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Rounded MT Bold"/>
                          <a:ea typeface="Arial"/>
                        </a:rPr>
                        <a:t>Setting for therapy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b7a5"/>
                        </a:gs>
                        <a:gs pos="100000">
                          <a:srgbClr val="0055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tal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dff65"/>
                          </a:solidFill>
                          <a:latin typeface="Arial"/>
                          <a:ea typeface="Arial"/>
                        </a:rPr>
                        <a:t>Hospital and OPC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7760"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 Rounded MT Bold"/>
                          <a:ea typeface="Arial"/>
                        </a:rPr>
                        <a:t>Laboratory monitoring</a:t>
                      </a:r>
                      <a:endParaRPr b="1" lang="en-US" sz="32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b7a5"/>
                        </a:gs>
                        <a:gs pos="100000">
                          <a:srgbClr val="00554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eded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PTT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100440" rIns="100440" tIns="44640" bIns="44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dff65"/>
                          </a:solidFill>
                          <a:latin typeface="Arial"/>
                          <a:ea typeface="Arial"/>
                        </a:rPr>
                        <a:t>Not needed</a:t>
                      </a:r>
                      <a:endParaRPr b="1" lang="en-US" sz="2800" spc="-1" strike="noStrike">
                        <a:solidFill>
                          <a:srgbClr val="00b7a5"/>
                        </a:solidFill>
                        <a:latin typeface="Arial Narrow"/>
                      </a:endParaRPr>
                    </a:p>
                  </a:txBody>
                  <a:tcPr anchor="t" marL="100440" marR="100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103140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Advantages of LMWHs over UFH </a:t>
            </a:r>
            <a:br>
              <a:rPr sz="5400"/>
            </a:b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600" y="1665000"/>
            <a:ext cx="967752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38840" indent="-3283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e theoretical pharmacologic advantages of LMWH over UFH arise from the preferential binding ratio to </a:t>
            </a:r>
            <a:r>
              <a:rPr b="1" lang="en-US" sz="2800" spc="-1" strike="noStrike">
                <a:solidFill>
                  <a:srgbClr val="92d050"/>
                </a:solidFill>
                <a:latin typeface="Arial Narrow"/>
              </a:rPr>
              <a:t>factor Xa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ver thrombi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-3283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e convenience of once- or twice- daily subcutaneous injections </a:t>
            </a:r>
            <a:r>
              <a:rPr b="1" lang="en-US" sz="2800" spc="-1" strike="noStrike">
                <a:solidFill>
                  <a:srgbClr val="92d050"/>
                </a:solidFill>
                <a:latin typeface="Arial Narrow"/>
              </a:rPr>
              <a:t>without regular coagulation monitoring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ue to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-3283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ore predictable respons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-3283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ong plasma half-life and improved bioavailabilit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-3283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ess plasma protein bind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-328320"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ess platelet activation and lower risk of re-thrombosis and thrombocytopeni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1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6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0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2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8" dur="2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2" dur="2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Calibri"/>
                <a:ea typeface="Times New Roman"/>
              </a:rPr>
              <a:t>Direct thrombin inhibitors (DTIs)</a:t>
            </a:r>
            <a:endParaRPr b="1" lang="en-US" sz="5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8600" y="1665000"/>
            <a:ext cx="93772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DTIs  exert  their anticoagulant effect by 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direct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binding to thrombin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is direct effect is </a:t>
            </a:r>
            <a:r>
              <a:rPr b="1" lang="en-US" sz="4000" spc="-1" strike="noStrike">
                <a:solidFill>
                  <a:srgbClr val="fdff65"/>
                </a:solidFill>
                <a:latin typeface="Arial Narrow"/>
              </a:rPr>
              <a:t>rapid and potent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DTIs are </a:t>
            </a:r>
            <a:r>
              <a:rPr b="1" lang="en-US" sz="4000" spc="-1" strike="noStrike">
                <a:solidFill>
                  <a:srgbClr val="92d050"/>
                </a:solidFill>
                <a:latin typeface="Arial Narrow"/>
              </a:rPr>
              <a:t>not associated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ith the development of thrombocytopenia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1825200"/>
            <a:ext cx="9753480" cy="58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Anticoagulant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 prevent thrombus  formation and extension by inhibit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clotting factors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e.g. heparin, low molecular weight heparin, coumarins/ warfarin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Antiplatelet drug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 reduce risk of clot formation by inhibit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platelet functions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e.g. aspirin and ticlopidine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Fibrinolytic agent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 dissolve thrombi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already formed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e.g. streptokinase.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313920" y="603360"/>
            <a:ext cx="469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Drugs and coagulation</a:t>
            </a:r>
            <a:endParaRPr b="1" lang="en-US" sz="40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200" spc="-1" strike="noStrike">
                <a:solidFill>
                  <a:srgbClr val="ffff00"/>
                </a:solidFill>
                <a:latin typeface="Calibri"/>
                <a:ea typeface="Times New Roman"/>
              </a:rPr>
              <a:t>Direct thrombin inhibitors (DTIs)</a:t>
            </a:r>
            <a:endParaRPr b="1" lang="en-US" sz="52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28600" y="1598400"/>
            <a:ext cx="93772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40200" indent="-25452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e first DTI to be developed was </a:t>
            </a:r>
            <a:r>
              <a:rPr b="1" lang="en-US" sz="4000" spc="-1" strike="noStrike">
                <a:solidFill>
                  <a:srgbClr val="fcd1c1"/>
                </a:solidFill>
                <a:latin typeface="Arial Narrow"/>
              </a:rPr>
              <a:t>hirudin,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ich was isolated from the saliva of the leech  (</a:t>
            </a:r>
            <a:r>
              <a:rPr b="0" lang="ar-AE" sz="4000" spc="-1" strike="noStrike">
                <a:solidFill>
                  <a:srgbClr val="ffffff"/>
                </a:solidFill>
                <a:latin typeface="Arial Narrow"/>
              </a:rPr>
              <a:t>علقة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0200" indent="-25452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Arial Narrow"/>
              </a:rPr>
              <a:t>Lepirudin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is a polypeptide that binds </a:t>
            </a:r>
            <a:r>
              <a:rPr b="1" lang="en-US" sz="4000" spc="-1" strike="noStrike">
                <a:solidFill>
                  <a:srgbClr val="fdff65"/>
                </a:solidFill>
                <a:latin typeface="Arial Narrow"/>
              </a:rPr>
              <a:t>directly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to the active site of  thrombin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0200" indent="-25452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Recombinant  hirudin “Lepirudin”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s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used as IV anticoagulant in patients with HIT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0200" indent="-254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0200" indent="-2545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Oval 4"/>
          <p:cNvSpPr/>
          <p:nvPr/>
        </p:nvSpPr>
        <p:spPr>
          <a:xfrm>
            <a:off x="5978520" y="3421080"/>
            <a:ext cx="2536920" cy="1477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457200" y="2754360"/>
            <a:ext cx="9144000" cy="1968480"/>
          </a:xfrm>
          <a:prstGeom prst="bevel">
            <a:avLst>
              <a:gd name="adj" fmla="val 7500"/>
            </a:avLst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Narrow"/>
              </a:rPr>
              <a:t>Oral Anticoagulants </a:t>
            </a:r>
            <a:endParaRPr b="1" lang="en-US" sz="60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n-US" sz="6000" spc="-1" strike="noStrike">
                <a:solidFill>
                  <a:srgbClr val="ff0000"/>
                </a:solidFill>
                <a:latin typeface="Arial Narrow"/>
              </a:rPr>
              <a:t>Vitamin K antagonists”</a:t>
            </a:r>
            <a:endParaRPr b="1" lang="en-US" sz="60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1341360" y="298440"/>
            <a:ext cx="72914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2133720" y="3351240"/>
            <a:ext cx="510516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dissolv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Narrow"/>
              </a:rPr>
              <a:t>Vitamin K (Fat soluble vitamin)</a:t>
            </a: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555920"/>
            <a:ext cx="10058400" cy="47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07520" indent="-30492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ource of vitamin K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Green vegetable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      Synthesized by intestinal flora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64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07520" indent="-30492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Required for synthesi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 Narrow"/>
              </a:rPr>
              <a:t>Factor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II, VII, IX ,X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otein C and S  (endogenous       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7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nticoagulants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64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07520" indent="-30492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auses of deficiency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Malnutrition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7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Malabsorption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Antibiotic therap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7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407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1" descr="&#9;Liver.tif                                                      00004B6F&#9;PowerRAID                      B2B1273F:"/>
          <p:cNvPicPr/>
          <p:nvPr/>
        </p:nvPicPr>
        <p:blipFill>
          <a:blip r:embed="rId1"/>
          <a:stretch/>
        </p:blipFill>
        <p:spPr>
          <a:xfrm>
            <a:off x="1733400" y="1892160"/>
            <a:ext cx="5494320" cy="40514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0" y="2185920"/>
            <a:ext cx="1996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4362"/>
                </a:solidFill>
                <a:latin typeface="Arial Narrow"/>
              </a:rPr>
              <a:t>Vitamin K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7924680" y="3233880"/>
            <a:ext cx="1998720" cy="1623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ynthesis of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functional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agulation factors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7315200" y="3057480"/>
            <a:ext cx="60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II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7315200" y="3541680"/>
            <a:ext cx="60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VII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7315200" y="4037040"/>
            <a:ext cx="60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IX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315200" y="4533840"/>
            <a:ext cx="60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X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 Narrow"/>
              </a:rPr>
              <a:t>Vitamin K-Dependent Clotting Factors</a:t>
            </a:r>
            <a:endParaRPr b="1" lang="en-US" sz="4400" spc="-1" strike="noStrike">
              <a:solidFill>
                <a:srgbClr val="fafd00"/>
              </a:solidFill>
              <a:latin typeface="Arial Narrow"/>
            </a:endParaRPr>
          </a:p>
        </p:txBody>
      </p:sp>
      <p:cxnSp>
        <p:nvCxnSpPr>
          <p:cNvPr id="263" name="AutoShape 14"/>
          <p:cNvCxnSpPr>
            <a:stCxn id="256" idx="2"/>
          </p:cNvCxnSpPr>
          <p:nvPr/>
        </p:nvCxnSpPr>
        <p:spPr>
          <a:xfrm flipH="1" rot="16200000">
            <a:off x="1535040" y="2293560"/>
            <a:ext cx="748440" cy="1821600"/>
          </a:xfrm>
          <a:prstGeom prst="bentConnector2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264" name="Rectangle 15"/>
          <p:cNvSpPr/>
          <p:nvPr/>
        </p:nvSpPr>
        <p:spPr>
          <a:xfrm>
            <a:off x="5257800" y="387360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cxnSp>
        <p:nvCxnSpPr>
          <p:cNvPr id="265" name="AutoShape 17"/>
          <p:cNvCxnSpPr>
            <a:stCxn id="264" idx="3"/>
            <a:endCxn id="259" idx="1"/>
          </p:cNvCxnSpPr>
          <p:nvPr/>
        </p:nvCxnSpPr>
        <p:spPr>
          <a:xfrm flipV="1">
            <a:off x="6019920" y="3801600"/>
            <a:ext cx="1296000" cy="224640"/>
          </a:xfrm>
          <a:prstGeom prst="bentConnector3">
            <a:avLst>
              <a:gd name="adj1" fmla="val 49986"/>
            </a:avLst>
          </a:prstGeom>
          <a:ln w="28440">
            <a:solidFill>
              <a:srgbClr val="fafd00"/>
            </a:solidFill>
            <a:miter/>
            <a:tailEnd len="med" type="triangle" w="med"/>
          </a:ln>
        </p:spPr>
      </p:cxnSp>
      <p:cxnSp>
        <p:nvCxnSpPr>
          <p:cNvPr id="266" name="AutoShape 18"/>
          <p:cNvCxnSpPr>
            <a:stCxn id="264" idx="3"/>
            <a:endCxn id="258" idx="1"/>
          </p:cNvCxnSpPr>
          <p:nvPr/>
        </p:nvCxnSpPr>
        <p:spPr>
          <a:xfrm flipV="1">
            <a:off x="6019920" y="3317040"/>
            <a:ext cx="1296000" cy="708840"/>
          </a:xfrm>
          <a:prstGeom prst="bentConnector3">
            <a:avLst>
              <a:gd name="adj1" fmla="val 49986"/>
            </a:avLst>
          </a:prstGeom>
          <a:ln w="28440">
            <a:solidFill>
              <a:srgbClr val="fafd00"/>
            </a:solidFill>
            <a:miter/>
            <a:tailEnd len="med" type="triangle" w="med"/>
          </a:ln>
        </p:spPr>
      </p:cxnSp>
      <p:cxnSp>
        <p:nvCxnSpPr>
          <p:cNvPr id="267" name="AutoShape 19"/>
          <p:cNvCxnSpPr>
            <a:stCxn id="264" idx="3"/>
            <a:endCxn id="260" idx="1"/>
          </p:cNvCxnSpPr>
          <p:nvPr/>
        </p:nvCxnSpPr>
        <p:spPr>
          <a:xfrm>
            <a:off x="6019920" y="4025880"/>
            <a:ext cx="1296000" cy="272160"/>
          </a:xfrm>
          <a:prstGeom prst="bentConnector3">
            <a:avLst>
              <a:gd name="adj1" fmla="val 49986"/>
            </a:avLst>
          </a:prstGeom>
          <a:ln w="28440">
            <a:solidFill>
              <a:srgbClr val="fafd00"/>
            </a:solidFill>
            <a:miter/>
            <a:tailEnd len="med" type="triangle" w="med"/>
          </a:ln>
        </p:spPr>
      </p:cxnSp>
      <p:cxnSp>
        <p:nvCxnSpPr>
          <p:cNvPr id="268" name="AutoShape 20"/>
          <p:cNvCxnSpPr>
            <a:stCxn id="264" idx="3"/>
            <a:endCxn id="261" idx="1"/>
          </p:cNvCxnSpPr>
          <p:nvPr/>
        </p:nvCxnSpPr>
        <p:spPr>
          <a:xfrm>
            <a:off x="6019920" y="4025880"/>
            <a:ext cx="1296000" cy="768960"/>
          </a:xfrm>
          <a:prstGeom prst="bentConnector3">
            <a:avLst>
              <a:gd name="adj1" fmla="val 49986"/>
            </a:avLst>
          </a:prstGeom>
          <a:ln w="284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269" name="Text Box 6"/>
          <p:cNvSpPr/>
          <p:nvPr/>
        </p:nvSpPr>
        <p:spPr>
          <a:xfrm>
            <a:off x="6980400" y="5332320"/>
            <a:ext cx="2849400" cy="947160"/>
          </a:xfrm>
          <a:prstGeom prst="rect">
            <a:avLst/>
          </a:prstGeom>
          <a:solidFill>
            <a:srgbClr val="00b7a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otein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and Protein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S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push dir="u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Narrow"/>
              </a:rPr>
              <a:t>Warfarin: Mechanism of action</a:t>
            </a:r>
            <a:endParaRPr b="1" lang="en-US" sz="5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441360" y="2063880"/>
            <a:ext cx="2286000" cy="1595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active clotting factors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( II, VII, IX, X )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2895480" y="2360520"/>
            <a:ext cx="4023000" cy="520920"/>
          </a:xfrm>
          <a:prstGeom prst="rightArrow">
            <a:avLst>
              <a:gd name="adj1" fmla="val 50000"/>
              <a:gd name="adj2" fmla="val 171548"/>
            </a:avLst>
          </a:prstGeom>
          <a:solidFill>
            <a:srgbClr val="00b7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7238880" y="2208240"/>
            <a:ext cx="2264040" cy="9471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ctive clotting factors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3276720" y="2817720"/>
            <a:ext cx="2971800" cy="533520"/>
          </a:xfrm>
          <a:custGeom>
            <a:avLst/>
            <a:gdLst>
              <a:gd name="textAreaLeft" fmla="*/ 597960 w 2971800"/>
              <a:gd name="textAreaRight" fmla="*/ 2180520 w 29718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92" hR="21600" stAng="10800000" swAng="5400000"/>
                <a:lnTo>
                  <a:pt x="11502" y="0"/>
                </a:lnTo>
                <a:arcTo wR="8692" hR="21600" stAng="-5400000" swAng="2415243"/>
                <a:lnTo>
                  <a:pt x="20758" y="12328"/>
                </a:lnTo>
                <a:lnTo>
                  <a:pt x="18789" y="21600"/>
                </a:lnTo>
                <a:lnTo>
                  <a:pt x="15136" y="12328"/>
                </a:lnTo>
                <a:lnTo>
                  <a:pt x="16542" y="12328"/>
                </a:lnTo>
                <a:arcTo wR="8692" hR="21600" stAng="-2984757" swAng="-2188978"/>
                <a:lnTo>
                  <a:pt x="10097" y="284"/>
                </a:lnTo>
                <a:arcTo wR="8692" hR="21600" stAng="-5626265" swAng="-5173735"/>
                <a:close/>
              </a:path>
              <a:path fill="darkenLess" w="21600" h="21600">
                <a:moveTo>
                  <a:pt x="0" y="21600"/>
                </a:moveTo>
                <a:arcTo wR="8692" hR="21600" stAng="10800000" swAng="5400000"/>
                <a:lnTo>
                  <a:pt x="8692" y="0"/>
                </a:lnTo>
                <a:arcTo wR="8692" hR="21600" stAng="-5400000" swAng="226265"/>
                <a:lnTo>
                  <a:pt x="10097" y="284"/>
                </a:lnTo>
                <a:arcTo wR="8692" hR="21600" stAng="-5626265" swAng="-5173735"/>
                <a:close/>
              </a:path>
            </a:pathLst>
          </a:custGeom>
          <a:solidFill>
            <a:srgbClr val="00b7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819520" y="3503520"/>
            <a:ext cx="16761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Vitamin K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5410080" y="3427560"/>
            <a:ext cx="23623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poxide form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77" name="AutoShape 16"/>
          <p:cNvSpPr/>
          <p:nvPr/>
        </p:nvSpPr>
        <p:spPr>
          <a:xfrm rot="10800000">
            <a:off x="3048120" y="4113000"/>
            <a:ext cx="3184560" cy="595080"/>
          </a:xfrm>
          <a:custGeom>
            <a:avLst/>
            <a:gdLst>
              <a:gd name="textAreaLeft" fmla="*/ 583920 w 3184560"/>
              <a:gd name="textAreaRight" fmla="*/ 2317680 w 3184560"/>
              <a:gd name="textAreaTop" fmla="*/ 79560 h 595080"/>
              <a:gd name="textAreaBottom" fmla="*/ 515520 h 59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22" hR="21600" stAng="10800000" swAng="5400000"/>
                <a:lnTo>
                  <a:pt x="11760" y="0"/>
                </a:lnTo>
                <a:arcTo wR="7922" hR="21600" stAng="-5400000" swAng="2762911"/>
                <a:lnTo>
                  <a:pt x="21147" y="14400"/>
                </a:lnTo>
                <a:lnTo>
                  <a:pt x="17762" y="21600"/>
                </a:lnTo>
                <a:lnTo>
                  <a:pt x="13471" y="14400"/>
                </a:lnTo>
                <a:lnTo>
                  <a:pt x="15390" y="14400"/>
                </a:lnTo>
                <a:arcTo wR="7922" hR="21600" stAng="-2637089" swAng="-2448991"/>
                <a:lnTo>
                  <a:pt x="9841" y="643"/>
                </a:lnTo>
                <a:arcTo wR="7922" hR="21600" stAng="-5713920" swAng="-5086080"/>
                <a:close/>
              </a:path>
              <a:path fill="darkenLess" w="21600" h="21600">
                <a:moveTo>
                  <a:pt x="0" y="21600"/>
                </a:moveTo>
                <a:arcTo wR="7922" hR="21600" stAng="10800000" swAng="5400000"/>
                <a:lnTo>
                  <a:pt x="7922" y="0"/>
                </a:lnTo>
                <a:arcTo wR="7922" hR="21600" stAng="-5400000" swAng="313920"/>
                <a:lnTo>
                  <a:pt x="9841" y="643"/>
                </a:lnTo>
                <a:arcTo wR="7922" hR="21600" stAng="-5713920" swAng="-5086080"/>
                <a:close/>
              </a:path>
            </a:pathLst>
          </a:custGeom>
          <a:solidFill>
            <a:srgbClr val="00b7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3429000" y="4799160"/>
            <a:ext cx="28494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Epoxide reductase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250920" y="5332320"/>
            <a:ext cx="9472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ff00"/>
                </a:solidFill>
                <a:latin typeface="Arial Narrow"/>
              </a:rPr>
              <a:t>Warfarin inhibits the synthesis of biologically active forms of 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ff00"/>
                </a:solidFill>
                <a:latin typeface="Arial Narrow"/>
              </a:rPr>
              <a:t>vitamin K-dependent clotting factors II, VII, IX and X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80" name="Lightning Bolt 1"/>
          <p:cNvSpPr/>
          <p:nvPr/>
        </p:nvSpPr>
        <p:spPr>
          <a:xfrm rot="20052000">
            <a:off x="2041560" y="4390560"/>
            <a:ext cx="1251000" cy="911160"/>
          </a:xfrm>
          <a:prstGeom prst="lightningBol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24480" y="3879720"/>
            <a:ext cx="203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7a5"/>
                </a:solidFill>
                <a:latin typeface="Times New Roman"/>
                <a:ea typeface="SimSun"/>
              </a:rPr>
              <a:t>Warfarin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82" name="Minus 3"/>
          <p:cNvSpPr/>
          <p:nvPr/>
        </p:nvSpPr>
        <p:spPr>
          <a:xfrm>
            <a:off x="660240" y="4411800"/>
            <a:ext cx="762120" cy="473040"/>
          </a:xfrm>
          <a:custGeom>
            <a:avLst/>
            <a:gdLst/>
            <a:ahLst/>
            <a:rect l="l" t="t" r="r" b="b"/>
            <a:pathLst>
              <a:path w="762000" h="473075">
                <a:moveTo>
                  <a:pt x="101003" y="180904"/>
                </a:moveTo>
                <a:lnTo>
                  <a:pt x="660997" y="180904"/>
                </a:lnTo>
                <a:lnTo>
                  <a:pt x="660997" y="292171"/>
                </a:lnTo>
                <a:lnTo>
                  <a:pt x="101003" y="292171"/>
                </a:lnTo>
                <a:lnTo>
                  <a:pt x="101003" y="180904"/>
                </a:lnTo>
                <a:close/>
              </a:path>
            </a:pathLst>
          </a:cu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3429000" y="4341960"/>
            <a:ext cx="2849400" cy="9471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otein C and protein S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dissolve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268200"/>
            <a:ext cx="9051840" cy="62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 Narrow"/>
              </a:rPr>
              <a:t>Mechanism of Action of Warfarin</a:t>
            </a:r>
            <a:endParaRPr b="1" lang="en-US" sz="36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2920" y="1339920"/>
            <a:ext cx="9304200" cy="49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nhibits synthesis of Vitamin K-dependent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coagulation factors II, VII, IX, &amp; X as well as anticoagulant proteins C &amp; 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 Narrow"/>
              </a:rPr>
              <a:t>3-4 days until effect is seen ??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dff65"/>
                </a:solidFill>
                <a:latin typeface="Arial Narrow"/>
              </a:rPr>
              <a:t>Does not have any effect on already-synthesized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coagulation factors; therefore, the therapeutic effects are not seen until these factors are depleted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98856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umarins: Warfarin </a:t>
            </a:r>
            <a:br>
              <a:rPr sz="4000"/>
            </a:b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2280" y="1445760"/>
            <a:ext cx="945360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65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ct only 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in vivo 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ioavailability 100%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98% bound to plasma proteins (albumin)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Monitoring anticoagulant  effect of warfarin by measuring PT, which is expressed as an 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International Normalized Ratio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INR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)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25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25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25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6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25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98856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umarins: Warfarin </a:t>
            </a:r>
            <a:br>
              <a:rPr sz="4000"/>
            </a:b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280" y="1445760"/>
            <a:ext cx="945360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11840" indent="-308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heir effect takes several days (3-4 ) to develop because of the time taken for degradation of circulating </a:t>
            </a:r>
            <a:r>
              <a:rPr b="1" lang="en-US" sz="3600" spc="-1" strike="noStrike">
                <a:solidFill>
                  <a:srgbClr val="92d050"/>
                </a:solidFill>
                <a:latin typeface="Arial Narrow"/>
              </a:rPr>
              <a:t>functional clotting factors 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11840" indent="-308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herefore the onset of action starts when these factors have been eliminated 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11840" indent="-308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Warfarin has a slow offset of action due to the time required for synthesis of new, </a:t>
            </a:r>
            <a:r>
              <a:rPr b="1" lang="en-US" sz="3600" spc="-1" strike="noStrike">
                <a:solidFill>
                  <a:srgbClr val="92d050"/>
                </a:solidFill>
                <a:latin typeface="Arial Narrow"/>
              </a:rPr>
              <a:t>functional coagulation factors</a:t>
            </a:r>
            <a:br>
              <a:rPr sz="3600"/>
            </a:br>
            <a:r>
              <a:rPr b="1" lang="en-US" sz="3600" spc="-1" strike="noStrike">
                <a:solidFill>
                  <a:srgbClr val="92d05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11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25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7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25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25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 Narrow"/>
              </a:rPr>
              <a:t>Disadvantages of Warfarin therapy</a:t>
            </a: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Variable, unpredictable effect necessitating </a:t>
            </a:r>
            <a:r>
              <a:rPr b="1" lang="en-US" sz="3200" spc="-1" strike="noStrike">
                <a:solidFill>
                  <a:srgbClr val="fdff65"/>
                </a:solidFill>
                <a:latin typeface="Arial Narrow"/>
              </a:rPr>
              <a:t>regular INR monitoring and dose adjustment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Narrow therapeutic window leading to </a:t>
            </a:r>
            <a:r>
              <a:rPr b="1" lang="en-US" sz="3200" spc="-1" strike="noStrike">
                <a:solidFill>
                  <a:srgbClr val="fdff65"/>
                </a:solidFill>
                <a:latin typeface="Arial Narrow"/>
              </a:rPr>
              <a:t>increased risk of severe bleeding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dff65"/>
                </a:solidFill>
                <a:latin typeface="Arial Narrow"/>
              </a:rPr>
              <a:t>Slow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nset and offset of action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dff65"/>
                </a:solidFill>
                <a:latin typeface="Arial Narrow"/>
              </a:rPr>
              <a:t>Numerous interaction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with foods containing vitamin K  and drug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25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8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25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25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9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25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iped Right Arrow 21"/>
          <p:cNvSpPr/>
          <p:nvPr/>
        </p:nvSpPr>
        <p:spPr>
          <a:xfrm rot="16200000">
            <a:off x="6599160" y="860040"/>
            <a:ext cx="4319640" cy="2598840"/>
          </a:xfrm>
          <a:custGeom>
            <a:avLst/>
            <a:gdLst/>
            <a:ahLst/>
            <a:rect l="l" t="t" r="r" b="b"/>
            <a:pathLst>
              <a:path w="4319588" h="2598737">
                <a:moveTo>
                  <a:pt x="0" y="1051540"/>
                </a:moveTo>
                <a:lnTo>
                  <a:pt x="81211" y="1051540"/>
                </a:lnTo>
                <a:lnTo>
                  <a:pt x="81211" y="1547197"/>
                </a:lnTo>
                <a:lnTo>
                  <a:pt x="0" y="1547197"/>
                </a:lnTo>
                <a:lnTo>
                  <a:pt x="0" y="1051540"/>
                </a:lnTo>
                <a:close/>
                <a:moveTo>
                  <a:pt x="162421" y="1051540"/>
                </a:moveTo>
                <a:lnTo>
                  <a:pt x="324842" y="1051540"/>
                </a:lnTo>
                <a:lnTo>
                  <a:pt x="324842" y="1547197"/>
                </a:lnTo>
                <a:lnTo>
                  <a:pt x="162421" y="1547197"/>
                </a:lnTo>
                <a:lnTo>
                  <a:pt x="162421" y="1051540"/>
                </a:lnTo>
                <a:close/>
                <a:moveTo>
                  <a:pt x="406053" y="1051540"/>
                </a:moveTo>
                <a:lnTo>
                  <a:pt x="2979549" y="1051540"/>
                </a:lnTo>
                <a:lnTo>
                  <a:pt x="2979549" y="0"/>
                </a:lnTo>
                <a:lnTo>
                  <a:pt x="4319588" y="1299369"/>
                </a:lnTo>
                <a:lnTo>
                  <a:pt x="2979549" y="2598737"/>
                </a:lnTo>
                <a:lnTo>
                  <a:pt x="2979549" y="1547197"/>
                </a:lnTo>
                <a:lnTo>
                  <a:pt x="406053" y="1547197"/>
                </a:lnTo>
                <a:lnTo>
                  <a:pt x="406053" y="1051540"/>
                </a:lnTo>
                <a:close/>
              </a:path>
            </a:pathLst>
          </a:custGeom>
          <a:gradFill rotWithShape="0">
            <a:gsLst>
              <a:gs pos="0">
                <a:srgbClr val="b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93" name="Rectangle 19"/>
          <p:cNvSpPr/>
          <p:nvPr/>
        </p:nvSpPr>
        <p:spPr>
          <a:xfrm>
            <a:off x="250920" y="223920"/>
            <a:ext cx="7597800" cy="520560"/>
          </a:xfrm>
          <a:prstGeom prst="rect">
            <a:avLst/>
          </a:prstGeom>
          <a:solidFill>
            <a:srgbClr val="00279f"/>
          </a:solidFill>
          <a:ln w="9360">
            <a:solidFill>
              <a:srgbClr val="ffffff"/>
            </a:solidFill>
            <a:miter/>
          </a:ln>
          <a:effectLst>
            <a:outerShdw dist="45691" dir="4439555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Drug interactions with oral anticoagulants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94" name="TextBox 20"/>
          <p:cNvSpPr/>
          <p:nvPr/>
        </p:nvSpPr>
        <p:spPr>
          <a:xfrm>
            <a:off x="168120" y="795240"/>
            <a:ext cx="9639360" cy="338580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. Inhibition of Vit. K synthesis by intestinal flora; </a:t>
            </a: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oral antibiotics</a:t>
            </a:r>
            <a:r>
              <a:rPr b="1" lang="en-US" sz="2400" spc="-1" strike="noStrike">
                <a:solidFill>
                  <a:srgbClr val="00279f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. Inhibition of Vit K absorption; </a:t>
            </a: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liquid paraffin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3. Decrease in drug metabolism by microsomal enzyme inhibitors;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chloramphenicol, &amp; cimetidine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4. Displacment of the drug from protein binding sites; </a:t>
            </a:r>
            <a:br>
              <a:rPr sz="2400"/>
            </a:br>
            <a:r>
              <a:rPr b="1" lang="en-US" sz="2400" spc="-1" strike="noStrike">
                <a:solidFill>
                  <a:srgbClr val="00b7a5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phenylbutazone &amp; salicylates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5. Co-administration of drugs that increase bleeding tendency by;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hibiting platelet function;</a:t>
            </a:r>
            <a:r>
              <a:rPr b="1" lang="en-US" sz="2400" spc="-1" strike="noStrike">
                <a:solidFill>
                  <a:srgbClr val="00279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NSAIDs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heparin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95" name="Striped Right Arrow 26"/>
          <p:cNvSpPr/>
          <p:nvPr/>
        </p:nvSpPr>
        <p:spPr>
          <a:xfrm flipV="1" rot="5400000">
            <a:off x="7779600" y="4320360"/>
            <a:ext cx="1985760" cy="2432160"/>
          </a:xfrm>
          <a:custGeom>
            <a:avLst/>
            <a:gdLst/>
            <a:ahLst/>
            <a:rect l="l" t="t" r="r" b="b"/>
            <a:pathLst>
              <a:path w="1985963" h="2432050">
                <a:moveTo>
                  <a:pt x="0" y="980372"/>
                </a:moveTo>
                <a:lnTo>
                  <a:pt x="62061" y="980372"/>
                </a:lnTo>
                <a:lnTo>
                  <a:pt x="62061" y="1451678"/>
                </a:lnTo>
                <a:lnTo>
                  <a:pt x="0" y="1451678"/>
                </a:lnTo>
                <a:lnTo>
                  <a:pt x="0" y="980372"/>
                </a:lnTo>
                <a:close/>
                <a:moveTo>
                  <a:pt x="124123" y="980372"/>
                </a:moveTo>
                <a:lnTo>
                  <a:pt x="248245" y="980372"/>
                </a:lnTo>
                <a:lnTo>
                  <a:pt x="248245" y="1451678"/>
                </a:lnTo>
                <a:lnTo>
                  <a:pt x="124123" y="1451678"/>
                </a:lnTo>
                <a:lnTo>
                  <a:pt x="124123" y="980372"/>
                </a:lnTo>
                <a:close/>
                <a:moveTo>
                  <a:pt x="310307" y="980372"/>
                </a:moveTo>
                <a:lnTo>
                  <a:pt x="992982" y="980372"/>
                </a:lnTo>
                <a:lnTo>
                  <a:pt x="992982" y="0"/>
                </a:lnTo>
                <a:lnTo>
                  <a:pt x="1985963" y="1216025"/>
                </a:lnTo>
                <a:lnTo>
                  <a:pt x="992982" y="2432050"/>
                </a:lnTo>
                <a:lnTo>
                  <a:pt x="992982" y="1451678"/>
                </a:lnTo>
                <a:lnTo>
                  <a:pt x="310307" y="1451678"/>
                </a:lnTo>
                <a:lnTo>
                  <a:pt x="310307" y="980372"/>
                </a:lnTo>
                <a:close/>
              </a:path>
            </a:pathLst>
          </a:custGeom>
          <a:gradFill rotWithShape="0">
            <a:gsLst>
              <a:gs pos="0">
                <a:srgbClr val="b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96" name="TextBox 25"/>
          <p:cNvSpPr/>
          <p:nvPr/>
        </p:nvSpPr>
        <p:spPr>
          <a:xfrm>
            <a:off x="168120" y="4646520"/>
            <a:ext cx="9555480" cy="1557000"/>
          </a:xfrm>
          <a:prstGeom prst="rect">
            <a:avLst/>
          </a:prstGeom>
          <a:solidFill>
            <a:srgbClr val="000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. Inhibition of drug absorption from GIT</a:t>
            </a:r>
            <a:r>
              <a:rPr b="1" lang="en-US" sz="2400" spc="-1" strike="noStrike">
                <a:solidFill>
                  <a:srgbClr val="00279f"/>
                </a:solidFill>
                <a:latin typeface="Arial Narrow"/>
              </a:rPr>
              <a:t>;  </a:t>
            </a: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cholystyramine, colestipol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. Increase in synthesis of clotting factors</a:t>
            </a:r>
            <a:r>
              <a:rPr b="1" lang="en-US" sz="2400" spc="-1" strike="noStrike">
                <a:solidFill>
                  <a:srgbClr val="00279f"/>
                </a:solidFill>
                <a:latin typeface="Arial Narrow"/>
              </a:rPr>
              <a:t>; </a:t>
            </a: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Vit K, oral contraceptives   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3. Increase in drug metabolism by microsomal enzyme inducers; </a:t>
            </a:r>
            <a:r>
              <a:rPr b="1" lang="en-US" sz="2400" spc="-1" strike="noStrike">
                <a:solidFill>
                  <a:srgbClr val="ffc000"/>
                </a:solidFill>
                <a:latin typeface="Arial Narrow"/>
              </a:rPr>
              <a:t>Carbamazepine</a:t>
            </a:r>
            <a:r>
              <a:rPr b="1" lang="en-US" sz="2400" spc="-1" strike="noStrike">
                <a:solidFill>
                  <a:srgbClr val="00279f"/>
                </a:solidFill>
                <a:latin typeface="Arial Narrow"/>
              </a:rPr>
              <a:t>; </a:t>
            </a:r>
            <a:r>
              <a:rPr b="1" lang="en-US" sz="2400" spc="-1" strike="noStrike">
                <a:solidFill>
                  <a:srgbClr val="fce224"/>
                </a:solidFill>
                <a:latin typeface="Arial Narrow"/>
              </a:rPr>
              <a:t>barbiturates, rifampicin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97" name="Straight Connector 27"/>
          <p:cNvSpPr/>
          <p:nvPr/>
        </p:nvSpPr>
        <p:spPr>
          <a:xfrm>
            <a:off x="-69840" y="4432320"/>
            <a:ext cx="10058400" cy="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298" name="5-Point Star 7"/>
          <p:cNvSpPr/>
          <p:nvPr/>
        </p:nvSpPr>
        <p:spPr>
          <a:xfrm>
            <a:off x="9136080" y="0"/>
            <a:ext cx="922320" cy="595440"/>
          </a:xfrm>
          <a:custGeom>
            <a:avLst/>
            <a:gdLst/>
            <a:ahLst/>
            <a:rect l="l" t="t" r="r" b="b"/>
            <a:pathLst>
              <a:path w="922337" h="595313">
                <a:moveTo>
                  <a:pt x="1" y="227389"/>
                </a:moveTo>
                <a:lnTo>
                  <a:pt x="352303" y="227390"/>
                </a:lnTo>
                <a:lnTo>
                  <a:pt x="461169" y="0"/>
                </a:lnTo>
                <a:lnTo>
                  <a:pt x="570034" y="227390"/>
                </a:lnTo>
                <a:lnTo>
                  <a:pt x="922336" y="227389"/>
                </a:lnTo>
                <a:lnTo>
                  <a:pt x="637316" y="367922"/>
                </a:lnTo>
                <a:lnTo>
                  <a:pt x="746186" y="595311"/>
                </a:lnTo>
                <a:lnTo>
                  <a:pt x="461169" y="454776"/>
                </a:lnTo>
                <a:lnTo>
                  <a:pt x="176151" y="595311"/>
                </a:lnTo>
                <a:lnTo>
                  <a:pt x="285021" y="367922"/>
                </a:lnTo>
                <a:lnTo>
                  <a:pt x="1" y="227389"/>
                </a:lnTo>
                <a:close/>
              </a:path>
            </a:pathLst>
          </a:custGeom>
          <a:solidFill>
            <a:srgbClr val="00279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6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1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6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1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6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1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6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1" dur="10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6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6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1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6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9148680" cy="91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6000" spc="-1" strike="noStrike">
                <a:solidFill>
                  <a:srgbClr val="fafd00"/>
                </a:solidFill>
                <a:latin typeface="Arial Narrow"/>
              </a:rPr>
              <a:t>Coagulation Pathways</a:t>
            </a:r>
            <a:endParaRPr b="1" lang="en-US" sz="60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601200" cy="571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wo major pathway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839880" indent="-277920">
              <a:lnSpc>
                <a:spcPct val="90000"/>
              </a:lnSpc>
              <a:spcBef>
                <a:spcPts val="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Intrinsic pathwa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39880" indent="-277920">
              <a:lnSpc>
                <a:spcPct val="90000"/>
              </a:lnSpc>
              <a:spcBef>
                <a:spcPts val="400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Extrinsic pathwa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Both converge to a common pathway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Arial Narrow"/>
              </a:rPr>
              <a:t>13</a:t>
            </a:r>
            <a:r>
              <a:rPr b="1" lang="en-US" sz="3600" spc="-1" strike="noStrike">
                <a:solidFill>
                  <a:srgbClr val="00b05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soluble factors are involved in clotting which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rmally circulate in an inactive state and  must  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be </a:t>
            </a:r>
            <a:r>
              <a:rPr b="1" lang="en-US" sz="3600" spc="-1" strike="noStrike">
                <a:solidFill>
                  <a:srgbClr val="92d050"/>
                </a:solidFill>
                <a:latin typeface="Arial Narrow"/>
              </a:rPr>
              <a:t>activated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o form 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 Narrow"/>
              </a:rPr>
              <a:t>fibrin clot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257800" y="1446120"/>
            <a:ext cx="304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Initiating factor is outside the blood  </a:t>
            </a:r>
            <a:r>
              <a:rPr b="1" lang="en-US" sz="2800" spc="-1" strike="noStrike">
                <a:solidFill>
                  <a:srgbClr val="ff4362"/>
                </a:solidFill>
                <a:latin typeface="Arial Narrow"/>
              </a:rPr>
              <a:t>     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(tissue factor = thromboplastin)</a:t>
            </a: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257800" y="1370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All clotting factors are within the blood</a:t>
            </a:r>
            <a:endParaRPr b="1" lang="en-US" sz="32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51920" y="1522080"/>
            <a:ext cx="9906120" cy="167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rfarin is contraindicated during pregnanc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t can cross the placental barrier and cause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abortion, hemorrhagic disorder in the fetus and birth defect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0" name="Picture 7" descr="plMembraneW450"/>
          <p:cNvPicPr/>
          <p:nvPr/>
        </p:nvPicPr>
        <p:blipFill>
          <a:blip r:embed="rId1"/>
          <a:stretch/>
        </p:blipFill>
        <p:spPr>
          <a:xfrm>
            <a:off x="1006560" y="3201840"/>
            <a:ext cx="7626240" cy="3276720"/>
          </a:xfrm>
          <a:prstGeom prst="rect">
            <a:avLst/>
          </a:prstGeom>
          <a:ln w="0">
            <a:noFill/>
          </a:ln>
        </p:spPr>
      </p:pic>
      <p:sp>
        <p:nvSpPr>
          <p:cNvPr id="301" name="Oval 10"/>
          <p:cNvSpPr/>
          <p:nvPr/>
        </p:nvSpPr>
        <p:spPr>
          <a:xfrm>
            <a:off x="952560" y="446040"/>
            <a:ext cx="5143320" cy="671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ral anticoagulants : Teratogenicity</a:t>
            </a:r>
            <a:endParaRPr b="1" lang="en-US" sz="44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push dir="u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 Narrow"/>
              </a:rPr>
              <a:t>Bleeding due to Warfarin</a:t>
            </a:r>
            <a:endParaRPr b="1" lang="en-US" sz="4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06560" y="2085840"/>
            <a:ext cx="8609040" cy="402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65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top  the drug 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65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IV injection of vitamin K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65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Fresh frozen blood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0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GB" sz="3800" spc="-1" strike="noStrike">
              <a:solidFill>
                <a:srgbClr val="fafd00"/>
              </a:solidFill>
              <a:latin typeface="Arial Narrow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503280" y="298440"/>
            <a:ext cx="9051840" cy="6105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GB" sz="3800" spc="-1" strike="noStrike">
              <a:solidFill>
                <a:srgbClr val="fafd00"/>
              </a:solidFill>
              <a:latin typeface="Arial Narrow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503280" y="298440"/>
            <a:ext cx="9051840" cy="6105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bd07306_"/>
          <p:cNvPicPr/>
          <p:nvPr/>
        </p:nvPicPr>
        <p:blipFill>
          <a:blip r:embed="rId1"/>
          <a:stretch/>
        </p:blipFill>
        <p:spPr>
          <a:xfrm>
            <a:off x="1981080" y="0"/>
            <a:ext cx="6096240" cy="64659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6"/>
          <p:cNvSpPr/>
          <p:nvPr/>
        </p:nvSpPr>
        <p:spPr>
          <a:xfrm>
            <a:off x="3962520" y="836640"/>
            <a:ext cx="2492280" cy="1739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Thank     You</a:t>
            </a:r>
            <a:endParaRPr b="1" lang="en-US" sz="54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68120" y="-1440"/>
            <a:ext cx="9722160" cy="6637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0" y="595440"/>
            <a:ext cx="10058400" cy="22356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1042920"/>
            <a:ext cx="10058400" cy="745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74520"/>
            <a:ext cx="9639360" cy="94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 Narrow"/>
              </a:rPr>
              <a:t>Common pathway &amp; Fibrin  clot formation</a:t>
            </a:r>
            <a:endParaRPr b="1" lang="en-US" sz="4400" spc="-1" strike="noStrike">
              <a:solidFill>
                <a:srgbClr val="fafd00"/>
              </a:solidFill>
              <a:latin typeface="Arial Narrow"/>
            </a:endParaRPr>
          </a:p>
        </p:txBody>
      </p:sp>
      <p:pic>
        <p:nvPicPr>
          <p:cNvPr id="141" name="Picture 45" descr=""/>
          <p:cNvPicPr/>
          <p:nvPr/>
        </p:nvPicPr>
        <p:blipFill>
          <a:blip r:embed="rId1"/>
          <a:stretch/>
        </p:blipFill>
        <p:spPr>
          <a:xfrm>
            <a:off x="380880" y="1217520"/>
            <a:ext cx="92966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Oval 1"/>
          <p:cNvSpPr/>
          <p:nvPr/>
        </p:nvSpPr>
        <p:spPr>
          <a:xfrm>
            <a:off x="4800600" y="3427560"/>
            <a:ext cx="2057400" cy="91440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rombin</a:t>
            </a: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43" name="Lightning Bolt 2"/>
          <p:cNvSpPr/>
          <p:nvPr/>
        </p:nvSpPr>
        <p:spPr>
          <a:xfrm rot="19783200">
            <a:off x="1305000" y="4615920"/>
            <a:ext cx="2133360" cy="1827360"/>
          </a:xfrm>
          <a:prstGeom prst="lightningBolt">
            <a:avLst/>
          </a:prstGeom>
          <a:solidFill>
            <a:srgbClr val="00b7a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 Narrow"/>
              </a:rPr>
              <a:t>Endogenous Inhibitors of Coagulation</a:t>
            </a:r>
            <a:endParaRPr b="1" lang="en-US" sz="44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815840"/>
            <a:ext cx="92199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Antithrombin III,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is a plasma protein that inhibits 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activated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thrombin  </a:t>
            </a:r>
            <a:r>
              <a:rPr b="1" i="1" lang="en-US" sz="4000" spc="-1" strike="noStrike">
                <a:solidFill>
                  <a:srgbClr val="ffff00"/>
                </a:solidFill>
                <a:latin typeface="Arial Narrow"/>
              </a:rPr>
              <a:t>(factor IIa) and Xa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it is the site of action of heparin 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Prostacyclin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( PGI</a:t>
            </a:r>
            <a:r>
              <a:rPr b="1" lang="en-US" sz="4000" spc="-1" strike="noStrike" baseline="-25000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), is synthesized by endothelial cells and inhibits platelet aggregation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335160">
              <a:lnSpc>
                <a:spcPct val="90000"/>
              </a:lnSpc>
              <a:spcBef>
                <a:spcPts val="15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Protein C and Protein S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3"/>
          <p:cNvSpPr/>
          <p:nvPr/>
        </p:nvSpPr>
        <p:spPr>
          <a:xfrm>
            <a:off x="1068480" y="3492360"/>
            <a:ext cx="2535120" cy="1478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5978520" y="3421080"/>
            <a:ext cx="2536920" cy="1477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838080" y="2360520"/>
            <a:ext cx="3429000" cy="1489320"/>
          </a:xfrm>
          <a:prstGeom prst="bevel">
            <a:avLst>
              <a:gd name="adj" fmla="val 7500"/>
            </a:avLst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Parenteral</a:t>
            </a:r>
            <a:endParaRPr b="1" lang="en-US" sz="40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Anticoagulants</a:t>
            </a:r>
            <a:endParaRPr b="1" lang="en-US" sz="40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699160" y="2382840"/>
            <a:ext cx="3940200" cy="1488960"/>
          </a:xfrm>
          <a:prstGeom prst="bevel">
            <a:avLst>
              <a:gd name="adj" fmla="val 7500"/>
            </a:avLst>
          </a:pr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Oral</a:t>
            </a:r>
            <a:endParaRPr b="1" lang="en-US" sz="4000" spc="-1" strike="noStrike">
              <a:solidFill>
                <a:srgbClr val="00b7a5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Anticoagulants</a:t>
            </a:r>
            <a:endParaRPr b="1" lang="en-US" sz="40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50" name="Line 8"/>
          <p:cNvSpPr/>
          <p:nvPr/>
        </p:nvSpPr>
        <p:spPr>
          <a:xfrm flipH="1">
            <a:off x="2514600" y="1265400"/>
            <a:ext cx="1760400" cy="96804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5448240" y="1265400"/>
            <a:ext cx="1927440" cy="10429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341360" y="298440"/>
            <a:ext cx="72914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TICOAGULANTS</a:t>
            </a:r>
            <a:endParaRPr b="1" lang="en-US" sz="44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57200" y="4021200"/>
            <a:ext cx="452916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Thrombin inhibitors</a:t>
            </a:r>
            <a:endParaRPr b="1" lang="en-US" sz="4000" spc="-1" strike="noStrike">
              <a:solidFill>
                <a:srgbClr val="00b7a5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irect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rect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5783400" y="4265640"/>
            <a:ext cx="368748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Vitamin K antagonists</a:t>
            </a:r>
            <a:endParaRPr b="1" lang="en-US" sz="4000" spc="-1" strike="noStrike">
              <a:solidFill>
                <a:srgbClr val="00b7a5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rfarin</a:t>
            </a: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b7a5"/>
              </a:solidFill>
              <a:latin typeface="Arial Narrow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2160" y="1170720"/>
            <a:ext cx="28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7a5"/>
              </a:solidFill>
              <a:latin typeface="Arial Narrow"/>
            </a:endParaRPr>
          </a:p>
          <a:p>
            <a:pPr>
              <a:buClr>
                <a:srgbClr val="00b7a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b7a5"/>
              </a:solidFill>
              <a:latin typeface="Arial Narrow"/>
            </a:endParaRPr>
          </a:p>
        </p:txBody>
      </p:sp>
    </p:spTree>
  </p:cSld>
  <p:transition spd="slow">
    <p:randomBar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91486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Arial Narrow"/>
              </a:rPr>
              <a:t>Indication of anti-coagulants</a:t>
            </a:r>
            <a:endParaRPr b="1" lang="en-US" sz="3800" spc="-1" strike="noStrike">
              <a:solidFill>
                <a:srgbClr val="fafd00"/>
              </a:solidFill>
              <a:latin typeface="Arial Narrow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665000"/>
            <a:ext cx="914868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Anticoagulants are indicated in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yocardial infarction (MI)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ep venous thrombosis (DVT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eripheral arterial emboli, pulmonary embolism (PE) and many other condition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nticoagulants are also used in blood transfusions, and dialysis procedure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ieldez Bassiouni</cp:lastModifiedBy>
  <cp:lastPrinted>1999-10-19T15:38:23Z</cp:lastPrinted>
  <dcterms:modified xsi:type="dcterms:W3CDTF">2017-01-02T09:45:51Z</dcterms:modified>
  <cp:revision>455</cp:revision>
  <dc:subject/>
  <dc:title>Management of Oral Anticoagulant Therapy</dc:title>
</cp:coreProperties>
</file>