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10058400" cy="6702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4400" y="726840"/>
            <a:ext cx="5029200" cy="334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move the slide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0" y="8899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BE3C-9A32-4793-B444-729F94334D62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inioMM_367 RG 585 NO 11 OP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The anticoagulant effect of vitamin K antagonists, such as warfarin, is due to the synthesis of non-functional clotting factors. Prothrombin, factors VII, IX and X as well as anticoagulant protein C and protein S are all inactivated by vitamin K antagonists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Arial Narrow"/>
              </a:rPr>
              <a:t>C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a2+</a:t>
            </a:r>
            <a:r>
              <a:rPr b="1" lang="en-US" sz="1100" spc="-1" strike="noStrike">
                <a:solidFill>
                  <a:srgbClr val="ffff00"/>
                </a:solidFill>
                <a:latin typeface="Arial Narrow"/>
              </a:rPr>
              <a:t> a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re required for promotion and </a:t>
            </a:r>
            <a:r>
              <a:rPr b="1" lang="en-US" sz="11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acceleration of almost all blood clotting reactions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Removal of Ca2+ with calcium chelators such as EDTA ethylenediamine tetra-acetic acid or citrate is used to prevent clotting in test tube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Thrombin plays a key role in coagulation as it is responsible for generation of fibrin mesh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572-161F-409E-9E7A-C3628885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21D-F4CB-4964-A2AC-0B921B3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1B2-0E65-4795-8A45-4B183289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2D4-15B0-43CA-949A-F9C35174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D01-43F2-47C7-9456-9E6425B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D12-A9A2-423F-A597-3AF77DC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131-1C9B-40C1-AC02-B6B235B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348-F36E-4492-A895-E24F041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823-7AB7-4FBB-851E-F888AA3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13B-D7D0-4D85-8672-DA1339B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B7D-ECBE-4C57-B53A-A2FDEB73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F27-4515-4196-8254-DACFE9C2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" name="Line 6"/>
          <p:cNvSpPr/>
          <p:nvPr/>
        </p:nvSpPr>
        <p:spPr>
          <a:xfrm>
            <a:off x="457200" y="13716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029"/>
          <p:cNvSpPr/>
          <p:nvPr/>
        </p:nvSpPr>
        <p:spPr>
          <a:xfrm>
            <a:off x="457200" y="22860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6"/>
          <p:cNvSpPr/>
          <p:nvPr/>
        </p:nvSpPr>
        <p:spPr>
          <a:xfrm>
            <a:off x="457200" y="13716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502920" y="6106680"/>
            <a:ext cx="2346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436920" y="6106680"/>
            <a:ext cx="3184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7208640" y="6106680"/>
            <a:ext cx="2346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MY" sz="2400" spc="-1" strike="noStrike">
                <a:solidFill>
                  <a:srgbClr val="00b7a5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A79-80FE-4CDB-AFDC-9168A37B26E3}" type="slidenum">
              <a:rPr b="1" lang="en-MY" sz="2400" spc="-1" strike="noStrike">
                <a:solidFill>
                  <a:srgbClr val="00b7a5"/>
                </a:solidFill>
                <a:latin typeface="Arial Narrow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34800" y="227160"/>
            <a:ext cx="902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nticoagulants</a:t>
            </a:r>
            <a:endParaRPr b="1" lang="en-US" sz="7200" spc="-1" strike="noStrike">
              <a:solidFill>
                <a:srgbClr val="00b7a5"/>
              </a:solidFill>
              <a:latin typeface="Arial Narrow"/>
            </a:endParaRPr>
          </a:p>
        </p:txBody>
      </p:sp>
      <p:pic>
        <p:nvPicPr>
          <p:cNvPr id="125" name="Picture 6" descr="bd20052_"/>
          <p:cNvPicPr/>
          <p:nvPr/>
        </p:nvPicPr>
        <p:blipFill>
          <a:blip r:embed="rId1"/>
          <a:stretch/>
        </p:blipFill>
        <p:spPr>
          <a:xfrm>
            <a:off x="0" y="2360520"/>
            <a:ext cx="4162320" cy="3962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bd06856_"/>
          <p:cNvPicPr/>
          <p:nvPr/>
        </p:nvPicPr>
        <p:blipFill>
          <a:blip r:embed="rId2"/>
          <a:stretch/>
        </p:blipFill>
        <p:spPr>
          <a:xfrm>
            <a:off x="7010280" y="1751040"/>
            <a:ext cx="2730600" cy="184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m00163_"/>
          <p:cNvPicPr/>
          <p:nvPr/>
        </p:nvPicPr>
        <p:blipFill>
          <a:blip r:embed="rId3"/>
          <a:stretch/>
        </p:blipFill>
        <p:spPr>
          <a:xfrm>
            <a:off x="3886200" y="175104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3"/>
          <p:cNvSpPr/>
          <p:nvPr/>
        </p:nvSpPr>
        <p:spPr>
          <a:xfrm>
            <a:off x="1068480" y="3492360"/>
            <a:ext cx="2535120" cy="1478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57200" y="1827360"/>
            <a:ext cx="9296280" cy="449568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Indirect Thrombin inhibitors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350"/>
                </a:solidFill>
                <a:latin typeface="Times New Roman"/>
              </a:rPr>
              <a:t>Heparin and 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350"/>
                </a:solidFill>
                <a:latin typeface="Times New Roman"/>
              </a:rPr>
              <a:t>heparin- related agents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395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80880" y="303120"/>
            <a:ext cx="922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Narrow"/>
              </a:rPr>
              <a:t>Parenteral  Anticoagulants</a:t>
            </a:r>
            <a:endParaRPr b="1" lang="en-US" sz="66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epari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Unfractionated Heparin)</a:t>
            </a:r>
            <a:endParaRPr b="1" lang="en-US" sz="4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301320" algn="just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rmally occurs as macromolecule in mast cells with histamine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 its physiological role is unknown 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-30132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mmercial preparations are extracted from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beef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lung or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i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intestine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(can cause hypersensitivity reaction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-30132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eparin stops the expansion of a thrombus and prevents the formation of new thrombi </a:t>
            </a:r>
            <a:r>
              <a:rPr b="1" lang="en-US" sz="3600" spc="-1" strike="noStrike" u="sng">
                <a:solidFill>
                  <a:srgbClr val="92d050"/>
                </a:solidFill>
                <a:uFillTx/>
                <a:latin typeface="Arial Narrow"/>
              </a:rPr>
              <a:t>but it does not dissolve an existing thrombu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680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eparin and related H- agents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73952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eparin is an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injectable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Narrow"/>
              </a:rPr>
              <a:t>rapidly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acting anticoagulan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ctive i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vitro and in vivo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Low–molecular–weight forms (LMWHs), 1/3 the size of UFH are used as well and have many advantages over UFH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1674360"/>
            <a:ext cx="92203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31200" indent="-24768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direct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Thrombin Inhibitor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t acts indirectly by increasing the activity of the endogenous anticoagulant “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Narrow"/>
              </a:rPr>
              <a:t>antithrombin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Narrow"/>
              </a:rPr>
              <a:t>III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1000 folds) which  inhibits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activate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lotting factors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ainly thrombin  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(factor IIa) and Xa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hen Heparin binds to antithrombin III, it causes conformational changes that accelerates its rate of action 1000 fol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6960" y="74520"/>
            <a:ext cx="7794360" cy="12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grpSp>
        <p:nvGrpSpPr>
          <p:cNvPr id="170" name="Group 13"/>
          <p:cNvGrpSpPr/>
          <p:nvPr/>
        </p:nvGrpSpPr>
        <p:grpSpPr>
          <a:xfrm>
            <a:off x="533520" y="2905200"/>
            <a:ext cx="1591920" cy="966240"/>
            <a:chOff x="533520" y="2905200"/>
            <a:chExt cx="1591920" cy="966240"/>
          </a:xfrm>
        </p:grpSpPr>
        <p:sp>
          <p:nvSpPr>
            <p:cNvPr id="171" name="Oval 3"/>
            <p:cNvSpPr/>
            <p:nvPr/>
          </p:nvSpPr>
          <p:spPr>
            <a:xfrm>
              <a:off x="533520" y="3053520"/>
              <a:ext cx="1005480" cy="81792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1287720" y="3425400"/>
              <a:ext cx="837720" cy="22284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868320" y="2905200"/>
              <a:ext cx="335160" cy="22284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174" name="Group 18"/>
          <p:cNvGrpSpPr/>
          <p:nvPr/>
        </p:nvGrpSpPr>
        <p:grpSpPr>
          <a:xfrm>
            <a:off x="2895480" y="2284560"/>
            <a:ext cx="2133360" cy="1488600"/>
            <a:chOff x="2895480" y="2284560"/>
            <a:chExt cx="2133360" cy="1488600"/>
          </a:xfrm>
        </p:grpSpPr>
        <p:sp>
          <p:nvSpPr>
            <p:cNvPr id="175" name="Freeform 9"/>
            <p:cNvSpPr/>
            <p:nvPr/>
          </p:nvSpPr>
          <p:spPr>
            <a:xfrm>
              <a:off x="2895480" y="26564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6" name="AutoShape 16"/>
            <p:cNvSpPr/>
            <p:nvPr/>
          </p:nvSpPr>
          <p:spPr>
            <a:xfrm>
              <a:off x="3708360" y="22845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177" name="Freeform 17"/>
          <p:cNvSpPr/>
          <p:nvPr/>
        </p:nvSpPr>
        <p:spPr>
          <a:xfrm>
            <a:off x="152280" y="141444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302840" y="13701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21200" y="245736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3124080" y="30463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438280" y="3451320"/>
            <a:ext cx="335160" cy="1042920"/>
          </a:xfrm>
          <a:prstGeom prst="downArrow">
            <a:avLst>
              <a:gd name="adj1" fmla="val 50000"/>
              <a:gd name="adj2" fmla="val 87560"/>
            </a:avLst>
          </a:pr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2" name="Freeform 23"/>
          <p:cNvSpPr/>
          <p:nvPr/>
        </p:nvSpPr>
        <p:spPr>
          <a:xfrm>
            <a:off x="228600" y="459108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grpSp>
        <p:nvGrpSpPr>
          <p:cNvPr id="183" name="Group 24"/>
          <p:cNvGrpSpPr/>
          <p:nvPr/>
        </p:nvGrpSpPr>
        <p:grpSpPr>
          <a:xfrm>
            <a:off x="685800" y="5354640"/>
            <a:ext cx="1593360" cy="968040"/>
            <a:chOff x="685800" y="5354640"/>
            <a:chExt cx="1593360" cy="968040"/>
          </a:xfrm>
        </p:grpSpPr>
        <p:sp>
          <p:nvSpPr>
            <p:cNvPr id="184" name="Oval 25"/>
            <p:cNvSpPr/>
            <p:nvPr/>
          </p:nvSpPr>
          <p:spPr>
            <a:xfrm>
              <a:off x="685800" y="5503320"/>
              <a:ext cx="100656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5" name="AutoShape 26"/>
            <p:cNvSpPr/>
            <p:nvPr/>
          </p:nvSpPr>
          <p:spPr>
            <a:xfrm>
              <a:off x="1440720" y="5875920"/>
              <a:ext cx="83844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6" name="AutoShape 27"/>
            <p:cNvSpPr/>
            <p:nvPr/>
          </p:nvSpPr>
          <p:spPr>
            <a:xfrm>
              <a:off x="1020960" y="5354640"/>
              <a:ext cx="33552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187" name="Group 28"/>
          <p:cNvGrpSpPr/>
          <p:nvPr/>
        </p:nvGrpSpPr>
        <p:grpSpPr>
          <a:xfrm>
            <a:off x="2840040" y="5027760"/>
            <a:ext cx="2133360" cy="1488600"/>
            <a:chOff x="2840040" y="5027760"/>
            <a:chExt cx="2133360" cy="1488600"/>
          </a:xfrm>
        </p:grpSpPr>
        <p:sp>
          <p:nvSpPr>
            <p:cNvPr id="188" name="Freeform 29"/>
            <p:cNvSpPr/>
            <p:nvPr/>
          </p:nvSpPr>
          <p:spPr>
            <a:xfrm>
              <a:off x="2840040" y="53996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9" name="AutoShape 30"/>
            <p:cNvSpPr/>
            <p:nvPr/>
          </p:nvSpPr>
          <p:spPr>
            <a:xfrm>
              <a:off x="3652920" y="50277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190" name="Rectangle 30"/>
          <p:cNvSpPr/>
          <p:nvPr/>
        </p:nvSpPr>
        <p:spPr>
          <a:xfrm>
            <a:off x="5029200" y="16747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 binds to both antithrombin III and thrombin to form a ternary complex 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1455480" y="46864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819520" y="60278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40120" y="602784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26960" y="74520"/>
            <a:ext cx="7794360" cy="12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124080" y="30463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6" name="Freeform 23"/>
          <p:cNvSpPr/>
          <p:nvPr/>
        </p:nvSpPr>
        <p:spPr>
          <a:xfrm>
            <a:off x="228600" y="459108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685800" y="5354640"/>
            <a:ext cx="1593360" cy="968040"/>
            <a:chOff x="685800" y="5354640"/>
            <a:chExt cx="1593360" cy="968040"/>
          </a:xfrm>
        </p:grpSpPr>
        <p:sp>
          <p:nvSpPr>
            <p:cNvPr id="198" name="Oval 25"/>
            <p:cNvSpPr/>
            <p:nvPr/>
          </p:nvSpPr>
          <p:spPr>
            <a:xfrm>
              <a:off x="685800" y="5503320"/>
              <a:ext cx="100656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>
              <a:off x="1440720" y="5875920"/>
              <a:ext cx="83844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0" name="AutoShape 27"/>
            <p:cNvSpPr/>
            <p:nvPr/>
          </p:nvSpPr>
          <p:spPr>
            <a:xfrm>
              <a:off x="1020960" y="5354640"/>
              <a:ext cx="33552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1" name="Group 28"/>
          <p:cNvGrpSpPr/>
          <p:nvPr/>
        </p:nvGrpSpPr>
        <p:grpSpPr>
          <a:xfrm>
            <a:off x="2840040" y="5027760"/>
            <a:ext cx="2133360" cy="1488600"/>
            <a:chOff x="2840040" y="5027760"/>
            <a:chExt cx="2133360" cy="1488600"/>
          </a:xfrm>
        </p:grpSpPr>
        <p:sp>
          <p:nvSpPr>
            <p:cNvPr id="202" name="Freeform 29"/>
            <p:cNvSpPr/>
            <p:nvPr/>
          </p:nvSpPr>
          <p:spPr>
            <a:xfrm>
              <a:off x="2840040" y="53996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>
              <a:off x="3652920" y="50277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4" name="Group 31"/>
          <p:cNvGrpSpPr/>
          <p:nvPr/>
        </p:nvGrpSpPr>
        <p:grpSpPr>
          <a:xfrm>
            <a:off x="7513560" y="5027760"/>
            <a:ext cx="1760400" cy="1488600"/>
            <a:chOff x="7513560" y="5027760"/>
            <a:chExt cx="1760400" cy="1488600"/>
          </a:xfrm>
        </p:grpSpPr>
        <p:sp>
          <p:nvSpPr>
            <p:cNvPr id="205" name="Freeform 32"/>
            <p:cNvSpPr/>
            <p:nvPr/>
          </p:nvSpPr>
          <p:spPr>
            <a:xfrm>
              <a:off x="7513560" y="5399640"/>
              <a:ext cx="1760400" cy="111672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6" name="AutoShape 33"/>
            <p:cNvSpPr/>
            <p:nvPr/>
          </p:nvSpPr>
          <p:spPr>
            <a:xfrm>
              <a:off x="8184240" y="5027760"/>
              <a:ext cx="75456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7" name="Group 34"/>
          <p:cNvGrpSpPr/>
          <p:nvPr/>
        </p:nvGrpSpPr>
        <p:grpSpPr>
          <a:xfrm>
            <a:off x="6400800" y="5256360"/>
            <a:ext cx="1591920" cy="968040"/>
            <a:chOff x="6400800" y="5256360"/>
            <a:chExt cx="1591920" cy="968040"/>
          </a:xfrm>
        </p:grpSpPr>
        <p:sp>
          <p:nvSpPr>
            <p:cNvPr id="208" name="Oval 35"/>
            <p:cNvSpPr/>
            <p:nvPr/>
          </p:nvSpPr>
          <p:spPr>
            <a:xfrm>
              <a:off x="6400800" y="5405040"/>
              <a:ext cx="100548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9" name="AutoShape 36"/>
            <p:cNvSpPr/>
            <p:nvPr/>
          </p:nvSpPr>
          <p:spPr>
            <a:xfrm>
              <a:off x="7155000" y="5777640"/>
              <a:ext cx="83772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10" name="AutoShape 37"/>
            <p:cNvSpPr/>
            <p:nvPr/>
          </p:nvSpPr>
          <p:spPr>
            <a:xfrm>
              <a:off x="6735600" y="5256360"/>
              <a:ext cx="33516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211" name="AutoShape 38"/>
          <p:cNvSpPr/>
          <p:nvPr/>
        </p:nvSpPr>
        <p:spPr>
          <a:xfrm>
            <a:off x="5257800" y="5560920"/>
            <a:ext cx="1066680" cy="5209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b00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533520" y="1674720"/>
            <a:ext cx="9296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Heparin dissociate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aving the thrombin bound to its inhibitor</a:t>
            </a:r>
            <a:endParaRPr b="1" lang="en-US" sz="3200" spc="-1" strike="noStrike">
              <a:solidFill>
                <a:srgbClr val="00b7a5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ce dissociated, Heparin is free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to bind to another antithrombin molecule and subsequently inhibits more thrombin</a:t>
            </a:r>
            <a:endParaRPr b="1" lang="en-US" sz="3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302840" y="46101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7139160" y="59515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21200" y="618012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731200" y="465624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819520" y="594216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99640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UFH : Pharmacokinetics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358640"/>
            <a:ext cx="98298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is not absorbed from the GI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t should be administered by IV  or SC  injection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Not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 Narrow"/>
              </a:rPr>
              <a:t> injected IM as it causes haematomas at injection site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ce in the blood stream, UFH binds to plasma proteins, endothelial cells and macrophag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does not cross the placenta;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therefor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it is the drug of choice as anticoagulat during pregnanc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ose monitoring of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activated partial thromboplastin tim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</a:rPr>
              <a:t>(aPTT)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 necessary in patients receiving UFH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75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6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75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75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7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75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75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Heparin: Therapeutic use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ue to its rapid onset of action, it is used to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itiate immediate anticoagulation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 thromboembolic disease (PE, DVT, MI) mainly as induction for oral vitamin K antagonists (VKAs)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revention of postoperative DVT (in patient undergoing hip replacement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revention of coagulation during renal dialysis or cardiac surge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Disadvantages of  UFH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1665000"/>
            <a:ext cx="96012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inconvenience of administration by injection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need for regular monitoring (aPTT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FH carries a risk of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heparin-induced thrombocytopenia (HIT)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, a fall in the platelet count and increased risk of thrombosis due to binding to platele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7680"/>
            <a:ext cx="9148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Heparin-induced thrombocytopenia (HIT )</a:t>
            </a:r>
            <a:br>
              <a:rPr sz="38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Generally, if the number of platelets is too low, excessive bleeding can occur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f the number of platelets is too high, blood clots can form thrombosi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owever, There are disorders that reduce the number of platelets, such as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heparin-induced thrombocytopenia (HIT)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at typically cause thrombosis, or clots, instead of bleeding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cache.eb.com/eb/image?id=98328&amp;rendTypeId=4"/>
          <p:cNvPicPr/>
          <p:nvPr/>
        </p:nvPicPr>
        <p:blipFill>
          <a:blip r:embed="rId1"/>
          <a:stretch/>
        </p:blipFill>
        <p:spPr>
          <a:xfrm>
            <a:off x="7027920" y="136440"/>
            <a:ext cx="2695680" cy="2395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434880" y="83196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LOs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34800" y="1903320"/>
            <a:ext cx="9555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troduction  about coagulation cascade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ify drugs acting as anticoagulant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laborate on their mechanism of action, correlating that with methods  of monitoring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rast the limitations &amp; benefits of injectable  anticoagulants in  clinical setting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mphasis on the limitations of VKAs &amp; on variables alter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or modifying their response.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FH: Adverse effect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1665000"/>
            <a:ext cx="99820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Narrow"/>
              </a:rPr>
              <a:t>The major adverse effect of heparin is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Arial Narrow"/>
              </a:rPr>
              <a:t>bleeding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Narrow"/>
              </a:rPr>
              <a:t>Allergic reactions (chills, fever, urticaria)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as heparin is of animal origin and should be used cautiously in patients with allergy 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Long-term heparin therapy is associated with </a:t>
            </a:r>
            <a:r>
              <a:rPr b="1" i="1" lang="en-US" sz="3800" spc="-1" strike="noStrike">
                <a:solidFill>
                  <a:srgbClr val="ff0000"/>
                </a:solidFill>
                <a:latin typeface="Arial Narrow"/>
              </a:rPr>
              <a:t>osteoporosis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Heparin-induced thrombocytopenia (HIT )</a:t>
            </a: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parin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ontraindication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leeding disorders, hemophilia 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Patients with hypersensitivity to                                                                     the drug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Recent surgery of the brain, eye or   spinal cord, threatened abortion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Reversal of Heparin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4800" y="1522080"/>
            <a:ext cx="93427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iscontinuation of the drug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eparin is strongly acidic and is neutralized by i.v.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Narrow"/>
              </a:rPr>
              <a:t>protamine sulfate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a strongly basic protein)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t combines with heparin to form a stable complex devoid of anticoagulant activ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1360"/>
            <a:ext cx="9148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4400"/>
            </a:b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 </a:t>
            </a:r>
            <a:br>
              <a:rPr sz="40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370160"/>
            <a:ext cx="96775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MWHs are derived from the chemical or enzymatic degradation of UFH into fragments approximately one-third the size of hepari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ve equal efficacy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without  frequent  laboratory monitoring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( suitable for  outpatient therapy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MY" sz="3200" spc="-1" strike="noStrike">
                <a:solidFill>
                  <a:srgbClr val="ffff00"/>
                </a:solidFill>
                <a:latin typeface="Arial Narrow"/>
              </a:rPr>
              <a:t>Have a more predictable anticoagulant response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MY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MY" sz="3200" spc="-1" strike="noStrike">
                <a:solidFill>
                  <a:srgbClr val="ffffff"/>
                </a:solidFill>
                <a:latin typeface="Arial Narrow"/>
              </a:rPr>
              <a:t>( better bioavailability, longer  t 1/2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Binding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o platelets and osteoblasts is reduced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ith LMWH compared with UFH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57200" y="3031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Low-Molecular-Weight Heparins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1360"/>
            <a:ext cx="9148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4400"/>
            </a:b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 </a:t>
            </a:r>
            <a:br>
              <a:rPr sz="40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370160"/>
            <a:ext cx="96775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fragments (e.g.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enoxaparin, daltepari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ynthetic pentasaccharide (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fondaparinux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re used increasingly in place of unfractionated hepari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MWHs increase the action of antithrombin III on </a:t>
            </a:r>
            <a:r>
              <a:rPr b="1" lang="en-US" sz="3200" spc="-1" strike="noStrike">
                <a:solidFill>
                  <a:srgbClr val="92d050"/>
                </a:solidFill>
                <a:latin typeface="Arial Narrow"/>
              </a:rPr>
              <a:t>factor X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but not its action o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Arial Narrow"/>
              </a:rPr>
              <a:t>thrombi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, because the molecules are too small to bind to both enzyme and inhibi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3031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d1c1"/>
                </a:solidFill>
                <a:latin typeface="Arial Narrow"/>
              </a:rPr>
              <a:t>Examples of LMWHs: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Synthetic Heparin Derivative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1665000"/>
            <a:ext cx="98298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cd1c1"/>
                </a:solidFill>
                <a:latin typeface="Arial Narrow"/>
              </a:rPr>
              <a:t>Fondaparinux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s a synthetic compound that inhibits factor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 Narrow"/>
              </a:rPr>
              <a:t>Xa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y antithrombin </a:t>
            </a:r>
            <a:r>
              <a:rPr b="1" lang="en-US" sz="4000" spc="-1" strike="noStrike" u="sng">
                <a:solidFill>
                  <a:srgbClr val="fcd1c1"/>
                </a:solidFill>
                <a:uFillTx/>
                <a:latin typeface="Arial Narrow"/>
              </a:rPr>
              <a:t>but does not inhibit </a:t>
            </a:r>
            <a:r>
              <a:rPr b="1" lang="en-US" sz="4000" spc="-1" strike="noStrike" u="sng">
                <a:solidFill>
                  <a:srgbClr val="92d050"/>
                </a:solidFill>
                <a:uFillTx/>
                <a:latin typeface="Arial Narrow"/>
              </a:rPr>
              <a:t>thrombin</a:t>
            </a:r>
            <a:r>
              <a:rPr b="1" lang="en-US" sz="4000" spc="-1" strike="noStrike" u="sng">
                <a:solidFill>
                  <a:srgbClr val="fcd1c1"/>
                </a:solidFill>
                <a:uFillTx/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Advantages: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ondaparinux can be given once a day at a fixed dose without coagulation monitoring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Less likely than UFH or LMWHs to trigger HIT 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4920" y="1293840"/>
          <a:ext cx="9448560" cy="4759200"/>
        </p:xfrm>
        <a:graphic>
          <a:graphicData uri="http://schemas.openxmlformats.org/drawingml/2006/table">
            <a:tbl>
              <a:tblPr/>
              <a:tblGrid>
                <a:gridCol w="3105000"/>
                <a:gridCol w="2894040"/>
                <a:gridCol w="3449520"/>
              </a:tblGrid>
              <a:tr h="10317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Drug characteristic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Heparin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(UFH) 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b00e4"/>
                        </a:gs>
                        <a:gs pos="100000">
                          <a:srgbClr val="39006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LMWH</a:t>
                      </a:r>
                      <a:endParaRPr b="1" lang="en-US" sz="40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b00e4"/>
                        </a:gs>
                        <a:gs pos="100000">
                          <a:srgbClr val="39006a"/>
                        </a:gs>
                      </a:gsLst>
                      <a:lin ang="5400000"/>
                    </a:gradFill>
                  </a:tcPr>
                </a:tc>
              </a:tr>
              <a:tr h="11660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IV ½ life</a:t>
                      </a: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hours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4 hours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Bioavailability after SC injection</a:t>
                      </a: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0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Anticoagulant response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Predictable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"/>
          <p:cNvSpPr/>
          <p:nvPr/>
        </p:nvSpPr>
        <p:spPr>
          <a:xfrm>
            <a:off x="380880" y="41904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Differences between UFH and LMW Heparin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80880" y="419040"/>
          <a:ext cx="9204480" cy="6135840"/>
        </p:xfrm>
        <a:graphic>
          <a:graphicData uri="http://schemas.openxmlformats.org/drawingml/2006/table">
            <a:tbl>
              <a:tblPr/>
              <a:tblGrid>
                <a:gridCol w="2971800"/>
                <a:gridCol w="3189240"/>
                <a:gridCol w="3043440"/>
              </a:tblGrid>
              <a:tr h="18849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Major adverse effect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equent bleeding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T, osteoporosi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s frequent bleeding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892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Specific antagonist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amine sulphate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-Incomplete-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420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Setting for therapy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Hospital and OPC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Laboratory monitoring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eded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TT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Not needed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103140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Advantages of LMWHs over UFH </a:t>
            </a:r>
            <a:br>
              <a:rPr sz="5400"/>
            </a:b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1665000"/>
            <a:ext cx="96775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theoretical pharmacologic advantages of LMWH over UFH arise from the preferential binding ratio to </a:t>
            </a:r>
            <a:r>
              <a:rPr b="1" lang="en-US" sz="2800" spc="-1" strike="noStrike">
                <a:solidFill>
                  <a:srgbClr val="92d050"/>
                </a:solidFill>
                <a:latin typeface="Arial Narrow"/>
              </a:rPr>
              <a:t>factor Xa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ver thrombi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convenience of once- or twice- daily subcutaneous injections </a:t>
            </a:r>
            <a:r>
              <a:rPr b="1" lang="en-US" sz="2800" spc="-1" strike="noStrike">
                <a:solidFill>
                  <a:srgbClr val="92d050"/>
                </a:solidFill>
                <a:latin typeface="Arial Narrow"/>
              </a:rPr>
              <a:t>without regular coagulation monitoring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ue 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re predictable respon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ng plasma half-life and improved bioavailabi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ss plasma protein bind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ss platelet activation and lower risk of re-thrombosis and thrombocytopeni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Calibri"/>
                <a:ea typeface="Times New Roman"/>
              </a:rPr>
              <a:t>Direct thrombin inhibitors (DTIs)</a:t>
            </a:r>
            <a:endParaRPr b="1" lang="en-US" sz="5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TIs  exert  their anticoagulant effect by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direc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binding to thrombi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is direct effect is </a:t>
            </a:r>
            <a:r>
              <a:rPr b="1" lang="en-US" sz="4000" spc="-1" strike="noStrike">
                <a:solidFill>
                  <a:srgbClr val="fdff65"/>
                </a:solidFill>
                <a:latin typeface="Arial Narrow"/>
              </a:rPr>
              <a:t>rapid and poten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TIs are </a:t>
            </a:r>
            <a:r>
              <a:rPr b="1" lang="en-US" sz="4000" spc="-1" strike="noStrike">
                <a:solidFill>
                  <a:srgbClr val="92d050"/>
                </a:solidFill>
                <a:latin typeface="Arial Narrow"/>
              </a:rPr>
              <a:t>not associated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ith the development of thrombocytopenia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825200"/>
            <a:ext cx="9753480" cy="58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coagulant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prevent thrombus  formation and extension by inhibit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clotting factor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heparin, low molecular weight heparin, coumarins/ warfari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platelet drug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reduce risk of clot formation by inhibit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platelet function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aspirin and ticlopidine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Fibrinolytic agent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dissolve thromb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already forme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streptokinas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13920" y="60336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Drugs and coagulation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Calibri"/>
                <a:ea typeface="Times New Roman"/>
              </a:rPr>
              <a:t>Direct thrombin inhibitors (DTIs)</a:t>
            </a:r>
            <a:endParaRPr b="1" lang="en-US" sz="5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15984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first DTI to be developed was </a:t>
            </a:r>
            <a:r>
              <a:rPr b="1" lang="en-US" sz="4000" spc="-1" strike="noStrike">
                <a:solidFill>
                  <a:srgbClr val="fcd1c1"/>
                </a:solidFill>
                <a:latin typeface="Arial Narrow"/>
              </a:rPr>
              <a:t>hirudin,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ich was isolated from the saliva of the leech  (</a:t>
            </a:r>
            <a:r>
              <a:rPr b="0" lang="ar-AE" sz="4000" spc="-1" strike="noStrike">
                <a:solidFill>
                  <a:srgbClr val="ffffff"/>
                </a:solidFill>
                <a:latin typeface="Arial Narrow"/>
              </a:rPr>
              <a:t>علقة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Arial Narrow"/>
              </a:rPr>
              <a:t>Lepirudin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is a polypeptide that binds </a:t>
            </a:r>
            <a:r>
              <a:rPr b="1" lang="en-US" sz="4000" spc="-1" strike="noStrike">
                <a:solidFill>
                  <a:srgbClr val="fdff65"/>
                </a:solidFill>
                <a:latin typeface="Arial Narrow"/>
              </a:rPr>
              <a:t>directly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to the active site of  thrombi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Recombinant  hirudin “Lepirudin”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s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sed as IV anticoagulant in patients with HI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57200" y="2754360"/>
            <a:ext cx="9144000" cy="196848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Oral Anticoagulants 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Vitamin K antagonists”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1341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2133720" y="3351240"/>
            <a:ext cx="510516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Vitamin K (Fat soluble vitamin)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10058400" cy="47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ource of vitamin K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Green vegetable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Synthesized by intestinal flor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64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equired for synthesi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Factor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I, VII, IX ,X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tein C and S  (endogenous      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ticoagulants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64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auses of deficiency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nutri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absorptio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biotic therap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1" descr="&#9;Liver.tif                                                      00004B6F&#9;PowerRAID                      B2B1273F:"/>
          <p:cNvPicPr/>
          <p:nvPr/>
        </p:nvPicPr>
        <p:blipFill>
          <a:blip r:embed="rId1"/>
          <a:stretch/>
        </p:blipFill>
        <p:spPr>
          <a:xfrm>
            <a:off x="1733400" y="1892160"/>
            <a:ext cx="5494320" cy="40514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0" y="2185920"/>
            <a:ext cx="1996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4362"/>
                </a:solidFill>
                <a:latin typeface="Arial Narrow"/>
              </a:rPr>
              <a:t>Vitamin K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924680" y="3233880"/>
            <a:ext cx="1998720" cy="1623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ynthesis of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unctional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agulation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315200" y="305748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315200" y="354168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V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7315200" y="403704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I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15200" y="453384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Vitamin K-Dependent Clotting Factors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cxnSp>
        <p:nvCxnSpPr>
          <p:cNvPr id="263" name="AutoShape 14"/>
          <p:cNvCxnSpPr>
            <a:stCxn id="256" idx="2"/>
          </p:cNvCxnSpPr>
          <p:nvPr/>
        </p:nvCxnSpPr>
        <p:spPr>
          <a:xfrm flipH="1" rot="16200000">
            <a:off x="1535040" y="2293560"/>
            <a:ext cx="748440" cy="1821600"/>
          </a:xfrm>
          <a:prstGeom prst="bentConnector2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264" name="Rectangle 15"/>
          <p:cNvSpPr/>
          <p:nvPr/>
        </p:nvSpPr>
        <p:spPr>
          <a:xfrm>
            <a:off x="5257800" y="387360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cxnSp>
        <p:nvCxnSpPr>
          <p:cNvPr id="265" name="AutoShape 17"/>
          <p:cNvCxnSpPr>
            <a:stCxn id="264" idx="3"/>
            <a:endCxn id="259" idx="1"/>
          </p:cNvCxnSpPr>
          <p:nvPr/>
        </p:nvCxnSpPr>
        <p:spPr>
          <a:xfrm flipV="1">
            <a:off x="6019920" y="3801600"/>
            <a:ext cx="1296000" cy="22464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6" name="AutoShape 18"/>
          <p:cNvCxnSpPr>
            <a:stCxn id="264" idx="3"/>
            <a:endCxn id="258" idx="1"/>
          </p:cNvCxnSpPr>
          <p:nvPr/>
        </p:nvCxnSpPr>
        <p:spPr>
          <a:xfrm flipV="1">
            <a:off x="6019920" y="3317040"/>
            <a:ext cx="1296000" cy="70884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7" name="AutoShape 19"/>
          <p:cNvCxnSpPr>
            <a:stCxn id="264" idx="3"/>
            <a:endCxn id="260" idx="1"/>
          </p:cNvCxnSpPr>
          <p:nvPr/>
        </p:nvCxnSpPr>
        <p:spPr>
          <a:xfrm>
            <a:off x="6019920" y="4025880"/>
            <a:ext cx="1296000" cy="27216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8" name="AutoShape 20"/>
          <p:cNvCxnSpPr>
            <a:stCxn id="264" idx="3"/>
            <a:endCxn id="261" idx="1"/>
          </p:cNvCxnSpPr>
          <p:nvPr/>
        </p:nvCxnSpPr>
        <p:spPr>
          <a:xfrm>
            <a:off x="6019920" y="4025880"/>
            <a:ext cx="1296000" cy="76896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269" name="Text Box 6"/>
          <p:cNvSpPr/>
          <p:nvPr/>
        </p:nvSpPr>
        <p:spPr>
          <a:xfrm>
            <a:off x="6980400" y="5332320"/>
            <a:ext cx="2849400" cy="947160"/>
          </a:xfrm>
          <a:prstGeom prst="rect">
            <a:avLst/>
          </a:prstGeom>
          <a:solidFill>
            <a:srgbClr val="00b7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tein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and Protein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push dir="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Warfarin: Mechanism of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1360" y="2063880"/>
            <a:ext cx="2286000" cy="1595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active clotting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 II, VII, IX, X )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895480" y="2360520"/>
            <a:ext cx="4023000" cy="520920"/>
          </a:xfrm>
          <a:prstGeom prst="rightArrow">
            <a:avLst>
              <a:gd name="adj1" fmla="val 50000"/>
              <a:gd name="adj2" fmla="val 171548"/>
            </a:avLst>
          </a:pr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7238880" y="2208240"/>
            <a:ext cx="226404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ctive clotting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276720" y="2817720"/>
            <a:ext cx="2971800" cy="533520"/>
          </a:xfrm>
          <a:custGeom>
            <a:avLst/>
            <a:gdLst>
              <a:gd name="textAreaLeft" fmla="*/ 597960 w 2971800"/>
              <a:gd name="textAreaRight" fmla="*/ 2180520 w 2971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92" hR="21600" stAng="10800000" swAng="5400000"/>
                <a:lnTo>
                  <a:pt x="11502" y="0"/>
                </a:lnTo>
                <a:arcTo wR="8692" hR="21600" stAng="-5400000" swAng="2415243"/>
                <a:lnTo>
                  <a:pt x="20758" y="12328"/>
                </a:lnTo>
                <a:lnTo>
                  <a:pt x="18789" y="21600"/>
                </a:lnTo>
                <a:lnTo>
                  <a:pt x="15136" y="12328"/>
                </a:lnTo>
                <a:lnTo>
                  <a:pt x="16542" y="12328"/>
                </a:lnTo>
                <a:arcTo wR="8692" hR="21600" stAng="-2984757" swAng="-2188978"/>
                <a:lnTo>
                  <a:pt x="10097" y="284"/>
                </a:lnTo>
                <a:arcTo wR="8692" hR="21600" stAng="-5626265" swAng="-5173735"/>
                <a:close/>
              </a:path>
              <a:path fill="darkenLess" w="21600" h="21600">
                <a:moveTo>
                  <a:pt x="0" y="21600"/>
                </a:moveTo>
                <a:arcTo wR="8692" hR="21600" stAng="10800000" swAng="5400000"/>
                <a:lnTo>
                  <a:pt x="8692" y="0"/>
                </a:lnTo>
                <a:arcTo wR="8692" hR="21600" stAng="-5400000" swAng="226265"/>
                <a:lnTo>
                  <a:pt x="10097" y="284"/>
                </a:lnTo>
                <a:arcTo wR="8692" hR="21600" stAng="-5626265" swAng="-5173735"/>
                <a:close/>
              </a:path>
            </a:pathLst>
          </a:cu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819520" y="3503520"/>
            <a:ext cx="1676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Vitamin K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410080" y="3427560"/>
            <a:ext cx="2362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poxide form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7" name="AutoShape 16"/>
          <p:cNvSpPr/>
          <p:nvPr/>
        </p:nvSpPr>
        <p:spPr>
          <a:xfrm rot="10800000">
            <a:off x="3048120" y="4113000"/>
            <a:ext cx="3184560" cy="595080"/>
          </a:xfrm>
          <a:custGeom>
            <a:avLst/>
            <a:gdLst>
              <a:gd name="textAreaLeft" fmla="*/ 583920 w 3184560"/>
              <a:gd name="textAreaRight" fmla="*/ 2317680 w 318456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22" hR="21600" stAng="10800000" swAng="5400000"/>
                <a:lnTo>
                  <a:pt x="11760" y="0"/>
                </a:lnTo>
                <a:arcTo wR="7922" hR="21600" stAng="-5400000" swAng="2762911"/>
                <a:lnTo>
                  <a:pt x="21147" y="14400"/>
                </a:lnTo>
                <a:lnTo>
                  <a:pt x="17762" y="21600"/>
                </a:lnTo>
                <a:lnTo>
                  <a:pt x="13471" y="14400"/>
                </a:lnTo>
                <a:lnTo>
                  <a:pt x="15390" y="14400"/>
                </a:lnTo>
                <a:arcTo wR="7922" hR="21600" stAng="-2637089" swAng="-2448991"/>
                <a:lnTo>
                  <a:pt x="9841" y="643"/>
                </a:lnTo>
                <a:arcTo wR="7922" hR="21600" stAng="-5713920" swAng="-5086080"/>
                <a:close/>
              </a:path>
              <a:path fill="darkenLess" w="21600" h="21600">
                <a:moveTo>
                  <a:pt x="0" y="21600"/>
                </a:moveTo>
                <a:arcTo wR="7922" hR="21600" stAng="10800000" swAng="5400000"/>
                <a:lnTo>
                  <a:pt x="7922" y="0"/>
                </a:lnTo>
                <a:arcTo wR="7922" hR="21600" stAng="-5400000" swAng="313920"/>
                <a:lnTo>
                  <a:pt x="9841" y="643"/>
                </a:lnTo>
                <a:arcTo wR="7922" hR="21600" stAng="-5713920" swAng="-5086080"/>
                <a:close/>
              </a:path>
            </a:pathLst>
          </a:cu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3429000" y="4799160"/>
            <a:ext cx="284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Epoxide reductase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0920" y="5332320"/>
            <a:ext cx="947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00"/>
                </a:solidFill>
                <a:latin typeface="Arial Narrow"/>
              </a:rPr>
              <a:t>Warfarin inhibits the synthesis of biologically active forms of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00"/>
                </a:solidFill>
                <a:latin typeface="Arial Narrow"/>
              </a:rPr>
              <a:t>vitamin K-dependent clotting factors II, VII, IX and 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0" name="Lightning Bolt 1"/>
          <p:cNvSpPr/>
          <p:nvPr/>
        </p:nvSpPr>
        <p:spPr>
          <a:xfrm rot="20052000">
            <a:off x="2041560" y="4390560"/>
            <a:ext cx="1251000" cy="911160"/>
          </a:xfrm>
          <a:prstGeom prst="lightningBol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24480" y="3879720"/>
            <a:ext cx="203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Times New Roman"/>
                <a:ea typeface="SimSun"/>
              </a:rPr>
              <a:t>Warf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2" name="Minus 3"/>
          <p:cNvSpPr/>
          <p:nvPr/>
        </p:nvSpPr>
        <p:spPr>
          <a:xfrm>
            <a:off x="660240" y="4411800"/>
            <a:ext cx="762120" cy="473040"/>
          </a:xfrm>
          <a:custGeom>
            <a:avLst/>
            <a:gdLst/>
            <a:ahLst/>
            <a:rect l="l" t="t" r="r" b="b"/>
            <a:pathLst>
              <a:path w="762000" h="473075">
                <a:moveTo>
                  <a:pt x="101003" y="180904"/>
                </a:moveTo>
                <a:lnTo>
                  <a:pt x="660997" y="180904"/>
                </a:lnTo>
                <a:lnTo>
                  <a:pt x="660997" y="292171"/>
                </a:lnTo>
                <a:lnTo>
                  <a:pt x="101003" y="292171"/>
                </a:lnTo>
                <a:lnTo>
                  <a:pt x="101003" y="180904"/>
                </a:lnTo>
                <a:close/>
              </a:path>
            </a:pathLst>
          </a:cu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429000" y="4341960"/>
            <a:ext cx="284940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tein C and protein 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268200"/>
            <a:ext cx="9051840" cy="62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Mechanism of Action of Warfarin</a:t>
            </a:r>
            <a:endParaRPr b="1" lang="en-US" sz="36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2920" y="1339920"/>
            <a:ext cx="9304200" cy="49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hibits synthesis of Vitamin K-dependent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agulation factors II, VII, IX, &amp; X as well as anticoagulant proteins C &amp; 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3-4 days until effect is seen ??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dff65"/>
                </a:solidFill>
                <a:latin typeface="Arial Narrow"/>
              </a:rPr>
              <a:t>Does not have any effect on already-synthesized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agulation factors; therefore, the therapeutic effects are not seen until these factors are depleted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98856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umarins: Warfarin </a:t>
            </a:r>
            <a:br>
              <a:rPr sz="4000"/>
            </a:b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280" y="144576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ct only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in vivo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availability 100%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98% bound to plasma proteins (albumin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onitoring anticoagulant  effect of warfarin by measuring PT, which is expressed as an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International Normalized Ratio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INR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25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25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25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98856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umarins: Warfarin </a:t>
            </a:r>
            <a:br>
              <a:rPr sz="4000"/>
            </a:b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44576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ir effect takes several days (3-4 ) to develop because of the time taken for degradation of circulating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functional clotting factors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refore the onset of action starts when these factors have been eliminated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arfarin has a slow offset of action due to the time required for synthesis of new,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functional coagulation factors</a:t>
            </a:r>
            <a:br>
              <a:rPr sz="3600"/>
            </a:b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25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25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25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Disadvantages of Warfarin therapy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ariable, unpredictable effect necessitating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regular INR monitoring and dose adjustment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arrow therapeutic window leading to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increased risk of severe bleeding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Slow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set and offset of actio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Numerous interactio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with foods containing vitamin K  and drug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25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8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25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25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25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iped Right Arrow 21"/>
          <p:cNvSpPr/>
          <p:nvPr/>
        </p:nvSpPr>
        <p:spPr>
          <a:xfrm rot="16200000">
            <a:off x="6599160" y="860040"/>
            <a:ext cx="4319640" cy="2598840"/>
          </a:xfrm>
          <a:custGeom>
            <a:avLst/>
            <a:gdLst/>
            <a:ahLst/>
            <a:rect l="l" t="t" r="r" b="b"/>
            <a:pathLst>
              <a:path w="4319588" h="2598737">
                <a:moveTo>
                  <a:pt x="0" y="1051540"/>
                </a:moveTo>
                <a:lnTo>
                  <a:pt x="81211" y="1051540"/>
                </a:lnTo>
                <a:lnTo>
                  <a:pt x="81211" y="1547197"/>
                </a:lnTo>
                <a:lnTo>
                  <a:pt x="0" y="1547197"/>
                </a:lnTo>
                <a:lnTo>
                  <a:pt x="0" y="1051540"/>
                </a:lnTo>
                <a:close/>
                <a:moveTo>
                  <a:pt x="162421" y="1051540"/>
                </a:moveTo>
                <a:lnTo>
                  <a:pt x="324842" y="1051540"/>
                </a:lnTo>
                <a:lnTo>
                  <a:pt x="324842" y="1547197"/>
                </a:lnTo>
                <a:lnTo>
                  <a:pt x="162421" y="1547197"/>
                </a:lnTo>
                <a:lnTo>
                  <a:pt x="162421" y="1051540"/>
                </a:lnTo>
                <a:close/>
                <a:moveTo>
                  <a:pt x="406053" y="1051540"/>
                </a:moveTo>
                <a:lnTo>
                  <a:pt x="2979549" y="1051540"/>
                </a:lnTo>
                <a:lnTo>
                  <a:pt x="2979549" y="0"/>
                </a:lnTo>
                <a:lnTo>
                  <a:pt x="4319588" y="1299369"/>
                </a:lnTo>
                <a:lnTo>
                  <a:pt x="2979549" y="2598737"/>
                </a:lnTo>
                <a:lnTo>
                  <a:pt x="2979549" y="1547197"/>
                </a:lnTo>
                <a:lnTo>
                  <a:pt x="406053" y="1547197"/>
                </a:lnTo>
                <a:lnTo>
                  <a:pt x="406053" y="1051540"/>
                </a:lnTo>
                <a:close/>
              </a:path>
            </a:pathLst>
          </a:custGeom>
          <a:gradFill rotWithShape="0">
            <a:gsLst>
              <a:gs pos="0">
                <a:srgbClr val="b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250920" y="223920"/>
            <a:ext cx="759780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ffffff"/>
            </a:solidFill>
            <a:miter/>
          </a:ln>
          <a:effectLst>
            <a:outerShdw dist="45691" dir="4439555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rug interactions with oral anticoagulant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168120" y="795240"/>
            <a:ext cx="9639360" cy="3385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Inhibition of Vit. K synthesis by intestinal flora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oral antibiotics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hibition of Vit K absorption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liquid paraff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Decrease in drug metabolism by microsomal enzyme inhibitors;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chloramphenicol, &amp; cimetidine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Displacment of the drug from protein binding sites; </a:t>
            </a:r>
            <a:br>
              <a:rPr sz="2400"/>
            </a:br>
            <a:r>
              <a:rPr b="1" lang="en-US" sz="2400" spc="-1" strike="noStrike">
                <a:solidFill>
                  <a:srgbClr val="00b7a5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phenylbutazone &amp; salicylates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5. Co-administration of drugs that increase bleeding tendency by;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hibiting platelet function;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NSAIDs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hepar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5" name="Striped Right Arrow 26"/>
          <p:cNvSpPr/>
          <p:nvPr/>
        </p:nvSpPr>
        <p:spPr>
          <a:xfrm flipV="1" rot="5400000">
            <a:off x="7779600" y="4320360"/>
            <a:ext cx="1985760" cy="2432160"/>
          </a:xfrm>
          <a:custGeom>
            <a:avLst/>
            <a:gdLst/>
            <a:ahLst/>
            <a:rect l="l" t="t" r="r" b="b"/>
            <a:pathLst>
              <a:path w="1985963" h="2432050">
                <a:moveTo>
                  <a:pt x="0" y="980372"/>
                </a:moveTo>
                <a:lnTo>
                  <a:pt x="62061" y="980372"/>
                </a:lnTo>
                <a:lnTo>
                  <a:pt x="62061" y="1451678"/>
                </a:lnTo>
                <a:lnTo>
                  <a:pt x="0" y="1451678"/>
                </a:lnTo>
                <a:lnTo>
                  <a:pt x="0" y="980372"/>
                </a:lnTo>
                <a:close/>
                <a:moveTo>
                  <a:pt x="124123" y="980372"/>
                </a:moveTo>
                <a:lnTo>
                  <a:pt x="248245" y="980372"/>
                </a:lnTo>
                <a:lnTo>
                  <a:pt x="248245" y="1451678"/>
                </a:lnTo>
                <a:lnTo>
                  <a:pt x="124123" y="1451678"/>
                </a:lnTo>
                <a:lnTo>
                  <a:pt x="124123" y="980372"/>
                </a:lnTo>
                <a:close/>
                <a:moveTo>
                  <a:pt x="310307" y="980372"/>
                </a:moveTo>
                <a:lnTo>
                  <a:pt x="992982" y="980372"/>
                </a:lnTo>
                <a:lnTo>
                  <a:pt x="992982" y="0"/>
                </a:lnTo>
                <a:lnTo>
                  <a:pt x="1985963" y="1216025"/>
                </a:lnTo>
                <a:lnTo>
                  <a:pt x="992982" y="2432050"/>
                </a:lnTo>
                <a:lnTo>
                  <a:pt x="992982" y="1451678"/>
                </a:lnTo>
                <a:lnTo>
                  <a:pt x="310307" y="1451678"/>
                </a:lnTo>
                <a:lnTo>
                  <a:pt x="310307" y="980372"/>
                </a:lnTo>
                <a:close/>
              </a:path>
            </a:pathLst>
          </a:custGeom>
          <a:gradFill rotWithShape="0">
            <a:gsLst>
              <a:gs pos="0">
                <a:srgbClr val="b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6" name="TextBox 25"/>
          <p:cNvSpPr/>
          <p:nvPr/>
        </p:nvSpPr>
        <p:spPr>
          <a:xfrm>
            <a:off x="168120" y="4646520"/>
            <a:ext cx="9555480" cy="1557000"/>
          </a:xfrm>
          <a:prstGeom prst="rect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Inhibition of drug absorption from GIT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cholystyramine, colestipol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crease in synthesis of clotting factors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Vit K, oral contraceptives   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Increase in drug metabolism by microsomal enzyme inducers; 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Carbamazepine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barbiturates, rifampic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7" name="Straight Connector 27"/>
          <p:cNvSpPr/>
          <p:nvPr/>
        </p:nvSpPr>
        <p:spPr>
          <a:xfrm>
            <a:off x="-69840" y="4432320"/>
            <a:ext cx="1005840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8" name="5-Point Star 7"/>
          <p:cNvSpPr/>
          <p:nvPr/>
        </p:nvSpPr>
        <p:spPr>
          <a:xfrm>
            <a:off x="9136080" y="0"/>
            <a:ext cx="922320" cy="595440"/>
          </a:xfrm>
          <a:custGeom>
            <a:avLst/>
            <a:gdLst/>
            <a:ahLst/>
            <a:rect l="l" t="t" r="r" b="b"/>
            <a:pathLst>
              <a:path w="922337" h="595313">
                <a:moveTo>
                  <a:pt x="1" y="227389"/>
                </a:moveTo>
                <a:lnTo>
                  <a:pt x="352303" y="227390"/>
                </a:lnTo>
                <a:lnTo>
                  <a:pt x="461169" y="0"/>
                </a:lnTo>
                <a:lnTo>
                  <a:pt x="570034" y="227390"/>
                </a:lnTo>
                <a:lnTo>
                  <a:pt x="922336" y="227389"/>
                </a:lnTo>
                <a:lnTo>
                  <a:pt x="637316" y="367922"/>
                </a:lnTo>
                <a:lnTo>
                  <a:pt x="746186" y="595311"/>
                </a:lnTo>
                <a:lnTo>
                  <a:pt x="461169" y="454776"/>
                </a:lnTo>
                <a:lnTo>
                  <a:pt x="176151" y="595311"/>
                </a:lnTo>
                <a:lnTo>
                  <a:pt x="285021" y="367922"/>
                </a:lnTo>
                <a:lnTo>
                  <a:pt x="1" y="227389"/>
                </a:lnTo>
                <a:close/>
              </a:path>
            </a:pathLst>
          </a:custGeom>
          <a:solidFill>
            <a:srgbClr val="00279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6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1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6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6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9148680" cy="91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 Narrow"/>
              </a:rPr>
              <a:t>Coagulation Pathways</a:t>
            </a:r>
            <a:endParaRPr b="1" lang="en-US" sz="6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601200" cy="571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wo major pathway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Intrinsic path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Extrinsic path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oth converge to a common pathwa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13</a:t>
            </a:r>
            <a:r>
              <a:rPr b="1" lang="en-US" sz="3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luble factors are involved in clotting which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rmally circulate in an inactive state and  must 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e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activated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o form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Narrow"/>
              </a:rPr>
              <a:t>fibrin clo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257800" y="144612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nitiating factor is outside the blood  </a:t>
            </a:r>
            <a:r>
              <a:rPr b="1" lang="en-US" sz="2800" spc="-1" strike="noStrike">
                <a:solidFill>
                  <a:srgbClr val="ff4362"/>
                </a:solidFill>
                <a:latin typeface="Arial Narrow"/>
              </a:rPr>
              <a:t>    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(tissue factor = thromboplastin)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257800" y="1370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ll clotting factors are within the blood</a:t>
            </a:r>
            <a:endParaRPr b="1" lang="en-US" sz="32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51920" y="1522080"/>
            <a:ext cx="9906120" cy="16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farin is contraindicated during pregnanc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can cross the placental barrier and cause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abortion, hemorrhagic disorder in the fetus and birth defec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0" name="Picture 7" descr="plMembraneW450"/>
          <p:cNvPicPr/>
          <p:nvPr/>
        </p:nvPicPr>
        <p:blipFill>
          <a:blip r:embed="rId1"/>
          <a:stretch/>
        </p:blipFill>
        <p:spPr>
          <a:xfrm>
            <a:off x="1006560" y="3201840"/>
            <a:ext cx="7626240" cy="3276720"/>
          </a:xfrm>
          <a:prstGeom prst="rect">
            <a:avLst/>
          </a:prstGeom>
          <a:ln w="0">
            <a:noFill/>
          </a:ln>
        </p:spPr>
      </p:pic>
      <p:sp>
        <p:nvSpPr>
          <p:cNvPr id="301" name="Oval 10"/>
          <p:cNvSpPr/>
          <p:nvPr/>
        </p:nvSpPr>
        <p:spPr>
          <a:xfrm>
            <a:off x="952560" y="446040"/>
            <a:ext cx="5143320" cy="671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al anticoagulants : Teratogenicity</a:t>
            </a:r>
            <a:endParaRPr b="1" lang="en-US" sz="4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push dir="u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Bleeding due to Warfari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6560" y="2085840"/>
            <a:ext cx="8609040" cy="40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op  the drug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V injection of vitamin K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Fresh frozen blood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GB" sz="38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503280" y="298440"/>
            <a:ext cx="905184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GB" sz="38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503280" y="298440"/>
            <a:ext cx="905184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bd07306_"/>
          <p:cNvPicPr/>
          <p:nvPr/>
        </p:nvPicPr>
        <p:blipFill>
          <a:blip r:embed="rId1"/>
          <a:stretch/>
        </p:blipFill>
        <p:spPr>
          <a:xfrm>
            <a:off x="1981080" y="0"/>
            <a:ext cx="6096240" cy="6465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3962520" y="836640"/>
            <a:ext cx="249228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Thank     You</a:t>
            </a:r>
            <a:endParaRPr b="1" lang="en-US" sz="5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8120" y="-1440"/>
            <a:ext cx="9722160" cy="663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595440"/>
            <a:ext cx="10058400" cy="2235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042920"/>
            <a:ext cx="10058400" cy="74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74520"/>
            <a:ext cx="96393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Common pathway &amp; Fibrin  clot formation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141" name="Picture 45" descr=""/>
          <p:cNvPicPr/>
          <p:nvPr/>
        </p:nvPicPr>
        <p:blipFill>
          <a:blip r:embed="rId1"/>
          <a:stretch/>
        </p:blipFill>
        <p:spPr>
          <a:xfrm>
            <a:off x="380880" y="1217520"/>
            <a:ext cx="92966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Oval 1"/>
          <p:cNvSpPr/>
          <p:nvPr/>
        </p:nvSpPr>
        <p:spPr>
          <a:xfrm>
            <a:off x="4800600" y="3427560"/>
            <a:ext cx="2057400" cy="914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omb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3" name="Lightning Bolt 2"/>
          <p:cNvSpPr/>
          <p:nvPr/>
        </p:nvSpPr>
        <p:spPr>
          <a:xfrm rot="19783200">
            <a:off x="1305000" y="4615920"/>
            <a:ext cx="2133360" cy="1827360"/>
          </a:xfrm>
          <a:prstGeom prst="lightningBol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Endogenous Inhibitors of Coagulation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815840"/>
            <a:ext cx="92199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ntithrombin III,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is a plasma protein that inhibits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ctivated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rombin  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(factor IIa) and Xa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t is the site of action of heparin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rostacyclin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 PG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, is synthesized by endothelial cells and inhibits platelet aggreg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rotein C and Protein 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3"/>
          <p:cNvSpPr/>
          <p:nvPr/>
        </p:nvSpPr>
        <p:spPr>
          <a:xfrm>
            <a:off x="1068480" y="3492360"/>
            <a:ext cx="2535120" cy="1478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38080" y="2360520"/>
            <a:ext cx="3429000" cy="148932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arenteral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Anticoagulan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699160" y="2382840"/>
            <a:ext cx="3940200" cy="148896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Oral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Anticoagulan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2514600" y="1265400"/>
            <a:ext cx="1760400" cy="9680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448240" y="1265400"/>
            <a:ext cx="1927440" cy="1042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341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COAGULANTS</a:t>
            </a:r>
            <a:endParaRPr b="1" lang="en-US" sz="4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4021200"/>
            <a:ext cx="452916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Thrombin inhibitor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rect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783400" y="4265640"/>
            <a:ext cx="36874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Vitamin K antagonis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rf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2160" y="1170720"/>
            <a:ext cx="28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Clr>
                <a:srgbClr val="00b7a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Indication of anti-coagulants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nticoagulants are indicated in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yocardial infarction (MI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ep venous thrombosis (DVT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eripheral arterial emboli, pulmonary embolism (PE) and many other condition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coagulants are also used in blood transfusions, and dialysis procedure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ieldez Bassiouni</cp:lastModifiedBy>
  <cp:lastPrinted>1999-10-19T15:38:23Z</cp:lastPrinted>
  <dcterms:modified xsi:type="dcterms:W3CDTF">2017-01-02T09:45:51Z</dcterms:modified>
  <cp:revision>455</cp:revision>
  <dc:subject/>
  <dc:title>Management of Oral Anticoagulant Therapy</dc:title>
</cp:coreProperties>
</file>