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30433A-665E-4377-B4FD-CDF343566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Phosphodiesterase" TargetMode="External"/><Relationship Id="rId2" Type="http://schemas.openxmlformats.org/officeDocument/2006/relationships/hyperlink" Target="https://en.wikipedia.org/wiki/Cyclic_adenosine_monophosphate" TargetMode="External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fld id="{6E2FA290-6044-43F4-B5B4-35CDD4FECF88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3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5C2E101-878F-400B-8990-B15B543984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973FE8B-6B9A-4ABE-B70B-C9C8F62EE1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giopla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32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4046942-08D0-44B9-A93B-445B90403B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Phosphodiester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enzymes that normally break down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A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3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9F02822-A600-4C50-AE6A-059C79A1D8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3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1023AE4-BB44-49DD-A17F-C368BFED75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6669C7-915B-42D1-B9CC-9933A369837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dt" idx="22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3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2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65B82E4-C9BB-4676-886C-281021DB632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dt" idx="25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6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0C5B6DB-87FA-4661-B576-975B586D868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dt" idx="28"/>
          </p:nvPr>
        </p:nvSpPr>
        <p:spPr>
          <a:xfrm>
            <a:off x="1440" y="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ithrombotic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29"/>
          </p:nvPr>
        </p:nvSpPr>
        <p:spPr>
          <a:xfrm>
            <a:off x="388620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3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BC95AF1-31C5-4F30-A9B6-0709B030D7D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93C-E97D-4DD4-8905-5472D0E1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96C-8A05-420D-8D61-75F19ADB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7C9-7359-4FEF-AF12-9ABF566D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C0E-E740-4C93-8493-A574FCC4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E92E-6CE0-4D86-9E49-2FC58249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72E-941B-4AA6-AE66-9B2DFAED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36E5-C483-44D4-9EB2-1D5BD801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E8C4-FBA5-4F3F-BAC2-03BA4B7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BFAD-0BBB-47CB-80BE-4577E3E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5AEF-B984-4CC6-8327-33F981D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093E-8C42-4856-942E-BCC6CF12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109-C409-48F6-87E2-FFA319E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6259-23DA-41FE-A50E-E8556D9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1624-AFC1-4FAE-8E5C-EE219FED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AAF-CAE4-4041-8F1D-904414A4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45FA-AA0E-40AE-BE8B-7F6F16E9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5D49-3FD3-4A70-840F-1A4A1BED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FBFD-1761-4AFC-B95C-1E11416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8785D-D521-4272-B8E1-DF73B37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3E19C-D40B-4BC6-B6EE-8D909BA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C0AF-1107-41B5-97DD-91AA43F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0ECA-F383-4C35-878C-7B1F2136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A7A-87AE-47D4-B9D5-1387D92B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A59D6-E17B-4BAA-BCEB-18DD3522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1D76-72EE-4FAD-88B9-7F838DE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1DBB-01A4-4EFB-A699-E13FE7B8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1A1C-0530-4E29-B42D-4C46403C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9E531-B500-484A-8B0C-807840BC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A60B-7F35-402A-A59B-27CD4A16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4C77E-C7B1-4D0C-A106-FBE2F2F2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D05C-AAB4-4F4C-9914-3F613956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0C73-A0E1-4C7B-98D0-7A6BB288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4B0C5-E744-40FA-9556-D9D2AB0A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C9E-388B-47CD-A4BC-A0C0F3CC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DDFC-8743-4739-B6C0-2ECE6714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CEB80-9034-4DF3-B76D-5EDD3B6E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0048E-C7FC-48AE-B3B6-C822423E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5B010-662F-4628-B25B-C5C291D0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BA4C-A9C0-4CA8-A62D-54CA1B7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82EE-3ACB-4F68-8583-AB08698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950F-C745-45EB-BE44-E6243886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4BAA1-B984-492C-AEEE-3AB45588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E8A7C-2195-4CA9-BE72-E8700DCB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A5D-7796-468E-AE83-8F9A379D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6B5-C4DE-422C-9875-2DD9B17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CF4-9CC6-4E0B-91B3-7A59E976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94A-CFA2-4BD6-9D36-41625E7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62C-D965-4D05-A411-11A223F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1D4053-590A-4B0E-98B2-5073BCA33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E6627D-2032-4AE3-85C9-56E5CA848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D6524-3099-4515-AB9F-6EE390C14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EBC02-2C71-4E74-9579-3BB82925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2Y12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22440" y="1052640"/>
            <a:ext cx="777204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5050"/>
                </a:solidFill>
                <a:latin typeface="Arial"/>
              </a:rPr>
              <a:t>ANTI-PLATELET DRU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79280" y="260280"/>
            <a:ext cx="8713440" cy="5616360"/>
          </a:xfrm>
          <a:prstGeom prst="rect">
            <a:avLst/>
          </a:prstGeom>
          <a:solidFill>
            <a:srgbClr val="def6f1"/>
          </a:solidFill>
          <a:ln w="0">
            <a:solidFill>
              <a:srgbClr val="def6f1"/>
            </a:solidFill>
          </a:ln>
        </p:spPr>
        <p:txBody>
          <a:bodyPr numCol="1" spcCol="0" tIns="0" anchor="t">
            <a:noAutofit/>
          </a:bodyPr>
          <a:p>
            <a:pPr marL="533520" indent="-533520">
              <a:lnSpc>
                <a:spcPct val="100000"/>
              </a:lnSpc>
              <a:spcBef>
                <a:spcPts val="181"/>
              </a:spcBef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Classification of antiplatelet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Arachidonic acid pathway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Phosphodiesterase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Dipyrida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ADP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clopidine  -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opidog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buClr>
                <a:srgbClr val="320e04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Glycoprotein IIb/IIIa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20e04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iximab – Eptifibatide -Tirofi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75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75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75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75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75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75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75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75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rachidonic acid pathway inhibito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spirin (Acetylsalicylic Acid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rreversi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hibition of cyclooxygenase enzyme ( COX-1 ) via acety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ll dose inhibits thromboxane (TXA2) synthesis in  platele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ot prostacyclin (PG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synthesis in  endothelium (larger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8000" y="26028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ses of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ophylaxis of thromboemboli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ion of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nsient ischemic attack,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chemic stroke and myocardial infar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Times New Roman"/>
              </a:rPr>
              <a:t>Prevention of ischemic event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patients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able angina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ctor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2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can be combined with other antiplatelet drugs (clopidogrel) or anticoagulants (hepa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os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dose aspirin (81 mg enteric coated tablet/day ) is the most common dose used to prevent a heart attack or a stro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2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de effects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f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5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of 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50000"/>
              </a:lnSpc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incidence of GIT bleeding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(aspi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rolongs bleeding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5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6000" y="333360"/>
            <a:ext cx="889272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ADP pathway inhibitor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Ticlopidine &amp; Clopidogr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Mechanism of actio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rugs specifically and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rreversib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hibit ADP receptor of subtype </a:t>
            </a:r>
            <a:r>
              <a:rPr b="1" lang="en-US" sz="3200" spc="-1" strike="noStrike" u="sng">
                <a:solidFill>
                  <a:srgbClr val="0066cc"/>
                </a:solidFill>
                <a:uFillTx/>
                <a:latin typeface="Times New Roman"/>
                <a:hlinkClick r:id="rId1"/>
              </a:rPr>
              <a:t>P2Y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is required for platelets activation thus prevent platelet aggreg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2Y12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urinergic recep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s a chemoreceptor for adenosine diphosphate (AD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264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P pathway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low onset of action (3 - 5 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pro-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y have to be activated in the l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 algn="just">
              <a:lnSpc>
                <a:spcPct val="105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 to plasma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inical Uses of ADP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21"/>
              </a:spcBef>
              <a:buClr>
                <a:srgbClr val="c00000"/>
              </a:buClr>
              <a:buSzPct val="70000"/>
              <a:buFont typeface="Wingdings" charset="2"/>
              <a:buChar char=""/>
              <a:tabLst>
                <a:tab algn="l" pos="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ondary prevention of ischemic complications after myocardial infarction, ischemic stroke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table ang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se Effects of ADP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 neutropenia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C should be do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during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ee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prolong bleeding time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.I.T 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, dyspepsia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 algn="just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ergic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rug interaction of ADP inhibitor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inhibit CYT P450 causing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reased plasma level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drugs such as phenytoin and carbamaze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opidog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more potent than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frequency of administration (given once daily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ide effec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less neutrope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availability is unaffected by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1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Clopidogrel has replaced ticlop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135640" cy="764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ndications for Clopidog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5360" y="1411200"/>
            <a:ext cx="8784720" cy="5689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atients with a histor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cent myocardial infarction (MI), recent stroke, or established peripheral arteri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atients wi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ute coronary syndro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unstable angina/ MI): either those managed medically or with percutaneous coronary intervention ( PCI ) with or without s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balloon with stent opening lumen artery - stock photo"/>
          <p:cNvPicPr/>
          <p:nvPr/>
        </p:nvPicPr>
        <p:blipFill>
          <a:blip r:embed="rId1"/>
          <a:stretch/>
        </p:blipFill>
        <p:spPr>
          <a:xfrm>
            <a:off x="395280" y="2120760"/>
            <a:ext cx="8137080" cy="44762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"/>
          <p:cNvSpPr/>
          <p:nvPr/>
        </p:nvSpPr>
        <p:spPr>
          <a:xfrm>
            <a:off x="179280" y="476280"/>
            <a:ext cx="878472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ary angioplasty (percutaneous coronary intervention, PCI) is a procedure used to open clogged heart arteries. Angioplasty involves temporarily inserting and inflating a tiny balloon to help widen the 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"/>
          <p:cNvSpPr/>
          <p:nvPr/>
        </p:nvSpPr>
        <p:spPr>
          <a:xfrm>
            <a:off x="182520" y="404640"/>
            <a:ext cx="89150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y the end of this lecture, students should be able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describe different classes of anti-platelet drugs and their 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derstand pharmacological effects, pharmacokinetics, clinical uses and adverse effects of anti-platelet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250920" y="333360"/>
            <a:ext cx="8713440" cy="65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ew ADP Pathway Inhibi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asug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rreversible inhibitor of the P2Y12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icagre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versible inhibitor of the P2Y12 re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66cc"/>
              </a:buClr>
              <a:buFont typeface="Wingdings" charset="2"/>
              <a:buChar char="-"/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h have more rapid onset of action than clopidog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66cc"/>
              </a:buClr>
              <a:buFont typeface="Wingdings" charset="2"/>
              <a:buChar char="-"/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oth drugs do not need hepatic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179280" y="476280"/>
            <a:ext cx="8713440" cy="66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0000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reduce the rate of thrombotic cardiovascular events (including stent thrombosis) in patients with acute coronary syndrome who are to be managed by PC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dverse effec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th increase bleeding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66cc"/>
              </a:buClr>
              <a:buFont typeface="StarSymbol"/>
              <a:buChar char="-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cagrelor causes dysp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Glycoprotein IIb/ IIIa receptor inhibito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bciximab, tirofiban &amp; eptifibatid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lycoprotein  IIb/ IIIa recept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required for platelet aggregation with each others and with fibrinogen and von Willbrand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Abcixima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100000"/>
              </a:lnSpc>
              <a:spcBef>
                <a:spcPts val="641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ibits platelet aggregation by preventing the binding of fibronigen, von Willebrand factor, and other adhesive molecules to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PIIb/II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ceptor sites on activated plate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1344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bcixim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5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I.V. in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19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used wi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par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pir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adjunct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CI for the prevention of cardiac ischem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4720" cy="619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irofiban &amp; Eptifibatide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Tirofib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non-peptide dru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Epitafibati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eptide drug)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 by occupying the site on glycoprotein IIb/ IIIa receptor that is required to bind the platelet to fibrinoge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 act as fibrinogen- mimetic agents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are given intravenously for the reduction of incidence of thrombotic complications during coronary angioplasty (P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179280" y="260280"/>
            <a:ext cx="864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pyridam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It is a vasodi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hibits phosphodiestrase thus increases cAMP causing  decreased synthesis of thromboxane A2 and other platelet aggregating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8856360" cy="6668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Uses of dipyridamo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junctive therapy for prophylaxis of thromboembolism in cardiac valve replacement (with warfarin)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90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prevention of stroke and transient ischemic attack (with 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-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0"/>
          <p:cNvSpPr/>
          <p:nvPr/>
        </p:nvSpPr>
        <p:spPr>
          <a:xfrm>
            <a:off x="3276720" y="914400"/>
            <a:ext cx="251424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scular In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7200" y="1830240"/>
            <a:ext cx="3809520" cy="37908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posure of collagen and v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5029200" y="1828800"/>
            <a:ext cx="289512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issue factor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85800" y="2666880"/>
            <a:ext cx="350496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dhesion and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5078520" y="2666880"/>
            <a:ext cx="299844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tivation of coa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57200" y="3516480"/>
            <a:ext cx="3733560" cy="369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recruitment and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132520" y="3476520"/>
            <a:ext cx="2563560" cy="3330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mbi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5029200" y="4267080"/>
            <a:ext cx="2374560" cy="3805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brin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359000" y="4368960"/>
            <a:ext cx="2679480" cy="355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048120" y="5295960"/>
            <a:ext cx="2971440" cy="342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– fibrin thr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4024080" y="32040"/>
            <a:ext cx="1095480" cy="8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3"/>
          <p:cNvCxnSpPr/>
          <p:nvPr/>
        </p:nvCxnSpPr>
        <p:spPr>
          <a:xfrm flipH="1">
            <a:off x="3962160" y="1295280"/>
            <a:ext cx="53388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4" name="Straight Arrow Connector 34"/>
          <p:cNvCxnSpPr/>
          <p:nvPr/>
        </p:nvCxnSpPr>
        <p:spPr>
          <a:xfrm>
            <a:off x="4572000" y="1295280"/>
            <a:ext cx="68616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5" name="Straight Arrow Connector 35"/>
          <p:cNvCxnSpPr/>
          <p:nvPr/>
        </p:nvCxnSpPr>
        <p:spPr>
          <a:xfrm flipH="1">
            <a:off x="2666880" y="2211120"/>
            <a:ext cx="180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6" name="Straight Arrow Connector 36"/>
          <p:cNvCxnSpPr/>
          <p:nvPr/>
        </p:nvCxnSpPr>
        <p:spPr>
          <a:xfrm flipH="1">
            <a:off x="5941800" y="2211120"/>
            <a:ext cx="216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7" name="Straight Arrow Connector 37"/>
          <p:cNvCxnSpPr/>
          <p:nvPr/>
        </p:nvCxnSpPr>
        <p:spPr>
          <a:xfrm flipH="1">
            <a:off x="2666880" y="3049560"/>
            <a:ext cx="1800" cy="4557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8" name="Straight Arrow Connector 38"/>
          <p:cNvCxnSpPr/>
          <p:nvPr/>
        </p:nvCxnSpPr>
        <p:spPr>
          <a:xfrm flipH="1">
            <a:off x="2666880" y="3887640"/>
            <a:ext cx="180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9" name="Straight Arrow Connector 39"/>
          <p:cNvCxnSpPr/>
          <p:nvPr/>
        </p:nvCxnSpPr>
        <p:spPr>
          <a:xfrm flipH="1">
            <a:off x="5941800" y="3049560"/>
            <a:ext cx="2160" cy="4557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0" name="Straight Arrow Connector 40"/>
          <p:cNvCxnSpPr/>
          <p:nvPr/>
        </p:nvCxnSpPr>
        <p:spPr>
          <a:xfrm flipH="1">
            <a:off x="5941800" y="3811320"/>
            <a:ext cx="2160" cy="4561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1" name="Straight Arrow Connector 41"/>
          <p:cNvCxnSpPr/>
          <p:nvPr/>
        </p:nvCxnSpPr>
        <p:spPr>
          <a:xfrm flipH="1">
            <a:off x="4800600" y="4647960"/>
            <a:ext cx="381240" cy="6102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32" name="Straight Arrow Connector 42"/>
          <p:cNvCxnSpPr/>
          <p:nvPr/>
        </p:nvCxnSpPr>
        <p:spPr>
          <a:xfrm>
            <a:off x="3657600" y="4724280"/>
            <a:ext cx="609840" cy="5338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0"/>
          <p:cNvSpPr/>
          <p:nvPr/>
        </p:nvSpPr>
        <p:spPr>
          <a:xfrm>
            <a:off x="3314880" y="430200"/>
            <a:ext cx="2422080" cy="3553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que Disru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27240" y="1117440"/>
            <a:ext cx="13158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4861080" y="1117440"/>
            <a:ext cx="10062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732040" y="1801800"/>
            <a:ext cx="3897000" cy="3600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dhesion and secr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619280" y="2330280"/>
            <a:ext cx="1172880" cy="412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6875640" y="2492280"/>
            <a:ext cx="1441080" cy="86472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iclopid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lopidog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148360" y="5373720"/>
            <a:ext cx="1655280" cy="8553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bcixim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Eptifibat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Tirofi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484360" y="6427800"/>
            <a:ext cx="2644560" cy="385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Straight Arrow Connector 39"/>
          <p:cNvCxnSpPr>
            <a:stCxn id="233" idx="2"/>
          </p:cNvCxnSpPr>
          <p:nvPr/>
        </p:nvCxnSpPr>
        <p:spPr>
          <a:xfrm flipH="1">
            <a:off x="4267080" y="785520"/>
            <a:ext cx="259200" cy="357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2" name="Straight Arrow Connector 40"/>
          <p:cNvCxnSpPr>
            <a:stCxn id="233" idx="2"/>
          </p:cNvCxnSpPr>
          <p:nvPr/>
        </p:nvCxnSpPr>
        <p:spPr>
          <a:xfrm>
            <a:off x="4525920" y="785520"/>
            <a:ext cx="378000" cy="333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3" name="Straight Arrow Connector 41"/>
          <p:cNvCxnSpPr/>
          <p:nvPr/>
        </p:nvCxnSpPr>
        <p:spPr>
          <a:xfrm>
            <a:off x="3655800" y="1417320"/>
            <a:ext cx="360" cy="413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4" name="Straight Arrow Connector 42"/>
          <p:cNvCxnSpPr/>
          <p:nvPr/>
        </p:nvCxnSpPr>
        <p:spPr>
          <a:xfrm>
            <a:off x="5410080" y="1415880"/>
            <a:ext cx="360" cy="413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5" name="Straight Arrow Connector 43"/>
          <p:cNvCxnSpPr/>
          <p:nvPr/>
        </p:nvCxnSpPr>
        <p:spPr>
          <a:xfrm flipH="1">
            <a:off x="3655800" y="2106360"/>
            <a:ext cx="3600" cy="7909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6" name="Straight Arrow Connector 44"/>
          <p:cNvCxnSpPr/>
          <p:nvPr/>
        </p:nvCxnSpPr>
        <p:spPr>
          <a:xfrm>
            <a:off x="3655800" y="3367080"/>
            <a:ext cx="360" cy="4939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7" name="Straight Arrow Connector 45"/>
          <p:cNvCxnSpPr/>
          <p:nvPr/>
        </p:nvCxnSpPr>
        <p:spPr>
          <a:xfrm>
            <a:off x="5410080" y="2095200"/>
            <a:ext cx="360" cy="49428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48" name="Straight Arrow Connector 46"/>
          <p:cNvCxnSpPr/>
          <p:nvPr/>
        </p:nvCxnSpPr>
        <p:spPr>
          <a:xfrm>
            <a:off x="5435280" y="2839680"/>
            <a:ext cx="360" cy="741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49" name="Text Box 7"/>
          <p:cNvSpPr/>
          <p:nvPr/>
        </p:nvSpPr>
        <p:spPr>
          <a:xfrm>
            <a:off x="2268360" y="3860640"/>
            <a:ext cx="4177800" cy="3996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let recruitment and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Straight Arrow Connector 48"/>
          <p:cNvCxnSpPr/>
          <p:nvPr/>
        </p:nvCxnSpPr>
        <p:spPr>
          <a:xfrm>
            <a:off x="2798640" y="2469960"/>
            <a:ext cx="590760" cy="3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1" name="TextBox 49"/>
          <p:cNvSpPr/>
          <p:nvPr/>
        </p:nvSpPr>
        <p:spPr>
          <a:xfrm>
            <a:off x="3478320" y="2286000"/>
            <a:ext cx="123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1"/>
          <p:cNvSpPr/>
          <p:nvPr/>
        </p:nvSpPr>
        <p:spPr>
          <a:xfrm>
            <a:off x="5094360" y="2484360"/>
            <a:ext cx="696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53"/>
          <p:cNvCxnSpPr/>
          <p:nvPr/>
        </p:nvCxnSpPr>
        <p:spPr>
          <a:xfrm>
            <a:off x="5478120" y="3046320"/>
            <a:ext cx="8640" cy="1440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4" name="Text Box 4"/>
          <p:cNvSpPr/>
          <p:nvPr/>
        </p:nvSpPr>
        <p:spPr>
          <a:xfrm>
            <a:off x="2340000" y="4915080"/>
            <a:ext cx="2303280" cy="3855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Pllb / llla acti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5"/>
          <p:cNvCxnSpPr/>
          <p:nvPr/>
        </p:nvCxnSpPr>
        <p:spPr>
          <a:xfrm>
            <a:off x="3708360" y="4365360"/>
            <a:ext cx="360" cy="49572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6" name="Straight Arrow Connector 56"/>
          <p:cNvCxnSpPr/>
          <p:nvPr/>
        </p:nvCxnSpPr>
        <p:spPr>
          <a:xfrm>
            <a:off x="3736800" y="5448240"/>
            <a:ext cx="32040" cy="93384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57" name="Straight Arrow Connector 57"/>
          <p:cNvCxnSpPr/>
          <p:nvPr/>
        </p:nvCxnSpPr>
        <p:spPr>
          <a:xfrm>
            <a:off x="4625640" y="5168880"/>
            <a:ext cx="22680" cy="12960"/>
          </a:xfrm>
          <a:prstGeom prst="straightConnector1">
            <a:avLst/>
          </a:prstGeom>
          <a:ln w="254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58" name="TextBox 58"/>
          <p:cNvSpPr/>
          <p:nvPr/>
        </p:nvSpPr>
        <p:spPr>
          <a:xfrm>
            <a:off x="3564000" y="5715000"/>
            <a:ext cx="38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929200" y="0"/>
            <a:ext cx="3214440" cy="85680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Mechanisms of action of antiplatelet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رابط كسهم مستقيم 39"/>
          <p:cNvCxnSpPr/>
          <p:nvPr/>
        </p:nvCxnSpPr>
        <p:spPr>
          <a:xfrm flipH="1">
            <a:off x="3924000" y="5876640"/>
            <a:ext cx="1153080" cy="360"/>
          </a:xfrm>
          <a:prstGeom prst="straightConnector1">
            <a:avLst/>
          </a:prstGeom>
          <a:ln w="47625">
            <a:solidFill>
              <a:srgbClr val="cc0000"/>
            </a:solidFill>
            <a:round/>
            <a:tailEnd len="med" type="arrow" w="med"/>
          </a:ln>
        </p:spPr>
      </p:cxnSp>
      <p:cxnSp>
        <p:nvCxnSpPr>
          <p:cNvPr id="261" name="رابط كسهم مستقيم 40"/>
          <p:cNvCxnSpPr/>
          <p:nvPr/>
        </p:nvCxnSpPr>
        <p:spPr>
          <a:xfrm flipH="1">
            <a:off x="5651280" y="2997000"/>
            <a:ext cx="1153080" cy="360"/>
          </a:xfrm>
          <a:prstGeom prst="straightConnector1">
            <a:avLst/>
          </a:prstGeom>
          <a:ln w="47625">
            <a:solidFill>
              <a:srgbClr val="cc0000"/>
            </a:solidFill>
            <a:round/>
            <a:tailEnd len="med" type="arrow" w="med"/>
          </a:ln>
        </p:spPr>
      </p:cxnSp>
      <p:sp>
        <p:nvSpPr>
          <p:cNvPr id="262" name="TextBox 58"/>
          <p:cNvSpPr/>
          <p:nvPr/>
        </p:nvSpPr>
        <p:spPr>
          <a:xfrm>
            <a:off x="5292720" y="2781360"/>
            <a:ext cx="387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"/>
          <p:cNvSpPr/>
          <p:nvPr/>
        </p:nvSpPr>
        <p:spPr>
          <a:xfrm>
            <a:off x="3205080" y="2954160"/>
            <a:ext cx="1006200" cy="32976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134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healthy vess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tric oxide and prostacyc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leased by endothelial cells lining the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ibit platelets ag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to the vessel wall leads to interaction between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latele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ndothel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ag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lead to formation 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ldNum" idx="1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588EAC-1B3E-4F55-A1F4-783754646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telets and vess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Group 73"/>
          <p:cNvGraphicFramePr/>
          <p:nvPr/>
        </p:nvGraphicFramePr>
        <p:xfrm>
          <a:off x="285840" y="765000"/>
          <a:ext cx="8500680" cy="5933880"/>
        </p:xfrm>
        <a:graphic>
          <a:graphicData uri="http://schemas.openxmlformats.org/drawingml/2006/table">
            <a:tbl>
              <a:tblPr/>
              <a:tblGrid>
                <a:gridCol w="4695480"/>
                <a:gridCol w="2779200"/>
                <a:gridCol w="1025640"/>
              </a:tblGrid>
              <a:tr h="8128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hibition of thromboxane A2 synthesis via inhibiting COX-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ir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DP receptor antago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opidogrel                Ticlopi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GP IIb / IIIa receptor antagon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ciximab                  Tirofiban            Eptifibat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.V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0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hosphodiestrase  (PDE) inhibito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pyridam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042920" y="144360"/>
            <a:ext cx="6400440" cy="547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22560" t="0" r="15801" b="1086"/>
          <a:stretch/>
        </p:blipFill>
        <p:spPr>
          <a:xfrm>
            <a:off x="1590840" y="228600"/>
            <a:ext cx="5911560" cy="632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381520" cy="4395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90000"/>
          </a:bodyPr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OMB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CLOT that adheres to vessel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MBO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CLOT that floats in the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ROMB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s the formation of unwanted clot within the blood vessel, producing life threatening conditions such as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ute myocardial infarction  (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cute ischemic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ep vein thrombosis (DV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100000"/>
              </a:lnSpc>
              <a:spcBef>
                <a:spcPts val="561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ulmonary embolism (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Num" idx="1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B95DC-3635-4B78-8170-C336A7240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4720" cy="632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rcRect l="24999" t="20968" r="4688" b="16665"/>
          <a:stretch/>
        </p:blipFill>
        <p:spPr>
          <a:xfrm>
            <a:off x="179280" y="1052640"/>
            <a:ext cx="6192360" cy="5600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6516720" y="1052640"/>
            <a:ext cx="2447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ollowing vascular injury,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von Willebrand fact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inds to collagen in the exposed subendothelium at the site of inju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 other site of the “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od-formed”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von Willebrand factor binds to the platelet receptor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PI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platelets are thereby anchored to the site of the injured endothelium. This is calle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dhes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713440" cy="63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28" descr=""/>
          <p:cNvPicPr/>
          <p:nvPr/>
        </p:nvPicPr>
        <p:blipFill>
          <a:blip r:embed="rId1"/>
          <a:srcRect l="26564" t="20968" r="12182" b="20831"/>
          <a:stretch/>
        </p:blipFill>
        <p:spPr>
          <a:xfrm>
            <a:off x="250920" y="765000"/>
            <a:ext cx="6192360" cy="5917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"/>
          <p:cNvSpPr/>
          <p:nvPr/>
        </p:nvSpPr>
        <p:spPr>
          <a:xfrm>
            <a:off x="6443640" y="987480"/>
            <a:ext cx="252072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llowing adhesion, agonists such a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ollagen, thrombin, adenosine diphosphate (ADP), and thromboxane A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ivate platelets by binding to their respective platelet recept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rcRect l="25782" t="20968" r="10705" b="21847"/>
          <a:stretch/>
        </p:blipFill>
        <p:spPr>
          <a:xfrm>
            <a:off x="71280" y="981000"/>
            <a:ext cx="6876720" cy="55432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6948360" y="971640"/>
            <a:ext cx="208728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s a result of agonist binding, platelets underg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 shape chang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new structures such a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hospholipids and GPIIb/IIIa receptor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 exposed on the cell membrane. This i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447840" y="549360"/>
            <a:ext cx="87134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4840" y="189000"/>
            <a:ext cx="8615160" cy="57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821440" cy="504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role of platelets in hem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28126" t="20968" r="8594" b="20831"/>
          <a:stretch/>
        </p:blipFill>
        <p:spPr>
          <a:xfrm>
            <a:off x="36360" y="907920"/>
            <a:ext cx="6406920" cy="5878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6443640" y="1214280"/>
            <a:ext cx="262872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hird step of platelet response i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g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After activation, binding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ibrinogen to GPIIb/II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platelets to adhere to each oth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 a loose platelet plu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2920" y="76320"/>
            <a:ext cx="8714880" cy="6495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Drugs used in thromb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nticoagul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s which prevent clotting by inhibiting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lotting facto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agulation process)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used in prevention and treatment of thromb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ntiplatele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s which prevent and inhibi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latelet activation and aggressio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used as prophylactic therapy in high risk patien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hrombolytics or Fibrinolytics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ct by 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</a:rPr>
              <a:t>dissolving existing or already formed thromb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r emboli and used </a:t>
            </a:r>
            <a:r>
              <a:rPr b="0" lang="en-GB" sz="3200" spc="-1" strike="noStrike">
                <a:solidFill>
                  <a:srgbClr val="c00000"/>
                </a:solidFill>
                <a:latin typeface="Times New Roman"/>
              </a:rPr>
              <a:t>in the acute  treatment of thromb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Default Design">
  <a:themeElements>
    <a:clrScheme name="Default Design 4">
      <a:dk1>
        <a:srgbClr val="000000"/>
      </a:dk1>
      <a:lt1>
        <a:srgbClr val="def6f1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969696"/>
      </a:lt2>
      <a:accent1>
        <a:srgbClr val="ffffff"/>
      </a:accent1>
      <a:accent2>
        <a:srgbClr val="8dc6ff"/>
      </a:accent2>
      <a:accent3>
        <a:srgbClr val="ecfaf7"/>
      </a:accent3>
      <a:accent4>
        <a:srgbClr val="000000"/>
      </a:accent4>
      <a:accent5>
        <a:srgbClr val="ffffff"/>
      </a:accent5>
      <a:accent6>
        <a:srgbClr val="7fb3e7"/>
      </a:accent6>
      <a:hlink>
        <a:srgbClr val="0066cc"/>
      </a:hlink>
      <a:folHlink>
        <a:srgbClr val="00a8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  <Words>1301</Words>
  <Paragraphs>2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8:02:30Z</dcterms:created>
  <dc:creator>administrator</dc:creator>
  <dc:description/>
  <dc:language>en-US</dc:language>
  <cp:lastModifiedBy>نوف</cp:lastModifiedBy>
  <cp:lastPrinted>1601-01-01T00:00:00Z</cp:lastPrinted>
  <dcterms:modified xsi:type="dcterms:W3CDTF">2019-12-28T17:55:44Z</dcterms:modified>
  <cp:revision>313</cp:revision>
  <dc:subject/>
  <dc:title>ADRENOCEPTOR AGONIST SYMPATHOMIME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1</vt:r8>
  </property>
</Properties>
</file>