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B8153D-6063-4479-AF4C-2FE6F4B28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Phosphodiesterase" TargetMode="External"/><Relationship Id="rId2" Type="http://schemas.openxmlformats.org/officeDocument/2006/relationships/hyperlink" Target="https://en.wikipedia.org/wiki/Cyclic_adenosine_monophosphate" TargetMode="External"/><Relationship Id="rId3" Type="http://schemas.openxmlformats.org/officeDocument/2006/relationships/slide" Target="../slides/slide26.xml"/><Relationship Id="rId4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fld id="{6D1C6C13-EC19-4F46-A737-A8A62D60886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31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6CE0CC2-407E-40D2-B877-0F9F6F9011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8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9E5B22C-7076-408A-B50A-4D0D5BE0A5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giopla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32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65447FE-50A9-4402-9200-966C98C432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Phosphodiester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enzymes that normally break down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A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33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CA37AA1-1304-403D-B042-B1B3F4BD04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34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2465028-FE6B-421E-B5FC-A0890EDB23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144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thrombotic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388620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ember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092FEB5-C7C0-4BF9-AC20-ECE020DA5EB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dt" idx="22"/>
          </p:nvPr>
        </p:nvSpPr>
        <p:spPr>
          <a:xfrm>
            <a:off x="144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thrombotic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ftr" idx="23"/>
          </p:nvPr>
        </p:nvSpPr>
        <p:spPr>
          <a:xfrm>
            <a:off x="388620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ember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24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7C79A3D-6C0C-41D3-A07F-C04B7EE42E2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5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dt" idx="25"/>
          </p:nvPr>
        </p:nvSpPr>
        <p:spPr>
          <a:xfrm>
            <a:off x="144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thrombotic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6"/>
          </p:nvPr>
        </p:nvSpPr>
        <p:spPr>
          <a:xfrm>
            <a:off x="388620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ember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7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70FC54C-AE6E-4992-B7D4-81EEE8C8EEE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5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dt" idx="28"/>
          </p:nvPr>
        </p:nvSpPr>
        <p:spPr>
          <a:xfrm>
            <a:off x="144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thrombotic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ftr" idx="29"/>
          </p:nvPr>
        </p:nvSpPr>
        <p:spPr>
          <a:xfrm>
            <a:off x="388620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ember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30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4C3B3CE-4329-48D0-94B9-1494DACAEE9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5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7D07-FDF5-4FD8-9C0B-D00C6354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CE5-E7C6-476E-A35F-9C60B427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CEF-E0AB-4283-BFF5-FF7580E6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E63-354B-4E42-A058-C576A500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140E-01B3-4774-9689-0CF0E93A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3594-97E5-4AC7-AB9F-EDBC3998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A217-663A-4CF0-AF67-C8CA0037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B1FF-A432-4247-8E3F-B35627CA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1405-5C1D-492B-ACB1-A187EB2D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2604-DCF2-4F30-9794-73803E05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7260-185C-401F-A40A-FFB8A6C3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8EC7-A118-4EB0-ADDC-A4E79072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D328-E2AF-4A7E-8DFA-E982AC41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36D7-6FD4-4D46-B8A5-562520D2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B4D5-587A-42BB-8F4B-FA42BD04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FFD6-1A79-469F-86C2-543DA9AB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09BC-8071-4594-AC63-10664787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859A6-DC6B-4D14-A02F-045D417D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30D1E-E9B7-46EB-8DA2-B5ED4D43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24BBE-384E-470F-B65C-53214FE3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0EA9B-ACF1-4708-B86C-A23192FB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2DA5D-4AF8-404A-8CC9-93C8F1C8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06E-40D1-4E0F-BC57-6E9C180E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3C465-52BE-4CB6-AAE5-FE1ACA90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346F8-C818-4AC0-8EBE-EA3146FC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1B5BD-0294-4B5A-A2BC-8AA0F3FE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E10D4-BF4C-4B78-9455-031C1E7E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B73BC-2971-4CE1-A639-9A0626D7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110AD-C480-4457-823E-58C62482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B93AA-DB38-4DC2-9CEA-D47D093C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03325-CCB5-4D94-A722-5EEC4D92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3741A-6747-4ED2-A5FE-E28A2515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9EC7F-FBE7-4AD7-BB85-10CADAA6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ADC2-8959-45B7-B177-FF0783F2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60E0A-0356-4107-93DA-7FB4CEBA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BDAB9-C9AA-4F84-9CFF-032307BA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C81DC-A17B-425B-A73C-A42ED647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10935-3F68-49AE-8F23-A5235316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42DA2-4465-4446-8809-2FA4D539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D9C2A-4C74-4F0C-8E4B-3208AAD7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E6DAC-80DE-4C05-BC90-9F820D05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8EA1F-ADDB-4C75-A12C-DA3A6EE3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3BBA8-459A-496C-B660-89E6DC88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20D-95F3-455E-8F79-53F1D49C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E5C-4063-4D37-9EBC-E99D4AAF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EA0-7C8D-491C-8E6C-ACE83BFD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8BD4-B021-4C54-A8B7-65EF1B8E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470-57B0-4677-BDFF-5E2F38CC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49FBDA-D72E-4966-8458-62E36DA2A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6D357C-0113-446E-9F3F-14B3FBE3B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99BB69-A0EE-4C63-9F9F-A03E2D678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431AD7-20DD-4837-BC7F-00797630D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2Y12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22440" y="1052640"/>
            <a:ext cx="777204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5050"/>
                </a:solidFill>
                <a:latin typeface="Arial"/>
              </a:rPr>
              <a:t>ANTI-PLATELET DRU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79280" y="260280"/>
            <a:ext cx="8713440" cy="5616360"/>
          </a:xfrm>
          <a:prstGeom prst="rect">
            <a:avLst/>
          </a:prstGeom>
          <a:solidFill>
            <a:srgbClr val="def6f1"/>
          </a:solidFill>
          <a:ln w="0">
            <a:solidFill>
              <a:srgbClr val="def6f1"/>
            </a:solidFill>
          </a:ln>
        </p:spPr>
        <p:txBody>
          <a:bodyPr numCol="1" spcCol="0" tIns="0" anchor="t">
            <a:noAutofit/>
          </a:bodyPr>
          <a:p>
            <a:pPr marL="533520" indent="-533520">
              <a:lnSpc>
                <a:spcPct val="100000"/>
              </a:lnSpc>
              <a:spcBef>
                <a:spcPts val="181"/>
              </a:spcBef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80"/>
              </a:spcBef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Classification of antiplatelet dru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320e04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Arachidonic acid pathway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e.g.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pi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320e04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Phosphodiesteras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Dipyrida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320e04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ADP inhibi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e.g.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iclopidine  -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lopidog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320e04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Glycoprotein IIb/IIIa inhibi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e.g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ciximab – Eptifibatide -Tirofi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75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75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75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75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75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75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75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75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26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9540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rachidonic acid pathway inhibito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spirin (Acetylsalicylic Acid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20000"/>
              </a:lnSpc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rreversi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hibition of cyclooxygenase enzyme ( COX-1 ) via acety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20000"/>
              </a:lnSpc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mall dose inhibits thromboxane (TXA2) synthesis in  platelet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ot prostacyclin (PG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synthesis in  endothelium (larger do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2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8000" y="260280"/>
            <a:ext cx="8892720" cy="626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95400" indent="0" algn="just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Uses of aspi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20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rophylaxis of thromboembolis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ion of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nsient ischemic attack,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chemic stroke and myocardial infar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20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Times New Roman"/>
              </a:rPr>
              <a:t>Prevention of ischemic event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patients wi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table angin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cto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20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can be combined with other antiplatelet drugs (clopidogrel) or anticoagulants (hepar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892720" cy="626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95400"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os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-dose aspirin (81 mg enteric coated tablet/day ) is the most common dose used to prevent a heart attack or a stro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ide effects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f aspi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 algn="just">
              <a:lnSpc>
                <a:spcPct val="150000"/>
              </a:lnSpc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of peptic ul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50000"/>
              </a:lnSpc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incidence of GIT bleeding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(aspir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rolongs bleeding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5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5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just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16000" y="333360"/>
            <a:ext cx="8892720" cy="626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8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ADP pathway inhibitor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Ticlopidine &amp; Clopidogr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Mechanism of actio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100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drugs specifically and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rreversib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hibit ADP receptor of subtype </a:t>
            </a:r>
            <a:r>
              <a:rPr b="1" lang="en-US" sz="3200" spc="-1" strike="noStrike" u="sng">
                <a:solidFill>
                  <a:srgbClr val="0066cc"/>
                </a:solidFill>
                <a:uFillTx/>
                <a:latin typeface="Times New Roman"/>
                <a:hlinkClick r:id="rId1"/>
              </a:rPr>
              <a:t>P2Y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is required for platelets activation thus prevent platelet aggreg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Y12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urinergic recep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s a chemoreceptor for adenosine diphosphate (AD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26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P pathway inhibi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9080" algn="just">
              <a:lnSpc>
                <a:spcPct val="105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given or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9080" algn="just">
              <a:lnSpc>
                <a:spcPct val="105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low onset of action (3 - 5  day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9080" algn="just">
              <a:lnSpc>
                <a:spcPct val="105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pro-dru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y have to be activated in the l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9080" algn="just">
              <a:lnSpc>
                <a:spcPct val="105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d to plasma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linical Uses of ADP inhibi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21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condary prevention of ischemic complications after myocardial infarction, ischemic stroke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table ang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5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5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13440" cy="6335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954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verse Effects of ADP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00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r neutropenia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C should be do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ly during trea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 algn="just">
              <a:lnSpc>
                <a:spcPct val="100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eed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prolong bleeding time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 algn="just">
              <a:lnSpc>
                <a:spcPct val="100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.I.T 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usea, dyspepsia, diarr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 algn="just">
              <a:lnSpc>
                <a:spcPct val="100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ergic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rug interaction of ADP inhibitor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inhibit CYT P450 causing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ncreased plasma level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drugs such as phenytoin and carbamazep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472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95400"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opidogr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1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more potent than ticlop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1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er duration of action than ticlop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1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frequency of administration (given once daily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1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side effect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less neutropeni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1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availability is unaffected by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1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</a:rPr>
              <a:t>Clopidogrel has replaced ticlop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135640" cy="764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dications for Clopidogr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5360" y="1411200"/>
            <a:ext cx="8784720" cy="5689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954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patients with a history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cent myocardial infarction (MI), recent stroke, or established peripheral arterial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patients with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cute coronary syndrom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unstable angina/ MI): either those managed medically or with percutaneous coronary intervention ( PCI ) with or without s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balloon with stent opening lumen artery - stock photo"/>
          <p:cNvPicPr/>
          <p:nvPr/>
        </p:nvPicPr>
        <p:blipFill>
          <a:blip r:embed="rId1"/>
          <a:stretch/>
        </p:blipFill>
        <p:spPr>
          <a:xfrm>
            <a:off x="395280" y="2120760"/>
            <a:ext cx="8137080" cy="44762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"/>
          <p:cNvSpPr/>
          <p:nvPr/>
        </p:nvSpPr>
        <p:spPr>
          <a:xfrm>
            <a:off x="179280" y="476280"/>
            <a:ext cx="878472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ary angioplasty (percutaneous coronary intervention, PCI) is a procedure used to open clogged heart arteries. Angioplasty involves temporarily inserting and inflating a tiny balloon to help widen the art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182520" y="404640"/>
            <a:ext cx="8915040" cy="57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y the end of this lecture, students should be able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describe different classes of anti-platelet drugs and their mechanism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nderstand pharmacological effects, pharmacokinetics, clinical uses and adverse effects of anti-platelet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250920" y="333360"/>
            <a:ext cx="8713440" cy="65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ew ADP Pathway Inhibi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asug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rreversible inhibitor of the P2Y12 re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icagre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Reversible inhibitor of the P2Y12 re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66cc"/>
              </a:buClr>
              <a:buFont typeface="Wingdings" charset="2"/>
              <a:buChar char="-"/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oth have more rapid onset of action than clopidog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66cc"/>
              </a:buClr>
              <a:buFont typeface="Wingdings" charset="2"/>
              <a:buChar char="-"/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oth drugs do not need hepatic 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179280" y="476280"/>
            <a:ext cx="8713440" cy="66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>
              <a:lnSpc>
                <a:spcPct val="100000"/>
              </a:lnSpc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U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66cc"/>
              </a:buClr>
              <a:buFont typeface="StarSymbol"/>
              <a:buChar char="-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reduce the rate of thrombotic cardiovascular events (including stent thrombosis) in patients with acute coronary syndrome who are to be managed by PC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dverse effec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66cc"/>
              </a:buClr>
              <a:buFont typeface="StarSymbol"/>
              <a:buChar char="-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th increase bleeding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66cc"/>
              </a:buClr>
              <a:buFont typeface="StarSymbol"/>
              <a:buChar char="-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cagrelor causes dyspn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4720" cy="6335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Glycoprotein IIb/ IIIa receptor inhibitor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Abciximab, tirofiban &amp; eptifibatid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lycoprotein  IIb/ IIIa recept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required for platelet aggregation with each others and with fibrinogen and von Willbrand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13440" cy="6335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95400" indent="0">
              <a:lnSpc>
                <a:spcPct val="95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95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Abcixima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00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hibits platelet aggregation by preventing the binding of fibronigen, von Willebrand factor, and other adhesive molecules to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GPIIb/III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ceptor sites on activated plate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13440" cy="6335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95400" indent="0">
              <a:lnSpc>
                <a:spcPct val="95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bcixim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95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n I.V. in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used with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par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pir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adjunct t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CI for the prevention of cardiac ischem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4720" cy="6192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irofiban &amp; Eptifibatide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Tirofib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non-peptide dru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Epitafibatid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eptide drug)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 by occupying the site on glycoprotein IIb/ IIIa receptor that is required to bind the platelet to fibrinogen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act as fibrinogen- mimetic agents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are given intravenously for the reduction of incidence of thrombotic complications during coronary angioplasty (P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179280" y="260280"/>
            <a:ext cx="864036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pyrida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 It is a vasodi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echanism of 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hibits phosphodiestrase thus increases cAMP causing  decreased synthesis of thromboxane A2 and other platelet aggregating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856360" cy="6668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Uses of dipyridamo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n or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junctive therapy for prophylaxis of thromboembolism in cardiac valve replacement (with warfarin)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ary prevention of stroke and transient ischemic attack (with aspir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verse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-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-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ural 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0"/>
          <p:cNvSpPr/>
          <p:nvPr/>
        </p:nvSpPr>
        <p:spPr>
          <a:xfrm>
            <a:off x="3276720" y="914400"/>
            <a:ext cx="2514240" cy="380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scular In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457200" y="1830240"/>
            <a:ext cx="3809520" cy="3790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osure of collagen and v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5029200" y="1828800"/>
            <a:ext cx="2895120" cy="380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issue factor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685800" y="2666880"/>
            <a:ext cx="3504960" cy="380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telet adhesion and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5078520" y="2666880"/>
            <a:ext cx="2998440" cy="380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tivation of coa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457200" y="3516480"/>
            <a:ext cx="3733560" cy="3693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telet recruitment and ac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132520" y="3476520"/>
            <a:ext cx="2563560" cy="33300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mbin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5029200" y="4267080"/>
            <a:ext cx="2374560" cy="380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brin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359000" y="4368960"/>
            <a:ext cx="2679480" cy="3553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telet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048120" y="5295960"/>
            <a:ext cx="2971440" cy="3427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telet – fibrin thro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4024080" y="32040"/>
            <a:ext cx="1095480" cy="85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3"/>
          <p:cNvCxnSpPr/>
          <p:nvPr/>
        </p:nvCxnSpPr>
        <p:spPr>
          <a:xfrm flipH="1">
            <a:off x="3962160" y="1295280"/>
            <a:ext cx="533880" cy="5338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4" name="Straight Arrow Connector 34"/>
          <p:cNvCxnSpPr/>
          <p:nvPr/>
        </p:nvCxnSpPr>
        <p:spPr>
          <a:xfrm>
            <a:off x="4572000" y="1295280"/>
            <a:ext cx="686160" cy="5338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5" name="Straight Arrow Connector 35"/>
          <p:cNvCxnSpPr/>
          <p:nvPr/>
        </p:nvCxnSpPr>
        <p:spPr>
          <a:xfrm flipH="1">
            <a:off x="2666880" y="2211120"/>
            <a:ext cx="1800" cy="45612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6" name="Straight Arrow Connector 36"/>
          <p:cNvCxnSpPr/>
          <p:nvPr/>
        </p:nvCxnSpPr>
        <p:spPr>
          <a:xfrm flipH="1">
            <a:off x="5941800" y="2211120"/>
            <a:ext cx="2160" cy="45612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7" name="Straight Arrow Connector 37"/>
          <p:cNvCxnSpPr/>
          <p:nvPr/>
        </p:nvCxnSpPr>
        <p:spPr>
          <a:xfrm flipH="1">
            <a:off x="2666880" y="3049560"/>
            <a:ext cx="1800" cy="4557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8" name="Straight Arrow Connector 38"/>
          <p:cNvCxnSpPr/>
          <p:nvPr/>
        </p:nvCxnSpPr>
        <p:spPr>
          <a:xfrm flipH="1">
            <a:off x="2666880" y="3887640"/>
            <a:ext cx="1800" cy="45612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9" name="Straight Arrow Connector 39"/>
          <p:cNvCxnSpPr/>
          <p:nvPr/>
        </p:nvCxnSpPr>
        <p:spPr>
          <a:xfrm flipH="1">
            <a:off x="5941800" y="3049560"/>
            <a:ext cx="2160" cy="4557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30" name="Straight Arrow Connector 40"/>
          <p:cNvCxnSpPr/>
          <p:nvPr/>
        </p:nvCxnSpPr>
        <p:spPr>
          <a:xfrm flipH="1">
            <a:off x="5941800" y="3811320"/>
            <a:ext cx="2160" cy="45612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31" name="Straight Arrow Connector 41"/>
          <p:cNvCxnSpPr/>
          <p:nvPr/>
        </p:nvCxnSpPr>
        <p:spPr>
          <a:xfrm flipH="1">
            <a:off x="4800600" y="4647960"/>
            <a:ext cx="381240" cy="61020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32" name="Straight Arrow Connector 42"/>
          <p:cNvCxnSpPr/>
          <p:nvPr/>
        </p:nvCxnSpPr>
        <p:spPr>
          <a:xfrm>
            <a:off x="3657600" y="4724280"/>
            <a:ext cx="609840" cy="5338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0"/>
          <p:cNvSpPr/>
          <p:nvPr/>
        </p:nvSpPr>
        <p:spPr>
          <a:xfrm>
            <a:off x="3314880" y="430200"/>
            <a:ext cx="2422080" cy="3553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que Disru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027240" y="1117440"/>
            <a:ext cx="1315800" cy="3297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lag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4861080" y="1117440"/>
            <a:ext cx="1006200" cy="3297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2732040" y="1801800"/>
            <a:ext cx="3897000" cy="36000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telet adhesion and secr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619280" y="2330280"/>
            <a:ext cx="1172880" cy="412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spi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75640" y="2492280"/>
            <a:ext cx="1441080" cy="8647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Ticlopid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lopidog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148360" y="5373720"/>
            <a:ext cx="1655280" cy="8553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bcixim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Eptifibat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Tirofi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484360" y="6427800"/>
            <a:ext cx="2644560" cy="385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telet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Straight Arrow Connector 39"/>
          <p:cNvCxnSpPr>
            <a:stCxn id="233" idx="2"/>
          </p:cNvCxnSpPr>
          <p:nvPr/>
        </p:nvCxnSpPr>
        <p:spPr>
          <a:xfrm flipH="1">
            <a:off x="4267080" y="785520"/>
            <a:ext cx="259200" cy="35784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42" name="Straight Arrow Connector 40"/>
          <p:cNvCxnSpPr>
            <a:stCxn id="233" idx="2"/>
          </p:cNvCxnSpPr>
          <p:nvPr/>
        </p:nvCxnSpPr>
        <p:spPr>
          <a:xfrm>
            <a:off x="4525920" y="785520"/>
            <a:ext cx="378000" cy="33372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43" name="Straight Arrow Connector 41"/>
          <p:cNvCxnSpPr/>
          <p:nvPr/>
        </p:nvCxnSpPr>
        <p:spPr>
          <a:xfrm>
            <a:off x="3655800" y="1417320"/>
            <a:ext cx="360" cy="4132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44" name="Straight Arrow Connector 42"/>
          <p:cNvCxnSpPr/>
          <p:nvPr/>
        </p:nvCxnSpPr>
        <p:spPr>
          <a:xfrm>
            <a:off x="5410080" y="1415880"/>
            <a:ext cx="360" cy="4132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45" name="Straight Arrow Connector 43"/>
          <p:cNvCxnSpPr/>
          <p:nvPr/>
        </p:nvCxnSpPr>
        <p:spPr>
          <a:xfrm flipH="1">
            <a:off x="3655800" y="2106360"/>
            <a:ext cx="3600" cy="79092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46" name="Straight Arrow Connector 44"/>
          <p:cNvCxnSpPr/>
          <p:nvPr/>
        </p:nvCxnSpPr>
        <p:spPr>
          <a:xfrm>
            <a:off x="3655800" y="3367080"/>
            <a:ext cx="360" cy="49392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47" name="Straight Arrow Connector 45"/>
          <p:cNvCxnSpPr/>
          <p:nvPr/>
        </p:nvCxnSpPr>
        <p:spPr>
          <a:xfrm>
            <a:off x="5410080" y="2095200"/>
            <a:ext cx="360" cy="4942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48" name="Straight Arrow Connector 46"/>
          <p:cNvCxnSpPr/>
          <p:nvPr/>
        </p:nvCxnSpPr>
        <p:spPr>
          <a:xfrm>
            <a:off x="5435280" y="2839680"/>
            <a:ext cx="360" cy="7419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49" name="Text Box 7"/>
          <p:cNvSpPr/>
          <p:nvPr/>
        </p:nvSpPr>
        <p:spPr>
          <a:xfrm>
            <a:off x="2268360" y="3860640"/>
            <a:ext cx="4177800" cy="39960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telet recruitment and ac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Straight Arrow Connector 48"/>
          <p:cNvCxnSpPr/>
          <p:nvPr/>
        </p:nvCxnSpPr>
        <p:spPr>
          <a:xfrm>
            <a:off x="2798640" y="2469960"/>
            <a:ext cx="590760" cy="3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51" name="TextBox 49"/>
          <p:cNvSpPr/>
          <p:nvPr/>
        </p:nvSpPr>
        <p:spPr>
          <a:xfrm>
            <a:off x="3478320" y="2286000"/>
            <a:ext cx="123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X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1"/>
          <p:cNvSpPr/>
          <p:nvPr/>
        </p:nvSpPr>
        <p:spPr>
          <a:xfrm>
            <a:off x="5094360" y="2484360"/>
            <a:ext cx="696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Straight Arrow Connector 53"/>
          <p:cNvCxnSpPr/>
          <p:nvPr/>
        </p:nvCxnSpPr>
        <p:spPr>
          <a:xfrm>
            <a:off x="5478120" y="3046320"/>
            <a:ext cx="8640" cy="1440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54" name="Text Box 4"/>
          <p:cNvSpPr/>
          <p:nvPr/>
        </p:nvSpPr>
        <p:spPr>
          <a:xfrm>
            <a:off x="2340000" y="4915080"/>
            <a:ext cx="2303280" cy="385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Pllb / llla ac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55"/>
          <p:cNvCxnSpPr/>
          <p:nvPr/>
        </p:nvCxnSpPr>
        <p:spPr>
          <a:xfrm>
            <a:off x="3708360" y="4365360"/>
            <a:ext cx="360" cy="49572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56" name="Straight Arrow Connector 56"/>
          <p:cNvCxnSpPr/>
          <p:nvPr/>
        </p:nvCxnSpPr>
        <p:spPr>
          <a:xfrm>
            <a:off x="3736800" y="5448240"/>
            <a:ext cx="32040" cy="93384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57" name="Straight Arrow Connector 57"/>
          <p:cNvCxnSpPr/>
          <p:nvPr/>
        </p:nvCxnSpPr>
        <p:spPr>
          <a:xfrm>
            <a:off x="4625640" y="5168880"/>
            <a:ext cx="22680" cy="129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58" name="TextBox 58"/>
          <p:cNvSpPr/>
          <p:nvPr/>
        </p:nvSpPr>
        <p:spPr>
          <a:xfrm>
            <a:off x="3564000" y="5715000"/>
            <a:ext cx="387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5929200" y="0"/>
            <a:ext cx="3214440" cy="85680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Mechanisms of action of antiplatelet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رابط كسهم مستقيم 39"/>
          <p:cNvCxnSpPr/>
          <p:nvPr/>
        </p:nvCxnSpPr>
        <p:spPr>
          <a:xfrm flipH="1">
            <a:off x="3924000" y="5876640"/>
            <a:ext cx="1153080" cy="360"/>
          </a:xfrm>
          <a:prstGeom prst="straightConnector1">
            <a:avLst/>
          </a:prstGeom>
          <a:ln w="47625">
            <a:solidFill>
              <a:srgbClr val="cc0000"/>
            </a:solidFill>
            <a:round/>
            <a:tailEnd len="med" type="arrow" w="med"/>
          </a:ln>
        </p:spPr>
      </p:cxnSp>
      <p:cxnSp>
        <p:nvCxnSpPr>
          <p:cNvPr id="261" name="رابط كسهم مستقيم 40"/>
          <p:cNvCxnSpPr/>
          <p:nvPr/>
        </p:nvCxnSpPr>
        <p:spPr>
          <a:xfrm flipH="1">
            <a:off x="5651280" y="2997000"/>
            <a:ext cx="1153080" cy="360"/>
          </a:xfrm>
          <a:prstGeom prst="straightConnector1">
            <a:avLst/>
          </a:prstGeom>
          <a:ln w="47625">
            <a:solidFill>
              <a:srgbClr val="cc0000"/>
            </a:solidFill>
            <a:round/>
            <a:tailEnd len="med" type="arrow" w="med"/>
          </a:ln>
        </p:spPr>
      </p:cxnSp>
      <p:sp>
        <p:nvSpPr>
          <p:cNvPr id="262" name="TextBox 58"/>
          <p:cNvSpPr/>
          <p:nvPr/>
        </p:nvSpPr>
        <p:spPr>
          <a:xfrm>
            <a:off x="5292720" y="2781360"/>
            <a:ext cx="387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3205080" y="2954160"/>
            <a:ext cx="1006200" cy="3297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7134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healthy vess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itric oxide and prostacyc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leased by endothelial cells lining the blood vess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ibit platelets aggre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 to the vessel wall leads to interaction between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latel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ndothel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ag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lead to formation of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ldNum" idx="1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6B3E1A-FA79-4D5B-A8B8-81829C0D1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telets and ves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Group 73"/>
          <p:cNvGraphicFramePr/>
          <p:nvPr/>
        </p:nvGraphicFramePr>
        <p:xfrm>
          <a:off x="285840" y="765000"/>
          <a:ext cx="8500680" cy="5933880"/>
        </p:xfrm>
        <a:graphic>
          <a:graphicData uri="http://schemas.openxmlformats.org/drawingml/2006/table">
            <a:tbl>
              <a:tblPr/>
              <a:tblGrid>
                <a:gridCol w="4695480"/>
                <a:gridCol w="2779200"/>
                <a:gridCol w="1025640"/>
              </a:tblGrid>
              <a:tr h="8128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chanism of 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ru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hibition of thromboxane A2 synthesis via inhibiting COX-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pir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DP receptor antagon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pidogrel                Ticlopi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GP IIb / IIIa receptor antagon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ciximab                  Tirofiban            Eptifibat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.V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0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hosphodiestrase  (PDE) inhibito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pyrida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042920" y="144360"/>
            <a:ext cx="6400440" cy="547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22560" t="0" r="15801" b="1086"/>
          <a:stretch/>
        </p:blipFill>
        <p:spPr>
          <a:xfrm>
            <a:off x="1590840" y="228600"/>
            <a:ext cx="5911560" cy="6324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80880" y="1700280"/>
            <a:ext cx="8381520" cy="4395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0000"/>
          </a:bodyPr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Symbol" charset="2"/>
              <a:buChar char=""/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ROMB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s the CLOT that adheres to vesse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Symbol" charset="2"/>
              <a:buChar char=""/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MBO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s the CLOT that floats in the bl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7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ROMB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s the formation of unwanted clot within the blood vessel, producing life threatening conditions such a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ute myocardial infarction  (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ute ischemic 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ep vein thrombosis (DV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ulmonary embolism (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ldNum" idx="17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FDEB28-7E5E-43F0-A0EC-57737F260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4720" cy="632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role of platelets in hemost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rcRect l="24999" t="20968" r="4688" b="16665"/>
          <a:stretch/>
        </p:blipFill>
        <p:spPr>
          <a:xfrm>
            <a:off x="179280" y="1052640"/>
            <a:ext cx="6192360" cy="56005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"/>
          <p:cNvSpPr/>
          <p:nvPr/>
        </p:nvSpPr>
        <p:spPr>
          <a:xfrm>
            <a:off x="6516720" y="1052640"/>
            <a:ext cx="24476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ollowing vascular injury,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von Willebrand facto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inds to collagen in the exposed subendothelium at the site of inju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 other site of the “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od-formed”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von Willebrand factor binds to the platelet receptor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PIb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platelets are thereby anchored to the site of the injured endothelium. This is calle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dhes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713440" cy="63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role of platelets in hemost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28" descr=""/>
          <p:cNvPicPr/>
          <p:nvPr/>
        </p:nvPicPr>
        <p:blipFill>
          <a:blip r:embed="rId1"/>
          <a:srcRect l="26564" t="20968" r="12182" b="20831"/>
          <a:stretch/>
        </p:blipFill>
        <p:spPr>
          <a:xfrm>
            <a:off x="250920" y="765000"/>
            <a:ext cx="6192360" cy="59176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"/>
          <p:cNvSpPr/>
          <p:nvPr/>
        </p:nvSpPr>
        <p:spPr>
          <a:xfrm>
            <a:off x="6443640" y="987480"/>
            <a:ext cx="2520720" cy="37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llowing adhesion, agonists such a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ollagen, thrombin, adenosine diphosphate (ADP), and thromboxane A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tivate platelets by binding to their respective platelet recept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"/>
          <p:cNvPicPr/>
          <p:nvPr/>
        </p:nvPicPr>
        <p:blipFill>
          <a:blip r:embed="rId1"/>
          <a:srcRect l="25782" t="20968" r="10705" b="21847"/>
          <a:stretch/>
        </p:blipFill>
        <p:spPr>
          <a:xfrm>
            <a:off x="71280" y="981000"/>
            <a:ext cx="6876720" cy="55432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"/>
          <p:cNvSpPr/>
          <p:nvPr/>
        </p:nvSpPr>
        <p:spPr>
          <a:xfrm>
            <a:off x="6948360" y="971640"/>
            <a:ext cx="20872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s a result of agonist binding, platelets underg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 shape chang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new structures such a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hospholipids and GPIIb/IIIa receptor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e exposed on the cell membrane. This i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ctiv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27"/>
          <p:cNvSpPr/>
          <p:nvPr/>
        </p:nvSpPr>
        <p:spPr>
          <a:xfrm>
            <a:off x="447840" y="549360"/>
            <a:ext cx="871344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4840" y="189000"/>
            <a:ext cx="8615160" cy="576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role of platelets in hemost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821440" cy="504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role of platelets in hemost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rcRect l="28126" t="20968" r="8594" b="20831"/>
          <a:stretch/>
        </p:blipFill>
        <p:spPr>
          <a:xfrm>
            <a:off x="36360" y="907920"/>
            <a:ext cx="6406920" cy="58780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"/>
          <p:cNvSpPr/>
          <p:nvPr/>
        </p:nvSpPr>
        <p:spPr>
          <a:xfrm>
            <a:off x="6443640" y="1214280"/>
            <a:ext cx="262872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hird step of platelet response i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g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After activation, binding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ibrinogen to GPIIb/II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uses platelets to adhere to each oth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 a loose platelet plu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42920" y="76320"/>
            <a:ext cx="8714880" cy="6495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Drugs used in thromb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nticoagulan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s which prevent clotting by inhibiting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lotting facto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agulation process)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(used in prevention and treatment of thrombo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ntiplatele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s which prevent and inhibit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latelet activation and aggression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(used as prophylactic therapy in high risk patien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hrombolytics or Fibrinolytics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t by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dissolving existing or already formed thromb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r emboli and used </a:t>
            </a:r>
            <a:r>
              <a:rPr b="0" lang="en-GB" sz="3200" spc="-1" strike="noStrike">
                <a:solidFill>
                  <a:srgbClr val="c00000"/>
                </a:solidFill>
                <a:latin typeface="Times New Roman"/>
              </a:rPr>
              <a:t>in the acute  treatment of thrombo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Default Design">
  <a:themeElements>
    <a:clrScheme name="Default Design 4">
      <a:dk1>
        <a:srgbClr val="000000"/>
      </a:dk1>
      <a:lt1>
        <a:srgbClr val="def6f1"/>
      </a:lt1>
      <a:dk2>
        <a:srgbClr val="000000"/>
      </a:dk2>
      <a:lt2>
        <a:srgbClr val="969696"/>
      </a:lt2>
      <a:accent1>
        <a:srgbClr val="ffffff"/>
      </a:accent1>
      <a:accent2>
        <a:srgbClr val="8dc6ff"/>
      </a:accent2>
      <a:accent3>
        <a:srgbClr val="ecfaf7"/>
      </a:accent3>
      <a:accent4>
        <a:srgbClr val="000000"/>
      </a:accent4>
      <a:accent5>
        <a:srgbClr val="ffffff"/>
      </a:accent5>
      <a:accent6>
        <a:srgbClr val="7fb3e7"/>
      </a:accent6>
      <a:hlink>
        <a:srgbClr val="0066cc"/>
      </a:hlink>
      <a:folHlink>
        <a:srgbClr val="00a8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Default Design 4">
      <a:dk1>
        <a:srgbClr val="000000"/>
      </a:dk1>
      <a:lt1>
        <a:srgbClr val="def6f1"/>
      </a:lt1>
      <a:dk2>
        <a:srgbClr val="000000"/>
      </a:dk2>
      <a:lt2>
        <a:srgbClr val="969696"/>
      </a:lt2>
      <a:accent1>
        <a:srgbClr val="ffffff"/>
      </a:accent1>
      <a:accent2>
        <a:srgbClr val="8dc6ff"/>
      </a:accent2>
      <a:accent3>
        <a:srgbClr val="ecfaf7"/>
      </a:accent3>
      <a:accent4>
        <a:srgbClr val="000000"/>
      </a:accent4>
      <a:accent5>
        <a:srgbClr val="ffffff"/>
      </a:accent5>
      <a:accent6>
        <a:srgbClr val="7fb3e7"/>
      </a:accent6>
      <a:hlink>
        <a:srgbClr val="0066cc"/>
      </a:hlink>
      <a:folHlink>
        <a:srgbClr val="00a8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fault Design">
  <a:themeElements>
    <a:clrScheme name="Default Design 4">
      <a:dk1>
        <a:srgbClr val="000000"/>
      </a:dk1>
      <a:lt1>
        <a:srgbClr val="def6f1"/>
      </a:lt1>
      <a:dk2>
        <a:srgbClr val="000000"/>
      </a:dk2>
      <a:lt2>
        <a:srgbClr val="969696"/>
      </a:lt2>
      <a:accent1>
        <a:srgbClr val="ffffff"/>
      </a:accent1>
      <a:accent2>
        <a:srgbClr val="8dc6ff"/>
      </a:accent2>
      <a:accent3>
        <a:srgbClr val="ecfaf7"/>
      </a:accent3>
      <a:accent4>
        <a:srgbClr val="000000"/>
      </a:accent4>
      <a:accent5>
        <a:srgbClr val="ffffff"/>
      </a:accent5>
      <a:accent6>
        <a:srgbClr val="7fb3e7"/>
      </a:accent6>
      <a:hlink>
        <a:srgbClr val="0066cc"/>
      </a:hlink>
      <a:folHlink>
        <a:srgbClr val="00a8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efault Design">
  <a:themeElements>
    <a:clrScheme name="Default Design 4">
      <a:dk1>
        <a:srgbClr val="000000"/>
      </a:dk1>
      <a:lt1>
        <a:srgbClr val="def6f1"/>
      </a:lt1>
      <a:dk2>
        <a:srgbClr val="000000"/>
      </a:dk2>
      <a:lt2>
        <a:srgbClr val="969696"/>
      </a:lt2>
      <a:accent1>
        <a:srgbClr val="ffffff"/>
      </a:accent1>
      <a:accent2>
        <a:srgbClr val="8dc6ff"/>
      </a:accent2>
      <a:accent3>
        <a:srgbClr val="ecfaf7"/>
      </a:accent3>
      <a:accent4>
        <a:srgbClr val="000000"/>
      </a:accent4>
      <a:accent5>
        <a:srgbClr val="ffffff"/>
      </a:accent5>
      <a:accent6>
        <a:srgbClr val="7fb3e7"/>
      </a:accent6>
      <a:hlink>
        <a:srgbClr val="0066cc"/>
      </a:hlink>
      <a:folHlink>
        <a:srgbClr val="00a8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969696"/>
      </a:lt2>
      <a:accent1>
        <a:srgbClr val="ffffff"/>
      </a:accent1>
      <a:accent2>
        <a:srgbClr val="8dc6ff"/>
      </a:accent2>
      <a:accent3>
        <a:srgbClr val="ecfaf7"/>
      </a:accent3>
      <a:accent4>
        <a:srgbClr val="000000"/>
      </a:accent4>
      <a:accent5>
        <a:srgbClr val="ffffff"/>
      </a:accent5>
      <a:accent6>
        <a:srgbClr val="7fb3e7"/>
      </a:accent6>
      <a:hlink>
        <a:srgbClr val="0066cc"/>
      </a:hlink>
      <a:folHlink>
        <a:srgbClr val="00a8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  <Words>1301</Words>
  <Paragraphs>2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6T08:02:30Z</dcterms:created>
  <dc:creator>administrator</dc:creator>
  <dc:description/>
  <dc:language>en-US</dc:language>
  <cp:lastModifiedBy>نوف</cp:lastModifiedBy>
  <cp:lastPrinted>1601-01-01T00:00:00Z</cp:lastPrinted>
  <dcterms:modified xsi:type="dcterms:W3CDTF">2019-12-28T17:55:44Z</dcterms:modified>
  <cp:revision>313</cp:revision>
  <dc:subject/>
  <dc:title>ADRENOCEPTOR AGONIST SYMPATHOMIME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On-screen Show (4:3)</vt:lpwstr>
  </property>
  <property fmtid="{D5CDD505-2E9C-101B-9397-08002B2CF9AE}" pid="4" name="Slides">
    <vt:r8>31</vt:r8>
  </property>
</Properties>
</file>