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0ABD-AF7A-4872-AD9B-78301829D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223920" y="4343400"/>
            <a:ext cx="641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ata or conclusions from your work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st in present tense about what is 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4343400"/>
            <a:ext cx="60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DBD1-143F-4170-967D-58E0FA087D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32B7-0209-4831-B682-BB5AB41744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23AD-EB68-49E0-8D3A-23EE8C009A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2DE5-96EF-46F9-BD1A-7EEBB5F681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E616-3734-43D3-AE17-C24CF09443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F9C2-1536-4417-9FAC-C1D14F62CA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579D-D1A9-420D-A5EC-09641690E1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B71-C393-4229-9C09-FB63A5EB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3E5-3ECB-49FB-9B50-8990049F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620-82AD-4221-916F-55D5703D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394-97D4-42CB-A992-114F5F70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76C2-6D14-48AD-A2CA-77726882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6548-3A1D-4A02-86E6-6DB25A97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DB92-8E08-4C08-B4A0-EDE87956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E267-DD6E-4A6C-AD16-1A77CB3D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1ED2-097E-4F2C-83DC-320E7D0B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C9DE-2E90-4502-A8A7-4C6095DA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1158-D733-4A41-8CAE-F7739489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75D-A012-4168-BA8E-5500A7C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1BC5-15C4-46F8-BEA8-94ECA362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6611-7434-40B4-B5FF-C323F18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90A5-F8E6-468D-8966-89350BD2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F28E-0F95-4D8E-BAB1-F8A395C2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7050-217E-4747-B1EB-C6593D45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69F2-1F1A-4BC5-AF39-EB02316E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0CBF-CA07-41CD-A602-9DE4C56A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5B39-3135-4102-AD9A-06158865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D63F-AB98-4382-B057-E3CC0B5B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5DC4-401D-4577-8C9B-8DFDAD3E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BDE-8876-4A74-AC33-AD9543E0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766B3-B25D-45EA-BC5D-33436308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5C9C-7EB5-4E6D-9308-60282DB8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8882-F081-40F2-8CFC-C7E5C3E2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1CC1-C033-413B-9247-55F852F9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E80B4-8C75-4AD9-A9DE-8A53331B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DCA46-B899-4B13-801D-F92E9D91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471E-B1A0-4644-9398-944ED207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A63C-E79B-4F37-A375-CDC67E81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82B9-BDC4-46A0-8746-9F67232A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505B-F550-44AD-9F10-9C08982A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2C5-DE25-47D2-8A09-DCC9538D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AB973-3DDB-4C01-AA6A-1244460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6C961-DFC9-49C1-97BC-62537193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68BB-9563-4F79-97A6-18E2F0FF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E24C-2489-4A7C-B2D2-44DEA8E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C038E-421C-4D5D-A566-D2E05104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BA4E4-8FEF-4342-896E-06956985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4D57-A839-4F5F-AF24-929A9647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EDD6-65C0-4197-A657-E3438828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00D92-CD00-4CE9-B82B-796EBB29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29BB7-1695-4C9D-987D-68B16189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DF5-C5E0-4225-B348-65E3F27E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54744-CB07-4473-9312-471BC5EC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5E5CF-6D1C-4801-967C-6341BAD6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3518-603B-4D23-B29C-B4ADC5F3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A0C5B-27DE-4E5F-BE11-A7202968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71A79-01B4-48D0-9526-42B905DD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8DF2E-0951-4CCC-9A59-20EBD558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9E8FB-0F8F-443D-B6F9-D27EDCFD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C8D2D-BF60-4F8E-8C80-9B80554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52290-1D55-4512-8794-EFC07AEA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CA51-C821-40E1-B164-96FCCD73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54C-1EE0-4B96-8C7B-CA9B8BC7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5C55D-1AFD-4D0B-A171-F6915F11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3B1EA-06CB-47F2-B022-0064F9FA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FCE9B-F418-4266-BFFA-CEE3E844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02D0-C0C5-465B-B27D-ABFBDE9D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BDDA8-3AD7-4588-88CF-BE0114F4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49A2C-F53A-4309-9DCF-CCF3ABC7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CC96B-EC5F-42AF-B515-3CC16116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1F50C-6CEF-44A6-8B11-0B3ED1D7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6DC86-4F5C-4382-AB68-0F31234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7F50-738C-49FE-8F02-5442F49E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9CE-80BA-4E27-8437-2ADBA7D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49D3A-658B-4060-942B-E3053473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8A9FB-630A-4519-9548-6405A8A9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94150-FCE7-4760-B0E7-63310110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9C641-451B-42BA-B6EA-81649AA3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0F4A4-1134-4C54-8957-D9AE36B7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E9CA4-B63E-40AC-8F30-05E5E49E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CE3B3-EBAE-4AAB-AEB3-8818104C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FF145-8A4D-49DA-BEB7-84C881C8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0644C-3049-4950-81AE-F50D150D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F8DA9-D73B-4E15-98C1-54E15032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46A-F974-4B5F-9BEF-FF59233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8D7EF-E38B-40E4-B719-0BAF1159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49F7-125E-407D-B4BF-2AD4405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56AC3-93AD-4311-B0F8-E3B7652A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05B15-A03D-414A-B21F-A9A02807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9F30D-0605-4219-BDFA-D87B565D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1802-DDFC-4799-AB6B-F195B60D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6BEC3-69A6-4DDA-A84C-79B91E48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2B0CE-7CD6-44E3-ACAD-77F238F6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1C665-C73F-4253-86E1-73558576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8B95A-3BC3-4499-8DB2-3E098C0E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039-5023-4151-878F-6BE4D375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B76DA-DA70-4133-9B18-E86D5FE4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D7678-F75F-45C5-8B06-4E2F8B34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1C58B-3FCE-4170-8E74-348A5434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C201D-0DC0-4A25-A916-B6840B84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7B996-8966-4233-9D44-9D89E078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12022-265C-4763-AD15-9B526384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13910-23D5-4393-A77E-AFDADD92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7AC0-947A-433E-AD20-4E2C4FDCB6A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FCC5-4F00-40BA-BF66-A546B481CE8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4BF9-A4A8-42C3-AB2F-C461691C43A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D423-0271-4E63-B3DB-C3552FF7680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8DB8-C967-422E-AD83-0643B3980EC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1B32-06F8-4C7A-B186-A8178C3C1BA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1CD6-BEBD-4AEC-87DD-0EBD137F1F3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2EFB-D38F-461A-991A-EE1609BD301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0"/>
          <p:cNvSpPr/>
          <p:nvPr/>
        </p:nvSpPr>
        <p:spPr>
          <a:xfrm>
            <a:off x="457200" y="1523880"/>
            <a:ext cx="861048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ow to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a Research Paper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r.Shaik Shaffi Ah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sociate Prof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t. of Family &amp; Community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457200" y="896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28440" y="146160"/>
            <a:ext cx="506556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Discussion 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17000" y="2333160"/>
            <a:ext cx="888372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Always focus on </a:t>
            </a:r>
            <a:r>
              <a:rPr b="0" lang="pt-BR" sz="3600" spc="-1" strike="noStrike" u="sng">
                <a:solidFill>
                  <a:srgbClr val="ffffff"/>
                </a:solidFill>
                <a:uFillTx/>
                <a:latin typeface="Corbel"/>
              </a:rPr>
              <a:t>your</a:t>
            </a: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 result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Outline 3 to 5 main points that come         from result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Build a paragraph  for each poin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Finally permitted latitude to elaborate and speculate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Line 4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160920" y="1631880"/>
            <a:ext cx="641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DOES IT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Discussion I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0" y="19047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First answer to the research question posed in the Introduct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ummarize previous work-compare your result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Explain what is new without exaggerating and its implicati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What does your results mean?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rbel"/>
              </a:rPr>
              <a:t>Strengths and weaknesses in relation to other studies, particularly any differences in results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393840" y="129528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ES IT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Introduction</a:t>
            </a: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2109960"/>
            <a:ext cx="914400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35388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hort (3 paragraphs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c00"/>
                </a:solidFill>
                <a:latin typeface="Corbel"/>
              </a:rPr>
              <a:t>First paragraph</a:t>
            </a:r>
            <a:r>
              <a:rPr b="1" lang="pt-BR" sz="3200" spc="-1" strike="noStrike">
                <a:solidFill>
                  <a:srgbClr val="ffcc00"/>
                </a:solidFill>
                <a:latin typeface="Corbe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US" sz="2900" spc="-1" strike="noStrike">
                <a:solidFill>
                  <a:srgbClr val="ffffff"/>
                </a:solidFill>
                <a:latin typeface="Corbel"/>
              </a:rPr>
              <a:t>Brief</a:t>
            </a: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 background-establish context, relevance, nature of the problem/question/purpose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c00"/>
                </a:solidFill>
                <a:latin typeface="Corbel"/>
              </a:rPr>
              <a:t>Second paragraph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nl-NL" sz="2900" spc="-1" strike="noStrike">
                <a:solidFill>
                  <a:srgbClr val="ffffff"/>
                </a:solidFill>
                <a:latin typeface="Corbel"/>
              </a:rPr>
              <a:t>Importance of the problem and unresolved issues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c00"/>
                </a:solidFill>
                <a:latin typeface="Corbel"/>
              </a:rPr>
              <a:t>Last paragraph</a:t>
            </a:r>
            <a:r>
              <a:rPr b="1" lang="pt-BR" sz="3200" spc="-1" strike="noStrike">
                <a:solidFill>
                  <a:srgbClr val="ffcc00"/>
                </a:solidFill>
                <a:latin typeface="Corbe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nl-NL" sz="2900" spc="-1" strike="noStrike">
                <a:solidFill>
                  <a:srgbClr val="ffffff"/>
                </a:solidFill>
                <a:latin typeface="Corbel"/>
              </a:rPr>
              <a:t>Rationale: </a:t>
            </a: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state hypothesis/main objective/purpose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0" y="12286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28440" y="144936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WHAT IS THE QUESTION/OBJECTIV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4167000" y="2685960"/>
            <a:ext cx="387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7030a0"/>
                </a:solidFill>
                <a:latin typeface="Arial"/>
                <a:ea typeface="Arial"/>
              </a:rPr>
              <a:t>What we know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4246560" y="4267080"/>
            <a:ext cx="517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7030a0"/>
                </a:solidFill>
                <a:latin typeface="Arial"/>
                <a:ea typeface="Arial"/>
              </a:rPr>
              <a:t>What we don’t know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3724920" y="5257800"/>
            <a:ext cx="565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7030a0"/>
                </a:solidFill>
                <a:latin typeface="Arial"/>
                <a:ea typeface="Arial"/>
              </a:rPr>
              <a:t>Why we did this study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Abstract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83680" y="1486080"/>
            <a:ext cx="8859960" cy="51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ritical part of pape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Determines further reading of pape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tructured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void abbreviati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Write and rewrite until flawl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ear and concise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25360"/>
            <a:ext cx="91440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Writing Style</a:t>
            </a:r>
            <a:br>
              <a:rPr sz="3600"/>
            </a:br>
            <a:r>
              <a:rPr b="0" i="1" lang="en-US" sz="3600" spc="-1" strike="noStrike">
                <a:solidFill>
                  <a:srgbClr val="c1eeff"/>
                </a:solidFill>
                <a:latin typeface="Consolas"/>
              </a:rPr>
              <a:t>Accuracy &amp; Clarity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0920" y="1943280"/>
            <a:ext cx="896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Proper words in proper places make the true definition of style.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--Jonathan Swif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ave something to say and say it as clearly as you can… the essence of style.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--Matthew Arnold</a:t>
            </a:r>
            <a:r>
              <a:rPr b="0" lang="en-GB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f writing is unclear, readers and reviewers won’t understa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void vague languag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Corbel"/>
              </a:rPr>
              <a:t>Multiple mistakes in spelling and syntax, suggests similar sloppiness in the projec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eck and double check dat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0" y="17287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88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Writing Style</a:t>
            </a:r>
            <a:br>
              <a:rPr sz="3600"/>
            </a:br>
            <a:r>
              <a:rPr b="0" i="1" lang="en-US" sz="3600" spc="-1" strike="noStrike">
                <a:solidFill>
                  <a:srgbClr val="c1eeff"/>
                </a:solidFill>
                <a:latin typeface="Consolas"/>
              </a:rPr>
              <a:t>Accuracy &amp; Clarity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Use active voice whenever possible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en-US" sz="2800" spc="-1" strike="noStrike">
                <a:solidFill>
                  <a:srgbClr val="66ccff"/>
                </a:solidFill>
                <a:latin typeface="Corbel"/>
              </a:rPr>
              <a:t>Active voice</a:t>
            </a:r>
            <a:r>
              <a:rPr b="0" lang="en-US" sz="2800" spc="-1" strike="noStrike">
                <a:solidFill>
                  <a:srgbClr val="66ccff"/>
                </a:solidFill>
                <a:latin typeface="Corbe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subject is performing the verb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en-US" sz="2800" spc="-1" strike="noStrike">
                <a:solidFill>
                  <a:srgbClr val="66ccff"/>
                </a:solidFill>
                <a:latin typeface="Corbel"/>
              </a:rPr>
              <a:t>Passive voice</a:t>
            </a:r>
            <a:r>
              <a:rPr b="0" lang="en-US" sz="2800" spc="-1" strike="noStrike">
                <a:solidFill>
                  <a:srgbClr val="66ccff"/>
                </a:solidFill>
                <a:latin typeface="Corbe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subject receives the action  expressed in the verb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rbel"/>
              </a:rPr>
              <a:t>Passive (more wordy)   Active (more concise)</a:t>
            </a:r>
            <a:r>
              <a:rPr b="0" lang="en-US" sz="2800" spc="-1" strike="noStrike">
                <a:solidFill>
                  <a:srgbClr val="66cc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eg.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99"/>
                </a:solidFill>
                <a:latin typeface="Corbel"/>
              </a:rPr>
              <a:t>There are</a:t>
            </a:r>
            <a:r>
              <a:rPr b="1" i="1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treatment guidelines for  carcinoma </a:t>
            </a:r>
            <a:r>
              <a:rPr b="1" i="1" lang="en-US" sz="2500" spc="-1" strike="noStrike">
                <a:solidFill>
                  <a:srgbClr val="ffff99"/>
                </a:solidFill>
                <a:latin typeface="Corbel"/>
              </a:rPr>
              <a:t>that were</a:t>
            </a:r>
            <a:r>
              <a:rPr b="1" i="1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00ff00"/>
                </a:solidFill>
                <a:latin typeface="Corbel"/>
              </a:rPr>
              <a:t>reported</a:t>
            </a:r>
            <a:r>
              <a:rPr b="1" lang="en-US" sz="2500" spc="-1" strike="noStrike">
                <a:solidFill>
                  <a:srgbClr val="ffff99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by Khalid, et al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Corbel"/>
              </a:rPr>
              <a:t>Correction: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Treatment guidelines for carcinoma </a:t>
            </a:r>
            <a:r>
              <a:rPr b="1" lang="en-US" sz="2500" spc="-1" strike="noStrike">
                <a:solidFill>
                  <a:srgbClr val="00ff00"/>
                </a:solidFill>
                <a:latin typeface="Corbel"/>
              </a:rPr>
              <a:t>were</a:t>
            </a:r>
            <a:r>
              <a:rPr b="1" i="1" lang="en-US" sz="2500" spc="-1" strike="noStrike">
                <a:solidFill>
                  <a:srgbClr val="ffff99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00ff00"/>
                </a:solidFill>
                <a:latin typeface="Corbel"/>
              </a:rPr>
              <a:t>reported</a:t>
            </a:r>
            <a:r>
              <a:rPr b="1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by Khalid, et al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Corbel"/>
              </a:rPr>
              <a:t>Better: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Khalid, et al.</a:t>
            </a:r>
            <a:r>
              <a:rPr b="1" i="1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00ff00"/>
                </a:solidFill>
                <a:latin typeface="Corbel"/>
              </a:rPr>
              <a:t>reported</a:t>
            </a:r>
            <a:r>
              <a:rPr b="1" i="1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treatment guidelines for carcinoma. </a:t>
            </a:r>
            <a:r>
              <a:rPr b="1" i="1" lang="en-US" sz="2500" spc="-1" strike="noStrike">
                <a:solidFill>
                  <a:srgbClr val="ffffff"/>
                </a:solidFill>
                <a:latin typeface="Corbel"/>
              </a:rPr>
              <a:t>(Active voice)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0" y="13431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611280" y="453960"/>
            <a:ext cx="183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Writing Style</a:t>
            </a:r>
            <a:br>
              <a:rPr sz="3200"/>
            </a:br>
            <a:r>
              <a:rPr b="0" i="1" lang="en-US" sz="3600" spc="-1" strike="noStrike">
                <a:solidFill>
                  <a:srgbClr val="c1eeff"/>
                </a:solidFill>
                <a:latin typeface="Consolas"/>
              </a:rPr>
              <a:t>Accuracy &amp; Clarity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1599840"/>
            <a:ext cx="8967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All first drafts have too many wor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Next drafts: prune vigorously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void repetition,   wordiness, long sentences, </a:t>
            </a: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excessive adverbs/adjectiv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Strip every sent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Writing improves in proportion to deletion of unnecessary wor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you have the choice of two words, use the simpler o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most valuable of all talents is that of never using two words when one will do.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--Thomas Jefferson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Line 4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c1eeff"/>
                </a:solidFill>
                <a:latin typeface="Consolas"/>
              </a:rPr>
              <a:t>Simplify</a:t>
            </a:r>
            <a:endParaRPr b="0" lang="en-US" sz="5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20680" y="1306080"/>
            <a:ext cx="698328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a majority of = m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considerable amount of = mu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number of = several/so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 account of = becau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ferred to as = call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s the capacity to = c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is clear that = clear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at the present time = no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give rise to = cau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is defined as = 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subsequent to = af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5689440" y="2859120"/>
            <a:ext cx="3249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se who have the most to say usually say it with the fewest word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0" y="10857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5065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Revise, Revise and Revise </a:t>
            </a: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2960" y="1904760"/>
            <a:ext cx="89694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You may not be a very good writer, but be an excellent rewrite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lways look from a distance--see your paper as a reviewe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olish the writing styl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Double check spelling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Double check reference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Line 4"/>
          <p:cNvSpPr/>
          <p:nvPr/>
        </p:nvSpPr>
        <p:spPr>
          <a:xfrm>
            <a:off x="0" y="14288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506556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Submission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1904760"/>
            <a:ext cx="91440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dentify the appropriate journal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Read “Instructions for Authors” thoroughl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onform to “Instructions” precisel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void careless mistake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1eeff"/>
                </a:solidFill>
                <a:latin typeface="Consolas"/>
              </a:rPr>
              <a:t>Why to Write?</a:t>
            </a: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 </a:t>
            </a:r>
            <a:br>
              <a:rPr sz="4300"/>
            </a:b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88640" y="1671480"/>
            <a:ext cx="89550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ffff"/>
                </a:solidFill>
                <a:latin typeface="Corbel"/>
              </a:rPr>
              <a:t>To advance knowledge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Improvement in understanding of subject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o advance your institution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Academic accomplishment, prestige, funding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ffff"/>
                </a:solidFill>
                <a:latin typeface="Corbel"/>
              </a:rPr>
              <a:t>To advance yourself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Corbel"/>
              </a:rPr>
              <a:t>Enhances clear thinking &amp; </a:t>
            </a:r>
            <a:r>
              <a:rPr b="0" lang="nl-NL" sz="2900" spc="-1" strike="noStrike">
                <a:solidFill>
                  <a:srgbClr val="ffffff"/>
                </a:solidFill>
                <a:latin typeface="Corbel"/>
              </a:rPr>
              <a:t>scholarship ability 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Promotion, career development, </a:t>
            </a:r>
            <a:r>
              <a:rPr b="0" lang="nl-NL" sz="2900" spc="-1" strike="noStrike">
                <a:solidFill>
                  <a:srgbClr val="ffffff"/>
                </a:solidFill>
                <a:latin typeface="Corbel"/>
              </a:rPr>
              <a:t>reputation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Corbel"/>
              </a:rPr>
              <a:t>To get A+  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Line 5"/>
          <p:cNvSpPr/>
          <p:nvPr/>
        </p:nvSpPr>
        <p:spPr>
          <a:xfrm>
            <a:off x="0" y="16714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46080" y="5454720"/>
            <a:ext cx="90504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  <a:ea typeface="Arial"/>
              </a:rPr>
              <a:t>Benefits often greater to author than read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145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What Editors Like About Papers</a:t>
            </a: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221760" y="1371600"/>
            <a:ext cx="87361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Originalit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nteresting to readers, important messages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ear questions, correct method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ear presentation (style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Good grammar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0" y="14428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-142920" y="52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Editors and reviewers spend hours reading manuscripts, and greatly appreciate receiving papers that are easy to read and edi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1eeff"/>
                </a:solidFill>
                <a:latin typeface="Consolas"/>
              </a:rPr>
              <a:t>What Happens Next?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33440" y="2700000"/>
            <a:ext cx="378144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Acceptan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Revisio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Rejectio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Line 4"/>
          <p:cNvSpPr/>
          <p:nvPr/>
        </p:nvSpPr>
        <p:spPr>
          <a:xfrm>
            <a:off x="0" y="15336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86"/>
          <p:cNvSpPr/>
          <p:nvPr/>
        </p:nvSpPr>
        <p:spPr>
          <a:xfrm>
            <a:off x="449280" y="1809720"/>
            <a:ext cx="5587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he Review Proces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Users\IQBAL\Desktop\thank-you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Writing a Paper: Getting Started</a:t>
            </a: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32840" y="2521080"/>
            <a:ext cx="895356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No single best wa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Varies from paper to pape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Background reading--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Literature search!         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Decide on authorship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Line 5"/>
          <p:cNvSpPr/>
          <p:nvPr/>
        </p:nvSpPr>
        <p:spPr>
          <a:xfrm>
            <a:off x="0" y="15429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203040" y="1666800"/>
            <a:ext cx="894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only way to learn to write is to write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Peggy Te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50659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Writing a Paper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299880" y="1757160"/>
            <a:ext cx="9340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Fix realistic schedule (Adherence)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Need stretch of protected hours or day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deas come while writing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When time is short: prepare, revis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Location</a:t>
            </a:r>
            <a:r>
              <a:rPr b="0" i="1" lang="pt-BR" sz="3200" spc="-1" strike="noStrike">
                <a:solidFill>
                  <a:srgbClr val="ffffff"/>
                </a:solidFill>
                <a:latin typeface="Corbel"/>
              </a:rPr>
              <a:t> (nothing to distract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Maintain momentum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2" marL="1096920" indent="-31896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cademicians rated by what they finish, not by what they attemp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0" y="15429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128520" y="6480"/>
            <a:ext cx="8942400" cy="17492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3938760" cy="22096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l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27000" y="0"/>
            <a:ext cx="9040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a Manuscript--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128520" y="60390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riting is a lot easier if you have something to s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Sholem As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-0.00578 L 0.51302 -0.15764 E">
                                      <p:cBhvr>
                                        <p:cTn id="109" dur="2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53975 -0.15995 E">
                                      <p:cBhvr>
                                        <p:cTn id="113" dur="20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91 0.00394 L 0.51736 -0.15555 E">
                                      <p:cBhvr>
                                        <p:cTn id="117" dur="20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72 -0.00185 L 0.51493 0.08287 E">
                                      <p:cBhvr>
                                        <p:cTn id="121" dur="2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53264 0.24699 E">
                                      <p:cBhvr>
                                        <p:cTn id="125" dur="2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4121 L 0.50451 0.04676 E">
                                      <p:cBhvr>
                                        <p:cTn id="129" dur="20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07407E-006 L 0.55104 0.5044 E">
                                      <p:cBhvr>
                                        <p:cTn id="133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31600" y="231480"/>
            <a:ext cx="506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Methods 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66320" y="2133720"/>
            <a:ext cx="889164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ffffff"/>
                </a:solidFill>
                <a:latin typeface="Corbel"/>
              </a:rPr>
              <a:t>For  readers this is the most important section</a:t>
            </a:r>
            <a:r>
              <a:rPr b="0" i="1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ast tens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tudy design(prospective or retrospective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Explicit inclusion/exclusion criteri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election of study subject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Line 4"/>
          <p:cNvSpPr/>
          <p:nvPr/>
        </p:nvSpPr>
        <p:spPr>
          <a:xfrm>
            <a:off x="0" y="13478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96920" y="1420920"/>
            <a:ext cx="52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DID YOU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533412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Methods I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46160" y="2652480"/>
            <a:ext cx="892656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3355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Ethical approval (IRB)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5520" indent="-3355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tatistical methods(sampling technique, sample size, &amp; statistical tests)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5520" indent="-3355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Data collection tool ( its validity &amp; reliability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5520" indent="-3355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Detailed enough so results can be repeated by other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5520" indent="-3355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Line 4"/>
          <p:cNvSpPr/>
          <p:nvPr/>
        </p:nvSpPr>
        <p:spPr>
          <a:xfrm>
            <a:off x="0" y="13478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111600" y="1684440"/>
            <a:ext cx="57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DID YOU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Results 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4400" y="23950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Just the facts, in a logical sequence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Past tense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heck, recheck data/numbers-must add up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Give numbers and percentages: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1 (10%) of 10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P- values and confidence intervals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Avoid discussion of results in this section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0" y="13478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0920" y="1641600"/>
            <a:ext cx="62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DID YOU F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506592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Results I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0" y="13478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42480" y="1479600"/>
            <a:ext cx="62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DID YOU F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42840" y="2362320"/>
            <a:ext cx="914400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Tables &amp; figures-straightforward, concise,   not duplicative, should stand al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Table(s) short  &amp; specific title at to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Figure(s) - concise legends, avoid distrac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2:00:25Z</dcterms:created>
  <dc:creator>XP</dc:creator>
  <dc:description/>
  <dc:language>en-US</dc:language>
  <cp:lastModifiedBy>Dr.Shaffi</cp:lastModifiedBy>
  <dcterms:modified xsi:type="dcterms:W3CDTF">2015-03-04T05:34:12Z</dcterms:modified>
  <cp:revision>35</cp:revision>
  <dc:subject/>
  <dc:title>Slide 1</dc:title>
</cp:coreProperties>
</file>