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3770-18FA-499E-B268-E6560CAF6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223920" y="4343400"/>
            <a:ext cx="641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ta or conclusions from your work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ost in present tense about what is 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4343400"/>
            <a:ext cx="60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5A31-ECDD-48BC-A9BC-46F81CCADD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79EA-6CE1-4E6F-BCEE-A40A3AC0AD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699B-1C6F-4CE3-8296-DE19957D38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63EC-EA6B-4B0A-9BC6-BF78B692AA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DD0-B0DA-4814-B6CA-7E39020588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0AEC-D37C-4DFA-A5BB-7453FE66AF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C71B-708D-4555-92EB-27585B2F5D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321-A163-46A6-B837-5E06A8CF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38F8-D815-4E7B-B2A9-9B0FE592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CC9-1FB2-4D67-AF6A-AD69A7730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29B-2025-47CD-A4FC-7EB69CF3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B1A0-957D-4517-B77A-B48B9F73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6A3F-F1BA-4A5D-A2DA-54840668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4333-A0C3-4036-A53A-F8D807F0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C0A-877B-4F9C-AA86-CC900E6F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F6CB-B6CD-4712-851E-75ADBD0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090C-86BA-44BD-B2D5-0232E611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2825-76ED-48D1-967E-74AD611D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76C-FCCD-4B15-9B5D-41D540C7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F439-8F96-4E34-B411-3F142325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90D7-9249-43D5-BD81-C27DD549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A07C-3966-4B30-8033-508B79F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E0E4-73B2-402F-B026-9C2D8831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12F-E62D-4AC0-B6B9-9C2AE859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86D45-9C5B-4375-8189-BF13B76E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6506-AADD-4EC9-925E-26FB5052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9C839-C6FF-4E2F-B601-1EB1CAE5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CB955-CB1D-45B7-BB24-DAF91DA5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3CA8-AB3D-4940-8293-A88CB09B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F56-7BF8-4560-9B64-32B24FF7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40EB-629D-4054-ACDD-3C39A398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8B17-F80A-4024-97A0-D9740CF5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CF547-C940-4F62-88EC-2EC3FE12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2501D-B73A-46E6-8A1D-ADF41FA2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E8E0A-FB35-4D32-8E0E-AFBAA55D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BDBAA-B2C0-4FF9-9532-F227B49A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DC07-543F-413D-9C38-5D0C3832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45A6C-6032-4F3E-91C3-13BE2EE8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638B-8105-4CF2-9707-63FDDCEE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8959C-612D-4845-B538-09531D5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8A6-BA91-498F-8BD5-3BB9B791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F09C-A8A9-4F1C-823F-84A6D27A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A0F8F-7067-4F05-83B6-6B286B4B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BB0FE-BF67-4C4D-9C68-25E63AB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FCD75-164C-411D-9CF3-50AFD511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118D0-C70F-4742-BFBC-D7346E6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2D6D-5D36-438C-B079-A2DF074C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4D12-45EA-4627-9311-19189647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E49F-323F-4C48-B335-9C5B9A47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467D-7038-4C5C-9AC1-A3A10DAA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5108D-8F16-4174-BF4D-FDFB1256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498-C9E2-4ABC-94AC-FA9336E0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57F9-589C-4F29-A8F4-C4BE663E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7BE9B-82D0-41BF-AACB-3891820C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B2DAC-D566-41B4-A4BA-F1E200F9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78A48-31A5-4A11-A30E-3AA2E5AF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C049-4673-48CC-9798-DA82A675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DB14A-72AF-40FB-BA4E-38A839A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BC47-3392-4EC2-A60B-6D05984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5C01E-4AD9-4DCE-AE60-F68E0F3E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15F3F-6C5D-44D7-BBD8-4362FF9F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2808-EA04-43E0-8570-60C792D9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65A7-180D-4380-87E2-859FA7BF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75176-5E8A-4F67-A3D0-E71FF4D9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171EC-C657-4025-8662-9E8C246D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F1BB4-FE6A-45AA-862B-777194AF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6DE15-76D9-421C-97BF-8FA4B0E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641CD-A12C-49EF-B45A-00C1E63E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C4484-9054-4343-880E-4856834A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CD3BA-72F2-4605-A268-F0EA125F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42FB-4C76-498B-BBE7-253BA2B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CB75B-D8FA-42A1-A30B-1A808B2A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ACC53-0980-4EA0-BE38-ACC9853B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4E1-EC37-406A-9CAE-599BCF4A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D3AB1-9BE6-4A50-A70B-C8D07948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6AAEE-79F6-4459-B440-7BD4A118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B440-92FB-4C99-924F-63EE6DD8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763EA-0658-48D8-98F3-39AEE2AE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4A757-6D47-4D21-BAB4-1FA57697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43A0-4170-452D-BE7B-D772AB85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5B597-5DA4-4FD3-BBDC-B84C83D8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1EBED-3970-43CD-A737-85E8488D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637B6-D715-4914-8EE2-242A7D7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3D445-7A00-43B1-9BE7-B04253F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732-2DB5-4866-8536-B84FB719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0B336-1F9E-41B1-9DCE-4F92FE1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CAA83-4A48-4E8E-B395-D97336FC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57CA5-216E-4315-9DD8-6640CDF2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C847-663D-4AB1-9744-03A60FF1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E15F3-BBDC-4798-BDCC-0047213A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4262B-B812-4938-8708-D98C1748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1FA6F-93B8-4443-80A5-ABBB711A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EFD96-497C-4A37-A588-861ABD00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3A64F-D707-4B64-9D82-70865573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FD1CB-99DA-44E0-BF50-A19BEC4E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A10D-9644-4BA6-934F-91F00C70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6A239-1BFA-4572-9E5D-F8AE68C5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ABBEF-BA35-4801-BE74-0946E100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5D4E3-4289-447D-8F1B-4EA2CC6B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A1958-FD0D-486C-85F3-F65EE0E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D3B36-8E22-4CCF-8582-3DBAED88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DE3A0-0CA4-4C48-86B3-57FBFCE6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6E04F-ABB4-45EC-A38D-B9509347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F12-4ECF-4FE6-B77D-1AD854E23FA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C855-0D21-4D90-9879-CFD0A49E622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CE22-A31B-439D-A6AD-D9CF4DAF04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94F2-F4BD-4DA0-8408-236AA5A4D1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DDB-E533-426F-B507-DCDD03DB2D5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CBF-4C24-4461-B3CB-990C6883B3D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D241-F6CC-4F8D-ADBE-5E96B6B1CED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F550-2244-44AA-B479-1D3F921A35B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0"/>
          <p:cNvSpPr/>
          <p:nvPr/>
        </p:nvSpPr>
        <p:spPr>
          <a:xfrm>
            <a:off x="457200" y="1523880"/>
            <a:ext cx="86104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to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a Research Pap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r.Shaik Shaffi Aha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ociate Prof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t. of Family &amp; Community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457200" y="896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146160"/>
            <a:ext cx="506556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Discussion 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17000" y="2333160"/>
            <a:ext cx="88837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Always focus on </a:t>
            </a:r>
            <a:r>
              <a:rPr b="0" lang="pt-BR" sz="3600" spc="-1" strike="noStrike" u="sng">
                <a:solidFill>
                  <a:srgbClr val="ffffff"/>
                </a:solidFill>
                <a:uFillTx/>
                <a:latin typeface="Corbel"/>
              </a:rPr>
              <a:t>your</a:t>
            </a: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 resul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utline 3 to 5 main points that come         from resul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Build a paragraph  for each poin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Finally permitted latitude to elaborate and speculate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160920" y="1631880"/>
            <a:ext cx="641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OES IT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Discussion I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19047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First answer to the research question posed in the Introduction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ummarize previous work-compare your resul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xplain what is new without exaggerating and its implic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What does your results mean?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orbel"/>
              </a:rPr>
              <a:t>Strengths and weaknesses in relation to other studies, particularly any differences in result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393840" y="129528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HAT DOES IT MEA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Introduction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2109960"/>
            <a:ext cx="9144000" cy="47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hort (3 paragraphs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Corbel"/>
              </a:rPr>
              <a:t>First paragraph</a:t>
            </a:r>
            <a:r>
              <a:rPr b="1" lang="pt-BR" sz="3200" spc="-1" strike="noStrike">
                <a:solidFill>
                  <a:srgbClr val="ffcc00"/>
                </a:solidFill>
                <a:latin typeface="Corbe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2900" spc="-1" strike="noStrike">
                <a:solidFill>
                  <a:srgbClr val="ffffff"/>
                </a:solidFill>
                <a:latin typeface="Corbel"/>
              </a:rPr>
              <a:t>Brief</a:t>
            </a: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 background-establish context, relevance, nature of the problem/question/purpose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Corbel"/>
              </a:rPr>
              <a:t>Second paragraph</a:t>
            </a:r>
            <a:endParaRPr b="0" lang="en-US" sz="34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Importance of the problem and unresolved issues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00"/>
                </a:solidFill>
                <a:latin typeface="Corbel"/>
              </a:rPr>
              <a:t>Last paragraph</a:t>
            </a:r>
            <a:r>
              <a:rPr b="1" lang="pt-BR" sz="3200" spc="-1" strike="noStrike">
                <a:solidFill>
                  <a:srgbClr val="ffcc00"/>
                </a:solidFill>
                <a:latin typeface="Corbe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Rationale: </a:t>
            </a: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state hypothesis/main objective/purpose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0812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0" y="12286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28440" y="144936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Arial"/>
              </a:rPr>
              <a:t>WHAT IS THE QUESTION/OBJECTIV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167000" y="2685960"/>
            <a:ext cx="387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7030a0"/>
                </a:solidFill>
                <a:latin typeface="Arial"/>
                <a:ea typeface="Arial"/>
              </a:rPr>
              <a:t>What we know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246560" y="4267080"/>
            <a:ext cx="517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7030a0"/>
                </a:solidFill>
                <a:latin typeface="Arial"/>
                <a:ea typeface="Arial"/>
              </a:rPr>
              <a:t>What we don’t know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3724920" y="5257800"/>
            <a:ext cx="5659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7030a0"/>
                </a:solidFill>
                <a:latin typeface="Arial"/>
                <a:ea typeface="Arial"/>
              </a:rPr>
              <a:t>Why we did this study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Abstract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83680" y="1486080"/>
            <a:ext cx="8859960" cy="51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ritical part of pap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Determines further reading of pap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ructured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void abbreviatio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Write and rewrite until flawle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ear and concise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Line 4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2536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Style</a:t>
            </a:r>
            <a:br>
              <a:rPr sz="3600"/>
            </a:br>
            <a:r>
              <a:rPr b="0" i="1" lang="en-US" sz="3600" spc="-1" strike="noStrike">
                <a:solidFill>
                  <a:srgbClr val="c1eeff"/>
                </a:solidFill>
                <a:latin typeface="Consolas"/>
              </a:rPr>
              <a:t>Accuracy &amp; Clar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70920" y="1943280"/>
            <a:ext cx="896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Proper words in proper places make the true definition of style.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-Jonathan Swif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Have something to say and say it as clearly as you can… the essence of style.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-Matthew Arnold</a:t>
            </a:r>
            <a:r>
              <a:rPr b="0" lang="en-GB" sz="1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f writing is unclear, readers and reviewers won’t understan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void vague languag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Corbel"/>
              </a:rPr>
              <a:t>Multiple mistakes in spelling and syntax, suggests similar sloppiness in the projec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eck and double check da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0" y="172872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0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Style</a:t>
            </a:r>
            <a:br>
              <a:rPr sz="3600"/>
            </a:br>
            <a:r>
              <a:rPr b="0" i="1" lang="en-US" sz="3600" spc="-1" strike="noStrike">
                <a:solidFill>
                  <a:srgbClr val="c1eeff"/>
                </a:solidFill>
                <a:latin typeface="Consolas"/>
              </a:rPr>
              <a:t>Accuracy &amp; Clar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Use active voice whenever possibl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en-US" sz="2800" spc="-1" strike="noStrike">
                <a:solidFill>
                  <a:srgbClr val="66ccff"/>
                </a:solidFill>
                <a:latin typeface="Corbel"/>
              </a:rPr>
              <a:t>Active voice</a:t>
            </a: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ubject is performing the verb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i="1" lang="en-US" sz="2800" spc="-1" strike="noStrike">
                <a:solidFill>
                  <a:srgbClr val="66ccff"/>
                </a:solidFill>
                <a:latin typeface="Corbel"/>
              </a:rPr>
              <a:t>Passive voice</a:t>
            </a: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ubject receives the action  expressed in the verb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rbel"/>
              </a:rPr>
              <a:t>Passive (more wordy)   Active (more concise)</a:t>
            </a: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eg.,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99"/>
                </a:solidFill>
                <a:latin typeface="Corbel"/>
              </a:rPr>
              <a:t>There are</a:t>
            </a:r>
            <a:r>
              <a:rPr b="1" i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treatment guidelines for  carcinoma </a:t>
            </a:r>
            <a:r>
              <a:rPr b="1" i="1" lang="en-US" sz="2500" spc="-1" strike="noStrike">
                <a:solidFill>
                  <a:srgbClr val="ffff99"/>
                </a:solidFill>
                <a:latin typeface="Corbel"/>
              </a:rPr>
              <a:t>that were</a:t>
            </a:r>
            <a:r>
              <a:rPr b="1" i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reported</a:t>
            </a:r>
            <a:r>
              <a:rPr b="1" lang="en-US" sz="2500" spc="-1" strike="noStrike">
                <a:solidFill>
                  <a:srgbClr val="ffff99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by Khalid, et al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Corbel"/>
              </a:rPr>
              <a:t>Correction: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Treatment guidelines for carcinoma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were</a:t>
            </a:r>
            <a:r>
              <a:rPr b="1" i="1" lang="en-US" sz="2500" spc="-1" strike="noStrike">
                <a:solidFill>
                  <a:srgbClr val="ffff99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reported</a:t>
            </a:r>
            <a:r>
              <a:rPr b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by Khalid, et al.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Corbel"/>
              </a:rPr>
              <a:t>Better:</a:t>
            </a:r>
            <a:r>
              <a:rPr b="0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Khalid, et al.</a:t>
            </a:r>
            <a:r>
              <a:rPr b="1" i="1" lang="en-US" sz="25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00ff00"/>
                </a:solidFill>
                <a:latin typeface="Corbel"/>
              </a:rPr>
              <a:t>reported</a:t>
            </a:r>
            <a:r>
              <a:rPr b="1" i="1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Corbel"/>
              </a:rPr>
              <a:t>treatment guidelines for carcinoma. </a:t>
            </a:r>
            <a:r>
              <a:rPr b="1" i="1" lang="en-US" sz="2500" spc="-1" strike="noStrike">
                <a:solidFill>
                  <a:srgbClr val="ffffff"/>
                </a:solidFill>
                <a:latin typeface="Corbel"/>
              </a:rPr>
              <a:t>(Active voice)</a:t>
            </a:r>
            <a:endParaRPr b="0" lang="en-US" sz="25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0" y="13431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611280" y="453960"/>
            <a:ext cx="183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Style</a:t>
            </a:r>
            <a:br>
              <a:rPr sz="3200"/>
            </a:br>
            <a:r>
              <a:rPr b="0" i="1" lang="en-US" sz="3600" spc="-1" strike="noStrike">
                <a:solidFill>
                  <a:srgbClr val="c1eeff"/>
                </a:solidFill>
                <a:latin typeface="Consolas"/>
              </a:rPr>
              <a:t>Accuracy &amp; Clarity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1599840"/>
            <a:ext cx="8967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All first drafts have too many wor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Next drafts: prune vigorously,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void repetition,   wordiness, long sentences, </a:t>
            </a: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excessive adverbs/adjectiv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Strip every senten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Writing improves in proportion to deletion of unnecessary wor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you have the choice of two words, use the simpler o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ost valuable of all talents is that of never using two words when one will do.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--Thomas Jefferson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Line 4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9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c1eeff"/>
                </a:solidFill>
                <a:latin typeface="Consolas"/>
              </a:rPr>
              <a:t>Simplify</a:t>
            </a:r>
            <a:endParaRPr b="0" lang="en-US" sz="5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20680" y="1306080"/>
            <a:ext cx="69832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a majority of = m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considerable amount of = muc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number of = several/som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n account of = becau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referred to as = call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s the capacity to = c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t is clear that = clear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at the present time = n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give rise to = cau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is defined as = 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rbel"/>
              </a:rPr>
              <a:t>subsequent to = aft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5689440" y="2859120"/>
            <a:ext cx="32497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ose who have the most to say usually say it with the fewest word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"/>
          <p:cNvSpPr/>
          <p:nvPr/>
        </p:nvSpPr>
        <p:spPr>
          <a:xfrm>
            <a:off x="0" y="10857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50655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Revise, Revise and Revise </a:t>
            </a: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2960" y="1904760"/>
            <a:ext cx="89694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You may not be a very good writer, but be an excellent rewrit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lways look from a distance--see your paper as a review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olish the writing styl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ouble check spelling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ouble check referenc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Line 4"/>
          <p:cNvSpPr/>
          <p:nvPr/>
        </p:nvSpPr>
        <p:spPr>
          <a:xfrm>
            <a:off x="0" y="1428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500" fill="hold"/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06556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Submission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1904760"/>
            <a:ext cx="91440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dentify the appropriate journal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Read “Instructions for Authors” thoroughl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onform to “Instructions” precisel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void careless mistake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Line 4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c1eeff"/>
                </a:solidFill>
                <a:latin typeface="Consolas"/>
              </a:rPr>
              <a:t>Why to Write?</a:t>
            </a: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 </a:t>
            </a:r>
            <a:br>
              <a:rPr sz="4300"/>
            </a:b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88640" y="1671480"/>
            <a:ext cx="89550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ffff"/>
                </a:solidFill>
                <a:latin typeface="Corbel"/>
              </a:rPr>
              <a:t>To advance knowledg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Improvement in understanding of subject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To advance your institution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Academic accomplishment, prestige, funding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ffff"/>
                </a:solidFill>
                <a:latin typeface="Corbel"/>
              </a:rPr>
              <a:t>To advance yourself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Corbel"/>
              </a:rPr>
              <a:t>Enhances clear thinking &amp;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scholarship ability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rbel"/>
              </a:rPr>
              <a:t>Promotion, career development, </a:t>
            </a: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reputation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ffff"/>
                </a:solidFill>
                <a:latin typeface="Corbel"/>
              </a:rPr>
              <a:t>To get A+  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Line 5"/>
          <p:cNvSpPr/>
          <p:nvPr/>
        </p:nvSpPr>
        <p:spPr>
          <a:xfrm>
            <a:off x="0" y="16714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46080" y="5454720"/>
            <a:ext cx="90504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  <a:ea typeface="Arial"/>
              </a:rPr>
              <a:t>Benefits often greater to author than read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0" y="145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hat Editors Like About Papers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21760" y="1371600"/>
            <a:ext cx="87361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Originalit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nteresting to readers, important messages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ear questions, correct method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ear presentation (style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Good grammar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0" y="14428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-142920" y="52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cc00"/>
                </a:solidFill>
                <a:latin typeface="Arial"/>
                <a:ea typeface="Arial"/>
              </a:rPr>
              <a:t>  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ditors and reviewers spend hours reading manuscripts, and greatly appreciate receiving papers that are easy to read and edi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1eeff"/>
                </a:solidFill>
                <a:latin typeface="Consolas"/>
              </a:rPr>
              <a:t>What Happens Next?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33440" y="2700000"/>
            <a:ext cx="378144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Revis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Reject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Line 4"/>
          <p:cNvSpPr/>
          <p:nvPr/>
        </p:nvSpPr>
        <p:spPr>
          <a:xfrm>
            <a:off x="0" y="15336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86"/>
          <p:cNvSpPr/>
          <p:nvPr/>
        </p:nvSpPr>
        <p:spPr>
          <a:xfrm>
            <a:off x="449280" y="1809720"/>
            <a:ext cx="5587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he Review Process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" descr="C:\Users\IQBAL\Desktop\thank-you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1eeff"/>
                </a:solidFill>
                <a:latin typeface="Consolas"/>
              </a:rPr>
              <a:t>Writing a Paper: Getting Started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32840" y="2521080"/>
            <a:ext cx="895356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No single best w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Varies from paper to paper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Background reading--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iterature search!        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ecide on authorship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Line 5"/>
          <p:cNvSpPr/>
          <p:nvPr/>
        </p:nvSpPr>
        <p:spPr>
          <a:xfrm>
            <a:off x="0" y="15429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203040" y="1666800"/>
            <a:ext cx="894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only way to learn to write is to write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Peggy Te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06592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Writing a Paper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-299880" y="1757160"/>
            <a:ext cx="9340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Fix realistic schedule (Adherence)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Need stretch of protected hours or day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Ideas come while writing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When time is short: prepare, revi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Location</a:t>
            </a:r>
            <a:r>
              <a:rPr b="0" i="1" lang="pt-BR" sz="3200" spc="-1" strike="noStrike">
                <a:solidFill>
                  <a:srgbClr val="ffffff"/>
                </a:solidFill>
                <a:latin typeface="Corbel"/>
              </a:rPr>
              <a:t> (nothing to distrac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365040">
              <a:lnSpc>
                <a:spcPct val="90000"/>
              </a:lnSpc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rbel"/>
              </a:rPr>
              <a:t>Maintain momentum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2" marL="1096920" indent="-318960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cademicians rated by what they finish, not by what they attemp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0" y="154296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28520" y="6480"/>
            <a:ext cx="8942400" cy="17492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3938760" cy="22096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t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trac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Line 4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27000" y="0"/>
            <a:ext cx="9040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a Manuscript--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12"/>
          <p:cNvSpPr/>
          <p:nvPr/>
        </p:nvSpPr>
        <p:spPr>
          <a:xfrm>
            <a:off x="128520" y="60390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riting is a lot easier if you have something to s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Sholem As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-0.00578 L 0.51302 -0.15764 E">
                                      <p:cBhvr>
                                        <p:cTn id="109" dur="2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0.53975 -0.15995 E">
                                      <p:cBhvr>
                                        <p:cTn id="113" dur="2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91 0.00394 L 0.51736 -0.15555 E">
                                      <p:cBhvr>
                                        <p:cTn id="117" dur="2000" fill="hold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72 -0.00185 L 0.51493 0.08287 E">
                                      <p:cBhvr>
                                        <p:cTn id="121" dur="2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53264 0.24699 E">
                                      <p:cBhvr>
                                        <p:cTn id="125" dur="2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4121 L 0.50451 0.04676 E">
                                      <p:cBhvr>
                                        <p:cTn id="129" dur="2000" fill="hold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0.55104 0.5044 E">
                                      <p:cBhvr>
                                        <p:cTn id="133" dur="2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31600" y="231480"/>
            <a:ext cx="506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Methods 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66320" y="2133720"/>
            <a:ext cx="889164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Corbel"/>
              </a:rPr>
              <a:t>For  readers this is the most important section</a:t>
            </a:r>
            <a:r>
              <a:rPr b="0" i="1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ast tens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udy design(prospective or retrospective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xplicit inclusion/exclusion criteria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election of study subject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196920" y="1420920"/>
            <a:ext cx="528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53341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Methods I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46160" y="2652480"/>
            <a:ext cx="89265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thical approval (IRB)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Statistical methods(sampling technique, sample size, &amp; statistical tests)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ata collection tool ( its validity &amp; reliability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Detailed enough so results can be repeated by other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35520" indent="-3355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111600" y="1684440"/>
            <a:ext cx="57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1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Results 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400" y="2395080"/>
            <a:ext cx="9144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Just the facts, in a logical sequenc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Past tense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Check, recheck data/numbers-must add up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Give numbers and percentages: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1 (10%) of 10…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P- values and confidence intervals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rbel"/>
              </a:rPr>
              <a:t>Avoid discussion of results in this section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  <a:p>
            <a:pPr marL="365040" indent="-36504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0920" y="1641600"/>
            <a:ext cx="62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F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506592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Results II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0" y="13478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42480" y="1479600"/>
            <a:ext cx="62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WHAT DID YOU F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42840" y="2362320"/>
            <a:ext cx="914400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Tables &amp; figures-straightforward, concise,   not duplicative, should stand alon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Table(s) short  &amp; specific title at to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ff00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  <a:ea typeface="Arial"/>
              </a:rPr>
              <a:t>Figure(s) - concise legends, avoid distrac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7T02:00:25Z</dcterms:created>
  <dc:creator>XP</dc:creator>
  <dc:description/>
  <dc:language>en-US</dc:language>
  <cp:lastModifiedBy>Dr.Shaffi</cp:lastModifiedBy>
  <dcterms:modified xsi:type="dcterms:W3CDTF">2015-03-04T05:34:12Z</dcterms:modified>
  <cp:revision>35</cp:revision>
  <dc:subject/>
  <dc:title>Slide 1</dc:title>
</cp:coreProperties>
</file>