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move the slide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913-7A2C-4A4A-905E-806B9538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0C02-D21E-49B2-B7AE-B738DDFDF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A0A6-72F8-46CF-821E-372946E6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AC7F-B681-4C58-B540-0CE607AB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7A8-0248-4F54-B904-47344746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DA7B-461A-4008-B4A1-AB4BB6D2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3116-24BA-47A5-8DEB-9AC183E0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215-4B40-4192-A29B-484A2B62D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92CF-8DE4-478B-A3BB-62E71ACC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961-BF40-4622-A6EF-A1E843A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4EA-38FF-4A5A-8C53-9D491AC8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96A-EB1C-4647-94D9-3C8F3B10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B5E-E9A1-49F7-AEBF-D5205A3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84A0-DDD4-47D5-9FC2-7D463639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119C-5755-4599-8EF4-1DF3FF73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9AB8-0440-4FD1-B383-7F747473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0FEE-B179-49C0-A581-93753F05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EF85-C3A1-4AAB-9980-416E13B9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44DD-457E-446B-AF3A-82B73280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DB61-D239-46A6-BA7C-3EB9453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210-1EB8-49DF-9D5D-4AD2981B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7FE5-A658-4C7F-A766-0235C60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52FB-6F99-4852-8614-85C4F1AD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660F-8691-4DF3-B53F-88F64F3B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F807-5163-4321-ABCB-A0BC60C5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38BE-1C49-43D0-A3C4-56D3AA98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6147F-D231-4521-AA34-07CA13A5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B15C-A4F4-4D1E-B2EB-9065F86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B25E-3DDB-4642-9248-8FB89F6C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C197-C5DA-4BE2-8819-5112772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46B4-00D5-40AB-9B8E-FBDE6252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BD3-E903-4621-BE0A-480E59F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F227-F475-4C6E-932B-E357492C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F6FE-3EA3-419B-B792-C56697C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391A3-137C-4555-9C8A-68739B39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DF7E-9A7D-4B0C-B06E-A856E666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525F-269C-45A7-A4E5-B36B6265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D147-1019-4159-ABDC-CB20AAAF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A70D-592D-46A3-8C28-961B1AA5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FE1B-BD6A-4B05-A8FB-4217DFE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AE26-F2B5-4ACA-A35F-B520559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23B2-796F-411D-B145-9D835DEF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BAB-5191-4414-BEFF-D17F1A7A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529F-1523-4D13-826C-7E8086A7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4795-0E2D-402D-B7C2-6717ED5F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8644-01BC-4A20-9EF9-63D8CB9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44DE4-035B-4FFE-9EFC-68A0CF4B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6A1E8-06C6-49D2-A31B-09B97A99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066D-E08E-4B90-87ED-0D7863F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CEB94-8669-4103-96C2-50CDFA69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91E7-6BFA-4D55-9E69-7106CF28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45AE-92DB-41C7-A71B-07101C4A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8632-E50D-4F85-94E9-A5208648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7AB-6DD7-4F90-8021-26602E6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2A8C-6CE0-41E0-8C11-2F18CE39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0AAD-65C6-45D3-872E-3EFAEBAF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8B0C6-8B3A-43A0-8471-A7B92CAE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5DB7B-FD4F-46F2-8229-D44105D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639AC-7F3F-4D86-9114-CD9913C1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A89A-8E9F-49D4-847B-EFE58FD1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3E6B8-0DDD-4454-879C-BCB87AA4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44A81-05F5-47BD-979B-F821E3EE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B1460-1D69-4451-8343-66D08575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C0FFC-4885-4111-A206-A73F32D2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28880" y="685800"/>
            <a:ext cx="720072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A78-A7F6-4531-8348-14F0583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46356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98240" y="228600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2888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46356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98240" y="4156920"/>
            <a:ext cx="2318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CC01A-DB4E-4A18-B199-ADD488AC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65-D322-42BE-84EF-5E7F439E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520" y="415692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F32-3EE5-4FE5-A73F-9503E000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888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520" y="2286000"/>
            <a:ext cx="3513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28880" y="4156920"/>
            <a:ext cx="72007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847-079F-4430-8ACE-8926A06B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0080" y="6453360"/>
            <a:ext cx="4710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4240" y="6453360"/>
            <a:ext cx="1196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8299-8EE3-4DB6-A95B-C618EF62F009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35892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9"/>
          <p:cNvGrpSpPr/>
          <p:nvPr/>
        </p:nvGrpSpPr>
        <p:grpSpPr>
          <a:xfrm>
            <a:off x="565200" y="744120"/>
            <a:ext cx="8005680" cy="5350320"/>
            <a:chOff x="565200" y="744120"/>
            <a:chExt cx="8005680" cy="5350320"/>
          </a:xfrm>
        </p:grpSpPr>
        <p:sp>
          <p:nvSpPr>
            <p:cNvPr id="44" name="Freeform 6"/>
            <p:cNvSpPr/>
            <p:nvPr/>
          </p:nvSpPr>
          <p:spPr>
            <a:xfrm>
              <a:off x="6114600" y="1685520"/>
              <a:ext cx="2456280" cy="4408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357"/>
                  </a:lnTo>
                  <a:lnTo>
                    <a:pt x="8761" y="935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 flipH="1" flipV="1">
              <a:off x="564840" y="743760"/>
              <a:ext cx="2456640" cy="4408920"/>
            </a:xfrm>
            <a:custGeom>
              <a:avLst/>
              <a:gdLst/>
              <a:ahLst/>
              <a:rect l="l" t="t" r="r" b="b"/>
              <a:pathLst>
                <a:path w="10001" h="10000">
                  <a:moveTo>
                    <a:pt x="8762" y="0"/>
                  </a:moveTo>
                  <a:lnTo>
                    <a:pt x="10001" y="0"/>
                  </a:lnTo>
                  <a:lnTo>
                    <a:pt x="10001" y="10000"/>
                  </a:lnTo>
                  <a:lnTo>
                    <a:pt x="1" y="10000"/>
                  </a:lnTo>
                  <a:cubicBezTo>
                    <a:pt x="-2" y="9766"/>
                    <a:pt x="4" y="9586"/>
                    <a:pt x="1" y="9352"/>
                  </a:cubicBezTo>
                  <a:lnTo>
                    <a:pt x="8762" y="9346"/>
                  </a:lnTo>
                  <a:lnTo>
                    <a:pt x="8762" y="0"/>
                  </a:lnTo>
                  <a:close/>
                </a:path>
              </a:pathLst>
            </a:custGeom>
            <a:solidFill>
              <a:srgbClr val="191b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6484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C23-C553-40E2-8490-04C97DA98726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b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9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>
            <a:off x="6113520" y="1685880"/>
            <a:ext cx="2457360" cy="4408560"/>
          </a:xfrm>
          <a:custGeom>
            <a:avLst/>
            <a:gdLst/>
            <a:ahLst/>
            <a:rect l="l" t="t" r="r" b="b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efe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efede3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efede3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efede3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efede3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554040" y="6453360"/>
            <a:ext cx="121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38240" y="6453360"/>
            <a:ext cx="5267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7372080" y="6453360"/>
            <a:ext cx="1198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fed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7643-D163-4748-A781-8F825EFB3090}" type="slidenum">
              <a:rPr b="0" lang="en-US" sz="1000" spc="-1" strike="noStrike">
                <a:solidFill>
                  <a:srgbClr val="efede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1437-292E-4681-AB3F-EC3E76F6DC17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0"/>
            <a:ext cx="3978360" cy="6858000"/>
          </a:xfrm>
          <a:prstGeom prst="rect">
            <a:avLst/>
          </a:prstGeom>
          <a:solidFill>
            <a:srgbClr val="8c8d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978360" y="0"/>
            <a:ext cx="171360" cy="6858000"/>
          </a:xfrm>
          <a:prstGeom prst="rect">
            <a:avLst/>
          </a:prstGeom>
          <a:solidFill>
            <a:srgbClr val="191b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542520" y="6453360"/>
            <a:ext cx="90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1654200" y="6453360"/>
            <a:ext cx="178128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11680" y="6453360"/>
            <a:ext cx="1197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91b0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FC0E-026B-47B9-A564-11F7E4793652}" type="slidenum">
              <a:rPr b="0" lang="en-US" sz="1000" spc="-1" strike="noStrike">
                <a:solidFill>
                  <a:srgbClr val="191b0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5564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OUNSELING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CLINICAL SETTING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403812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imes New Roman"/>
              </a:rPr>
              <a:t>Dr. Syed Irfan Karim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Assistant Professor &amp; Consultant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Family &amp; Community Medicine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ing Saud University, Riyadh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pic>
        <p:nvPicPr>
          <p:cNvPr id="227" name="Picture 4" descr="j0295310"/>
          <p:cNvPicPr/>
          <p:nvPr/>
        </p:nvPicPr>
        <p:blipFill>
          <a:blip r:embed="rId1"/>
          <a:stretch/>
        </p:blipFill>
        <p:spPr>
          <a:xfrm>
            <a:off x="6095880" y="1079640"/>
            <a:ext cx="2590920" cy="2349360"/>
          </a:xfrm>
          <a:prstGeom prst="rect">
            <a:avLst/>
          </a:prstGeom>
          <a:ln w="76320">
            <a:solidFill>
              <a:srgbClr val="3366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proxima-nova"/>
              </a:rPr>
              <a:t>Agree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28880" y="1752120"/>
            <a:ext cx="720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 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Through a process of shared decision-making, collaboratively set realistic, personalized goals with the patient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proxima-nova"/>
              </a:rPr>
              <a:t>Patient-centered goals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Based on the patient’s level of interest and confidence in his or her ability to effect change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Incorporated into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proxima-nova"/>
              </a:rPr>
              <a:t>patient-centered action plan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444444"/>
                </a:solidFill>
                <a:latin typeface="proxima-nova"/>
              </a:rPr>
              <a:t>The use of the SMART acronym.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What is SMART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028880" y="15998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S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pecific – Have you explicitly stated what you intend to do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M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asurable – Could you definitively say you had achieved your goal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A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tainable – Do you feel confident that you can achieve the goal you set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R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levant – Would making this change bring you closer to your overall goal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proxima-nova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T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imely – Have you stated the time frame in which this goal will be completed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What will be the </a:t>
            </a:r>
            <a:br>
              <a:rPr sz="3600"/>
            </a:b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  SMART goal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General goal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 </a:t>
            </a:r>
            <a:r>
              <a:rPr b="0" lang="en-US" sz="4000" spc="-1" strike="noStrike">
                <a:solidFill>
                  <a:srgbClr val="444444"/>
                </a:solidFill>
                <a:latin typeface="proxima-nova"/>
              </a:rPr>
              <a:t>“</a:t>
            </a:r>
            <a:r>
              <a:rPr b="0" lang="en-US" sz="4000" spc="-1" strike="noStrike">
                <a:solidFill>
                  <a:srgbClr val="444444"/>
                </a:solidFill>
                <a:latin typeface="proxima-nova"/>
              </a:rPr>
              <a:t>I want to eat healthier.”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8880" y="609120"/>
            <a:ext cx="7200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proxima-nova"/>
              </a:rPr>
              <a:t>Examples of SMART goal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444444"/>
                </a:solidFill>
                <a:latin typeface="proxima-nova"/>
              </a:rPr>
              <a:t>“</a:t>
            </a:r>
            <a:r>
              <a:rPr b="0" lang="en-US" sz="2800" spc="-1" strike="noStrike">
                <a:solidFill>
                  <a:srgbClr val="444444"/>
                </a:solidFill>
                <a:latin typeface="proxima-nova"/>
              </a:rPr>
              <a:t>Starting tomorrow, I will eat a piece of fruit at breakfast and lunch four out of seven days per week.”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Assist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028880" y="1371600"/>
            <a:ext cx="720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fer and/or refer to evidence-based interventions and resources, including self-management support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Franklin Gothic Book"/>
              </a:rPr>
              <a:t>Patient-centered assistance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Evidence-based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ludes information about </a:t>
            </a:r>
            <a:r>
              <a:rPr b="1" lang="en-US" sz="2000" spc="-1" strike="noStrike">
                <a:solidFill>
                  <a:srgbClr val="ff0000"/>
                </a:solidFill>
                <a:latin typeface="Franklin Gothic Book"/>
              </a:rPr>
              <a:t>benefits and harms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 specific intervention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dentifi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personal barrier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ludes tailored strategies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problem-solving technique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corporate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Franklin Gothic Book"/>
              </a:rPr>
              <a:t>social and environmental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support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51720" indent="-35172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proxima-nova"/>
              </a:rPr>
              <a:t>Arrange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28880" y="1523520"/>
            <a:ext cx="720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Specify a plan for follow-up (e.g., visits, phone calls, e-mail, other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proxima-nova"/>
              </a:rPr>
              <a:t>Patient-centered follow-up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Evidence-based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ailored to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 preferences 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nd schedul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LETS COME TO REAL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CLINIC SETTING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Object 2"/>
          <p:cNvGraphicFramePr/>
          <p:nvPr/>
        </p:nvGraphicFramePr>
        <p:xfrm>
          <a:off x="31680" y="31680"/>
          <a:ext cx="9144000" cy="687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80" y="3168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are there any flaws in this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Calibri"/>
                <a:ea typeface="Calibri"/>
              </a:rPr>
              <a:t>doctor</a:t>
            </a:r>
            <a:r>
              <a:rPr b="1" lang="en-US" sz="4000" spc="-1" strike="noStrike">
                <a:solidFill>
                  <a:srgbClr val="191b0e"/>
                </a:solidFill>
                <a:latin typeface="Calibri"/>
                <a:ea typeface="Calibri"/>
              </a:rPr>
              <a:t> –patient set –up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191b0e"/>
                </a:solidFill>
                <a:latin typeface="Franklin Gothic Book"/>
              </a:rPr>
              <a:t>(</a:t>
            </a:r>
            <a:r>
              <a:rPr b="0" lang="en-US" sz="3600" spc="-1" strike="noStrike">
                <a:solidFill>
                  <a:srgbClr val="191b0e"/>
                </a:solidFill>
                <a:latin typeface="Calibri"/>
                <a:ea typeface="Calibri"/>
              </a:rPr>
              <a:t>picture</a:t>
            </a:r>
            <a:r>
              <a:rPr b="0" lang="en-US" sz="4000" spc="-1" strike="noStrike">
                <a:solidFill>
                  <a:srgbClr val="191b0e"/>
                </a:solidFill>
                <a:latin typeface="Franklin Gothic Book"/>
              </a:rPr>
              <a:t> )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Professional Behavior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Building Rapport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Showing empathy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Good posture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ppropriate body language .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voids interruption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191b0e"/>
                </a:solidFill>
                <a:latin typeface="Franklin Gothic Book"/>
              </a:rPr>
              <a:t>Objectives :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understand the concepts of Health Education with  communication and counseling skills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learn why are good communication skills are important for Counselling ?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learn the theories and stages of counseling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understand   the possible barriers ?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  <a:p>
            <a:pPr marL="359640" indent="-359640">
              <a:lnSpc>
                <a:spcPct val="7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191b0e"/>
                </a:solidFill>
                <a:latin typeface="Franklin Gothic Book"/>
              </a:rPr>
              <a:t>To Discuss  practical examples of counselling </a:t>
            </a:r>
            <a:endParaRPr b="0" lang="en-US" sz="22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1760" y="37764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200" spc="-1" strike="noStrike">
                <a:solidFill>
                  <a:srgbClr val="191b0e"/>
                </a:solidFill>
                <a:latin typeface="Franklin Gothic Book"/>
              </a:rPr>
              <a:t>The Evidence Base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2120" y="1828800"/>
            <a:ext cx="7619760" cy="4648320"/>
          </a:xfrm>
          <a:prstGeom prst="rect">
            <a:avLst/>
          </a:prstGeom>
          <a:solidFill>
            <a:srgbClr val="efede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4% of patien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 problems &amp; concerns not elicited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(Stewart et al, 197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00000"/>
              </a:lnSpc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ctors frequently interrupted their patients soon after their opening statement (mean time 18 seconds) so patients subsequently failed to disclose significant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Beckman and Frankel, 198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lnSpc>
                <a:spcPct val="100000"/>
              </a:lnSpc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22120">
              <a:buClr>
                <a:srgbClr val="191b0e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ling to discover the patients feelings and concerns led to dysfunctional consultations and counselling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yrne and Long, 197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85800" y="914400"/>
            <a:ext cx="8001000" cy="762120"/>
          </a:xfrm>
          <a:prstGeom prst="rect">
            <a:avLst/>
          </a:prstGeom>
          <a:solidFill>
            <a:srgbClr val="efede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1b0e"/>
                </a:solidFill>
                <a:latin typeface="Arial Black"/>
              </a:rPr>
              <a:t>Blocking Behavior of Do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85800" y="1828800"/>
            <a:ext cx="7848720" cy="4419720"/>
          </a:xfrm>
          <a:prstGeom prst="rect">
            <a:avLst/>
          </a:prstGeom>
          <a:solidFill>
            <a:srgbClr val="efede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ing advice and reassurance before th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have been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ing away distress as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ing to physical aspec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91b0e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llying” patients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191b0e"/>
                </a:solidFill>
                <a:latin typeface="Calibri"/>
                <a:ea typeface="Calibri"/>
              </a:rPr>
              <a:t>What is a failed  Counseling?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1676520"/>
            <a:ext cx="7772400" cy="4290840"/>
          </a:xfrm>
          <a:prstGeom prst="rect">
            <a:avLst/>
          </a:prstGeom>
          <a:solidFill>
            <a:srgbClr val="efed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a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medical j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ploring the patients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liciting the actu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alistic attitude (It’s God’s w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xploring in socio-cultural &amp; eco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Common Barrier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2120" y="182880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If a joint understanding of the problem &amp; management plan, which the patient should understands and  feels comfortabl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Franklin Gothic Book"/>
              </a:rPr>
              <a:t>is not made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the patient is not likely to follow the advice and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all our efforts in assessment and diagnosis are wasted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	</a:t>
            </a:r>
            <a:r>
              <a:rPr b="0" i="1" lang="en-US" sz="2400" spc="-1" strike="noStrike">
                <a:solidFill>
                  <a:srgbClr val="191b0e"/>
                </a:solidFill>
                <a:latin typeface="Franklin Gothic Book"/>
              </a:rPr>
              <a:t>(Silverman et al. 1998)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191b0e"/>
                </a:solidFill>
                <a:latin typeface="Franklin Gothic Book"/>
              </a:rPr>
              <a:t>Common Barriers in Counseling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62120" y="2133720"/>
            <a:ext cx="8001000" cy="4343400"/>
          </a:xfrm>
          <a:prstGeom prst="rect">
            <a:avLst/>
          </a:prstGeom>
          <a:solidFill>
            <a:srgbClr val="efede3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barrier – low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 misconceptions and my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y to take responsibility for own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90520"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o-cultural, economic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142640" y="1980720"/>
            <a:ext cx="7201080" cy="2341080"/>
          </a:xfrm>
          <a:prstGeom prst="rect">
            <a:avLst/>
          </a:prstGeom>
          <a:solidFill>
            <a:srgbClr val="dedac5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txBody>
          <a:bodyPr anchor="t">
            <a:normAutofit/>
          </a:bodyPr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communication &amp; counseling is good for doctor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for patients and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Arial"/>
              </a:rPr>
              <a:t>good for the health servic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Times New Roman"/>
                <a:ea typeface="Calibri"/>
              </a:rPr>
              <a:t>Physical Activity Counseling 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91b0e"/>
                </a:solidFill>
                <a:latin typeface="Times New Roman"/>
                <a:ea typeface="Calibri"/>
              </a:rPr>
              <a:t>5A’s</a:t>
            </a: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Case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28880" y="17524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20-years old college student visits your Community Health Center for concerns over his increasing weight .On examination you find his BMI is greater than 30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How will you approach this student , within context of the 5 A   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    </a:t>
            </a: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approach to counsell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28880" y="1371600"/>
            <a:ext cx="7581600" cy="4952880"/>
          </a:xfrm>
          <a:prstGeom prst="rect">
            <a:avLst/>
          </a:prstGeom>
          <a:solidFill>
            <a:srgbClr val="e8eee8"/>
          </a:solidFill>
          <a:ln w="0">
            <a:noFill/>
          </a:ln>
        </p:spPr>
        <p:txBody>
          <a:bodyPr anchor="t">
            <a:normAutofit/>
          </a:bodyPr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 algn="ctr">
              <a:lnSpc>
                <a:spcPct val="94000"/>
              </a:lnSpc>
              <a:spcBef>
                <a:spcPts val="1749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f6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f60000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f60000"/>
                </a:solidFill>
                <a:latin typeface="Arial"/>
                <a:ea typeface="Arial"/>
              </a:rPr>
              <a:t> A - ASSES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current physical activity (type, frequency, intensity, and duration);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indications to physical activity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ient’s readiness for change;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-oriented benefits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upport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ingness to help others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fficacy (the patient’s self-confidence that he or she can change behavior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ed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5400" indent="0" algn="ctr">
              <a:lnSpc>
                <a:spcPct val="94000"/>
              </a:lnSpc>
              <a:spcBef>
                <a:spcPts val="1749"/>
              </a:spcBef>
              <a:buNone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028520" y="1523880"/>
            <a:ext cx="7505640" cy="5105520"/>
          </a:xfrm>
          <a:prstGeom prst="rect">
            <a:avLst/>
          </a:prstGeom>
          <a:solidFill>
            <a:srgbClr val="e8eee8"/>
          </a:solidFill>
          <a:ln w="0">
            <a:noFill/>
          </a:ln>
        </p:spPr>
        <p:txBody>
          <a:bodyPr anchor="t">
            <a:normAutofit/>
          </a:bodyPr>
          <a:p>
            <a:pPr marL="1068480" indent="-343080">
              <a:lnSpc>
                <a:spcPct val="94000"/>
              </a:lnSpc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 algn="ctr">
              <a:lnSpc>
                <a:spcPct val="94000"/>
              </a:lnSpc>
              <a:spcBef>
                <a:spcPts val="1250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nd A - Advise</a:t>
            </a:r>
            <a:br>
              <a:rPr sz="3200"/>
            </a:b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tructured, individually tailored counseling message;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25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recommendation for physical activity is at least 30 minutes of accumulated moderate-intensity physical activity (i.e., walking fast[3 to 4 miles per hour] or the equivalent) on five or more days of the week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500"/>
              </a:spcBef>
              <a:buClr>
                <a:srgbClr val="77a2bb"/>
              </a:buClr>
              <a:buSzPct val="90000"/>
              <a:buFont typeface="Wingdings" charset="2"/>
              <a:buChar char="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 a structured counseling message based on the patient’s stage of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1068480" indent="-3430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191b0e"/>
                </a:solidFill>
                <a:latin typeface="Franklin Gothic Book"/>
              </a:rPr>
              <a:t>What is Counseling?</a:t>
            </a: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28880" y="228600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It is an opportunity to talk to a person in non-judgmental and supportive way.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better understand his/her current problems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identifies strategies to help problem solve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Counselors who offer warmth and empathy are more effectiv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Content Placeholder 3" descr="Image result for precontemplation stage"/>
          <p:cNvPicPr/>
          <p:nvPr/>
        </p:nvPicPr>
        <p:blipFill>
          <a:blip r:embed="rId1"/>
          <a:stretch/>
        </p:blipFill>
        <p:spPr>
          <a:xfrm>
            <a:off x="914400" y="45720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f6000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 A – Agree </a:t>
            </a:r>
            <a:br>
              <a:rPr sz="32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r>
              <a:rPr b="1" lang="en-US" sz="2400" spc="-1" strike="noStrike" u="sng">
                <a:solidFill>
                  <a:srgbClr val="191b0e"/>
                </a:solidFill>
                <a:uFillTx/>
                <a:latin typeface="Franklin Gothic Book"/>
              </a:rPr>
              <a:t>Pre-contemplation stage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br>
              <a:rPr sz="24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the patient is not ready for change)</a:t>
            </a:r>
            <a:br>
              <a:rPr sz="3200"/>
            </a:b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28880" y="198072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sk the patient if you can talk about physical activity in the future</a:t>
            </a:r>
            <a:r>
              <a:rPr b="0" lang="en-US" sz="1600" spc="-1" strike="noStrike">
                <a:solidFill>
                  <a:srgbClr val="ff0000"/>
                </a:solidFill>
                <a:latin typeface="Franklin Gothic Book"/>
              </a:rPr>
              <a:t>.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Approach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fer nonjudgmental advice, express intention to revisit the topic in the future 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ell the patient, “As your physician, it’s 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my responsibility to recommend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hat you get at least 30 minutes of moderate-intensity physical activity, such as walking fast on at least five days of the week;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I hope you don’t mind if I ask you about physical activity in the future”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 </a:t>
            </a:r>
            <a:br>
              <a:rPr sz="3200"/>
            </a:br>
            <a:r>
              <a:rPr b="1" lang="en-US" sz="2800" spc="-1" strike="noStrike" u="sng">
                <a:solidFill>
                  <a:srgbClr val="f60000"/>
                </a:solidFill>
                <a:uFillTx/>
                <a:latin typeface="Franklin Gothic Book"/>
              </a:rPr>
              <a:t>Contemplation stage</a:t>
            </a:r>
            <a:r>
              <a:rPr b="0" lang="en-US" sz="2800" spc="-1" strike="noStrike">
                <a:solidFill>
                  <a:srgbClr val="f60000"/>
                </a:solidFill>
                <a:latin typeface="Franklin Gothic Book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(the patient is thinking about changing)</a:t>
            </a:r>
            <a:br>
              <a:rPr sz="2000"/>
            </a:b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28880" y="198072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discuss the next step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191b0e"/>
                </a:solidFill>
                <a:uFillTx/>
                <a:latin typeface="Franklin Gothic Book"/>
              </a:rPr>
              <a:t>Approach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Increase the </a:t>
            </a: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“pros”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 changing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 u="sng">
                <a:solidFill>
                  <a:srgbClr val="191b0e"/>
                </a:solidFill>
                <a:uFillTx/>
                <a:latin typeface="Franklin Gothic Book"/>
              </a:rPr>
              <a:t>Recommendation   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Emphasize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benefits</a:t>
            </a: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that the patient cares about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Associate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the benefits with increased physical activity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Suggest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that the patient help someone he or she cares about get physically active for health (to increase self-motivation)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1276200" y="8380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28880" y="1600200"/>
            <a:ext cx="720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</a:t>
            </a:r>
            <a:br>
              <a:rPr sz="3200"/>
            </a:br>
            <a:r>
              <a:rPr b="1" lang="en-US" sz="3200" spc="-1" strike="noStrike" u="sng">
                <a:solidFill>
                  <a:srgbClr val="f60000"/>
                </a:solidFill>
                <a:uFillTx/>
                <a:latin typeface="Franklin Gothic Book"/>
              </a:rPr>
              <a:t>Preparation stage</a:t>
            </a:r>
            <a:r>
              <a:rPr b="1" lang="en-US" sz="3200" spc="-1" strike="noStrike">
                <a:solidFill>
                  <a:srgbClr val="f60000"/>
                </a:solidFill>
                <a:latin typeface="Franklin Gothic Book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(the patient intends to change soon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Franklin Gothic Book"/>
              </a:rPr>
              <a:t>help the patient make a plan and set a start date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Approach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Decrease the </a:t>
            </a: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“cons”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of changing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  </a:t>
            </a: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Help the patient overcome barriers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Make a plan for the patient to start changing behavior.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uggest that the patient help someone he or she cares about get physically active for health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Content Placeholder 4" descr=""/>
          <p:cNvPicPr/>
          <p:nvPr/>
        </p:nvPicPr>
        <p:blipFill>
          <a:blip r:embed="rId1"/>
          <a:stretch/>
        </p:blipFill>
        <p:spPr>
          <a:xfrm>
            <a:off x="1162080" y="56196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28880" y="17524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3</a:t>
            </a:r>
            <a:r>
              <a:rPr b="1" lang="en-US" sz="3200" spc="-1" strike="noStrike" baseline="30000">
                <a:solidFill>
                  <a:srgbClr val="404040"/>
                </a:solidFill>
                <a:latin typeface="Franklin Gothic Book"/>
              </a:rPr>
              <a:t>rd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 A – Agree</a:t>
            </a:r>
            <a:br>
              <a:rPr sz="32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Action/maintenance stage</a:t>
            </a:r>
            <a:r>
              <a:rPr b="0" lang="en-US" sz="28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br>
              <a:rPr sz="2800"/>
            </a:b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the patient is meeting goals)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Calibri"/>
              </a:rPr>
              <a:t>congratulate the patient; ask if the patient is ready to start another healthy behavior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Calibri"/>
                <a:ea typeface="Calibri"/>
              </a:rPr>
              <a:t>Approach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Congratulate and reinforce the patient’s behavior change </a:t>
            </a: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.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Recommendation   :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Tell the patient, </a:t>
            </a:r>
            <a:r>
              <a:rPr b="0" lang="en-US" sz="1400" spc="-1" strike="noStrike">
                <a:solidFill>
                  <a:srgbClr val="ff0000"/>
                </a:solidFill>
                <a:latin typeface="Franklin Gothic Book"/>
              </a:rPr>
              <a:t>“Congratulations, you are doing one of the most important things you can for your health” 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191b0e"/>
                </a:solidFill>
                <a:latin typeface="Franklin Gothic Book"/>
              </a:rPr>
              <a:t>Suggest that the patient help someone he or she cares about get physically active for health</a:t>
            </a: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ontent Placeholder 3" descr=""/>
          <p:cNvPicPr/>
          <p:nvPr/>
        </p:nvPicPr>
        <p:blipFill>
          <a:blip r:embed="rId1"/>
          <a:stretch/>
        </p:blipFill>
        <p:spPr>
          <a:xfrm>
            <a:off x="1174680" y="685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Content Placeholder 3" descr=""/>
          <p:cNvPicPr/>
          <p:nvPr/>
        </p:nvPicPr>
        <p:blipFill>
          <a:blip r:embed="rId1"/>
          <a:stretch/>
        </p:blipFill>
        <p:spPr>
          <a:xfrm>
            <a:off x="1174680" y="685800"/>
            <a:ext cx="690876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191b0e"/>
                </a:solidFill>
                <a:latin typeface="Franklin Gothic Book"/>
              </a:rPr>
              <a:t>Aims of counseling:</a:t>
            </a:r>
            <a:endParaRPr b="0" lang="en-US" sz="32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o help people accept and come to terms with their difficulties and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identify ways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of coping more effectively and resourcefully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he counselor listens and asks questions until both counselor and patient  understand 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</a:rPr>
              <a:t>the way the patient  sees thing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The counselor enables the patient  </a:t>
            </a:r>
            <a:r>
              <a:rPr b="0" lang="en-US" sz="2400" spc="-1" strike="noStrike">
                <a:solidFill>
                  <a:srgbClr val="ff0000"/>
                </a:solidFill>
                <a:latin typeface="Franklin Gothic Book"/>
              </a:rPr>
              <a:t>to clarify thoughts and feelings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for better understanding of the problem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8880" y="76176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028880" y="16761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4</a:t>
            </a:r>
            <a:r>
              <a:rPr b="1" lang="en-US" sz="3600" spc="-1" strike="noStrike" baseline="30000">
                <a:solidFill>
                  <a:srgbClr val="f60000"/>
                </a:solidFill>
                <a:latin typeface="Franklin Gothic Book"/>
              </a:rPr>
              <a:t>th</a:t>
            </a: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A  - Assist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Provide the patient with a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written prescription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printe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upport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 materials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000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elf-monitoring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 tools(e.g., pedometer, calendar);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or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Internet-based </a:t>
            </a:r>
            <a:r>
              <a:rPr b="0" lang="en-US" sz="2400" spc="-1" strike="noStrike">
                <a:solidFill>
                  <a:srgbClr val="191b0e"/>
                </a:solidFill>
                <a:latin typeface="Calibri"/>
                <a:ea typeface="Calibri"/>
              </a:rPr>
              <a:t>resources (see accompanying patient handout)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hysical Activ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A’s</a:t>
            </a:r>
            <a:br>
              <a:rPr sz="2800"/>
            </a:br>
            <a:br>
              <a:rPr sz="2800"/>
            </a:b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5</a:t>
            </a:r>
            <a:r>
              <a:rPr b="1" lang="en-US" sz="3600" spc="-1" strike="noStrike" baseline="30000">
                <a:solidFill>
                  <a:srgbClr val="f60000"/>
                </a:solidFill>
                <a:latin typeface="Franklin Gothic Book"/>
              </a:rPr>
              <a:t>th</a:t>
            </a:r>
            <a:r>
              <a:rPr b="1" lang="en-US" sz="3600" spc="-1" strike="noStrike">
                <a:solidFill>
                  <a:srgbClr val="f60000"/>
                </a:solidFill>
                <a:latin typeface="Franklin Gothic Book"/>
              </a:rPr>
              <a:t> A – Arrange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028880" y="14479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191b0e"/>
                </a:solidFill>
                <a:latin typeface="Franklin Gothic Book"/>
              </a:rPr>
              <a:t>Schedule a </a:t>
            </a: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follow-up visit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rovide telephone or e-mail reminders (e.g., have a staff member call or e-mail the patient on the start date of the behavior change) and Internet-based counseling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 u="sng">
                <a:solidFill>
                  <a:srgbClr val="191b0e"/>
                </a:solidFill>
                <a:uFillTx/>
                <a:latin typeface="Franklin Gothic Book"/>
              </a:rPr>
              <a:t>Refer the patient for additional assistanc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e.g.,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hysical activity counseling from a dietitian;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physical therapy if the patient is deconditioned,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community-based programs)  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Image result for smok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1066320" y="10800"/>
            <a:ext cx="7201080" cy="1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"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-5A’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14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191b0e"/>
                </a:solidFill>
                <a:latin typeface="Franklin Gothic Book"/>
              </a:rPr>
              <a:t>Case 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42 years old sales man by profession working in a factory . He smokes 20 cigarettes  a day and have a poor diet , he is not found of eating any fruits or vegetables . One of your cousin was recently diagnosed with lung cancer and you are worried that you will suffer the same fate 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You tried quitting smoking before for less than a month , but didn’t succeed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How will you counsel regarding smoking cessation ?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028880" y="13712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Times New Roman"/>
                <a:ea typeface="Calibri"/>
              </a:rPr>
              <a:t>ASK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ask open-ended questions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so the patient will have an opportunity to elaborate. The scripts below will help you initiate the conversatio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ave you ever smoked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ow often do you smoke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hen is the last time you smoked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How many cigarettes did you smoke yesterday/last week/last month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hy do you think it would be a good idea to quit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 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028880" y="175248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ADVISE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Advise your patients to quit smoking. Use clear, strong and personalized language to get your point across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Calibri"/>
              </a:rPr>
              <a:t>Quitting is the single most important thing you can do to protect your health as well as your family.”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The effects of your secondhand smoke are harmful to your family. I suggest you quit not only for them but for yourself.”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•“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Smokers who quit save  money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28880" y="1218960"/>
            <a:ext cx="7200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SSESS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Willingness to quit  and barriers to quitting should be assessed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If the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ave tried to quit in the past, get more informatio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Have you tried to quit smok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Are you willing to quit smoking now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What keeps you from quitting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How soon after getting up in morning do you smoke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If she is willing to quit,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offer praise and provide resources and assistance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191b0e"/>
                </a:solidFill>
                <a:latin typeface="Franklin Gothic Book"/>
              </a:rPr>
              <a:t>How to  Assess – examples 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28880" y="1294920"/>
            <a:ext cx="720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      </a:t>
            </a: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If unwilling to quit,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help motivate the patient by using the “5 R’s”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191b0e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levance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( identify reasons to stop smoking e.g – Pregnancy , family risk of disease ,)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isks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wards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( improve health , financial savings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oadblocks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( stress , withdrawal symptoms , previous failed attempts , weight gain etc)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buClr>
                <a:srgbClr val="f6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Repetition. 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( repeat all five R in each clinical contacts with unmotivated smokers 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“</a:t>
            </a: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So you’ve tried to quit. What do you think triggered you to start smoking again?”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28880" y="1371600"/>
            <a:ext cx="720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ASSIST 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Assist your patients with a quit plan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Are you worried about anything in particular when it comes to quitting ?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Withdrawal  : (irritability ,anxiety ,restlessness )-NRT can help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Do you worry  about craving or weight gain 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60000"/>
              </a:buClr>
              <a:buFont typeface="Wingdings" charset="2"/>
              <a:buChar char="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60000"/>
                </a:solidFill>
                <a:latin typeface="Times New Roman"/>
                <a:ea typeface="Calibri"/>
              </a:rPr>
              <a:t>Depression :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Provide resources  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: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upport groups  / education materials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Times New Roman"/>
                <a:ea typeface="Calibri"/>
              </a:rPr>
              <a:t>smoking cessation 5A’s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28880" y="159984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ARRANGE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Schedule follow-up visits/phone calls to review patient progress toward quitting.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Arial"/>
                <a:ea typeface="Arial"/>
              </a:rPr>
              <a:t>STAGES OF COUSELLING 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201080" cy="762120"/>
          </a:xfrm>
          <a:prstGeom prst="rect">
            <a:avLst/>
          </a:prstGeom>
          <a:solidFill>
            <a:srgbClr val="faf2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191b0e"/>
                </a:solidFill>
                <a:latin typeface="Franklin Gothic Book"/>
              </a:rPr>
              <a:t>Counselling Teachable moments</a:t>
            </a:r>
            <a:endParaRPr b="0" lang="en-US" sz="36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 “teachable moment” is the moment that motivates individuals to adopt health behaviors that lower their risk. 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28880" y="761760"/>
            <a:ext cx="7200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Some key “teachable moment” opportunities include</a:t>
            </a: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28880" y="2286000"/>
            <a:ext cx="7200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New patient visit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Annual physical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Well-child visits (discuss smoking in the home and car)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Women’s wellness exams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Problem-oriented office visits for the many diseases caused or affected by tobacco use and/or exposure to secondhand smoke (upper respiratory conditions, diabetes, hypertension, asthma, etc.)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Follow-up visits after hospitalization for a tobacco-related illness or the birth of a child 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 </a:t>
            </a:r>
            <a:r>
              <a:rPr b="1" lang="en-US" sz="1600" spc="-1" strike="noStrike">
                <a:solidFill>
                  <a:srgbClr val="191b0e"/>
                </a:solidFill>
                <a:latin typeface="Aharoni"/>
              </a:rPr>
              <a:t>A recent health scare</a:t>
            </a: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Management</a:t>
            </a:r>
            <a:r>
              <a:rPr b="0" lang="en-US" sz="2400" spc="-1" strike="noStrike">
                <a:solidFill>
                  <a:srgbClr val="191b0e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Discuss  different Pharmacological and non- pharmacological issues .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His ideas regarding Medications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Offering choices of NRT (patches / gums ), Bupropion  etc…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ny cost  issues to buy this treatment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Agree on Quit Dat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Respect his treatment choic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Involvement of Smoking Cessation Clinics ( with patient  agreement)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Follow up in 2 weeks after Quit date 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1066680"/>
            <a:ext cx="6934320" cy="4191120"/>
          </a:xfrm>
          <a:prstGeom prst="rect">
            <a:avLst/>
          </a:prstGeom>
          <a:solidFill>
            <a:srgbClr val="faf2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91b0e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28880" y="685440"/>
            <a:ext cx="7200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191b0e"/>
                </a:solidFill>
                <a:latin typeface="Franklin Gothic Book"/>
              </a:rPr>
              <a:t>Stages of Counseling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Pre -contemplation Stag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s not ready to change behavior) 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191b0e"/>
                </a:solidFill>
                <a:latin typeface="Franklin Gothic Book"/>
              </a:rPr>
              <a:t>B</a:t>
            </a:r>
            <a:r>
              <a:rPr b="0" lang="en-US" sz="2000" spc="-1" strike="noStrike">
                <a:solidFill>
                  <a:srgbClr val="191b0e"/>
                </a:solidFill>
                <a:latin typeface="Franklin Gothic Book"/>
              </a:rPr>
              <a:t>.   </a:t>
            </a: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Contemplation Stage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s thinking about changing 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behavior)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 startAt="3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Preparation  Stage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intends to change behavior in the next six months and is taking steps toward becoming more active).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191b0e"/>
              </a:buClr>
              <a:buFont typeface="Franklin Gothic Book"/>
              <a:buAutoNum type="alphaU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191b0e"/>
                </a:solidFill>
                <a:latin typeface="Franklin Gothic Book"/>
              </a:rPr>
              <a:t>Action/maintenance Stage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(patient has met the 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recommended goals for more than one month [action] or more than 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  <a:p>
            <a:pPr marL="457200" indent="-45720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191b0e"/>
                </a:solidFill>
                <a:latin typeface="Franklin Gothic Book"/>
              </a:rPr>
              <a:t>six months [maintenance]) </a:t>
            </a:r>
            <a:endParaRPr b="0" lang="en-US" sz="1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028880" y="129528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191b0e"/>
                </a:solidFill>
                <a:latin typeface="Calibri"/>
                <a:ea typeface="Calibri"/>
              </a:rPr>
              <a:t>What are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ive A ‘S </a:t>
            </a:r>
            <a:r>
              <a:rPr b="1" lang="en-US" sz="4800" spc="-1" strike="noStrike">
                <a:solidFill>
                  <a:srgbClr val="191b0e"/>
                </a:solidFill>
                <a:latin typeface="Calibri"/>
                <a:ea typeface="Calibri"/>
              </a:rPr>
              <a:t>of Counselling </a:t>
            </a:r>
            <a:endParaRPr b="0" lang="en-US" sz="48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444444"/>
                </a:solidFill>
                <a:latin typeface="proxima-nova"/>
              </a:rPr>
              <a:t>Assess</a:t>
            </a:r>
            <a:endParaRPr b="0" lang="en-US" sz="44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28880" y="1523520"/>
            <a:ext cx="720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sk about or assess lifestyle behaviors (physical activity, tobacco, alcohol, nutrition, healthy thinking and sleep) on a routine basi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Patient-centered assessment: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Consider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’s goals 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and values and satisfaction with his or her progres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8880" y="685800"/>
            <a:ext cx="7200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444444"/>
                </a:solidFill>
                <a:latin typeface="proxima-nova"/>
              </a:rPr>
              <a:t>Advise</a:t>
            </a:r>
            <a:endParaRPr b="0" lang="en-US" sz="2800" spc="-1" strike="noStrike">
              <a:solidFill>
                <a:srgbClr val="191b0e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28880" y="14479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 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Give specific information about the benefits and goals of a healthy lifestyle and specific behaviors.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7030a0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proxima-nova"/>
              </a:rPr>
              <a:t>Patient-centered advice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Includes information about benefits of a healthy lifestyle and how behaviors affect various outcomes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Tailored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proxima-nova"/>
              </a:rPr>
              <a:t>patient’s goals</a:t>
            </a:r>
            <a:r>
              <a:rPr b="0" lang="en-US" sz="2000" spc="-1" strike="noStrike">
                <a:solidFill>
                  <a:srgbClr val="444444"/>
                </a:solidFill>
                <a:latin typeface="proxima-nova"/>
              </a:rPr>
              <a:t>, values and environment</a:t>
            </a: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444444"/>
              </a:buClr>
              <a:buFont typeface="Franklin Gothic Book"/>
              <a:buChar char="■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191b0e"/>
              </a:solidFill>
              <a:latin typeface="Franklin Gothic Book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6:54:10Z</dcterms:created>
  <dc:creator>Rafay Iqbal</dc:creator>
  <dc:description/>
  <dc:language>en-US</dc:language>
  <cp:lastModifiedBy>3422</cp:lastModifiedBy>
  <dcterms:modified xsi:type="dcterms:W3CDTF">2019-10-15T06:58:40Z</dcterms:modified>
  <cp:revision>189</cp:revision>
  <dc:subject/>
  <dc:title>Consultation Skills</dc:title>
</cp:coreProperties>
</file>