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A4E2-CA89-47D8-B89E-32692C12A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17F7-7BCA-4BFD-9F14-4DD8A4968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2B20-6719-4FD4-A057-C238D3702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BBBD-8156-412E-8F63-5D12D0263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C2AD-AB2F-4395-B50E-72849A751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E26D-B860-417A-90E0-8C8422E15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1BC2-D1A1-4712-A05E-5B33E738F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FC84-8D69-4A7A-B734-3AEE03CC6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7BB9-2B76-411B-AC3A-D092B2C5D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65D-5AF1-4C09-9467-7AE23B52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C64-674C-4C73-A93B-97CBBF26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052-3BA3-458C-8DEF-9DDE1720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BA7-FA04-418F-9479-F29E43DC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C714-127E-469C-8749-5CA0D5A6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5DC3-5E2B-44D3-AEA8-CD969F2C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FEA9-55F1-455C-9098-EBC19DCF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117F-53E3-41AC-A2AA-8964FC17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88A5-BD8A-45E0-AFB0-9996D86A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CC13-5FB9-43AC-9D97-E2267BFE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E4D1-473B-4A5A-B1DD-0C12D241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3E8-13AF-42EA-9B64-F6D0480C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D732-EF58-41EB-8533-01758B9E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85D9-32C5-4142-BCA2-225771C0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4422-3FBA-404A-BF95-541726C7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B64A-A07A-4607-9208-77C0D1D6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0EFA-A773-44AD-A408-B762A9B7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0BCC-B606-44EC-9D84-5BBF7CD7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EA65E-0231-4B78-BB34-2DCD14DA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15231-AD5E-4FD2-A417-7E994AF1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4A0B4-2CE7-4BB6-B509-5D0901B7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9EAB-8870-4398-A8A1-DA56FB4A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B0C-A6D1-4E32-A49B-B850DB00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3FFCA-3A3B-4C11-B073-230D0F3A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9A87F-ED16-4080-9899-68FE0FBA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DDFC-10FC-49E5-9FDD-F4930085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8590E-62C4-434C-ABFA-97635960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5E2B-5F0E-4966-BAE3-5FFE6294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A26F7-5593-4002-958F-10CFE3EE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CA16-140A-404D-8C67-7B34C182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F9A40-EE07-4A44-881D-EE5E4FA1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84408-AA19-4587-B6B3-1AA209AA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58BA2-05D4-44D3-B16F-54D0E6A7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DE9-A3DD-47A7-8BDC-9D49CBF7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75B46-AF35-4CFA-AD20-A85B8DF2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D90FB-7AFE-49F5-B807-D573884A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BD2B4-AA34-4373-8E2B-4351F717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9BD59-318C-4D35-8A67-61CE63C0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FEA2E-4574-4C76-AFC0-094DDC85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B8FAD-2289-4948-BB7E-8CD601D2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15211-2CDA-42B2-8879-993A9F23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3AF70-8EF5-41A7-9283-BD53E984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F0AD7-00F2-45F0-810F-E40C9D4A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75449-6C85-4E2D-B7DE-F6100D87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4F47-D372-40C3-971F-E2F85100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73151-5415-4096-A114-C7B9A7D4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5CB50-E7FA-4978-BC26-68965082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3F4F4-6768-4519-A524-206614D2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111DB-2A94-4730-9FF2-2B424D63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C9DF4-41B4-4ED9-91C9-F843296C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2AE30-B345-4DB6-B60A-B60AF8E9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C3BA8-C995-4645-9AD0-FADBA887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3817B-A9FB-41DE-BBDC-D4B8E6AC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8A89D-FCB2-4B27-A044-D77499FD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571C6-05C2-4329-9FF3-3FC3322F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087-FBC7-4255-A2C3-1136FAFF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02895-12B2-4199-97E6-FD162458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535-704F-45FB-A061-81AAC6BE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B27-B61C-4689-91A9-95003B33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2A2-0C57-44D8-B094-67A75CC0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AE10-4F41-4733-9089-11A8DED944AC}" type="slidenum">
              <a:rPr b="0" lang="en-US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9"/>
          <p:cNvGrpSpPr/>
          <p:nvPr/>
        </p:nvGrpSpPr>
        <p:grpSpPr>
          <a:xfrm>
            <a:off x="565200" y="744120"/>
            <a:ext cx="8005680" cy="5350320"/>
            <a:chOff x="565200" y="744120"/>
            <a:chExt cx="8005680" cy="5350320"/>
          </a:xfrm>
        </p:grpSpPr>
        <p:sp>
          <p:nvSpPr>
            <p:cNvPr id="44" name="Freeform 6"/>
            <p:cNvSpPr/>
            <p:nvPr/>
          </p:nvSpPr>
          <p:spPr>
            <a:xfrm>
              <a:off x="6114600" y="1685520"/>
              <a:ext cx="245628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 flipH="1" flipV="1">
              <a:off x="564840" y="743760"/>
              <a:ext cx="245664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6484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E9EA-E8CE-4362-8602-E70975461080}" type="slidenum">
              <a:rPr b="0" lang="en-US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9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0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54040" y="6453360"/>
            <a:ext cx="121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517F-BECA-4746-B2D8-3FB51D483701}" type="slidenum">
              <a:rPr b="0" lang="en-US" sz="1000" spc="-1" strike="noStrike">
                <a:solidFill>
                  <a:srgbClr val="efede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941C-9AE7-4C29-91F3-2EE2FF75C6AB}" type="slidenum">
              <a:rPr b="0" lang="en-US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8512-83C8-4BD2-A034-CB4B4138CBB3}" type="slidenum">
              <a:rPr b="0" lang="en-US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5564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COUNSELING I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CLINICAL SETTING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09480" y="4038120"/>
            <a:ext cx="79250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Times New Roman"/>
              </a:rPr>
              <a:t>Dr. Syed Irfan Karim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Assistant Professor &amp; Consultant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Family &amp; Community Medicine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ng Saud University, Riyadh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27" name="Picture 4" descr="j0295310"/>
          <p:cNvPicPr/>
          <p:nvPr/>
        </p:nvPicPr>
        <p:blipFill>
          <a:blip r:embed="rId1"/>
          <a:stretch/>
        </p:blipFill>
        <p:spPr>
          <a:xfrm>
            <a:off x="6095880" y="1079640"/>
            <a:ext cx="2590920" cy="2349360"/>
          </a:xfrm>
          <a:prstGeom prst="rect">
            <a:avLst/>
          </a:prstGeom>
          <a:ln w="76320">
            <a:solidFill>
              <a:srgbClr val="3366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444444"/>
                </a:solidFill>
                <a:latin typeface="proxima-nova"/>
              </a:rPr>
              <a:t>Agree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028880" y="1752120"/>
            <a:ext cx="7200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444444"/>
                </a:solidFill>
                <a:latin typeface="proxima-nova"/>
              </a:rPr>
              <a:t> 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444444"/>
                </a:solidFill>
                <a:latin typeface="proxima-nova"/>
              </a:rPr>
              <a:t>Through a process of shared decision-making, collaboratively set realistic, personalized goals with the patient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proxima-nova"/>
              </a:rPr>
              <a:t>Patient-centered goals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444444"/>
                </a:solidFill>
                <a:latin typeface="proxima-nova"/>
              </a:rPr>
              <a:t>Based on the patient’s level of interest and confidence in his or her ability to effect change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444444"/>
                </a:solidFill>
                <a:latin typeface="proxima-nova"/>
              </a:rPr>
              <a:t>Incorporated into a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proxima-nova"/>
              </a:rPr>
              <a:t>patient-centered action plan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444444"/>
                </a:solidFill>
                <a:latin typeface="proxima-nova"/>
              </a:rPr>
              <a:t>The use of the SMART acronym.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What is SMART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28880" y="1599840"/>
            <a:ext cx="7200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proxima-nova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proxima-nova"/>
              </a:rPr>
              <a:t>S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pecific – Have you explicitly stated what you intend to do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proxima-nova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proxima-nova"/>
              </a:rPr>
              <a:t>M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easurable – Could you definitively say you had achieved your goal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proxima-nova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proxima-nova"/>
              </a:rPr>
              <a:t>A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ttainable – Do you feel confident that you can achieve the goal you set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proxima-nova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proxima-nova"/>
              </a:rPr>
              <a:t>R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elevant – Would making this change bring you closer to your overall goal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proxima-nova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proxima-nova"/>
              </a:rPr>
              <a:t>T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imely – Have you stated the time frame in which this goal will be completed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What will be the </a:t>
            </a:r>
            <a:br>
              <a:rPr sz="3600"/>
            </a:b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  SMART goal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General goal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 </a:t>
            </a:r>
            <a:r>
              <a:rPr b="0" lang="en-US" sz="4000" spc="-1" strike="noStrike">
                <a:solidFill>
                  <a:srgbClr val="444444"/>
                </a:solidFill>
                <a:latin typeface="proxima-nova"/>
              </a:rPr>
              <a:t>“</a:t>
            </a:r>
            <a:r>
              <a:rPr b="0" lang="en-US" sz="4000" spc="-1" strike="noStrike">
                <a:solidFill>
                  <a:srgbClr val="444444"/>
                </a:solidFill>
                <a:latin typeface="proxima-nova"/>
              </a:rPr>
              <a:t>I want to eat healthier.”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28880" y="609120"/>
            <a:ext cx="7200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proxima-nova"/>
              </a:rPr>
              <a:t>Examples of SMART goal</a:t>
            </a:r>
            <a:br>
              <a:rPr sz="3200"/>
            </a:b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proxima-nova"/>
              </a:rPr>
              <a:t>“</a:t>
            </a:r>
            <a:r>
              <a:rPr b="0" lang="en-US" sz="2800" spc="-1" strike="noStrike">
                <a:solidFill>
                  <a:srgbClr val="444444"/>
                </a:solidFill>
                <a:latin typeface="proxima-nova"/>
              </a:rPr>
              <a:t>Starting tomorrow, I will eat a piece of fruit at breakfast and lunch four out of seven days per week.”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191b0e"/>
                </a:solidFill>
                <a:latin typeface="Franklin Gothic Book"/>
              </a:rPr>
              <a:t>Assist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28880" y="1371600"/>
            <a:ext cx="720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Offer and/or refer to evidence-based interventions and resources, including self-management support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 u="sng">
                <a:solidFill>
                  <a:srgbClr val="7030a0"/>
                </a:solidFill>
                <a:uFillTx/>
                <a:latin typeface="Franklin Gothic Book"/>
              </a:rPr>
              <a:t>Patient-centered assistance</a:t>
            </a: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Evidence-based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Includes information about </a:t>
            </a:r>
            <a:r>
              <a:rPr b="1" lang="en-US" sz="2000" spc="-1" strike="noStrike">
                <a:solidFill>
                  <a:srgbClr val="ff0000"/>
                </a:solidFill>
                <a:latin typeface="Franklin Gothic Book"/>
              </a:rPr>
              <a:t>benefits and harms </a:t>
            </a: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of specific interventions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Identifie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Franklin Gothic Book"/>
              </a:rPr>
              <a:t>personal barriers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Includes tailored strategies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Franklin Gothic Book"/>
              </a:rPr>
              <a:t>problem-solving techniques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Incorporate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Franklin Gothic Book"/>
              </a:rPr>
              <a:t>social and environmental </a:t>
            </a: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upports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444444"/>
                </a:solidFill>
                <a:latin typeface="proxima-nova"/>
              </a:rPr>
              <a:t>Arrange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28880" y="1523520"/>
            <a:ext cx="7200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 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Specify a plan for follow-up (e.g., visits, phone calls, e-mail, other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 u="sng">
                <a:solidFill>
                  <a:srgbClr val="7030a0"/>
                </a:solidFill>
                <a:uFillTx/>
                <a:latin typeface="proxima-nova"/>
              </a:rPr>
              <a:t>Patient-centered follow-up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Evidence-based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Tailored to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proxima-nova"/>
              </a:rPr>
              <a:t>patient preferences 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and schedule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191b0e"/>
                </a:solidFill>
                <a:latin typeface="Calibri"/>
                <a:ea typeface="Calibri"/>
              </a:rPr>
              <a:t>LETS COME TO REAL 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191b0e"/>
                </a:solidFill>
                <a:latin typeface="Calibri"/>
                <a:ea typeface="Calibri"/>
              </a:rPr>
              <a:t>CLINIC SETTING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Object 2"/>
          <p:cNvGraphicFramePr/>
          <p:nvPr/>
        </p:nvGraphicFramePr>
        <p:xfrm>
          <a:off x="31680" y="31680"/>
          <a:ext cx="9144000" cy="687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80" y="3168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191b0e"/>
                </a:solidFill>
                <a:latin typeface="Calibri"/>
                <a:ea typeface="Calibri"/>
              </a:rPr>
              <a:t>are there any flaws in this 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191b0e"/>
                </a:solidFill>
                <a:latin typeface="Calibri"/>
                <a:ea typeface="Calibri"/>
              </a:rPr>
              <a:t>doctor</a:t>
            </a:r>
            <a:r>
              <a:rPr b="1" lang="en-US" sz="4000" spc="-1" strike="noStrike">
                <a:solidFill>
                  <a:srgbClr val="191b0e"/>
                </a:solidFill>
                <a:latin typeface="Calibri"/>
                <a:ea typeface="Calibri"/>
              </a:rPr>
              <a:t> –patient set –up 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191b0e"/>
                </a:solidFill>
                <a:latin typeface="Franklin Gothic Book"/>
              </a:rPr>
              <a:t>(</a:t>
            </a:r>
            <a:r>
              <a:rPr b="0" lang="en-US" sz="3600" spc="-1" strike="noStrike">
                <a:solidFill>
                  <a:srgbClr val="191b0e"/>
                </a:solidFill>
                <a:latin typeface="Calibri"/>
                <a:ea typeface="Calibri"/>
              </a:rPr>
              <a:t>picture</a:t>
            </a:r>
            <a:r>
              <a:rPr b="0" lang="en-US" sz="4000" spc="-1" strike="noStrike">
                <a:solidFill>
                  <a:srgbClr val="191b0e"/>
                </a:solidFill>
                <a:latin typeface="Franklin Gothic Book"/>
              </a:rPr>
              <a:t> )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Professional Behavior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Building Rapport.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Showing empathy 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Good posture 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Appropriate body language .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Avoids interruptions 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191b0e"/>
                </a:solidFill>
                <a:latin typeface="Franklin Gothic Book"/>
              </a:rPr>
              <a:t>Objectives :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28880" y="1676160"/>
            <a:ext cx="7200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To understand the concepts of Health Education with  communication and counseling skills 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To learn why are good communication skills are important for Counselling ?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To learn the theories and stages of counseling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To understand   the possible barriers ? 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To Discuss  practical examples of counselling 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1760" y="377640"/>
            <a:ext cx="7543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200" spc="-1" strike="noStrike">
                <a:solidFill>
                  <a:srgbClr val="191b0e"/>
                </a:solidFill>
                <a:latin typeface="Franklin Gothic Book"/>
              </a:rPr>
              <a:t>The Evidence Base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762120" y="1828800"/>
            <a:ext cx="7619760" cy="4648320"/>
          </a:xfrm>
          <a:prstGeom prst="rect">
            <a:avLst/>
          </a:prstGeom>
          <a:solidFill>
            <a:srgbClr val="efede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22120">
              <a:buClr>
                <a:srgbClr val="191b0e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buClr>
                <a:srgbClr val="191b0e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4% of patient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problems &amp; concerns not elicited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Stewart et al, 197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00000"/>
              </a:lnSpc>
              <a:buClr>
                <a:srgbClr val="191b0e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buClr>
                <a:srgbClr val="191b0e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ctors frequently interrupted their patients soon after their opening statement (mean time 18 seconds) so patients subsequently failed to disclose significant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Beckman and Frankel, 198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00000"/>
              </a:lnSpc>
              <a:buClr>
                <a:srgbClr val="191b0e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buClr>
                <a:srgbClr val="191b0e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iling to discover the patients feelings and concerns led to dysfunctional consultations and counselling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yrne and Long, 197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685800" y="914400"/>
            <a:ext cx="8001000" cy="762120"/>
          </a:xfrm>
          <a:prstGeom prst="rect">
            <a:avLst/>
          </a:prstGeom>
          <a:solidFill>
            <a:srgbClr val="efed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b0e"/>
                </a:solidFill>
                <a:latin typeface="Arial Black"/>
              </a:rPr>
              <a:t>Blocking Behavior of Do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85800" y="1828800"/>
            <a:ext cx="7848720" cy="4419720"/>
          </a:xfrm>
          <a:prstGeom prst="rect">
            <a:avLst/>
          </a:prstGeom>
          <a:solidFill>
            <a:srgbClr val="efede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191b0e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ing advice and reassurance before th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have been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91b0e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ing away distress as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91b0e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ing to physical aspec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91b0e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91b0e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llying” patients a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91b0e"/>
                </a:solidFill>
                <a:latin typeface="Calibri"/>
                <a:ea typeface="Calibri"/>
              </a:rPr>
              <a:t>What is a failed  Counseling?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62120" y="1676520"/>
            <a:ext cx="7772400" cy="4290840"/>
          </a:xfrm>
          <a:prstGeom prst="rect">
            <a:avLst/>
          </a:prstGeom>
          <a:solidFill>
            <a:srgbClr val="efede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a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edical j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xploring the patients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liciting the actu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alistic attitude (It’s God’s w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xploring in socio-cultural &amp; economic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Common Barrier 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2120" y="182880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If a joint understanding of the problem &amp; management plan, which the patient should understands and  feels comfortable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is not made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: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en-US" sz="2400" spc="-1" strike="noStrike" u="sng">
                <a:solidFill>
                  <a:srgbClr val="191b0e"/>
                </a:solidFill>
                <a:uFillTx/>
                <a:latin typeface="Franklin Gothic Book"/>
              </a:rPr>
              <a:t>the patient is not likely to follow the advice and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en-US" sz="2400" spc="-1" strike="noStrike" u="sng">
                <a:solidFill>
                  <a:srgbClr val="191b0e"/>
                </a:solidFill>
                <a:uFillTx/>
                <a:latin typeface="Franklin Gothic Book"/>
              </a:rPr>
              <a:t>all our efforts in assessment and diagnosis are wasted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i="1" lang="en-US" sz="2400" spc="-1" strike="noStrike">
                <a:solidFill>
                  <a:srgbClr val="191b0e"/>
                </a:solidFill>
                <a:latin typeface="Franklin Gothic Book"/>
              </a:rPr>
              <a:t>(Silverman et al. 1998)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191b0e"/>
                </a:solidFill>
                <a:latin typeface="Franklin Gothic Book"/>
              </a:rPr>
              <a:t>Common Barriers in Counseling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8001000" cy="4343400"/>
          </a:xfrm>
          <a:prstGeom prst="rect">
            <a:avLst/>
          </a:prstGeom>
          <a:solidFill>
            <a:srgbClr val="efede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barrier – low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 misconceptions and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y to take responsibility for own il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o-cultural, economic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142640" y="1980720"/>
            <a:ext cx="7201080" cy="2341080"/>
          </a:xfrm>
          <a:prstGeom prst="rect">
            <a:avLst/>
          </a:prstGeom>
          <a:solidFill>
            <a:srgbClr val="dedac5"/>
          </a:solidFill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txBody>
          <a:bodyPr anchor="t">
            <a:normAutofit/>
          </a:bodyPr>
          <a:p>
            <a:pPr marL="382680" indent="-38268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Arial"/>
              </a:rPr>
              <a:t>Good communication &amp; counseling is good for doctors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91b0e"/>
                </a:solidFill>
                <a:latin typeface="Arial"/>
              </a:rPr>
              <a:t>good for patients and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Arial"/>
              </a:rPr>
              <a:t>good for the health service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28880" y="1676160"/>
            <a:ext cx="7200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191b0e"/>
                </a:solidFill>
                <a:latin typeface="Times New Roman"/>
                <a:ea typeface="Calibri"/>
              </a:rPr>
              <a:t>Physical Activity Counseling 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191b0e"/>
                </a:solidFill>
                <a:latin typeface="Times New Roman"/>
                <a:ea typeface="Calibri"/>
              </a:rPr>
              <a:t>5A’s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ase 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28880" y="17524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A 20-years old college student visits your Community Health Center for concerns over his increasing weight .On examination you find his BMI is greater than 30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   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    </a:t>
            </a:r>
            <a:r>
              <a:rPr b="1" lang="en-US" sz="2000" spc="-1" strike="noStrike">
                <a:solidFill>
                  <a:srgbClr val="191b0e"/>
                </a:solidFill>
                <a:latin typeface="Franklin Gothic Book"/>
              </a:rPr>
              <a:t>How will you approach this student , within context of the 5 A   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91b0e"/>
                </a:solidFill>
                <a:latin typeface="Franklin Gothic Book"/>
              </a:rPr>
              <a:t>    </a:t>
            </a:r>
            <a:r>
              <a:rPr b="1" lang="en-US" sz="2000" spc="-1" strike="noStrike">
                <a:solidFill>
                  <a:srgbClr val="191b0e"/>
                </a:solidFill>
                <a:latin typeface="Franklin Gothic Book"/>
              </a:rPr>
              <a:t>approach to counselling 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Physical Activit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5A’s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28880" y="1371600"/>
            <a:ext cx="7581600" cy="4952880"/>
          </a:xfrm>
          <a:prstGeom prst="rect">
            <a:avLst/>
          </a:prstGeom>
          <a:solidFill>
            <a:srgbClr val="e8eee8"/>
          </a:solidFill>
          <a:ln w="0">
            <a:noFill/>
          </a:ln>
        </p:spPr>
        <p:txBody>
          <a:bodyPr anchor="t">
            <a:normAutofit/>
          </a:bodyPr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 algn="ctr">
              <a:lnSpc>
                <a:spcPct val="94000"/>
              </a:lnSpc>
              <a:spcBef>
                <a:spcPts val="1749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60000"/>
                </a:solidFill>
                <a:latin typeface="Arial"/>
                <a:ea typeface="Arial"/>
              </a:rPr>
              <a:t>1</a:t>
            </a:r>
            <a:r>
              <a:rPr b="1" lang="en-US" sz="2800" spc="-1" strike="noStrike" baseline="30000">
                <a:solidFill>
                  <a:srgbClr val="f60000"/>
                </a:solidFill>
                <a:latin typeface="Arial"/>
                <a:ea typeface="Arial"/>
              </a:rPr>
              <a:t>st</a:t>
            </a:r>
            <a:r>
              <a:rPr b="1" lang="en-US" sz="2800" spc="-1" strike="noStrike">
                <a:solidFill>
                  <a:srgbClr val="f60000"/>
                </a:solidFill>
                <a:latin typeface="Arial"/>
                <a:ea typeface="Arial"/>
              </a:rPr>
              <a:t> A - ASSESS 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current physical activity (type, frequency, intensity, and duration);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indications to physical activity;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tient’s readiness for change;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-oriented benefits;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upport;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ngness to help others;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efficacy (the patient’s self-confidence that he or she can change behavior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5400" indent="0" algn="ctr">
              <a:lnSpc>
                <a:spcPct val="94000"/>
              </a:lnSpc>
              <a:spcBef>
                <a:spcPts val="1749"/>
              </a:spcBef>
              <a:buNone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hysical Activ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A’s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28520" y="1523880"/>
            <a:ext cx="7505640" cy="5105520"/>
          </a:xfrm>
          <a:prstGeom prst="rect">
            <a:avLst/>
          </a:prstGeom>
          <a:solidFill>
            <a:srgbClr val="e8eee8"/>
          </a:solidFill>
          <a:ln w="0">
            <a:noFill/>
          </a:ln>
        </p:spPr>
        <p:txBody>
          <a:bodyPr anchor="t">
            <a:normAutofit/>
          </a:bodyPr>
          <a:p>
            <a:pPr marL="1068480" indent="-343080">
              <a:lnSpc>
                <a:spcPct val="94000"/>
              </a:lnSpc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 algn="ctr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nd A - Advise</a:t>
            </a:r>
            <a:br>
              <a:rPr sz="3200"/>
            </a:b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structured, individually tailored counseling message;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tional recommendation for physical activity is at least 30 minutes of accumulated moderate-intensity physical activity (i.e., walking fast[3 to 4 miles per hour] or the equivalent) on five or more days of the week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 a structured counseling message based on the patient’s stage of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191b0e"/>
                </a:solidFill>
                <a:latin typeface="Franklin Gothic Book"/>
              </a:rPr>
              <a:t>What is Counseling?</a:t>
            </a: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28880" y="228600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It is an opportunity to talk to a person in non-judgmental and supportive way.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To better understand his/her current problems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To identifies strategies to help problem solve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Counselors who offer warmth and empathy are more effective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Content Placeholder 3" descr="Image result for precontemplation stage"/>
          <p:cNvPicPr/>
          <p:nvPr/>
        </p:nvPicPr>
        <p:blipFill>
          <a:blip r:embed="rId1"/>
          <a:stretch/>
        </p:blipFill>
        <p:spPr>
          <a:xfrm>
            <a:off x="914400" y="457200"/>
            <a:ext cx="815328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60000"/>
                </a:solidFill>
                <a:latin typeface="Franklin Gothic Book"/>
              </a:rPr>
              <a:t>3</a:t>
            </a:r>
            <a:r>
              <a:rPr b="1" lang="en-US" sz="3200" spc="-1" strike="noStrike" baseline="30000">
                <a:solidFill>
                  <a:srgbClr val="f60000"/>
                </a:solidFill>
                <a:latin typeface="Franklin Gothic Book"/>
              </a:rPr>
              <a:t>rd</a:t>
            </a:r>
            <a:r>
              <a:rPr b="1" lang="en-US" sz="3200" spc="-1" strike="noStrike">
                <a:solidFill>
                  <a:srgbClr val="f60000"/>
                </a:solidFill>
                <a:latin typeface="Franklin Gothic Book"/>
              </a:rPr>
              <a:t> A – Agree </a:t>
            </a:r>
            <a:br>
              <a:rPr sz="3200"/>
            </a:b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 </a:t>
            </a:r>
            <a:r>
              <a:rPr b="1" lang="en-US" sz="2400" spc="-1" strike="noStrike" u="sng">
                <a:solidFill>
                  <a:srgbClr val="191b0e"/>
                </a:solidFill>
                <a:uFillTx/>
                <a:latin typeface="Franklin Gothic Book"/>
              </a:rPr>
              <a:t>Pre-contemplation stage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(the patient is not ready for change)</a:t>
            </a:r>
            <a:br>
              <a:rPr sz="3200"/>
            </a:b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28880" y="198072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ask the patient if you can talk about physical activity in the future</a:t>
            </a:r>
            <a:r>
              <a:rPr b="0" lang="en-US" sz="1600" spc="-1" strike="noStrike">
                <a:solidFill>
                  <a:srgbClr val="ff0000"/>
                </a:solidFill>
                <a:latin typeface="Franklin Gothic Book"/>
              </a:rPr>
              <a:t>.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191b0e"/>
                </a:solidFill>
                <a:latin typeface="Franklin Gothic Book"/>
              </a:rPr>
              <a:t> </a:t>
            </a:r>
            <a:r>
              <a:rPr b="1" lang="en-US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Approach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Offer nonjudgmental advice, express intention to revisit the topic in the future  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Recommendation   :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Tell the patient, “As your physician, it’s </a:t>
            </a:r>
            <a:r>
              <a:rPr b="1" lang="en-US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my responsibility to recommend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that you get at least 30 minutes of moderate-intensity physical activity, such as walking fast on at least five days of the week;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I hope you don’t mind if I ask you about physical activity in the future”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6201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Franklin Gothic Book"/>
              </a:rPr>
              <a:t>3</a:t>
            </a:r>
            <a:r>
              <a:rPr b="1" lang="en-US" sz="3200" spc="-1" strike="noStrike" baseline="30000">
                <a:solidFill>
                  <a:srgbClr val="404040"/>
                </a:solidFill>
                <a:latin typeface="Franklin Gothic Book"/>
              </a:rPr>
              <a:t>rd</a:t>
            </a:r>
            <a:r>
              <a:rPr b="1" lang="en-US" sz="3200" spc="-1" strike="noStrike">
                <a:solidFill>
                  <a:srgbClr val="404040"/>
                </a:solidFill>
                <a:latin typeface="Franklin Gothic Book"/>
              </a:rPr>
              <a:t> A – Agree </a:t>
            </a:r>
            <a:br>
              <a:rPr sz="3200"/>
            </a:br>
            <a:r>
              <a:rPr b="1" lang="en-US" sz="2800" spc="-1" strike="noStrike" u="sng">
                <a:solidFill>
                  <a:srgbClr val="f60000"/>
                </a:solidFill>
                <a:uFillTx/>
                <a:latin typeface="Franklin Gothic Book"/>
              </a:rPr>
              <a:t>Contemplation stage</a:t>
            </a:r>
            <a:r>
              <a:rPr b="0" lang="en-US" sz="2800" spc="-1" strike="noStrike">
                <a:solidFill>
                  <a:srgbClr val="f60000"/>
                </a:solidFill>
                <a:latin typeface="Franklin Gothic Book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(the patient is thinking about changing)</a:t>
            </a:r>
            <a:br>
              <a:rPr sz="2000"/>
            </a:b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28880" y="198072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Book"/>
              </a:rPr>
              <a:t>discuss the next steps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 u="sng">
                <a:solidFill>
                  <a:srgbClr val="191b0e"/>
                </a:solidFill>
                <a:uFillTx/>
                <a:latin typeface="Franklin Gothic Book"/>
              </a:rPr>
              <a:t>Approach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Increase the </a:t>
            </a: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“pros”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of changing 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 u="sng">
                <a:solidFill>
                  <a:srgbClr val="191b0e"/>
                </a:solidFill>
                <a:uFillTx/>
                <a:latin typeface="Franklin Gothic Book"/>
              </a:rPr>
              <a:t>Recommendation   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Emphasize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 benefits</a:t>
            </a:r>
            <a:r>
              <a:rPr b="1" lang="en-US" sz="18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that the patient cares about 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Associate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 the benefits with increased physical activity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Suggest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 that the patient help someone he or she cares about get physically active for health (to increase self-motivation)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Content Placeholder 3" descr=""/>
          <p:cNvPicPr/>
          <p:nvPr/>
        </p:nvPicPr>
        <p:blipFill>
          <a:blip r:embed="rId1"/>
          <a:stretch/>
        </p:blipFill>
        <p:spPr>
          <a:xfrm>
            <a:off x="1276200" y="8380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hysical Activ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A’s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28880" y="1600200"/>
            <a:ext cx="720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Franklin Gothic Book"/>
              </a:rPr>
              <a:t>3</a:t>
            </a:r>
            <a:r>
              <a:rPr b="1" lang="en-US" sz="3200" spc="-1" strike="noStrike" baseline="30000">
                <a:solidFill>
                  <a:srgbClr val="404040"/>
                </a:solidFill>
                <a:latin typeface="Franklin Gothic Book"/>
              </a:rPr>
              <a:t>rd</a:t>
            </a:r>
            <a:r>
              <a:rPr b="1" lang="en-US" sz="3200" spc="-1" strike="noStrike">
                <a:solidFill>
                  <a:srgbClr val="404040"/>
                </a:solidFill>
                <a:latin typeface="Franklin Gothic Book"/>
              </a:rPr>
              <a:t> A – Agree</a:t>
            </a:r>
            <a:br>
              <a:rPr sz="3200"/>
            </a:br>
            <a:r>
              <a:rPr b="1" lang="en-US" sz="3200" spc="-1" strike="noStrike" u="sng">
                <a:solidFill>
                  <a:srgbClr val="f60000"/>
                </a:solidFill>
                <a:uFillTx/>
                <a:latin typeface="Franklin Gothic Book"/>
              </a:rPr>
              <a:t>Preparation stage</a:t>
            </a:r>
            <a:r>
              <a:rPr b="1" lang="en-US" sz="3200" spc="-1" strike="noStrike">
                <a:solidFill>
                  <a:srgbClr val="f60000"/>
                </a:solidFill>
                <a:latin typeface="Franklin Gothic Book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(the patient intends to change soon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Book"/>
              </a:rPr>
              <a:t>help the patient make a plan and set a start date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191b0e"/>
                </a:solidFill>
                <a:latin typeface="Franklin Gothic Book"/>
              </a:rPr>
              <a:t>Approach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Decrease the </a:t>
            </a:r>
            <a:r>
              <a:rPr b="1" lang="en-US" sz="3200" spc="-1" strike="noStrike">
                <a:solidFill>
                  <a:srgbClr val="191b0e"/>
                </a:solidFill>
                <a:latin typeface="Franklin Gothic Book"/>
              </a:rPr>
              <a:t>“cons”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of changing 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191b0e"/>
                </a:solidFill>
                <a:latin typeface="Franklin Gothic Book"/>
              </a:rPr>
              <a:t>  </a:t>
            </a:r>
            <a:r>
              <a:rPr b="1" lang="en-US" sz="1800" spc="-1" strike="noStrike">
                <a:solidFill>
                  <a:srgbClr val="191b0e"/>
                </a:solidFill>
                <a:latin typeface="Franklin Gothic Book"/>
              </a:rPr>
              <a:t>Recommendation   :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Help the patient overcome barriers 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Make a plan for the patient to start changing behavior.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Suggest that the patient help someone he or she cares about get physically active for health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Content Placeholder 4" descr=""/>
          <p:cNvPicPr/>
          <p:nvPr/>
        </p:nvPicPr>
        <p:blipFill>
          <a:blip r:embed="rId1"/>
          <a:stretch/>
        </p:blipFill>
        <p:spPr>
          <a:xfrm>
            <a:off x="1162080" y="56196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hysical Activ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A’s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28880" y="1752480"/>
            <a:ext cx="720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Franklin Gothic Book"/>
              </a:rPr>
              <a:t>3</a:t>
            </a:r>
            <a:r>
              <a:rPr b="1" lang="en-US" sz="3200" spc="-1" strike="noStrike" baseline="30000">
                <a:solidFill>
                  <a:srgbClr val="404040"/>
                </a:solidFill>
                <a:latin typeface="Franklin Gothic Book"/>
              </a:rPr>
              <a:t>rd</a:t>
            </a:r>
            <a:r>
              <a:rPr b="1" lang="en-US" sz="3200" spc="-1" strike="noStrike">
                <a:solidFill>
                  <a:srgbClr val="404040"/>
                </a:solidFill>
                <a:latin typeface="Franklin Gothic Book"/>
              </a:rPr>
              <a:t> A – Agree</a:t>
            </a:r>
            <a:br>
              <a:rPr sz="32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Action/maintenance stage</a:t>
            </a:r>
            <a:r>
              <a:rPr b="0" lang="en-US" sz="2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br>
              <a:rPr sz="2800"/>
            </a:b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(the patient is meeting goals)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congratulate the patient; ask if the patient is ready to start another healthy behavior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91b0e"/>
                </a:solidFill>
                <a:latin typeface="Calibri"/>
                <a:ea typeface="Calibri"/>
              </a:rPr>
              <a:t>Approach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Congratulate and reinforce the patient’s behavior change </a:t>
            </a:r>
            <a:r>
              <a:rPr b="0" lang="en-US" sz="1400" spc="-1" strike="noStrike">
                <a:solidFill>
                  <a:srgbClr val="191b0e"/>
                </a:solidFill>
                <a:latin typeface="Franklin Gothic Book"/>
              </a:rPr>
              <a:t>.</a:t>
            </a:r>
            <a:endParaRPr b="0" lang="en-US" sz="1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191b0e"/>
                </a:solidFill>
                <a:latin typeface="Franklin Gothic Book"/>
              </a:rPr>
              <a:t>Recommendation   :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191b0e"/>
                </a:solidFill>
                <a:latin typeface="Franklin Gothic Book"/>
              </a:rPr>
              <a:t>Tell the patient, </a:t>
            </a:r>
            <a:r>
              <a:rPr b="0" lang="en-US" sz="1400" spc="-1" strike="noStrike">
                <a:solidFill>
                  <a:srgbClr val="ff0000"/>
                </a:solidFill>
                <a:latin typeface="Franklin Gothic Book"/>
              </a:rPr>
              <a:t>“Congratulations, you are doing one of the most important things you can for your health” </a:t>
            </a:r>
            <a:endParaRPr b="0" lang="en-US" sz="1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191b0e"/>
                </a:solidFill>
                <a:latin typeface="Franklin Gothic Book"/>
              </a:rPr>
              <a:t>Suggest that the patient help someone he or she cares about get physically active for health</a:t>
            </a:r>
            <a:endParaRPr b="0" lang="en-US" sz="1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91b0e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Content Placeholder 3" descr=""/>
          <p:cNvPicPr/>
          <p:nvPr/>
        </p:nvPicPr>
        <p:blipFill>
          <a:blip r:embed="rId1"/>
          <a:stretch/>
        </p:blipFill>
        <p:spPr>
          <a:xfrm>
            <a:off x="1174680" y="685800"/>
            <a:ext cx="690876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Content Placeholder 3" descr=""/>
          <p:cNvPicPr/>
          <p:nvPr/>
        </p:nvPicPr>
        <p:blipFill>
          <a:blip r:embed="rId1"/>
          <a:stretch/>
        </p:blipFill>
        <p:spPr>
          <a:xfrm>
            <a:off x="1174680" y="685800"/>
            <a:ext cx="690876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191b0e"/>
                </a:solidFill>
                <a:latin typeface="Franklin Gothic Book"/>
              </a:rPr>
              <a:t>Aims of counseling: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To help people accept and come to terms with their difficulties and 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identify ways 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of coping more effectively and resourcefully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The counselor listens and asks questions until both counselor and patient  understand 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the way the patient  sees things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The counselor enables the patient 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</a:rPr>
              <a:t>to clarify thoughts and feelings 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for better understanding of the problem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28880" y="761760"/>
            <a:ext cx="720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hysical Activ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A’s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28880" y="1676160"/>
            <a:ext cx="7200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f60000"/>
                </a:solidFill>
                <a:latin typeface="Franklin Gothic Book"/>
              </a:rPr>
              <a:t>4</a:t>
            </a:r>
            <a:r>
              <a:rPr b="1" lang="en-US" sz="3600" spc="-1" strike="noStrike" baseline="30000">
                <a:solidFill>
                  <a:srgbClr val="f60000"/>
                </a:solidFill>
                <a:latin typeface="Franklin Gothic Book"/>
              </a:rPr>
              <a:t>th</a:t>
            </a:r>
            <a:r>
              <a:rPr b="1" lang="en-US" sz="3600" spc="-1" strike="noStrike">
                <a:solidFill>
                  <a:srgbClr val="f60000"/>
                </a:solidFill>
                <a:latin typeface="Franklin Gothic Book"/>
              </a:rPr>
              <a:t>A  - Assist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Calibri"/>
                <a:ea typeface="Calibri"/>
              </a:rPr>
              <a:t>Provide the patient with 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written prescription</a:t>
            </a:r>
            <a:r>
              <a:rPr b="0" lang="en-US" sz="2400" spc="-1" strike="noStrike">
                <a:solidFill>
                  <a:srgbClr val="191b0e"/>
                </a:solidFill>
                <a:latin typeface="Calibri"/>
                <a:ea typeface="Calibri"/>
              </a:rPr>
              <a:t>;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Calibri"/>
                <a:ea typeface="Calibri"/>
              </a:rPr>
              <a:t>print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support</a:t>
            </a:r>
            <a:r>
              <a:rPr b="0" lang="en-US" sz="2400" spc="-1" strike="noStrike">
                <a:solidFill>
                  <a:srgbClr val="191b0e"/>
                </a:solidFill>
                <a:latin typeface="Calibri"/>
                <a:ea typeface="Calibri"/>
              </a:rPr>
              <a:t> materials;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self-monitoring</a:t>
            </a:r>
            <a:r>
              <a:rPr b="0" lang="en-US" sz="2400" spc="-1" strike="noStrike">
                <a:solidFill>
                  <a:srgbClr val="191b0e"/>
                </a:solidFill>
                <a:latin typeface="Calibri"/>
                <a:ea typeface="Calibri"/>
              </a:rPr>
              <a:t> tools(e.g., pedometer, calendar);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Calibri"/>
                <a:ea typeface="Calibri"/>
              </a:rPr>
              <a:t>or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Internet-based </a:t>
            </a:r>
            <a:r>
              <a:rPr b="0" lang="en-US" sz="2400" spc="-1" strike="noStrike">
                <a:solidFill>
                  <a:srgbClr val="191b0e"/>
                </a:solidFill>
                <a:latin typeface="Calibri"/>
                <a:ea typeface="Calibri"/>
              </a:rPr>
              <a:t>resources (see accompanying patient handout)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hysical Activ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A’s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f60000"/>
                </a:solidFill>
                <a:latin typeface="Franklin Gothic Book"/>
              </a:rPr>
              <a:t>5</a:t>
            </a:r>
            <a:r>
              <a:rPr b="1" lang="en-US" sz="3600" spc="-1" strike="noStrike" baseline="30000">
                <a:solidFill>
                  <a:srgbClr val="f60000"/>
                </a:solidFill>
                <a:latin typeface="Franklin Gothic Book"/>
              </a:rPr>
              <a:t>th</a:t>
            </a:r>
            <a:r>
              <a:rPr b="1" lang="en-US" sz="3600" spc="-1" strike="noStrike">
                <a:solidFill>
                  <a:srgbClr val="f60000"/>
                </a:solidFill>
                <a:latin typeface="Franklin Gothic Book"/>
              </a:rPr>
              <a:t> A – Arrange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028880" y="14479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191b0e"/>
                </a:solidFill>
                <a:latin typeface="Franklin Gothic Book"/>
              </a:rPr>
              <a:t>Schedule a </a:t>
            </a:r>
            <a:r>
              <a:rPr b="1" lang="en-US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follow-up visit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Provide telephone or e-mail reminders (e.g., have a staff member call or e-mail the patient on the start date of the behavior change) and Internet-based counseling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Refer the patient for additional assistance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(e.g.,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physical activity counseling from a dietitian;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physical therapy if the patient is deconditioned,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community-based programs)  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Image result for smok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1066320" y="10800"/>
            <a:ext cx="720108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"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191b0e"/>
                </a:solidFill>
                <a:latin typeface="Times New Roman"/>
                <a:ea typeface="Calibri"/>
              </a:rPr>
              <a:t>Smoking cessation -5A’s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191b0e"/>
                </a:solidFill>
                <a:latin typeface="Franklin Gothic Book"/>
              </a:rPr>
              <a:t>Case 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A 42 years old sales man by profession working in a factory . He smokes 20 cigarettes  a day and have a poor diet , he is not found of eating any fruits or vegetables . One of your cousin was recently diagnosed with lung cancer and you are worried that you will suffer the same fate 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You tried quitting smoking before for less than a month , but didn’t succeed 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How will you counsel regarding smoking cessation ?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191b0e"/>
                </a:solidFill>
                <a:latin typeface="Times New Roman"/>
                <a:ea typeface="Calibri"/>
              </a:rPr>
              <a:t>Smoking Cessation 5A’s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028880" y="1371240"/>
            <a:ext cx="7200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191b0e"/>
                </a:solidFill>
                <a:latin typeface="Times New Roman"/>
                <a:ea typeface="Calibri"/>
              </a:rPr>
              <a:t>ASK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ask open-ended questions 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so the patient will have an opportunity to elaborate. The scripts below will help you initiate the conversation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•“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Have you ever smoked?”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•“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How often do you smoke?”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•“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When is the last time you smoked?”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•“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How many cigarettes did you smoke yesterday/last week/last month?”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•“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Why do you think it would be a good idea to quit?”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Times New Roman"/>
                <a:ea typeface="Calibri"/>
              </a:rPr>
              <a:t>smoking cessation 5A’s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028880" y="17524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Times New Roman"/>
                <a:ea typeface="Calibri"/>
              </a:rPr>
              <a:t>ADVISE 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Advise your patients to quit smoking. Use clear, strong and personalized language to get your point across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•“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Quitting is the single most important thing you can do to protect your health as well as your family.”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•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The effects of your secondhand smoke are harmful to your family. I suggest you quit not only for them but for yourself.”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•“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Smokers who quit save  money”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Times New Roman"/>
                <a:ea typeface="Calibri"/>
              </a:rPr>
              <a:t>smoking cessation 5A’s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028880" y="1218960"/>
            <a:ext cx="7200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ASSESS 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Willingness to quit  and barriers to quitting should be assessed 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If the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ave tried to quit in the past, get more information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Have you tried to quit smoking 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Are you willing to quit smoking now 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What keeps you from quitting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How soon after getting up in morning do you smoke 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If she is willing to quit, 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offer praise and provide resources and assistance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How to  Assess – examples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028880" y="1294920"/>
            <a:ext cx="7200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      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If unwilling to quit,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6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help motivate the patient by using the “5 R’s”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191b0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Relevance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( identify reasons to stop smoking e.g – Pregnancy , family risk of disease ,)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6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Risks 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6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Rewards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( improve health , financial savings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6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Roadblocks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( stress , withdrawal symptoms , previous failed attempts , weight gain etc)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6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Repetition. 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( repeat all five R in each clinical contacts with unmotivated smokers 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“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So you’ve tried to quit. What do you think triggered you to start smoking again?”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Times New Roman"/>
                <a:ea typeface="Calibri"/>
              </a:rPr>
              <a:t>smoking cessation 5A’s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28880" y="1371600"/>
            <a:ext cx="720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ASSIST 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91b0e"/>
                </a:solidFill>
                <a:latin typeface="Franklin Gothic Book"/>
              </a:rPr>
              <a:t>Assist your patients with a quit plan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60000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Are you worried about anything in particular when it comes to quitting 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60000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Withdrawal  : (irritability ,anxiety ,restlessness )-NRT can help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60000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Do you worry  about craving or weight gain 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60000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Depression :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91b0e"/>
                </a:solidFill>
                <a:latin typeface="Franklin Gothic Book"/>
              </a:rPr>
              <a:t>Provide resources  </a:t>
            </a: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: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support groups  / education materials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Times New Roman"/>
                <a:ea typeface="Calibri"/>
              </a:rPr>
              <a:t>smoking cessation 5A’s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28880" y="1599840"/>
            <a:ext cx="7200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Franklin Gothic Book"/>
              </a:rPr>
              <a:t>ARRANGE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Schedule follow-up visits/phone calls to review patient progress toward quitting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028880" y="1295280"/>
            <a:ext cx="720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191b0e"/>
                </a:solidFill>
                <a:latin typeface="Arial"/>
                <a:ea typeface="Arial"/>
              </a:rPr>
              <a:t>STAGES OF COUSELLING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201080" cy="762120"/>
          </a:xfrm>
          <a:prstGeom prst="rect">
            <a:avLst/>
          </a:prstGeom>
          <a:solidFill>
            <a:srgbClr val="faf2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191b0e"/>
                </a:solidFill>
                <a:latin typeface="Franklin Gothic Book"/>
              </a:rPr>
              <a:t>Counselling Teachable moments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A “teachable moment” is the moment that motivates individuals to adopt health behaviors that lower their risk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28880" y="761760"/>
            <a:ext cx="7200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Some key “teachable moment” opportunities include</a:t>
            </a: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: </a:t>
            </a:r>
            <a:br>
              <a:rPr sz="4400"/>
            </a:b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 </a:t>
            </a: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New patient visits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 </a:t>
            </a: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Annual physicals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 </a:t>
            </a: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Well-child visits (discuss smoking in the home and car)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Women’s wellness exams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 </a:t>
            </a: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Problem-oriented office visits for the many diseases caused or affected by tobacco use and/or exposure to secondhand smoke (upper respiratory conditions, diabetes, hypertension, asthma, etc.)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 </a:t>
            </a: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Follow-up visits after hospitalization for a tobacco-related illness or the birth of a child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 </a:t>
            </a: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A recent health scare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Franklin Gothic Book"/>
              </a:rPr>
              <a:t>Management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028880" y="1295280"/>
            <a:ext cx="720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Discuss  different Pharmacological and non- pharmacological issues .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His ideas regarding Medications 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Offering choices of NRT (patches / gums ), Bupropion  etc…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Any cost  issues to buy this treatment 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Agree on Quit Date 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Respect his treatment choice 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Involvement of Smoking Cessation Clinics ( with patient  agreement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llow up in 2 weeks after Quit date 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3880" y="1066680"/>
            <a:ext cx="6934320" cy="4191120"/>
          </a:xfrm>
          <a:prstGeom prst="rect">
            <a:avLst/>
          </a:prstGeom>
          <a:solidFill>
            <a:srgbClr val="faf2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Thank You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Stages of Counseling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28880" y="1295280"/>
            <a:ext cx="720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AutoNum type="alphaU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Franklin Gothic Book"/>
              </a:rPr>
              <a:t>Pre -contemplation Stage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(patient is not ready to change behavior) 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91b0e"/>
                </a:solidFill>
                <a:latin typeface="Franklin Gothic Book"/>
              </a:rPr>
              <a:t>B</a:t>
            </a: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.   </a:t>
            </a:r>
            <a:r>
              <a:rPr b="1" lang="en-US" sz="2400" spc="-1" strike="noStrike">
                <a:solidFill>
                  <a:srgbClr val="191b0e"/>
                </a:solidFill>
                <a:latin typeface="Franklin Gothic Book"/>
              </a:rPr>
              <a:t>Contemplation Stage 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(patient is thinking about changing  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      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behavior)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AutoNum type="alphaUcPeriod" startAt="3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Franklin Gothic Book"/>
              </a:rPr>
              <a:t>Preparation  Stage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(patient intends to change behavior in the next six months and is taking steps toward becoming more active)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AutoNum type="alphaU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Franklin Gothic Book"/>
              </a:rPr>
              <a:t>Action/maintenance Stage 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(patient has met the  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      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recommended goals for more than one month [action] or more than 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      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six months [maintenance])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028880" y="1295280"/>
            <a:ext cx="720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8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8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191b0e"/>
                </a:solidFill>
                <a:latin typeface="Calibri"/>
                <a:ea typeface="Calibri"/>
              </a:rPr>
              <a:t>What are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Five A ‘S </a:t>
            </a:r>
            <a:r>
              <a:rPr b="1" lang="en-US" sz="4800" spc="-1" strike="noStrike">
                <a:solidFill>
                  <a:srgbClr val="191b0e"/>
                </a:solidFill>
                <a:latin typeface="Calibri"/>
                <a:ea typeface="Calibri"/>
              </a:rPr>
              <a:t>of Counselling </a:t>
            </a:r>
            <a:endParaRPr b="0" lang="en-US" sz="4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444444"/>
                </a:solidFill>
                <a:latin typeface="proxima-nova"/>
              </a:rPr>
              <a:t>Assess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28880" y="1523520"/>
            <a:ext cx="7200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 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Ask about or assess lifestyle behaviors (physical activity, tobacco, alcohol, nutrition, healthy thinking and sleep) on a routine basis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proxima-nova"/>
              </a:rPr>
              <a:t>Patient-centered assessment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Consider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proxima-nova"/>
              </a:rPr>
              <a:t>patient’s goals 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and values and satisfaction with his or her progress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444444"/>
                </a:solidFill>
                <a:latin typeface="proxima-nova"/>
              </a:rPr>
              <a:t>Advise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28880" y="14479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 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Give specific information about the benefits and goals of a healthy lifestyle and specific behaviors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proxima-nova"/>
              </a:rPr>
              <a:t>Patient-centered advice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Includes information about benefits of a healthy lifestyle and how behaviors affect various outcomes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Tailored to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proxima-nova"/>
              </a:rPr>
              <a:t>patient’s goals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, values and environmen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06:54:10Z</dcterms:created>
  <dc:creator>Rafay Iqbal</dc:creator>
  <dc:description/>
  <dc:language>en-US</dc:language>
  <cp:lastModifiedBy>3422</cp:lastModifiedBy>
  <dcterms:modified xsi:type="dcterms:W3CDTF">2019-10-15T06:58:40Z</dcterms:modified>
  <cp:revision>189</cp:revision>
  <dc:subject/>
  <dc:title>Consultation Skills</dc:title>
</cp:coreProperties>
</file>