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C7D-FE6C-47C9-9DB0-8DB6717E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570-43A0-43C1-94E6-D396F34F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C82-49C8-4D7F-931D-47285A93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F9B9-9EF5-46C6-822C-F4282509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8B8C4-4D86-4922-9B28-6EEF1DA9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A2D4F-9A8B-4A74-BF74-4FE72124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8FAA0-7E65-45CD-89F5-E6BF5152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B6D9F-2DAE-43DD-9CF2-20D37930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AC363-0A54-4052-82E2-203A636E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6D54D-19DB-4136-8C0A-47CBDE36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2D39B-0CAA-4B16-995E-92D09721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95F-B2EF-4CE9-926A-280A25C1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8DBF5-9900-4EC2-A812-BB6AB78A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13718-CA2F-4B11-9FA7-3F3E2FB8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C1590-B789-42BC-BF97-7C0FC336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B93F7-39D0-4BC0-92F4-EFE051A7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2FDB9-8922-4D5F-837D-E548AFCA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EC2-C739-40BA-A201-F306B904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476-A4D7-4852-B8C5-968AA6BA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F53-2613-408F-B270-362E9842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DC6F-C146-4EB9-A4EC-F89FFEC3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960B-62A1-4D6C-8C09-C700538A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1E1-9BDF-4DFE-8005-F791FB6B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B1AB-E549-4BBA-82F4-EC39FB7A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FD70-149A-4F72-B7BA-6FDD5592DD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332B-FA66-400F-BC0E-CBB6D3FF59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ce103"/>
                </a:solidFill>
                <a:latin typeface="Arial"/>
              </a:rPr>
              <a:t>AMENORRHOEA</a:t>
            </a:r>
            <a:br>
              <a:rPr sz="5400"/>
            </a:br>
            <a:r>
              <a:rPr b="0" lang="en-US" sz="5400" spc="-1" strike="noStrike">
                <a:solidFill>
                  <a:srgbClr val="dce103"/>
                </a:solidFill>
                <a:latin typeface="Arial"/>
              </a:rPr>
              <a:t>Primary &amp; Secondary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IQBAL TURKIST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t. Prof. &amp; Consul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31123"/>
                </a:solidFill>
                <a:uFillTx/>
                <a:latin typeface="Arial"/>
              </a:rPr>
              <a:t>CONSIDER THE DIAGNOSIS IN A FEMALE CHIL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inguinal her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menorrhoea and absent ute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body hair is ab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MANAG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patients are fem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nads must be removed after puberty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hen HRT sta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re cases of </a:t>
            </a:r>
            <a:r>
              <a:rPr b="1" lang="en-US" sz="2800" spc="-1" strike="noStrike">
                <a:solidFill>
                  <a:srgbClr val="f7fc38"/>
                </a:solidFill>
                <a:latin typeface="Arial"/>
              </a:rPr>
              <a:t>incomplete test. feminiz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o occur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have variable degress of masculi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4.  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ASHERMAN’S SYNDRO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. amenorrhoea following distruction of the endomet. by overzealous curettage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ltip. Synechiae show up on “</a:t>
            </a:r>
            <a:r>
              <a:rPr b="1" lang="en-US" sz="2800" spc="-1" strike="noStrike">
                <a:solidFill>
                  <a:srgbClr val="f7fc38"/>
                </a:solidFill>
                <a:latin typeface="Arial"/>
              </a:rPr>
              <a:t>Hysterograph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MANAG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der G.A.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eakdown intraut. Adhesions through hysteroscope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ert an IUCD to deter reformation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rmone therapy (E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.g. Tuberculosis.  Ut. Schistosom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fc38"/>
                </a:solidFill>
                <a:latin typeface="Arial"/>
              </a:rPr>
              <a:t>B.  DISORDERS OF THE OVARIES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1.  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CHROMOSOMAL ABNORMA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rner’s syndrome (45 x 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31123"/>
                </a:solidFill>
                <a:latin typeface="Arial"/>
              </a:rPr>
              <a:t>gonadal dys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FEAT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.   Amenorrhoea (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rarely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.   Short st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.  Failure of sec. sex. Devel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v.  Webbing of the neck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arrying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.  Shield ch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i. Coartution of ao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ii. Renal collecting syst. defe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500"/>
                            </p:stCondLst>
                            <p:childTnLst>
                              <p:par>
                                <p:cTn id="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000"/>
                            </p:stCondLst>
                            <p:childTnLst>
                              <p:par>
                                <p:cTn id="3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5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50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5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c38"/>
                </a:solidFill>
                <a:latin typeface="Arial"/>
              </a:rPr>
              <a:t>Streak ovaries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c38"/>
                </a:solidFill>
                <a:latin typeface="Arial"/>
              </a:rPr>
              <a:t>Gonadotrophins </a:t>
            </a:r>
            <a:r>
              <a:rPr b="1" lang="en-US" sz="2800" spc="-1" strike="noStrike">
                <a:solidFill>
                  <a:srgbClr val="f7fc38"/>
                </a:solidFill>
                <a:latin typeface="Symbol"/>
                <a:ea typeface="Symbol"/>
              </a:rPr>
              <a:t>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3edff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c38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f7fc3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c38"/>
                </a:solidFill>
                <a:latin typeface="Arial"/>
              </a:rPr>
              <a:t>Estrgo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aic Chrom. Patt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.g. XO/XX)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ead to various degrees of gonadal dysgenesis and sec. amen. + premature menop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-Chrom is present in the genotype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risk of gonadal malig. makes gonadectomy advis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2.  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GONADAL AGENE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Failure of gonadal develop):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no other cong. ab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3.  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RESISTANT OVARY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are co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al ovarian develop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SH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may resolve spontane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hot flushes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Rx. With estr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PREMATURE MENOPAU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arian failure….du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.  Auto-immune dis. (associated wit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son’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. ?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al infection (e.g. mum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. Cytotoxic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31123"/>
                </a:solidFill>
                <a:latin typeface="Arial"/>
              </a:rPr>
              <a:t>5.  </a:t>
            </a:r>
            <a:r>
              <a:rPr b="1" lang="en-US" sz="3600" spc="-1" strike="noStrike">
                <a:solidFill>
                  <a:srgbClr val="d31123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d31123"/>
                </a:solidFill>
                <a:uFillTx/>
                <a:latin typeface="Arial"/>
              </a:rPr>
              <a:t>PCO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ly present with classical Stein-Leventhal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syndrome (of oligomenorrhoea, obesity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hirsuitism, and infert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ever a substantial group will have sec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amenorrhoea with no obesity or hirsuit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agnosis is made by finding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H/FSH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rmation is made by laparoscop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00"/>
                            </p:stCondLst>
                            <p:childTnLst>
                              <p:par>
                                <p:cTn id="4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00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500"/>
                            </p:stCondLst>
                            <p:childTnLst>
                              <p:par>
                                <p:cTn id="4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fc38"/>
                </a:solidFill>
                <a:latin typeface="Arial"/>
              </a:rPr>
              <a:t>C.  DISORDERS OF PITUITARY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1.  Pituitary Tumor caus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“Hyperprolactinemi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0% of women with hyperprolactinemia will have a pituitary aden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t. Fossa XR is necessary in all cases of amenorrhoea – particular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FEATURES:</a:t>
            </a:r>
            <a:r>
              <a:rPr b="1" lang="en-US" sz="2800" spc="-1" strike="noStrike">
                <a:solidFill>
                  <a:srgbClr val="d3112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coned vie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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osion of clinoi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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large of pituitary fos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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uble flooring of fos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any of above features 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T san or MRI + Assessment of visual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2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6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500"/>
                            </p:stCondLst>
                            <p:childTnLst>
                              <p:par>
                                <p:cTn id="5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4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500"/>
                            </p:stCondLst>
                            <p:childTnLst>
                              <p:par>
                                <p:cTn id="5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8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000"/>
                            </p:stCondLst>
                            <p:childTnLst>
                              <p:par>
                                <p:cTn id="5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2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500"/>
                            </p:stCondLst>
                            <p:childTnLst>
                              <p:par>
                                <p:cTn id="5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6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0"/>
                            </p:stCondLst>
                            <p:childTnLst>
                              <p:par>
                                <p:cTn id="5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5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MANAG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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omocriptine (Dopamine agoni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res prolactin se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rect estrogen de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mits ov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ze of most prolactino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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rgical removal of tumor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extracellar manifestation (e.g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s. on optic chiasma) or if patien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not tolerate or respond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cal R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1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5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31123"/>
                </a:solidFill>
                <a:latin typeface="Arial"/>
              </a:rPr>
              <a:t>2.  </a:t>
            </a:r>
            <a:r>
              <a:rPr b="1" lang="en-US" sz="3600" spc="-1" strike="noStrike">
                <a:solidFill>
                  <a:srgbClr val="d31123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d31123"/>
                </a:solidFill>
                <a:uFillTx/>
                <a:latin typeface="Arial"/>
              </a:rPr>
              <a:t>OTHER CAUSE OF </a:t>
            </a:r>
            <a:r>
              <a:rPr b="1" lang="en-US" sz="3600" spc="-1" strike="noStrike" u="sng">
                <a:solidFill>
                  <a:srgbClr val="d31123"/>
                </a:solidFill>
                <a:uFillTx/>
                <a:latin typeface="Symbol"/>
                <a:ea typeface="Symbol"/>
              </a:rPr>
              <a:t></a:t>
            </a:r>
            <a:r>
              <a:rPr b="1" lang="en-US" sz="3600" spc="-1" strike="noStrike" u="sng">
                <a:solidFill>
                  <a:srgbClr val="d31123"/>
                </a:solidFill>
                <a:uFillTx/>
                <a:latin typeface="Arial"/>
              </a:rPr>
              <a:t> PROL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♣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ugs: e.g. phenothiazines, methyl-dopa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etclopramide, anti-histamines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estrogens and morph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31123"/>
                </a:solidFill>
                <a:latin typeface="Arial"/>
              </a:rPr>
              <a:t>3.</a:t>
            </a:r>
            <a:r>
              <a:rPr b="1" lang="en-US" sz="3600" spc="-1" strike="noStrike">
                <a:solidFill>
                  <a:srgbClr val="d31123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d31123"/>
                </a:solidFill>
                <a:uFillTx/>
                <a:latin typeface="Arial"/>
              </a:rPr>
              <a:t>CRANIOPHARYNGIO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racranial tum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31123"/>
                </a:solidFill>
                <a:latin typeface="Arial"/>
              </a:rPr>
              <a:t>4.</a:t>
            </a:r>
            <a:r>
              <a:rPr b="1" lang="en-US" sz="3600" spc="-1" strike="noStrike">
                <a:solidFill>
                  <a:srgbClr val="d31123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d31123"/>
                </a:solidFill>
                <a:uFillTx/>
                <a:latin typeface="Arial"/>
              </a:rPr>
              <a:t>SHEEHAN’S SYNDR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♣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crosis of ant. pituitary due to sever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n – or partial hypopituitar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♣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rare problem today due to bett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obstetric care and adequate bloo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trans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000"/>
                            </p:stCondLst>
                            <p:childTnLst>
                              <p:par>
                                <p:cTn id="6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6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0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c38"/>
                </a:solidFill>
                <a:latin typeface="Arial"/>
              </a:rPr>
              <a:t>D.  DISORDERS OF HYPOTHALAMUS</a:t>
            </a:r>
            <a:endParaRPr b="0" lang="en-US" sz="36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♣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onest reason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pogonadotrophic sec. amenorrho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♣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ten associated with stress e.g.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grants, young women when leav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me, university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osis by exclusion of pituitar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rmone therapy or ovulatio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uction is not indicated unles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ient wishes to become preg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ce103"/>
                </a:solidFill>
                <a:uFillTx/>
                <a:latin typeface="Arial"/>
              </a:rPr>
              <a:t>PRIMARY AMENORRHO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menstruation by the age of 14 years accompanied by failure to grow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erly or develop sec. sexual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racteris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menstruation by age of 16 when growth and sexual development are n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ce103"/>
                </a:solidFill>
                <a:uFillTx/>
                <a:latin typeface="Arial"/>
              </a:rPr>
              <a:t>SECONDARY AMENORRHO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Wingdings 2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ary absence of menses for six months (or greater than 3 times the previous cycle interval) in a women who has menstruated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Wingdings 2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gnancy, lactation or hysterectomy must be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Wingdings 2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pubertal and post-menopausal conditions are also to be excluded as physiological ca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534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c3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7fc38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7fc38"/>
                </a:solidFill>
                <a:uFillTx/>
                <a:latin typeface="Arial"/>
              </a:rPr>
              <a:t>WEIGHT – LOSS ASSOCIATED AMENORRHO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oss of &gt; 10 kg is frequently associated with amenorrho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In young women and teen ages girl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become obsessed with their body image and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starve themsel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Jogger’s amenorrhoe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seen frequently in women train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marathon racing, in ballet dancers 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form of athle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d31123"/>
                </a:solidFill>
                <a:uFillTx/>
                <a:latin typeface="Arial"/>
              </a:rPr>
              <a:t>CAU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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 redistribution between proportion o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dy fat mass and body muscle m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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y be also mediated by exercise relat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s in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endorph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.    ANOREXIA NERV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ociated with sec. amenorrhoe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isnomer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o loss of appeti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500"/>
                            </p:stCondLst>
                            <p:childTnLst>
                              <p:par>
                                <p:cTn id="6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4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8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4000"/>
                            </p:stCondLst>
                            <p:childTnLst>
                              <p:par>
                                <p:cTn id="6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500"/>
                            </p:stCondLst>
                            <p:childTnLst>
                              <p:par>
                                <p:cTn id="6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6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0"/>
                            </p:stCondLst>
                            <p:childTnLst>
                              <p:par>
                                <p:cTn id="6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c3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7fc38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7fc38"/>
                </a:solidFill>
                <a:uFillTx/>
                <a:latin typeface="Arial"/>
              </a:rPr>
              <a:t>AMENORRHOEA AND ANOSM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re cause of amenorrhoea of hypogonadotrophic – hypo-gonad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ounterpart in males is Kallman’s syndro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c38"/>
                </a:solidFill>
                <a:latin typeface="Arial"/>
              </a:rPr>
              <a:t>POST-PILL AMENORRHOE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♣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no evidence that Est. prog. Contraceptive pills predispose to amenorrhoea.. once pill taking is cea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irregular men. cycle frequently precedes pill t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is assumption of amenorrhoea being merely an after-effect of pill taking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any cases of hyperprolactinemia will be missed (1: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Premat. ovarian failure will be missed in 1:10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ce other causes are excluded, this type of ameno. Responds well to ovulation induction with Clomiphene citrate if preg. is des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5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6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9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3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00"/>
                            </p:stCondLst>
                            <p:childTnLst>
                              <p:par>
                                <p:cTn id="7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7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3000"/>
                            </p:stCondLst>
                            <p:childTnLst>
                              <p:par>
                                <p:cTn id="7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1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500"/>
                            </p:stCondLst>
                            <p:childTnLst>
                              <p:par>
                                <p:cTn id="7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5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4000"/>
                            </p:stCondLst>
                            <p:childTnLst>
                              <p:par>
                                <p:cTn id="7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9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c38"/>
                </a:solidFill>
                <a:latin typeface="Arial"/>
              </a:rPr>
              <a:t>INVESTIGATION OF AMENORRHOEA</a:t>
            </a:r>
            <a:endParaRPr b="0" lang="en-US" sz="36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. Prolactin level and T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ryotyping…if chrom. anomaly is suspected on clinical gr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esterone withdrawal test….to check endog. est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.g. Provera (medroxy-prog)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f bleeding PV=reactive endom. and patent outflow tr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7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8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PR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norm. + no galactorrhoea ---no need for further investigation for pituitary tum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GALACTOR is present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urther evaluation of pit. gland is necessary .. regardless of level of PRL and menstrual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PRL is signific. elevated (excluding stress)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Radiology exam of pituitary to exclude t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fields assessment – if X-Ray abnor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FSH &amp; L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evel… especially if no withdrawal bleeding following prog. Challen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H (&lt;5 IU/ml)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hypogonafotrophic- hypogonad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SH (&gt;40 IU/ml) on successive readings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arian fail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omen &lt; 35 years = premet. ovar. failure (menopause)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eck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karyotyp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if Y-Chrom +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high risk of gonadal maligna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dff"/>
                </a:solidFill>
                <a:latin typeface="Arial"/>
              </a:rPr>
              <a:t>4.  US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 uterus and ovaries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an be useful to investigating and monitor Rx. Of these wo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1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5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500"/>
                            </p:stCondLst>
                            <p:childTnLst>
                              <p:par>
                                <p:cTn id="7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3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1" dur="5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4500"/>
                            </p:stCondLst>
                            <p:childTnLst>
                              <p:par>
                                <p:cTn id="7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5" dur="500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c38"/>
                </a:solidFill>
                <a:latin typeface="Arial"/>
              </a:rPr>
              <a:t>FLOW CHAR FOR INVESTIGATING OF SEC. AMENORRHOEA</a:t>
            </a:r>
            <a:endParaRPr b="0" lang="en-US" sz="2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mplete His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ll Ph. exam.,tubal patency 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rm cou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umat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of b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SH,   LH,   TSH,  P RL,   X-R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ysterogram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of Pit. Fos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yperprolac.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bn.Fos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SH,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  LH,  F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mogra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SH 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? Prema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omid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yroxin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m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nopau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iops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iled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Tum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?”Resist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v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rug. &amp;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t. radio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PG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pe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omocript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914400"/>
            <a:ext cx="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75248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1295280"/>
            <a:ext cx="0" cy="609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514600"/>
            <a:ext cx="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2438280"/>
            <a:ext cx="0" cy="609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23623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362320"/>
            <a:ext cx="2895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22096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5053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49568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35053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43434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2895480"/>
            <a:ext cx="0" cy="609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31240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2895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3200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388620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5257800"/>
            <a:ext cx="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733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3886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38862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886200"/>
            <a:ext cx="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502920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9400" y="43434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50292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57913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e103"/>
                </a:solidFill>
                <a:latin typeface="Arial"/>
              </a:rPr>
              <a:t>CLINICAL APPROACH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is a difference of opinion about the age at which </a:t>
            </a:r>
            <a:r>
              <a:rPr b="1" lang="en-US" sz="2800" spc="-1" strike="noStrike">
                <a:solidFill>
                  <a:srgbClr val="d31123"/>
                </a:solidFill>
                <a:latin typeface="Arial"/>
              </a:rPr>
              <a:t>Primary Amenorrhoe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hould be investigated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18 yrs. often sugges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d the patient has developed normal sec. sex. Characteristics and </a:t>
            </a:r>
            <a:r>
              <a:rPr b="1" lang="en-US" sz="2800" spc="-1" strike="noStrike">
                <a:solidFill>
                  <a:srgbClr val="f7fc38"/>
                </a:solidFill>
                <a:latin typeface="Arial"/>
              </a:rPr>
              <a:t>cryptomenorrhoe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has been exclu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those patient with Primary amenorrhoea and sexual infantilism should be investigated at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ge of 15 years or 16 years (may be earlie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urate, adequate </a:t>
            </a:r>
            <a:r>
              <a:rPr b="1" lang="en-US" sz="2800" spc="-1" strike="noStrike">
                <a:solidFill>
                  <a:srgbClr val="f7fc38"/>
                </a:solidFill>
                <a:latin typeface="Arial"/>
              </a:rPr>
              <a:t>histor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essential to reach a 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 questioning is necessary to establish diagnosis of Primary or Secondary amenorrho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the amenorrhoea is truly secondary (e.g. prev. menses were actucally steroid – induc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eful physical </a:t>
            </a:r>
            <a:r>
              <a:rPr b="1" lang="en-US" sz="2800" spc="-1" strike="noStrike">
                <a:solidFill>
                  <a:srgbClr val="f7fc38"/>
                </a:solidFill>
                <a:latin typeface="Arial"/>
              </a:rPr>
              <a:t>examina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ds in reaching a fairly firm provision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minority, there is a need to go beyond simple out-patient </a:t>
            </a:r>
            <a:r>
              <a:rPr b="1" lang="en-US" sz="2800" spc="-1" strike="noStrike">
                <a:solidFill>
                  <a:srgbClr val="f7fc38"/>
                </a:solidFill>
                <a:latin typeface="Arial"/>
              </a:rPr>
              <a:t>investig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fc38"/>
                </a:solidFill>
                <a:latin typeface="Arial"/>
              </a:rPr>
              <a:t>CAUSES OF AMENORRHOEA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order of outflow tract and or ute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orders of ov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orders of Ant. Pitui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orders of Hypothala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c38"/>
                </a:solidFill>
                <a:latin typeface="Arial"/>
              </a:rPr>
              <a:t>A.  DISORDERS OF OUTFLOW TRACT &amp; OR UTERUS</a:t>
            </a:r>
            <a:endParaRPr b="0" lang="en-US" sz="32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1.  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CRYPTOMENORRHO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ginal </a:t>
            </a:r>
            <a:r>
              <a:rPr b="1" lang="en-US" sz="2000" spc="-1" strike="noStrike">
                <a:solidFill>
                  <a:srgbClr val="f7fc38"/>
                </a:solidFill>
                <a:latin typeface="Arial"/>
              </a:rPr>
              <a:t>atresi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7fc38"/>
                </a:solidFill>
                <a:latin typeface="Arial"/>
              </a:rPr>
              <a:t>imperforate hymen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event menstrual loss from escap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FEATURES</a:t>
            </a:r>
            <a:r>
              <a:rPr b="1" lang="en-US" sz="2400" spc="-1" strike="noStrike">
                <a:solidFill>
                  <a:srgbClr val="d3112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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. Amenorrhoea in a teenage girl with norma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sexual development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aining o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.    Intermittent lower abd. 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.   Possible difficulty of mi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i.   Palpable lower abd. swelling  (Haematomet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v.   Bulging, bluish membrane at lower end of  vagin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(Haematocolpu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MANAGEMENT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ISE MEMBR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2.  </a:t>
            </a: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ABSENCE OR HYPOPLASIA OF </a:t>
            </a: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VAGINA</a:t>
            </a:r>
            <a:r>
              <a:rPr b="1" lang="en-US" sz="2400" spc="-1" strike="noStrike" u="sng">
                <a:solidFill>
                  <a:srgbClr val="d31123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FEAT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wth, develop, and ovarian function ar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ually n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terus may be normal or rudiment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nal anomalies (in 30%) or skeletal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ects (in 10%) may be pres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MANAG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functional vagina by surgery or dil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0773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TESTICULAR FEMIN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(Androgen Insensitiv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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enotype is woman.  Genotype i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man (xy)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7fc38"/>
                </a:solidFill>
                <a:latin typeface="Arial"/>
              </a:rPr>
              <a:t> test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re pres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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herited by an X-linked recessiv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gene… (famili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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ulting in absence of cytoso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androgen recep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FEAT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wth and develop are normal (may be taller than averag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sts are large but with sparse glandular tissue and pale are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guinal hernia in 50% of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anty, or no axillary and pubic 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ia minora underdevelo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ind vagina, absent uterus, rudimentary fallopian tu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es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abd. or inguinal ca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c38"/>
                </a:solidFill>
                <a:latin typeface="Arial"/>
              </a:rPr>
              <a:t>Normal levels of testostero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re produced.. But no response to androgens (endog. or exog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spermato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cidence of testicular neoplasia (5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0:00:08Z</dcterms:created>
  <dc:creator>denden</dc:creator>
  <dc:description/>
  <dc:language>en-US</dc:language>
  <cp:lastModifiedBy>Iqbal</cp:lastModifiedBy>
  <dcterms:modified xsi:type="dcterms:W3CDTF">2007-09-29T13:01:18Z</dcterms:modified>
  <cp:revision>51</cp:revision>
  <dc:subject/>
  <dc:title>AMENORRHOEA Primary &amp; Secondary</dc:title>
</cp:coreProperties>
</file>