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125-DBB3-4D95-8E2F-5A6D368E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81A-2EDE-42F0-9AE4-706F4FD6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082-C549-4F96-B144-3B11046C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1F20-4C59-4486-80BF-7B1C8642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76FD0-789E-4DF8-B94C-F01692E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1553-790D-4928-A218-98053EBB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F6148-59BF-4954-928E-22137716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6EDEC-8C82-48E1-BCA4-917B5D1D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94CDA-5B98-42B3-A82F-9D8539C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452C-5DE6-48B7-9F78-4AFCDD55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1D328-4FDE-438E-8AA0-9B9CD40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BC4-5F29-4DFF-BBD7-8CE51C9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D63F6-E4BF-4708-9471-2D80504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E5283-47E2-45CE-BF02-7A976B0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9BFD8-CE1D-409E-A3B8-6D90A929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30C87-0EBB-4DC2-AF0D-CCFBB084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F654A-75D8-4870-BBE1-1B599B44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D24E-045F-423B-8769-A001C350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462E-B723-4692-A49A-253697E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BC6-080D-4B9A-AAAE-8DDD2A5F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F94-F70D-464E-A135-70E5AE24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6C7D-85D1-4869-84C5-4FD69AC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422-27B4-4DEC-B355-55B2EBA0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7F1-BC67-4361-A172-E4D4671B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1FC8-A622-4ED5-9ADD-5B03C6426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7DF2-C12A-4E9D-A7B8-EEF847DAF4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ce103"/>
                </a:solidFill>
                <a:latin typeface="Arial"/>
              </a:rPr>
              <a:t>AMENORRHOEA</a:t>
            </a:r>
            <a:br>
              <a:rPr sz="5400"/>
            </a:br>
            <a:r>
              <a:rPr b="0" lang="en-US" sz="5400" spc="-1" strike="noStrike">
                <a:solidFill>
                  <a:srgbClr val="dce103"/>
                </a:solidFill>
                <a:latin typeface="Arial"/>
              </a:rPr>
              <a:t>Primary &amp; Secondary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. IQBAL TURKIST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t. Prof. &amp; Consul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CONSIDER THE DIAGNOSIS IN A FEMALE CHIL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inguinal he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menorrhoea and absent ute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ody hair is ab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patients are fema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onads must be removed after puberty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hen HRT sta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re cases of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incomplete test. feminiz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do occur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ave variable degress of masculi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ASHERMAN’S SYNDRO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. amenorrhoea following distruction of the endomet. by overzealous curettag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ltip. Synechiae show up on “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Hysterograph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der G.A.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kdown intraut. Adhesions through hysteroscop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ert an IUCD to deter reformation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rmone therapy (E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5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 Tuberculosis.  Ut. Schistosom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38"/>
                </a:solidFill>
                <a:latin typeface="Arial"/>
              </a:rPr>
              <a:t>B.  DISORDERS OF THE OVARIES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CHROMOSOMAL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urner’s syndrome (45 x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31123"/>
                </a:solidFill>
                <a:latin typeface="Arial"/>
              </a:rPr>
              <a:t>gonadal dys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9900"/>
                </a:solidFill>
                <a:latin typeface="Arial"/>
              </a:rPr>
              <a:t>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  Amenorrhoea (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rarely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   Short st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 Failure of sec. sex. 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.  Webbing of the neck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arrying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.  Shield ch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i. Coartution of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ii. Renal collecting syst. def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00"/>
                            </p:stCondLst>
                            <p:childTnLst>
                              <p:par>
                                <p:cTn id="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6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0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6500"/>
                            </p:stCondLst>
                            <p:childTnLst>
                              <p:par>
                                <p:cTn id="3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Streak ovarie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Gonadotrophins </a:t>
            </a:r>
            <a:r>
              <a:rPr b="1" lang="en-US" sz="2800" spc="-1" strike="noStrike">
                <a:solidFill>
                  <a:srgbClr val="f7fc38"/>
                </a:solidFill>
                <a:latin typeface="Symbol"/>
                <a:ea typeface="Symbol"/>
              </a:rPr>
              <a:t>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3edff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38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Estrgo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aic Chrom.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.g. XO/XX)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ead to various degrees of gonadal dysgenesis and sec. amen. + premature menop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-Chrom is present in the genotype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isk of gonadal malig. makes gonadectomy advis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GONADAL AGENES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Failure of gonadal develop):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no other cong. ab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3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RESISTANT OVARY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are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al ovarian develop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SH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ay resolve spontaneous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hot flushes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x. With estr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PREMATURE MENOPA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arian failure….du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  Auto-immune dis. (associated wi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son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. ?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al infection (e.g. mum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Cytotoxic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5.  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PC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ly present with classical Stein-Leventh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syndrome (of oligomenorrhoea, obesity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hirsuitism, and infert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ever a substantial group will have sec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amenorrhoea with no obesity or hirsuit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gnosis is made by find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H/FSH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firmation is made by laparoscop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30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0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5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fc38"/>
                </a:solidFill>
                <a:latin typeface="Arial"/>
              </a:rPr>
              <a:t>C.  DISORDERS OF PITUITARY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Pituitary Tumor caus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“Hyperprolactinemi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% of women with hyperprolactinemia will have a pituitary aden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. Fossa XR is necessary in all cases of amenorrhoea – particular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FEATURES:</a:t>
            </a:r>
            <a:r>
              <a:rPr b="1" lang="en-US" sz="28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oned vie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osion of clinoi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large of pituitary fo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ble flooring of fos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ny of above features 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b3ed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T san or MRI + Assessment of visual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500"/>
                            </p:stCondLst>
                            <p:childTnLst>
                              <p:par>
                                <p:cTn id="5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8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4000"/>
                            </p:stCondLst>
                            <p:childTnLst>
                              <p:par>
                                <p:cTn id="5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500"/>
                            </p:stCondLst>
                            <p:childTnLst>
                              <p:par>
                                <p:cTn id="5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mocriptine (Dopamine agon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res prolactin s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 estrogen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mits ov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ze of most prolactino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gical removal of tumo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Wingdings 2"/>
                <a:ea typeface="Wingdings 2"/>
              </a:rPr>
              <a:t>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extracellar manifestation (e.g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. on optic chiasma) or if patien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tolerate or respond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R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7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1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OTHER CAUSE OF 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Symbol"/>
                <a:ea typeface="Symbol"/>
              </a:rPr>
              <a:t>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 PROL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ugs: e.g. phenothiazines, methyl-dopa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etclopramide, anti-histamin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estrogens and morph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3.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CRANIOPHARYNGIO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intracranial tum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4.</a:t>
            </a:r>
            <a:r>
              <a:rPr b="1" lang="en-US" sz="36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d31123"/>
                </a:solidFill>
                <a:uFillTx/>
                <a:latin typeface="Arial"/>
              </a:rPr>
              <a:t>SHEEHAN’S SYNDR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crosis of ant. pituitary due to sever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P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n – or partial hypopituitar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♣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rare problem today due to bet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obstetric care and adequate bloo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rans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38"/>
                </a:solidFill>
                <a:latin typeface="Arial"/>
              </a:rPr>
              <a:t>D.  DISORDERS OF HYPOTHALAMUS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est reason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pogonadotrophic sec.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ten associated with stress e.g. i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grants, young women when lea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me, university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nosis by exclusion of pituitary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rmone therapy or ovulatio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ction is not indicated unles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ient wishes to become preg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ce103"/>
                </a:solidFill>
                <a:uFillTx/>
                <a:latin typeface="Arial"/>
              </a:rPr>
              <a:t>PRIMARY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enstruation by the age of 14 years accompanied by failure to gr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erly or develop sec. sexu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racteris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menstruation by age of 16 when growth and sexual development are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ce103"/>
                </a:solidFill>
                <a:uFillTx/>
                <a:latin typeface="Arial"/>
              </a:rPr>
              <a:t>SECONDARY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ary absence of menses for six months (or greater than 3 times the previous cycle interval) in a women who has menstruated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gnancy, lactation or hysterectomy must be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Wingdings 2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pubertal and post-menopausal conditions are also to be excluded as physiological ca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534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7fc38"/>
                </a:solidFill>
                <a:uFillTx/>
                <a:latin typeface="Arial"/>
              </a:rPr>
              <a:t>WEIGHT – LOSS ASSOCIATED A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oss of &gt; 10 kg is frequently associated with amenorrho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In young women and teen ages girl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become obsessed with their body image and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starve thems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Jogger’s amenorrhoe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seen frequently in women train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 marathon racing, in ballet dancers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form of athle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d31123"/>
                </a:solidFill>
                <a:uFillTx/>
                <a:latin typeface="Arial"/>
              </a:rPr>
              <a:t>CAU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 redistribution between proportion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dy fat mass and body muscle m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be also mediated by exercise relat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s i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endorph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.    ANOREXIA NERVO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ociated with sec. amenorrhoe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misnomer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loss of appet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4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4000"/>
                            </p:stCondLst>
                            <p:childTnLst>
                              <p:par>
                                <p:cTn id="6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7fc38"/>
                </a:solidFill>
                <a:uFillTx/>
                <a:latin typeface="Arial"/>
              </a:rPr>
              <a:t>AMENORRHOEA AND ANOSM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re cause of amenorrhoea of hypogonadotrophic – hypo-gonad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ounterpart in males is Kallman’s syndr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POST-PILL AMENORRHOE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evidence that Est. prog. Contraceptive pills predispose to amenorrhoea.. once pill taking is ce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irregular men. cycle frequently precedes pill t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is assumption of amenorrhoea being merely an after-effect of pill taking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ny cases of hyperprolactinemia will be missed (1: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Premat. ovarian failure will be missed in 1:10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ce other causes are excluded, this type of ameno. Responds well to ovulation induction with Clomiphene citrate if preg. is des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5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4000"/>
                            </p:stCondLst>
                            <p:childTnLst>
                              <p:par>
                                <p:cTn id="7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38"/>
                </a:solidFill>
                <a:latin typeface="Arial"/>
              </a:rPr>
              <a:t>INVESTIGATION OF AMENORRHOEA</a:t>
            </a:r>
            <a:endParaRPr b="0" lang="en-US" sz="36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. Prolactin level and T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yotyping…if chrom. anomaly is suspected on clinical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3ed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esterone withdrawal test….to check endog. estr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g. Provera (medroxy-prog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f bleeding PV=reactive endom. and patent outflow tra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00"/>
                            </p:stCondLst>
                            <p:childTnLst>
                              <p:par>
                                <p:cTn id="7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4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PR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norm. + no galactorrhoea ---no need for further investigation for pituitary tu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GALACTOR is present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urther evaluation of pit. gland is necessary .. regardless of level of PRL and menstrual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PRL is signific. elevated (excluding stress)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Radiology exam of pituitary to exclude 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fields assessment – if X-Ray abnor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FSH &amp; L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evel… especially if no withdrawal bleeding following prog. Challen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H (&lt;5 IU/ml)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hypogonafotrophic- hypogonad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3ed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SH (&gt;40 IU/ml) on successive reading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arian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omen &lt; 35 years = premet. ovar. failure (menopause)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eck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karyotyp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if Y-Chrom +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high risk of gonadal malign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dff"/>
                </a:solidFill>
                <a:latin typeface="Arial"/>
              </a:rPr>
              <a:t>4.  US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 uterus and ovaries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an be useful to investigating and monitor Rx. Of these wo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0"/>
                            </p:stCondLst>
                            <p:childTnLst>
                              <p:par>
                                <p:cTn id="7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5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500"/>
                            </p:stCondLst>
                            <p:childTnLst>
                              <p:par>
                                <p:cTn id="7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3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7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1" dur="5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500"/>
                            </p:stCondLst>
                            <p:childTnLst>
                              <p:par>
                                <p:cTn id="7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5" dur="500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38"/>
                </a:solidFill>
                <a:latin typeface="Arial"/>
              </a:rPr>
              <a:t>FLOW CHAR FOR INVESTIGATING OF SEC. AMENORRHOEA</a:t>
            </a: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lete His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ll Ph. exam.,tubal patency 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rm cou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aumat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of b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,   LH,   TSH,  P RL,   X-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ysterogra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of Pit. Fos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yperprolac.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n.Fos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SH,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H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  LH,  FS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mogra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SH  </a:t>
            </a:r>
            <a:r>
              <a:rPr b="1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 Premat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omi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yroxin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m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nopau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ops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iled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Tu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?”Resist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rug. &amp;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t. radio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P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M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romocript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914400"/>
            <a:ext cx="0" cy="380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7524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12952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5146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24382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362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362320"/>
            <a:ext cx="289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220968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505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3505320"/>
            <a:ext cx="0" cy="533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3434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895480"/>
            <a:ext cx="0" cy="6098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1240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200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886200"/>
            <a:ext cx="0" cy="2286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525780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7339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3886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86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886200"/>
            <a:ext cx="0" cy="609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5029200"/>
            <a:ext cx="0" cy="1447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5029200"/>
            <a:ext cx="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57913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e103"/>
                </a:solidFill>
                <a:latin typeface="Arial"/>
              </a:rPr>
              <a:t>CLINICAL APPROACH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 difference of opinion about the age at which </a:t>
            </a:r>
            <a:r>
              <a:rPr b="1" lang="en-US" sz="2800" spc="-1" strike="noStrike">
                <a:solidFill>
                  <a:srgbClr val="d31123"/>
                </a:solidFill>
                <a:latin typeface="Arial"/>
              </a:rPr>
              <a:t>Primary Amenorrho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hould be investigated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18 yrs. often sugges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d the patient has developed normal sec. sex. Characteristics and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cryptomenorrhoe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has been exclu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those patient with Primary amenorrhoea and sexual infantilism should be investigated at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ge of 15 years or 16 years (may be earlier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, adequate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histor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essential to reach a 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questioning is necessary to establish diagnosis of Primary or Secondary amenorrho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the amenorrhoea is truly secondary (e.g. prev. menses were actucally steroid – induc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eful physical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examinatio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ds in reaching a fairly firm provision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minority, there is a need to go beyond simple out-patient </a:t>
            </a:r>
            <a:r>
              <a:rPr b="1" lang="en-US" sz="2800" spc="-1" strike="noStrike">
                <a:solidFill>
                  <a:srgbClr val="f7fc38"/>
                </a:solidFill>
                <a:latin typeface="Arial"/>
              </a:rPr>
              <a:t>investig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fc38"/>
                </a:solidFill>
                <a:latin typeface="Arial"/>
              </a:rPr>
              <a:t>CAUSES OF AMENORRHOEA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 of outflow tract and or ute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o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Ant. Pituit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orders of Hypothala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A.  DISORDERS OF OUTFLOW TRACT &amp; OR UTERUS</a:t>
            </a:r>
            <a:endParaRPr b="0" lang="en-US" sz="32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1.  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CRYPTOMENORRHO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ginal </a:t>
            </a:r>
            <a:r>
              <a:rPr b="1" lang="en-US" sz="2000" spc="-1" strike="noStrike">
                <a:solidFill>
                  <a:srgbClr val="f7fc38"/>
                </a:solidFill>
                <a:latin typeface="Arial"/>
              </a:rPr>
              <a:t>atres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7fc38"/>
                </a:solidFill>
                <a:latin typeface="Arial"/>
              </a:rPr>
              <a:t>imperforate hymen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vent menstrual loss from escap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</a:t>
            </a:r>
            <a:r>
              <a:rPr b="1" lang="en-US" sz="2400" spc="-1" strike="noStrike">
                <a:solidFill>
                  <a:srgbClr val="d31123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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. Amenorrhoea in a teenage girl with norm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sexual development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aining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.    Intermittent lower abd. 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.   Possible difficulty of mi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.   Palpable lower abd. swelling  (Haematometr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v.   Bulging, bluish membrane at lower end of  vagin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(Haematocolpu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ISE MEMBR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ABSENCE OR HYPOPLASIA OF 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VAGINA</a:t>
            </a:r>
            <a:r>
              <a:rPr b="1" lang="en-US" sz="2400" spc="-1" strike="noStrike" u="sng">
                <a:solidFill>
                  <a:srgbClr val="d31123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th, develop, and ovarian function a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terus may be normal or rudiment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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al anomalies (in 30%) or skeleta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ects (in 10%) may be pres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MANAG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functional vagina by surgery or dil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TESTICULAR FEMI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d31123"/>
                </a:solidFill>
                <a:uFillTx/>
                <a:latin typeface="Arial"/>
              </a:rPr>
              <a:t>(Androgen Insensitiv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enotype is woman.  Genotype i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man (xy)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7fc38"/>
                </a:solidFill>
                <a:latin typeface="Arial"/>
              </a:rPr>
              <a:t> test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re pres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by an X-linked recessiv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gene… (famili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ing in absence of cytosol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androgen recep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1123"/>
                </a:solidFill>
                <a:latin typeface="Arial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wth and develop are normal (may be taller than averag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sts are large but with sparse glandular tissue and pale are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guinal hernia in 50% of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anty, or no axillary and pubic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ia minora under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ind vagina, absent uterus, rudimentary fallopian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es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 abd. or inguinal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38"/>
                </a:solidFill>
                <a:latin typeface="Arial"/>
              </a:rPr>
              <a:t>Normal levels of testoster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re produced.. But no response to androgens (endog. or exo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permato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b3edff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cidence of testicular neoplasia (5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0:00:08Z</dcterms:created>
  <dc:creator>denden</dc:creator>
  <dc:description/>
  <dc:language>en-US</dc:language>
  <cp:lastModifiedBy>Iqbal</cp:lastModifiedBy>
  <dcterms:modified xsi:type="dcterms:W3CDTF">2007-09-29T13:01:18Z</dcterms:modified>
  <cp:revision>51</cp:revision>
  <dc:subject/>
  <dc:title>AMENORRHOEA Primary &amp; Secondary</dc:title>
</cp:coreProperties>
</file>