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9B71-AE7B-4EBC-9C63-0BFAA4E577E7}" type="slidenum">
              <a:rPr b="0" lang="ar-L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8B1-2E8F-4CE8-81DC-F0DFF16EE547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146-A475-40A7-BF1A-D4C1409204E1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A4E8-9DB1-49E2-A02E-2E5BBD7C8EC4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C694-DDEB-4099-9C47-7711D828EDA4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B334-F708-413F-A4F3-440B48FEC1B4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438A-8BB6-406B-9779-446FA949D78F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B8D8-58DC-4D65-9FB7-9891D8EDCE3E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FBDA-537A-4574-91C4-AE91F780BC5F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3456-07D6-4C77-BF47-AD67719284C7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70DB-C2BD-4453-900C-CC1B5AF52911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F52F-6934-4F6D-A843-DD1D0462C66C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82C0-FD90-4B4C-8291-80C833AFD58C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88D-7CCD-43E1-A5D9-0471F5905580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B08A-FF27-4313-B899-25D92F5BD8B6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7E54-A9FE-4F3C-90A9-929E05D9DFC7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AAD4-ABFC-4114-8A6F-F3E154942E79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7CA4-B436-4D57-AC71-7F954C474840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FF3F-A7DC-4605-A2CC-AA35C9C9095E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8FBA-5E85-4C06-B6D0-52A2BEE305EC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C898-2617-47B3-ABB8-5146B7754820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69E7-D8D0-4AFB-88B6-4389D315329D}" type="slidenum">
              <a:rPr b="0" lang="ar-L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1AD-0890-425A-ABF4-1A406DB2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DF0-DA5F-4E6F-A542-E6FB7A7B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B74-5340-44F6-ADA7-F3BB36AA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3C3-5AA9-4FA7-8F54-DADD8C0A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5BE0-1C84-4D9F-A650-154CA0A7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DE8E-E8C8-4073-A030-D11B7596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830C-8FF5-4749-B773-3D538FF5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4EA1-F5A4-44C1-A022-EBA7B2BA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9CCF-D7E3-47DE-902F-F35B5A19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265F-3D5D-4203-8B49-27A0C3E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2234-2D7D-4801-B225-9E0CAE1D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70A-274A-469C-AABD-CE801D25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B299-BE56-40E1-815A-1EF90C5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B0FF-9304-46E9-8D58-EE3E926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3132-36BD-4089-824B-109AFBA4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0130-B953-4503-908A-815E3EC9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272F-A956-4392-961F-56497AFB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BC4-6B69-4A9B-9056-110C19B5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4822-777D-4785-BC66-3274D3A4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DDC-6FBE-48CE-8EB0-CF59222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393-35A2-488D-8668-E41E4A48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CF03-D973-4639-B2A0-602BC6FF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7F4-C152-4712-BD56-42237FE4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C63-A0F4-46E3-B445-83B48F00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5B4B-7108-413B-A696-DAD721A2C0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C0DC-1016-44B3-9CC8-0A6D7104E27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mtemsah@ksu.edu.s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Welcome to: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Course</a:t>
            </a:r>
            <a:br>
              <a:rPr sz="4800"/>
            </a:b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Ped 473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urse Coordinat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 Mohamad-Hani Temsa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erk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uld be gen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and written, readable and cl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ick to the given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rictly adhere to time limi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fferent cases, from different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andom Samples will be checked: Cheating =&gt; banned from exams &amp; reported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ngoing Evaluation for All Activities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ing to clinical bedside teaching on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ntributing actively to discu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ating knowled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ing effectively with families &amp; colleag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onstrating good professional mann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am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CQ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d-Cycle: usually in week 7-8 (?10 Nov 201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nal: week 12 (1 Dec 201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ly: c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se scenario form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SCE:  (3 Dec 20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eek 1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 stations including history taking, physical examination and o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xtra Not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xtra sessions arranged for the whole group should only be on Thurs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fill the course evaluation she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: We are here for yo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 WISH YOU THE BEST OF LUC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History Taking in Pediatric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ilar to adults, Plus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Picture 3" descr="KL.jpg"/>
          <p:cNvPicPr/>
          <p:nvPr/>
        </p:nvPicPr>
        <p:blipFill>
          <a:blip r:embed="rId1"/>
          <a:stretch/>
        </p:blipFill>
        <p:spPr>
          <a:xfrm>
            <a:off x="5486400" y="4267080"/>
            <a:ext cx="346716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ist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tient ID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sent Complaint(s) ( C/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History of Present Complaint(s) (HPI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ast Medical History (PM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eona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ystemic Review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amily History (FHX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accination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evelopmental History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8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erg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ow is Peds History Different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n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i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mily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detail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rn to draw family pedigre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ol level and gra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onship with parents and 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gnancy and deli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rition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east feeding vs. bot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mount and frequenc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lity of f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Goa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y completing this course, each student is expected 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ave general knowledge about pediatric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ster the basic principles and skills of pediatrics that will allow him to work as an efficient and safe inter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al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oss Motor: e.g. sitting and wal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e Motor: e.g. Pincer grasp and scrib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nguage: e.g. sa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wo words sen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: e.g. smiling, playing with oth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LB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munization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 the local sche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illed or live attenuat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are they giv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verse eff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 to d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IP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arents may exaggerate or mislead you so ask specific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oid leading question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w appreciation and empathy with parents anxiety and wor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ware of the sensitivity of some issues in the family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note of the parents behavio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Questions/Comments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are Welcome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mtemsah@ksu.edu.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fice 9200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eys to Success in this course 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nctu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ts of clinical expos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ritical thin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ke good use of your 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ad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 Practic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. Feedback!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commended Reading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 rot="5400000">
            <a:off x="1922400" y="1582560"/>
            <a:ext cx="518148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Student s Guide Student</a:t>
            </a: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’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LB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istribu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 Major groups (A,B,C); each subdivided into 3 subgroups (e.g. A1, A2, A3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KKU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􀂃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bgroups in RM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wab in week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Boo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assigned tutor for each Subgrou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et on weekly ba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nitor progress in the cour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dvice &amp; feedb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lp in fulfilling the LogBook requir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deo session to complete your Log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ogBook &amp; Tutor: Why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olidate clinical knowledge and skill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olidate practical skill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ing knowledge of common emergen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ce to mix with medical team and ask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idge the gap between medical students and teaching sta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tivitie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utorials: always come prepa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nical sessions: 9-12 am, 2/w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rd rotation: as a sub inte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D: AM or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R: 8-12, 12-4, 4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ursery: P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rning report: recommende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1:59:31Z</dcterms:created>
  <dc:creator>DR. Husam</dc:creator>
  <dc:description/>
  <dc:language>en-US</dc:language>
  <cp:lastModifiedBy>DrHani</cp:lastModifiedBy>
  <dcterms:modified xsi:type="dcterms:W3CDTF">2012-09-01T10:00:12Z</dcterms:modified>
  <cp:revision>9</cp:revision>
  <dc:subject/>
  <dc:title>Welcome to: Course 473 Peds</dc:title>
</cp:coreProperties>
</file>