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053E-E2E2-41AD-96A6-4F8E3EF38B84}" type="slidenum"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2B62-1F4F-4FFD-980D-C16AD7079ED0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C4D-D334-4A84-8BDF-8829DAE40D91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A518-C6ED-4E3C-B1F8-95CA746CE288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2D71-D46E-4458-8AC0-E311C447EDF1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DEB3-4309-42D2-ABEE-FB456C62D99D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91F-684B-48AF-A711-55A37B7F7594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53CB-06EA-47D8-9253-DAD6D3D3B820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369D-D453-4DA2-888F-5F65D515964D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18CA-4006-4928-8561-4867C3FAF38B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D48E-1489-431E-895C-DFC7F7B821B9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CE2C-F1F8-4A2C-A32E-DB0F5EF20FB8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D8FE-27EC-4B27-91F0-530AD63511BB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D0BE-C12B-4919-8D92-1012300A971A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48D-D549-4EED-B479-ADF4223A662A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42BC-8C2D-49F9-AD5A-F5834102FBEA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8298-4F9F-46F3-BBD2-6C11C721F3B5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AAB-086D-47F9-A8C0-68C2BD3C7776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0206-F704-4557-A3AF-10558E7018EE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E880-4B40-4FCD-B28A-301D8ED8E326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30E6-8CCD-41C1-9902-60C9596A4898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C609-5654-402B-AD50-81D64022AAD9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3FB-7B38-44B9-BCDF-1C14CD39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B0B-D284-46CD-8D2A-6DDDDBA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7CB-A7B8-4B4C-B434-6972841F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C4C-A732-4F29-8A58-B396E0B3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2D76-408A-4F3A-9F1E-E6537BCC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9E2F-EF03-4351-ACCC-585B6CF9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1D4C-B220-422C-83B9-F4F4D4A8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847B-7C68-4138-95CC-93084407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EC0-ADE9-400A-A3F5-40FCA8D3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3E42-39D4-4505-9A27-7F7BD922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477-48CD-4E76-AD65-44821418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254-D7A5-47FA-B628-E092E700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BE2A-4B04-4264-9840-D12EB3A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8705-0898-4ADA-BD9D-AA944549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F1BC-894D-4490-9361-4198DC0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039A-4258-4311-B756-C7E9C085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8E1-5B8D-44FA-A253-C466DD3A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949-A67C-4098-9645-C1F13F2A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B73-F082-495B-9B1D-FBFEE50C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079-E5A3-4C2A-9B27-6E3CB9F7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947-DAD7-461D-87E7-6ACCD6F2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AFA-9423-49CB-83F2-E967E3B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8D5-5F3E-4E83-AF85-34283D7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C2C-AC9F-4361-8D97-9398D78E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991B-1BDA-41C4-BB51-99BA55C39F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D2C-43F2-4832-A37C-1A14440E238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mtemsah@ksu.edu.s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elcome to: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Course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Ped 473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rse Coordinat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 Mohamad-Hani Tems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erk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uld be gen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nd written, readable and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ick to the given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rictly adhere to time li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fferent cases, from different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andom Samples will be checked: Cheating =&gt; banned from exams &amp; reporte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ngoing Evaluation for All Activities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ing to clinical bedside teaching o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tributing actively to 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ating knowled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ing effectively with families &amp; colleag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onstrating good professional mann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am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CQ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d-Cycle: usually in week 7-8 (?10 Nov 201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nal: week 12 (1 Dec 201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ly: 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se scenario form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SCE:  (3 Dec 20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ek 1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 stations including history taking, physical examination and o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tra No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tra sessions arranged for the whole group should only be on Thurs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fill the course evaluation she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: We are here for y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WISH YOU THE BEST OF LUC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History Taking in Pediatric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ilar to adults, Plus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3" descr="KL.jpg"/>
          <p:cNvPicPr/>
          <p:nvPr/>
        </p:nvPicPr>
        <p:blipFill>
          <a:blip r:embed="rId1"/>
          <a:stretch/>
        </p:blipFill>
        <p:spPr>
          <a:xfrm>
            <a:off x="5486400" y="4267080"/>
            <a:ext cx="346716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tient I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sent Complaint(s) ( C/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istory of Present Complaint(s) (HPI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t Medical History (PM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eona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ystemic Review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amily History (F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accination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velopmen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erg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is Peds History Different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y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detai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 to draw family pedigre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evel and gr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ship with parents and 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east feeding vs. bot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and frequ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oa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y completing this course, each student is expected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ve general knowledge about pediatri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ster the basic principles and skills of pediatrics that will allow him to work as an efficient and safe inter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ss Motor: e.g. sitting and wal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e Motor: e.g. Pincer grasp and scrib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: e.g. s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wo words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: e.g. smiling, playing with oth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munization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 the local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lled or live attenu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they giv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verse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 to d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IP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arents may exaggerate or mislead you so ask specific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leading questi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w appreciation and empathy with parents anxiety and wor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ware of the sensitivity of some issues in the family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note of the parents behavi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uestions/Comments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are Welcome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mtemsah@ksu.edu.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fice 9200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eys to Success in this course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nct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ts of clinical expo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itical thin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ke good use of your 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ad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Practic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. Feedback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commended Readin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 rot="5400000">
            <a:off x="1922400" y="1582560"/>
            <a:ext cx="518148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Student s Guide Student</a:t>
            </a: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’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tribu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Major groups (A,B,C); each subdivided into 3 subgroups (e.g. A1, A2, A3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KKU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wab in week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Boo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assigned tutor for each Subgro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et on weekly ba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itor progress in the cou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dvice &amp; feed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 in fulfilling the LogBook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 session to complete your Log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Book &amp; Tutor: Why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olidate clinical knowledge and skill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olidate practical skill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ing knowledge of common emerg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ce to mix with medical team and ask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idge the gap between medical students and teaching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utorials: always come prepa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nical sessions: 9-12 am, 2/w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rd rotation: as a sub inte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D: AM or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R: 8-12, 12-4, 4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rsery: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rning report: recommend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1:59:31Z</dcterms:created>
  <dc:creator>DR. Husam</dc:creator>
  <dc:description/>
  <dc:language>en-US</dc:language>
  <cp:lastModifiedBy>DrHani</cp:lastModifiedBy>
  <dcterms:modified xsi:type="dcterms:W3CDTF">2012-09-01T10:00:12Z</dcterms:modified>
  <cp:revision>9</cp:revision>
  <dc:subject/>
  <dc:title>Welcome to: Course 473 Peds</dc:title>
</cp:coreProperties>
</file>