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1.wmf" ContentType="image/x-wmf"/>
  <Override PartName="/ppt/media/image4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80D4-D393-454D-A334-A0886D446B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59B7-AFC2-4C1B-B33D-5E884BF0A5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F494-6ECC-48C5-8A42-AB89F8FE9B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2100-4FC2-4246-91FC-165AA639A7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BEA6-279A-411D-9134-29AC2BCC55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B4B-BFEE-481E-9D8D-D88F0CCE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B19-DA59-4C4E-B686-F819DF11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389F-15A8-405F-844E-6754B491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13E-B23C-4E0E-8B78-D8E40582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45B-CD5D-41E1-90B6-0F3B7B95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715-D34A-4800-93EC-11C86AB0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423-AF93-4991-B2DC-1DB84830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FA2-739F-478E-88F0-E8D8DE7D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252-D384-47EF-8DAB-BC8A8325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244-4865-4131-A8BD-A95DB3B9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07F-4463-4226-B3E1-F02DA061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4E5-57EF-4018-A009-5C932BD8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9043-6ECE-4C66-9496-24FAFF56B5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6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COMM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RHEUMATIC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Dr. Abdullah Al Mazy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Consultant Pediatric Rheumat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Department of Pedia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바탕"/>
              </a:rPr>
              <a:t>King saud Univers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7F9-602B-4DC6-9E7D-34758F9908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Jpeg010"/>
          <p:cNvPicPr/>
          <p:nvPr/>
        </p:nvPicPr>
        <p:blipFill>
          <a:blip r:embed="rId1"/>
          <a:stretch/>
        </p:blipFill>
        <p:spPr>
          <a:xfrm>
            <a:off x="1295280" y="129528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7621-051A-4CFB-A853-7E46C89C5C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Jpeg017"/>
          <p:cNvPicPr/>
          <p:nvPr/>
        </p:nvPicPr>
        <p:blipFill>
          <a:blip r:embed="rId1"/>
          <a:stretch/>
        </p:blipFill>
        <p:spPr>
          <a:xfrm>
            <a:off x="1295280" y="91440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02D2-506F-4904-9449-C122F0910E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Jpeg016"/>
          <p:cNvPicPr/>
          <p:nvPr/>
        </p:nvPicPr>
        <p:blipFill>
          <a:blip r:embed="rId1"/>
          <a:stretch/>
        </p:blipFill>
        <p:spPr>
          <a:xfrm>
            <a:off x="2819520" y="609480"/>
            <a:ext cx="396216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8BD-1244-4ACF-8937-41D9F84BC3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arthritis with polyarticular onset 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JA pat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0" y="1600200"/>
          <a:ext cx="8839080" cy="4559400"/>
        </p:xfrm>
        <a:graphic>
          <a:graphicData uri="http://schemas.openxmlformats.org/drawingml/2006/table">
            <a:tbl>
              <a:tblPr/>
              <a:tblGrid>
                <a:gridCol w="3073320"/>
                <a:gridCol w="1384200"/>
                <a:gridCol w="1384200"/>
                <a:gridCol w="2997360"/>
              </a:tblGrid>
              <a:tr h="647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RF-ve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2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RF+ve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5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 or you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at on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rough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predom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articular manif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ules, vascul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%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pat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W4/D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-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&gt;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65D-B3A4-4149-B5E2-9006699FC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Jpeg014"/>
          <p:cNvPicPr/>
          <p:nvPr/>
        </p:nvPicPr>
        <p:blipFill>
          <a:blip r:embed="rId1"/>
          <a:stretch/>
        </p:blipFill>
        <p:spPr>
          <a:xfrm>
            <a:off x="1676520" y="1143000"/>
            <a:ext cx="6172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3FF8-96F6-44BB-9653-6335EE614F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Jpeg008"/>
          <p:cNvPicPr/>
          <p:nvPr/>
        </p:nvPicPr>
        <p:blipFill>
          <a:blip r:embed="rId1"/>
          <a:stretch/>
        </p:blipFill>
        <p:spPr>
          <a:xfrm>
            <a:off x="2743200" y="111924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316-7759-437D-AAC7-3FA05CF115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Jpeg004"/>
          <p:cNvPicPr/>
          <p:nvPr/>
        </p:nvPicPr>
        <p:blipFill>
          <a:blip r:embed="rId1"/>
          <a:stretch/>
        </p:blipFill>
        <p:spPr>
          <a:xfrm>
            <a:off x="3276720" y="106668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C305-9BBC-4387-A6EC-4AB91C6984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Jpeg012"/>
          <p:cNvPicPr/>
          <p:nvPr/>
        </p:nvPicPr>
        <p:blipFill>
          <a:blip r:embed="rId1"/>
          <a:stretch/>
        </p:blipFill>
        <p:spPr>
          <a:xfrm>
            <a:off x="2743200" y="111924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90C9-7C2C-476A-8261-C0EACE7B8F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Jpeg013"/>
          <p:cNvPicPr/>
          <p:nvPr/>
        </p:nvPicPr>
        <p:blipFill>
          <a:blip r:embed="rId1"/>
          <a:stretch/>
        </p:blipFill>
        <p:spPr>
          <a:xfrm>
            <a:off x="2743200" y="762120"/>
            <a:ext cx="3657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CF5-123D-4050-8E4C-2A388A6876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Jpeg019"/>
          <p:cNvPicPr/>
          <p:nvPr/>
        </p:nvPicPr>
        <p:blipFill>
          <a:blip r:embed="rId1"/>
          <a:stretch/>
        </p:blipFill>
        <p:spPr>
          <a:xfrm>
            <a:off x="2743200" y="111924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385D-1223-4F3B-AEDD-9DBA41D65A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ptoms and Signs of Joint Dis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ff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or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ic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e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orm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nder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normal m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pi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Abnorm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2C90-C086-42A5-9C9A-D01EAA69B1B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Jpeg018"/>
          <p:cNvPicPr/>
          <p:nvPr/>
        </p:nvPicPr>
        <p:blipFill>
          <a:blip r:embed="rId1"/>
          <a:stretch/>
        </p:blipFill>
        <p:spPr>
          <a:xfrm>
            <a:off x="2057400" y="114300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7FB3-4F96-4DBA-9452-390E5D9E01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Jpeg007"/>
          <p:cNvPicPr/>
          <p:nvPr/>
        </p:nvPicPr>
        <p:blipFill>
          <a:blip r:embed="rId1"/>
          <a:stretch/>
        </p:blipFill>
        <p:spPr>
          <a:xfrm>
            <a:off x="2819520" y="4572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061-2E7F-46AA-B02F-5F4F955FC4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Jpeg003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003-CEF1-4D4B-990E-01E11C408E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peg005"/>
          <p:cNvPicPr/>
          <p:nvPr/>
        </p:nvPicPr>
        <p:blipFill>
          <a:blip r:embed="rId1"/>
          <a:stretch/>
        </p:blipFill>
        <p:spPr>
          <a:xfrm>
            <a:off x="2819520" y="45720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6573-6B4A-4C1F-ABC9-D2B21E0587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Jpeg006"/>
          <p:cNvPicPr/>
          <p:nvPr/>
        </p:nvPicPr>
        <p:blipFill>
          <a:blip r:embed="rId1"/>
          <a:stretch/>
        </p:blipFill>
        <p:spPr>
          <a:xfrm>
            <a:off x="2743200" y="838080"/>
            <a:ext cx="36576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017-BB97-4A7E-B103-7280F713DD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Jpeg002"/>
          <p:cNvPicPr/>
          <p:nvPr/>
        </p:nvPicPr>
        <p:blipFill>
          <a:blip r:embed="rId1"/>
          <a:stretch/>
        </p:blipFill>
        <p:spPr>
          <a:xfrm>
            <a:off x="2819520" y="6094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E855-C329-4EB4-8A8B-4B57CD975D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peg015"/>
          <p:cNvPicPr/>
          <p:nvPr/>
        </p:nvPicPr>
        <p:blipFill>
          <a:blip r:embed="rId1"/>
          <a:stretch/>
        </p:blipFill>
        <p:spPr>
          <a:xfrm>
            <a:off x="2819520" y="8380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71D-AAF8-4BFB-B0F6-5871B6E16F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arthritis with pauciarticular onset (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50%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JA pat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1447920"/>
          <a:ext cx="8839440" cy="5214960"/>
        </p:xfrm>
        <a:graphic>
          <a:graphicData uri="http://schemas.openxmlformats.org/drawingml/2006/table">
            <a:tbl>
              <a:tblPr/>
              <a:tblGrid>
                <a:gridCol w="3048120"/>
                <a:gridCol w="2514600"/>
                <a:gridCol w="327672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SUBGROUP ONE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SUBGROUP TWO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%</a:t>
                      </a:r>
                      <a:r>
                        <a:rPr b="1" lang="en-US" sz="20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child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at on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 childh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predomi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ee, ankle, elb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cal j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 li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ic ir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articul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te iritis, bowel diseas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s of Reiter’s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eumatoid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5, 6,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10%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iridocyclitis 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n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dyloarthropath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DAF9-0C99-45B6-93B6-71D9645599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Jpeg001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ACAB-D7C3-4CE8-AC3D-1F19084795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of Juvenile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920" y="1066680"/>
          <a:ext cx="8534160" cy="5726160"/>
        </p:xfrm>
        <a:graphic>
          <a:graphicData uri="http://schemas.openxmlformats.org/drawingml/2006/table">
            <a:tbl>
              <a:tblPr/>
              <a:tblGrid>
                <a:gridCol w="4225680"/>
                <a:gridCol w="430848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urate assessment of each individual 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for arthriti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 for extra-articular manifestati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line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steroidal anti-inflammatory drugs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SAID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icillamine                                     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be avoided, gener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ro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totoxic and experimental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al and occupation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thopedic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 for systemic symptom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cyl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A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eroids occasionally nee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rugs for iridocycliti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pical steroids and dilating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stemic steroids needed occasional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8600" indent="-493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ideration of whole child and    child’s 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7DB4-C254-492D-80B1-787B90E400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uvenile Idiopathic Arthrit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bbreviation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C.A.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R.A. in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und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arthritis in one or more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nths or longer (Euro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weeks or longer (U.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 other defined causes of arthritis in childhood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491-EA96-4633-9F8B-73E8C0E4D6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Picture 003"/>
          <p:cNvPicPr/>
          <p:nvPr/>
        </p:nvPicPr>
        <p:blipFill>
          <a:blip r:embed="rId1"/>
          <a:stretch/>
        </p:blipFill>
        <p:spPr>
          <a:xfrm>
            <a:off x="2286000" y="685800"/>
            <a:ext cx="441972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6541-C18C-46E1-8314-8F88566E3E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GRAPHIC AND RACIAL DISTRIBUTION OF J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LE is common throughout the worl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: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idence rate for black versus white females in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605-E3FE-4C0C-B76E-AD3EF025AF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 AT ONSET IN J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 before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more common in adole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LE in the first decade: 3.5 – 15% of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renal involvement in J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LE in the first decade is a more sever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ea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B9EC-55CD-4CDC-9477-0B6F464B3A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 AT ONSET IN J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 rot="16419600">
            <a:off x="-647640" y="163800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905120" y="1828800"/>
          <a:ext cx="586080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586080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3ACD-C361-44C3-BF5F-E8C2A97E6F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fication  criteria of S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 (butterfly) 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id-lupus 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l or nas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cocutane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lc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rosive arthr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phriti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uria &gt; 0.5 g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ular 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ephalopath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iz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ych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uritis or pericard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immunose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bodies to n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bodies to Sm nuclear an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LE-cell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logic false-positive test for syph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antinuclear antibody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of 11 criteria provide a sensitivity of 96% and a specificity of 9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51AA-72DB-4563-9D67-474895813D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OLOGICAL TES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1447920"/>
          <a:ext cx="8229600" cy="5430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2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47720" indent="-7477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 by indirect  immunofluoresc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 to D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to soluble ribonucleoprote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immunodiffusio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nRN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S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Ro (SSA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47720" indent="-7477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 La (SSB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e of S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D34-EF05-4C39-B922-14827D6AEA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NICAL PRESEN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COCUTANEOUS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 erythematous rash: Butterfly distribution. 25% of cases of onset and 50% of cases by 3 years follow-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upt onset and usually have systemic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onatal Lupus Erythematous: Lesions similar to seborrheic dermatitis, photosensitive and disappear spontaneously in 4-6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id lupus: Discret, round, erythematous scaly patches with minimal systemic invo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C54-EF9D-4D17-AEC9-E05B2CE9C2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COCUTANEOUS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and nasal ulcerations: Nasal &amp; palat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cerations in 50% cases + perf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pecia: Generalized thinning with fron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.Britle and kinky changes occur frequent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ctiv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nanud’s phenomenon: It may precede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 by many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2CB6-1E92-4D7D-A55F-BF6F118684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Picture 002"/>
          <p:cNvPicPr/>
          <p:nvPr/>
        </p:nvPicPr>
        <p:blipFill>
          <a:blip r:embed="rId1"/>
          <a:stretch/>
        </p:blipFill>
        <p:spPr>
          <a:xfrm>
            <a:off x="1523880" y="1219320"/>
            <a:ext cx="6629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D0B-A9DB-44AA-AD23-A3B902346C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Picture 006"/>
          <p:cNvPicPr/>
          <p:nvPr/>
        </p:nvPicPr>
        <p:blipFill>
          <a:blip r:embed="rId1"/>
          <a:stretch/>
        </p:blipFill>
        <p:spPr>
          <a:xfrm>
            <a:off x="2362320" y="304920"/>
            <a:ext cx="4038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5DF-773A-4C32-AB00-E51A8AF3DE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Idiopathic Arthritis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Ex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1523880"/>
          <a:ext cx="8686800" cy="44625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RHUEMATIC 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-infectious reactive arthro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oriatic arthr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ylosing spondyl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leroder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ter’s synd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 connective tissue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sculitis syndr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ic active hepat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ic lupus erythematos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mmatory bowel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eumatic f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coid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3"/>
          <p:cNvSpPr/>
          <p:nvPr/>
        </p:nvSpPr>
        <p:spPr>
          <a:xfrm>
            <a:off x="533520" y="601992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1B77-7E1F-432C-9033-CB03EC3435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Picture 001"/>
          <p:cNvPicPr/>
          <p:nvPr/>
        </p:nvPicPr>
        <p:blipFill>
          <a:blip r:embed="rId1"/>
          <a:stretch/>
        </p:blipFill>
        <p:spPr>
          <a:xfrm>
            <a:off x="1295280" y="1295280"/>
            <a:ext cx="723924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14B4-AB81-4637-9A92-1DB9107A3B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Picture 005"/>
          <p:cNvPicPr/>
          <p:nvPr/>
        </p:nvPicPr>
        <p:blipFill>
          <a:blip r:embed="rId1"/>
          <a:stretch/>
        </p:blipFill>
        <p:spPr>
          <a:xfrm>
            <a:off x="1371600" y="12952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969-677A-40BD-8149-D8D481505E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DIOVASCULAR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DI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c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card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arditis (Libman-Sac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on abnorm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ONARY ARTERY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VASCULAR MANIF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naud’s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-527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1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B991-A9F3-494C-98BD-2ADCEBC277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Picture 008"/>
          <p:cNvPicPr/>
          <p:nvPr/>
        </p:nvPicPr>
        <p:blipFill>
          <a:blip r:embed="rId1"/>
          <a:stretch/>
        </p:blipFill>
        <p:spPr>
          <a:xfrm>
            <a:off x="1600200" y="1143000"/>
            <a:ext cx="624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4EAA-708A-4DFC-A6EF-95DFB7B77A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SCULITIS IN S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Vessel Vasc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PRESEN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pus Crisis (wide spread vasculitis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erosit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naud’s phenomen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rent thrombophleb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o retic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FCD8-8FC6-4658-AB31-67C00F38A9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Picture 009"/>
          <p:cNvPicPr/>
          <p:nvPr/>
        </p:nvPicPr>
        <p:blipFill>
          <a:blip r:embed="rId1"/>
          <a:stretch/>
        </p:blipFill>
        <p:spPr>
          <a:xfrm>
            <a:off x="1295280" y="1371600"/>
            <a:ext cx="62485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9A66-B2ED-4892-A80E-34A9150EFE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Picture 004"/>
          <p:cNvPicPr/>
          <p:nvPr/>
        </p:nvPicPr>
        <p:blipFill>
          <a:blip r:embed="rId1"/>
          <a:stretch/>
        </p:blipFill>
        <p:spPr>
          <a:xfrm>
            <a:off x="1752480" y="1752480"/>
            <a:ext cx="5410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D449-E699-4225-8721-1860D0232D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Picture 007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CDBA-3099-4621-B7B4-9B6187B425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HEMATOLOGI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NORMALITIES IN CHILDREN WITH SLE AT ON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NORMA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emia (hematocrit &lt; 30%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ute hemolytic a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kopeni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2,000 WBC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4,500 WBC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50,000 pts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00,000 pts/mm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76920" y="15235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04920" y="16765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76520"/>
          <a:ext cx="4038480" cy="44035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876920" y="1600200"/>
          <a:ext cx="3733560" cy="4495680"/>
        </p:xfrm>
        <a:graphic>
          <a:graphicData uri="http://schemas.openxmlformats.org/drawingml/2006/table">
            <a:tbl>
              <a:tblPr/>
              <a:tblGrid>
                <a:gridCol w="373356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EBD5-AB6B-405E-95A7-423CD1D381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.I. MANIFE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% of cases have abdominal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normal esophageal mo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tis and pertonitis: 8-11%, peritoneal flu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s high DNA, low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pancreatitis: de novo or steroids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entric artery thromb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bsor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vasculitis: Edema, ulceration, gangrene 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C03C-F195-4010-9897-CD4E4627E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venile Idiopathic Arthrit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4038480"/>
                <a:gridCol w="4191120"/>
              </a:tblGrid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cc"/>
                          </a:solidFill>
                          <a:latin typeface="Arial"/>
                        </a:rPr>
                        <a:t>NON-RHEUMATIC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ing p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plasm'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ign hypermobility synd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tologic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s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ychogenic arthralg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myel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ogenic arth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pped capital femoral epiph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good-Schlatter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tic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ndromalacia patell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0E63-EC9B-4914-A609-89CED33F4C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ROPSYCHIATRIC MANIFESTA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Focal Cerebral Dysfunction (35-6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brai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Disorders (10-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zures (15-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Deficits (10-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Neuropathies (10-2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: e.g. headach , aseptic meningitis, mysthenia  grav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06B6-ED4C-47A9-9145-34A5EA5254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Picture 011"/>
          <p:cNvPicPr/>
          <p:nvPr/>
        </p:nvPicPr>
        <p:blipFill>
          <a:blip r:embed="rId1"/>
          <a:stretch/>
        </p:blipFill>
        <p:spPr>
          <a:xfrm>
            <a:off x="1371600" y="1295280"/>
            <a:ext cx="6324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A4BB-6C0D-4414-8050-7C6EB3226E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gnosis in SLE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57200" y="2093760"/>
            <a:ext cx="123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14400" y="4379760"/>
            <a:ext cx="62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531800" y="1841400"/>
          <a:ext cx="607248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1800" y="1841400"/>
                    <a:ext cx="607248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6"/>
          <p:cNvSpPr/>
          <p:nvPr/>
        </p:nvSpPr>
        <p:spPr>
          <a:xfrm>
            <a:off x="4648320" y="2590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renal in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 rot="453000">
            <a:off x="4800240" y="3962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renal in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676520" y="19810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660680" y="2819520"/>
            <a:ext cx="3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80880" y="186516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04920" y="1865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ival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05FE-D889-4CE5-9E49-914BD68D57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MATOMYOSITIS AND POLYMYOS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29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al progressive proximal wea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biopsy showing inflammatory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muscle enzymes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K,AST,Aldol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myography abnorm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.g. polyphasic potenti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dermatolog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B898-7358-4128-A61B-32FC299AD5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Picture 013"/>
          <p:cNvPicPr/>
          <p:nvPr/>
        </p:nvPicPr>
        <p:blipFill>
          <a:blip r:embed="rId1"/>
          <a:stretch/>
        </p:blipFill>
        <p:spPr>
          <a:xfrm>
            <a:off x="2362320" y="60948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36D6-88D9-4AF0-AF15-69350B42F6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Picture 010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F55E-579A-43AD-B1C9-2333BA4AFC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Picture 012"/>
          <p:cNvPicPr/>
          <p:nvPr/>
        </p:nvPicPr>
        <p:blipFill>
          <a:blip r:embed="rId1"/>
          <a:stretch/>
        </p:blipFill>
        <p:spPr>
          <a:xfrm>
            <a:off x="1523880" y="1066680"/>
            <a:ext cx="6477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67B5-10A2-46FE-B552-7B4584747F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Picture 018"/>
          <p:cNvPicPr/>
          <p:nvPr/>
        </p:nvPicPr>
        <p:blipFill>
          <a:blip r:embed="rId1"/>
          <a:stretch/>
        </p:blipFill>
        <p:spPr>
          <a:xfrm>
            <a:off x="1447920" y="1143000"/>
            <a:ext cx="6324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A529-47A4-4CCE-9CD6-9EFAC4F79F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Picture 014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40F5-1A35-4E13-9C79-7F5AA838D5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NOCH-SCHONLEIN PURP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ointestinal invol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l invol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C1C-6E44-491D-BF61-260DA1987B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thology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s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enit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s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sitis of pleura and pericar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cu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ADF-8C97-442C-A965-73D03A56EB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Picture 017"/>
          <p:cNvPicPr/>
          <p:nvPr/>
        </p:nvPicPr>
        <p:blipFill>
          <a:blip r:embed="rId1"/>
          <a:stretch/>
        </p:blipFill>
        <p:spPr>
          <a:xfrm>
            <a:off x="2286000" y="609480"/>
            <a:ext cx="457200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88DC-AA93-4D4F-B88E-4448DE8CDB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WASAKI’S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ctival cong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nthe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l mucosa invol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qu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vical lymphadenopat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F2E1-DDF9-4047-9890-589C2CB31A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agnostic Criter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definitive diagnosis the patients must hav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follow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lking fever for at least 5 da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6. One or more of the following 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rative edema of hands and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Bilateral conjunctival inj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ema of palms and 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One orpharyngeal 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quamation of fingers and 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 oropharyngeal Erythe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bout 2 weeks after on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wberry tong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verse grooves in 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ness, dryness, and fissures of l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 or 3 months after on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  Polymorphous erythematous 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 cervical lymphadenopa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E071-91B8-4FBF-AACD-9DB6BD53A2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Picture 019"/>
          <p:cNvPicPr/>
          <p:nvPr/>
        </p:nvPicPr>
        <p:blipFill>
          <a:blip r:embed="rId1"/>
          <a:stretch/>
        </p:blipFill>
        <p:spPr>
          <a:xfrm>
            <a:off x="2514600" y="6858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A1A8-9EE1-4F69-94D2-3EBE93EA18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Picture 016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DCF-5FFC-40AB-943C-F8055E43E1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10134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NDYLOARTHROPATH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5720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ce of rheumatoid factor(sero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ment of sacroiliac and j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pheral arthr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dominantly lower li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heso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l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incidence of HLA-B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spectrum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- articular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redominantly muco-cutane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25F6-E5B2-42C4-A8F6-5EEB133F9D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ONDYLOARTHROPATH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kylosing spondy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ori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Whipple’s dise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lcerative col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ohn’s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ters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Behçets Syndr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ve arthr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ADF-602E-48D5-A901-ADDCA15207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Picture 015"/>
          <p:cNvPicPr/>
          <p:nvPr/>
        </p:nvPicPr>
        <p:blipFill>
          <a:blip r:embed="rId1"/>
          <a:stretch/>
        </p:blipFill>
        <p:spPr>
          <a:xfrm>
            <a:off x="1219320" y="1523880"/>
            <a:ext cx="67816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A48C-B12B-468D-B17A-2C3A050A7D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바탕"/>
              </a:rPr>
              <a:t>Thank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바탕"/>
              </a:rPr>
              <a:t>Yo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F494-7C83-4B07-B015-A695C0E9A0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APICTT194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9DB5-5420-4C01-B471-1C356ADFB1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Jpeg009"/>
          <p:cNvPicPr/>
          <p:nvPr/>
        </p:nvPicPr>
        <p:blipFill>
          <a:blip r:embed="rId1"/>
          <a:stretch/>
        </p:blipFill>
        <p:spPr>
          <a:xfrm>
            <a:off x="1143000" y="91440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5A9-FC24-4D72-97EA-B7E3984A4B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venile Arthritis with Systemic onset (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%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JA patient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295280"/>
          <a:ext cx="8915400" cy="5265720"/>
        </p:xfrm>
        <a:graphic>
          <a:graphicData uri="http://schemas.openxmlformats.org/drawingml/2006/table">
            <a:tbl>
              <a:tblPr/>
              <a:tblGrid>
                <a:gridCol w="4419720"/>
                <a:gridCol w="4495680"/>
              </a:tblGrid>
              <a:tr h="52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 at on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ars or young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 rat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or boys &gt; gir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ular manif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ly – arthritis that may be transi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 – chronic arthritis that is usually polyartic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-articular manifest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termittent fever; rash; myalgia; serositis; organomegaly; leukocytosis; an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atory te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n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e arthritis in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D404-5355-46E4-8562-D71F4BDF88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Jpeg011"/>
          <p:cNvPicPr/>
          <p:nvPr/>
        </p:nvPicPr>
        <p:blipFill>
          <a:blip r:embed="rId1"/>
          <a:stretch/>
        </p:blipFill>
        <p:spPr>
          <a:xfrm>
            <a:off x="1219320" y="121932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4:36:53Z</dcterms:created>
  <dc:creator>LOIDE</dc:creator>
  <dc:description/>
  <dc:language>en-US</dc:language>
  <cp:lastModifiedBy>Dr.Abdullah</cp:lastModifiedBy>
  <dcterms:modified xsi:type="dcterms:W3CDTF">2012-03-20T09:03:34Z</dcterms:modified>
  <cp:revision>39</cp:revision>
  <dc:subject/>
  <dc:title>Slide 1</dc:title>
</cp:coreProperties>
</file>