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84B-53D9-40FD-AAD7-7F0D75925F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94F1-1701-4BF7-9148-24F22181A3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E3E8-B84A-4C1C-9BA7-A9BDD9E9B3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4F60-DCF6-4322-8122-370ACA114E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E6E-8315-42C6-8F3F-27C7F1ACBA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44D-7897-48AF-B3E8-73D347F9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CDC-4A2E-46E9-9C98-ABC8F36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724-9C0C-4AD2-9D93-82F9FCA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532-9618-49F4-8EF7-C9AA9D7C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8EF-A255-412A-882D-8012E4F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F8B-A4EB-4DB2-A031-13D734D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E05-F4A4-4113-9053-92C12E91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6C2-FF07-4C0D-A183-5DE99D48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A66-30D9-4406-A672-D9BBC76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0EC-B668-4648-AD5B-66EB5FD6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389-FDE8-4CD0-873E-5065403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047-76C6-494B-A109-A8FFE50D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3B5-57E6-42B7-B891-59E1983216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COMM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RHEUMATIC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Dr. Abdullah Al Mazy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Consultant Pediatric Rheuma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Department of Pedia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King saud Univers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0FE-0732-491A-9C64-D56990D75A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peg010"/>
          <p:cNvPicPr/>
          <p:nvPr/>
        </p:nvPicPr>
        <p:blipFill>
          <a:blip r:embed="rId1"/>
          <a:stretch/>
        </p:blipFill>
        <p:spPr>
          <a:xfrm>
            <a:off x="1295280" y="129528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121-C948-48CC-8A8F-9447B56206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peg017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20B3-ED3A-4702-9ACC-1D272DB420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Jpeg016"/>
          <p:cNvPicPr/>
          <p:nvPr/>
        </p:nvPicPr>
        <p:blipFill>
          <a:blip r:embed="rId1"/>
          <a:stretch/>
        </p:blipFill>
        <p:spPr>
          <a:xfrm>
            <a:off x="2819520" y="609480"/>
            <a:ext cx="396216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9B7-E20A-4C57-A097-AF883B09E1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arthritis with polyarticular onset 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0" y="1600200"/>
          <a:ext cx="8839080" cy="4559400"/>
        </p:xfrm>
        <a:graphic>
          <a:graphicData uri="http://schemas.openxmlformats.org/drawingml/2006/table">
            <a:tbl>
              <a:tblPr/>
              <a:tblGrid>
                <a:gridCol w="3073320"/>
                <a:gridCol w="1384200"/>
                <a:gridCol w="1384200"/>
                <a:gridCol w="2997360"/>
              </a:tblGrid>
              <a:tr h="64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F-ve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2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F+ve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 or you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ough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predom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ules, vascu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4/D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4F34-571C-48BB-A5F8-08A82FCB4E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Jpeg014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512-738D-4CC3-80B2-780DEF91C4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Jpeg008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795-BE19-4F41-8528-32C9A32687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Jpeg004"/>
          <p:cNvPicPr/>
          <p:nvPr/>
        </p:nvPicPr>
        <p:blipFill>
          <a:blip r:embed="rId1"/>
          <a:stretch/>
        </p:blipFill>
        <p:spPr>
          <a:xfrm>
            <a:off x="3276720" y="106668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CEBC-86D0-4BEF-BF6C-CDFFE4A7A1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Jpeg012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31B4-2E2B-46E8-9A5B-278E7D7672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Jpeg013"/>
          <p:cNvPicPr/>
          <p:nvPr/>
        </p:nvPicPr>
        <p:blipFill>
          <a:blip r:embed="rId1"/>
          <a:stretch/>
        </p:blipFill>
        <p:spPr>
          <a:xfrm>
            <a:off x="2743200" y="762120"/>
            <a:ext cx="3657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87CA-C2D3-4CE1-A187-DD27162D5C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Jpeg019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27A1-638F-414D-BBB2-39136C38E9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ptoms and Signs of Joint Dis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ff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or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ic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or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de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normal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pi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Abnorm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6395-7956-4309-A62D-B2B22C9500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Jpeg018"/>
          <p:cNvPicPr/>
          <p:nvPr/>
        </p:nvPicPr>
        <p:blipFill>
          <a:blip r:embed="rId1"/>
          <a:stretch/>
        </p:blipFill>
        <p:spPr>
          <a:xfrm>
            <a:off x="2057400" y="11430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26E-E09E-44D6-9A2A-8A0C17E78F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Jpeg007"/>
          <p:cNvPicPr/>
          <p:nvPr/>
        </p:nvPicPr>
        <p:blipFill>
          <a:blip r:embed="rId1"/>
          <a:stretch/>
        </p:blipFill>
        <p:spPr>
          <a:xfrm>
            <a:off x="2819520" y="4572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1745-B764-48DA-97B7-7469966C98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Jpeg003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F29-0CC6-41D5-B79B-1481483EA8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peg005"/>
          <p:cNvPicPr/>
          <p:nvPr/>
        </p:nvPicPr>
        <p:blipFill>
          <a:blip r:embed="rId1"/>
          <a:stretch/>
        </p:blipFill>
        <p:spPr>
          <a:xfrm>
            <a:off x="2819520" y="4572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4864-EE54-4698-A1AC-7E4D24B191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Jpeg006"/>
          <p:cNvPicPr/>
          <p:nvPr/>
        </p:nvPicPr>
        <p:blipFill>
          <a:blip r:embed="rId1"/>
          <a:stretch/>
        </p:blipFill>
        <p:spPr>
          <a:xfrm>
            <a:off x="2743200" y="838080"/>
            <a:ext cx="36576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3FCE-4F20-4175-A686-E27DA0476F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peg002"/>
          <p:cNvPicPr/>
          <p:nvPr/>
        </p:nvPicPr>
        <p:blipFill>
          <a:blip r:embed="rId1"/>
          <a:stretch/>
        </p:blipFill>
        <p:spPr>
          <a:xfrm>
            <a:off x="2819520" y="6094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2C6-86F3-4765-832A-A90081D09E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peg015"/>
          <p:cNvPicPr/>
          <p:nvPr/>
        </p:nvPicPr>
        <p:blipFill>
          <a:blip r:embed="rId1"/>
          <a:stretch/>
        </p:blipFill>
        <p:spPr>
          <a:xfrm>
            <a:off x="2819520" y="8380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5C9-83D9-4ED1-876E-ED7A2DCD0E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arthritis with pauciarticular onset 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447920"/>
          <a:ext cx="8839440" cy="5214960"/>
        </p:xfrm>
        <a:graphic>
          <a:graphicData uri="http://schemas.openxmlformats.org/drawingml/2006/table">
            <a:tbl>
              <a:tblPr/>
              <a:tblGrid>
                <a:gridCol w="3048120"/>
                <a:gridCol w="2514600"/>
                <a:gridCol w="32767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SUBGROUP ONE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SUBGROUP TWO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%</a:t>
                      </a: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child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child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predom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ee, ankle, elb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li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ir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te iritis, bowel diseas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 of Reiter’s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umatoid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5, 6,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10%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iridocyclitis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dyloarthropath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DA4D-7757-4AA1-8F8A-4ECC0BC70D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Jpeg001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2F1-2AFA-4ED4-9ABD-0A9A7DD172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of Juvenile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66680"/>
          <a:ext cx="8534160" cy="5726160"/>
        </p:xfrm>
        <a:graphic>
          <a:graphicData uri="http://schemas.openxmlformats.org/drawingml/2006/table">
            <a:tbl>
              <a:tblPr/>
              <a:tblGrid>
                <a:gridCol w="4225680"/>
                <a:gridCol w="43084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assessment of each individual 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for arthrit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for extra-articular manifestati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line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steroidal anti-inflammatory drugs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SAI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icillamine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avoided, gener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r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totoxic and experimental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 and occupation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thopedic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 for systemic symptom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cyl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roids occasionally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gs for iridocycliti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ical steroids and dilating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ic steroids needed occasion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493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tion of whole child and    child’s 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97A-9B85-44DF-9EAE-5878A15E5D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uvenile Idiopathic Arthrit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bbreviation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C.A.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R.A.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und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arthritis in one or more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nths or longer (Eur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weeks or longer (U.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 other defined causes of arthritis in childhood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7DE-3277-4486-A43D-9D0D8897D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Picture 003"/>
          <p:cNvPicPr/>
          <p:nvPr/>
        </p:nvPicPr>
        <p:blipFill>
          <a:blip r:embed="rId1"/>
          <a:stretch/>
        </p:blipFill>
        <p:spPr>
          <a:xfrm>
            <a:off x="2286000" y="685800"/>
            <a:ext cx="441972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4B65-5E96-460C-B154-579D791F6A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GRAPHIC AND RACIAL DISTRIBUTION OF J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s common throughout the wor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idence rate for black versus white females in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A92C-5D86-414A-AC25-FAC4C1638C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 AT ONSET IN J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 before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more common in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n the first decade: 3.5 – 15% of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nal involvement in J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n the first decade is a more sever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78CE-C4D7-4977-AED7-333C1B23D6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 AT ONSET IN J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 rot="16419600">
            <a:off x="-647640" y="16380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05120" y="1828800"/>
          <a:ext cx="586080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5860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9B7B-EEC3-4736-B497-47167C8EFF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ication  criteria of S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 (butterfly)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id-lupus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 or nas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cocutan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lc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rosive arth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hrit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uria &gt; 0.5 g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ephalopath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uritis or pericard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immunose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odies to n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odies to Sm nuclear 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LE-cell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 false-positive test for syph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antinuclear antibod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of 11 criteria provide a sensitivity of 96% and a specificity of 9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8D8-7C93-4647-9D6F-548D9F3A88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OLOGICAL TES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447920"/>
          <a:ext cx="8229600" cy="54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2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7720" indent="-7477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 by indirect  immunofluoresc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 to 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to soluble ribonucleo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immunodiffus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nR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S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Ro (SSA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La (SSB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e of S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2B24-5F04-4EF8-B9F5-5706D7FF8C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NICAL PRESEN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COCUTANEOUS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 erythematous rash: Butterfly distribution. 25% of cases of onset and 50% of cases by 3 years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upt onset and usually have systemic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Lupus Erythematous: Lesions similar to seborrheic dermatitis, photosensitive and disappear spontaneously in 4-6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id lupus: Discret, round, erythematous scaly patches with minimal systemic invo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078-E857-4DC1-91FF-E6A07FC028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OCUTANEOUS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nd nasal ulcerations: Nasal &amp; palat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cerations in 50% cases + perf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pecia: Generalized thinning with fron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.Britle and kinky changes occur frequ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v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nanud’s phenomenon: It may precede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by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68C4-CE95-4B18-827B-860E80357B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icture 002"/>
          <p:cNvPicPr/>
          <p:nvPr/>
        </p:nvPicPr>
        <p:blipFill>
          <a:blip r:embed="rId1"/>
          <a:stretch/>
        </p:blipFill>
        <p:spPr>
          <a:xfrm>
            <a:off x="1523880" y="1219320"/>
            <a:ext cx="6629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D20-ABC2-4AE1-987B-6715BA5723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Picture 006"/>
          <p:cNvPicPr/>
          <p:nvPr/>
        </p:nvPicPr>
        <p:blipFill>
          <a:blip r:embed="rId1"/>
          <a:stretch/>
        </p:blipFill>
        <p:spPr>
          <a:xfrm>
            <a:off x="236232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F41-2115-4FFF-A7FB-D6069BF4DF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Idiopathic Arthriti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Ex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523880"/>
          <a:ext cx="8686800" cy="44625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HUEMATIC 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infectious reactive arthro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oriatic arthr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ylosing spondy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lerode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ter’s synd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 connective tissue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culitis syndr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active hepat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ic lupus erythemato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mmatory bowel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umatic f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coi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3"/>
          <p:cNvSpPr/>
          <p:nvPr/>
        </p:nvSpPr>
        <p:spPr>
          <a:xfrm>
            <a:off x="533520" y="60199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6C6-47DF-4FC5-AB6C-FACE1C7DE4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 001"/>
          <p:cNvPicPr/>
          <p:nvPr/>
        </p:nvPicPr>
        <p:blipFill>
          <a:blip r:embed="rId1"/>
          <a:stretch/>
        </p:blipFill>
        <p:spPr>
          <a:xfrm>
            <a:off x="1295280" y="1295280"/>
            <a:ext cx="723924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194-8F25-49CD-9B23-092E984B0C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005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8670-FC1D-4CED-81EB-477F98C4FD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DIOVASCULAR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arditis (Libman-Sa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on abnorm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VASCULAR MANI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naud’s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DF5-4495-4B4E-BE22-FE23FDB10C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Picture 008"/>
          <p:cNvPicPr/>
          <p:nvPr/>
        </p:nvPicPr>
        <p:blipFill>
          <a:blip r:embed="rId1"/>
          <a:stretch/>
        </p:blipFill>
        <p:spPr>
          <a:xfrm>
            <a:off x="1600200" y="114300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9AE-2B83-41CF-89CF-25E51EBFBE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SCULITIS IN 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Vessel 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pus Crisis (wide spread vasculitis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erosit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naud’s phenomen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rent thrombophleb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o retic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7FB-FB03-4277-AB10-566483579D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009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DCC-2E82-4B15-B564-FC0189DEE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Picture 004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FF62-22A0-40C1-936B-DA534BD3B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Picture 007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C6A-EA1D-40F6-842A-9141DA0FBA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HEMATOLOG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ITIES IN CHILDREN WITH SLE AT 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 (hematocrit &lt; 30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te hemolytic a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kope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,000 WBC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4,500 WBC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50,000 pts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00,000 pts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04920" y="16765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76520"/>
          <a:ext cx="4038480" cy="4403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76920" y="1600200"/>
          <a:ext cx="3733560" cy="449568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E77-2371-465C-ADD3-F9BB2E6C97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.I. MANIFE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% of cases have abdominal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esophageal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tis and pertonitis: 8-11%, peritoneal flu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igh DNA, low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pancreatitis: de novo or steroids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entric artery thromb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bsor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vasculitis: Edema, ulceration, gangrene 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B464-31A5-4F16-A3DB-804A855946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Idiopathic Arthrit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NON-RHEUMATIC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ing p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plasm'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hypermobility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ologic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s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genic arthralg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mye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ogenic arth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d capital femoral epiph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good-Schlatter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ndromalacia patell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FEFA-8B89-4929-9522-90741481C3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PSYCHIATRIC MANIFEST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ocal Cerebral Dysfunction (35-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brai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Disorders (10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ures (15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Deficits (10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Neuropathies (10-2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: e.g. headach , aseptic meningitis, mysthenia  grav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D605-DA94-413C-AB5E-575B8E0EC2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Picture 011"/>
          <p:cNvPicPr/>
          <p:nvPr/>
        </p:nvPicPr>
        <p:blipFill>
          <a:blip r:embed="rId1"/>
          <a:stretch/>
        </p:blipFill>
        <p:spPr>
          <a:xfrm>
            <a:off x="1371600" y="12952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E4C-96D0-4049-8B52-20216106C8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gnosis in SL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57200" y="20937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14400" y="4379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531800" y="1841400"/>
          <a:ext cx="607248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841400"/>
                    <a:ext cx="60724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6"/>
          <p:cNvSpPr/>
          <p:nvPr/>
        </p:nvSpPr>
        <p:spPr>
          <a:xfrm>
            <a:off x="4648320" y="2590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renal in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 rot="453000">
            <a:off x="4800240" y="3962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enal in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676520" y="1981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660680" y="281952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80880" y="18651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04920" y="186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al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445C-EC21-4A10-AAD0-B4A50FD56B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MATOMYOSITIS AND POLYMYOS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2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 progressive proximal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biopsy showing inflammato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muscle enzymes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K,AST,Aldol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yography abnorm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polyphasic potenti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dermatolog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C93-3DF2-417C-A78B-151C8AA1AD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Picture 013"/>
          <p:cNvPicPr/>
          <p:nvPr/>
        </p:nvPicPr>
        <p:blipFill>
          <a:blip r:embed="rId1"/>
          <a:stretch/>
        </p:blipFill>
        <p:spPr>
          <a:xfrm>
            <a:off x="2362320" y="60948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D55-1050-4EAC-809A-BB2E55FB53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Picture 010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50B-11C3-418F-8842-895E656FFC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Picture 012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07C0-7CBA-4C53-AAF8-83DBDA1F09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Picture 018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DDA-3474-47CE-9FC1-79DCD5CB96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Picture 014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C5E4-EDA3-4950-A290-9E5181D635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NOCH-SCHONLEIN PURP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CBED-C994-4031-A86B-524DB368B2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tholog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s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it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sitis of pleura and pericar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8CB-E0EF-4502-843B-90643DD083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Picture 017"/>
          <p:cNvPicPr/>
          <p:nvPr/>
        </p:nvPicPr>
        <p:blipFill>
          <a:blip r:embed="rId1"/>
          <a:stretch/>
        </p:blipFill>
        <p:spPr>
          <a:xfrm>
            <a:off x="2286000" y="609480"/>
            <a:ext cx="4572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0A3-8613-47FB-AB67-205A871A89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WASAKI’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ctival cong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nth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mucosa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qu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ical lymphadenopa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8B2E-4CE9-41D2-BEDD-E00AC05792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tic Cri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definitive diagnosis the patients must hav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ollow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king fever for at least 5 da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6. One or more of the following 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rative edema of hands and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Bilateral conjunctival inj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ema of palms and 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One orpharyngeal 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quamation of fingers and 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 oropharyngeal Eryt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bout 2 weeks after on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wberry tong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grooves in 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ness, dryness, and fissures of l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or 3 months after on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 Polymorphous erythematous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 cervical lymphadenopa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E78-1121-4C7E-923B-129C438CF9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Picture 019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821-8B67-4686-9A86-ADDE5002C7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Picture 016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9264-21AD-4B8B-A87D-4EF1364E4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1013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NDYLOARTHROPATH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572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rheumatoid factor(sero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of sacroiliac and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dominantly lower li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es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l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ncidence of HLA-B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spectrum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- articula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dominantly muco-cutane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9A8-E1F1-4583-BA7D-7C4315489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NDYLOARTHROPAT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ori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ipple’s dis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cerative co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hn’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ter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ehçets Syndr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ve arthr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658D-3066-4980-89A4-3281F0DEDB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Picture 015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E37-A8F5-47BF-A826-4C0D4619C8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바탕"/>
              </a:rPr>
              <a:t>Thank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바탕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9EA8-1989-4703-8194-F753CD00E1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APICTT194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AFC6-A04E-4555-B84F-FB688DACB6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Jpeg009"/>
          <p:cNvPicPr/>
          <p:nvPr/>
        </p:nvPicPr>
        <p:blipFill>
          <a:blip r:embed="rId1"/>
          <a:stretch/>
        </p:blipFill>
        <p:spPr>
          <a:xfrm>
            <a:off x="1143000" y="9144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59C-8870-4C42-BE2D-4DDF1BC7D9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venile Arthritis with Systemic onset (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295280"/>
          <a:ext cx="8915400" cy="5265720"/>
        </p:xfrm>
        <a:graphic>
          <a:graphicData uri="http://schemas.openxmlformats.org/drawingml/2006/table">
            <a:tbl>
              <a:tblPr/>
              <a:tblGrid>
                <a:gridCol w="4419720"/>
                <a:gridCol w="4495680"/>
              </a:tblGrid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 or you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rat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or boys &gt; 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– arthritis that may be transi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 – chronic arthritis that is usually polyartic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termittent fever; rash; myalgia; serositis; organomegaly; leukocytosis; an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y te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in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6BD4-768C-4127-A9EE-A0EA484A24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peg011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4:36:53Z</dcterms:created>
  <dc:creator>LOIDE</dc:creator>
  <dc:description/>
  <dc:language>en-US</dc:language>
  <cp:lastModifiedBy>Dr.Abdullah</cp:lastModifiedBy>
  <dcterms:modified xsi:type="dcterms:W3CDTF">2012-03-20T09:03:34Z</dcterms:modified>
  <cp:revision>39</cp:revision>
  <dc:subject/>
  <dc:title>Slide 1</dc:title>
</cp:coreProperties>
</file>