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2A5-4F42-4D44-8FB7-21BC0F74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C35-24C2-4636-B520-2B9B7DC2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099-5F2F-446F-AA8B-379E63B2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C93-8DBD-4C5D-9239-EAE2ED08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EDBB-2E44-41FF-94AD-4369FB5D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160B-3C2E-4B86-AD26-C9793282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F3CE-10FE-4CDE-9359-1E33BB3A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B0FC-3A95-4074-B184-ED91F86D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C7CB-5396-4FEF-AF20-DBDE3432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4FF7-23A1-40CC-8BA8-06381DFE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49A4-8475-4B69-86D0-F9EEEE63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415-0087-46AB-95FF-75732D92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E0D1-5177-4305-AC1B-772B04BB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851C-6675-4F20-9754-61031235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76BB-776B-4FB9-BD11-389A48F3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E575-5444-401B-A857-F0D4CBFB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55E6-6429-4495-94CA-9F62D2DF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2E0D0-111D-473D-9FF7-37C574D7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747ED-E6FD-4C7B-AA55-821D1606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CC1BC-4563-4E54-B2BA-674238BA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B583A-2E62-4F75-853C-24D783A1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7426E-312C-4973-88AE-CCC88E82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008C-6074-418F-A34D-6DEF6E22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9E4E0-E61A-47B8-B826-0C2AD2E9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9525F-B4D9-464A-AA76-B807CC3A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04C86-D78C-4A9D-8489-A283BF81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E66B1-F97B-42A9-9060-5ADF9D3E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08CA1-FF88-4371-9F0D-525F6647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05812-747F-459F-9DB8-1B4C0A88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FCFCA-9899-4F9B-8EA4-F8B7D56A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BB42F-060D-473A-A181-059F1221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EF6AD-FBC9-4D38-ABAD-174C805D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1AA00-2F99-4C7E-A1B2-2A452CF1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5E04-00F5-4D49-9C37-EB75F853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B5DCC-7FF7-4389-9E06-C6F1F70A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5980C-6B9F-494F-B344-51B847C0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78E5C-32F7-4D71-B5F9-DFBBF3CA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D8080-CBA9-49F0-B817-AD81D502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CC62C-B9B5-400B-AA9E-5DF3AFE3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22758-37FA-43E3-88BB-4EBA5C5A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50F41-1AD7-49AF-88A4-C5C04E30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24014-6DCC-411E-AE55-627CCD2F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B853D-459D-47BB-A589-39289537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4EC-A02F-4184-A115-C5766255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DE1-620B-4F51-AF1B-4E013813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161-B6E0-4C78-A4F1-13AAA679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F65-B888-4733-BB4B-4B1DE45D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E8E-5177-4BEA-98F8-281F36B9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ADEB-6912-4B5E-91AE-5955BB3B7C1A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0A3D-2ADE-4113-9C3F-A33DC3F0A5DE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8755-F220-4C5D-8E4C-3465D437C189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56D5-62AA-47C0-AF1F-7CC38726175E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0025-728A-4D22-90CB-56BBBFCC1463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BEAA-CA4F-4055-885F-DD21F0986C84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A4E1-2616-42AC-9154-02496581891A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86AB-637D-4E60-8794-8AF4FA963A5E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760" y="150012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Childhood Nutritional Disorders</a:t>
            </a:r>
            <a:br>
              <a:rPr sz="4400"/>
            </a:b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Dr. Abdullah Al Sanie</a:t>
            </a:r>
            <a:br>
              <a:rPr sz="4400"/>
            </a:b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Consultant Pediatric Gastroenterologist</a:t>
            </a:r>
            <a:br>
              <a:rPr sz="3200"/>
            </a:b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Department of Pediatrics</a:t>
            </a:r>
            <a:br>
              <a:rPr sz="3200"/>
            </a:b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King Khalid University Hospital</a:t>
            </a: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400"/>
            </a:br>
            <a:br>
              <a:rPr sz="54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0" y="571680"/>
          <a:ext cx="9144000" cy="62863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8632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fection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 Decrease Immunit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CM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Secretory 1g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 Sites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Lungs, UTI, septicaem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 Types – Gram negative organis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rain changes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Tremor, depression, apat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41" name="AutoShape 1"/>
          <p:cNvSpPr/>
          <p:nvPr/>
        </p:nvSpPr>
        <p:spPr>
          <a:xfrm>
            <a:off x="3929040" y="6286680"/>
            <a:ext cx="1074600" cy="5713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مستطيل 5" descr=""/>
          <p:cNvPicPr/>
          <p:nvPr/>
        </p:nvPicPr>
        <p:blipFill>
          <a:blip r:embed="rId2"/>
          <a:stretch/>
        </p:blipFill>
        <p:spPr>
          <a:xfrm>
            <a:off x="-30240" y="554040"/>
            <a:ext cx="9204480" cy="1884240"/>
          </a:xfrm>
          <a:prstGeom prst="rect">
            <a:avLst/>
          </a:prstGeom>
          <a:ln w="0">
            <a:noFill/>
          </a:ln>
        </p:spPr>
      </p:pic>
      <p:pic>
        <p:nvPicPr>
          <p:cNvPr id="243" name="مستطيل 6" descr=""/>
          <p:cNvPicPr/>
          <p:nvPr/>
        </p:nvPicPr>
        <p:blipFill>
          <a:blip r:embed="rId3"/>
          <a:stretch/>
        </p:blipFill>
        <p:spPr>
          <a:xfrm>
            <a:off x="3913200" y="463680"/>
            <a:ext cx="2090880" cy="85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0" y="571680"/>
          <a:ext cx="9144000" cy="62863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863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docrine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Increase GH, TSH and Cortiso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Decrease insulin, T3 and T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aematology 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RBC      low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WBC       norm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Platelets       low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Coagulation       abnormal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45" name="Line 3"/>
          <p:cNvSpPr/>
          <p:nvPr/>
        </p:nvSpPr>
        <p:spPr>
          <a:xfrm>
            <a:off x="3429000" y="4572000"/>
            <a:ext cx="343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"/>
          <p:cNvSpPr/>
          <p:nvPr/>
        </p:nvSpPr>
        <p:spPr>
          <a:xfrm>
            <a:off x="2928960" y="3857760"/>
            <a:ext cx="324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"/>
          <p:cNvSpPr/>
          <p:nvPr/>
        </p:nvSpPr>
        <p:spPr>
          <a:xfrm>
            <a:off x="3071880" y="4214880"/>
            <a:ext cx="323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3929040" y="5000760"/>
            <a:ext cx="343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4143240" y="6286680"/>
            <a:ext cx="1074960" cy="571320"/>
          </a:xfrm>
          <a:prstGeom prst="sun">
            <a:avLst>
              <a:gd name="adj" fmla="val 25000"/>
            </a:avLst>
          </a:prstGeom>
          <a:solidFill>
            <a:srgbClr val="b5edf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مستطيل 9"/>
          <p:cNvGrpSpPr/>
          <p:nvPr/>
        </p:nvGrpSpPr>
        <p:grpSpPr>
          <a:xfrm>
            <a:off x="-19080" y="341280"/>
            <a:ext cx="9182160" cy="1463760"/>
            <a:chOff x="-19080" y="341280"/>
            <a:chExt cx="9182160" cy="1463760"/>
          </a:xfrm>
        </p:grpSpPr>
        <p:pic>
          <p:nvPicPr>
            <p:cNvPr id="251" name="مستطيل 9" descr=""/>
            <p:cNvPicPr/>
            <p:nvPr/>
          </p:nvPicPr>
          <p:blipFill>
            <a:blip r:embed="rId2"/>
            <a:stretch/>
          </p:blipFill>
          <p:spPr>
            <a:xfrm>
              <a:off x="-19080" y="341280"/>
              <a:ext cx="918216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0" y="357120"/>
              <a:ext cx="914400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مستطيل 10" descr=""/>
          <p:cNvPicPr/>
          <p:nvPr/>
        </p:nvPicPr>
        <p:blipFill>
          <a:blip r:embed="rId3"/>
          <a:stretch/>
        </p:blipFill>
        <p:spPr>
          <a:xfrm>
            <a:off x="2639880" y="476280"/>
            <a:ext cx="3541680" cy="627120"/>
          </a:xfrm>
          <a:prstGeom prst="rect">
            <a:avLst/>
          </a:prstGeom>
          <a:ln w="0">
            <a:noFill/>
          </a:ln>
        </p:spPr>
      </p:pic>
      <p:pic>
        <p:nvPicPr>
          <p:cNvPr id="254" name="مستطيل 11" descr=""/>
          <p:cNvPicPr/>
          <p:nvPr/>
        </p:nvPicPr>
        <p:blipFill>
          <a:blip r:embed="rId4"/>
          <a:stretch/>
        </p:blipFill>
        <p:spPr>
          <a:xfrm>
            <a:off x="3651120" y="927000"/>
            <a:ext cx="1579680" cy="603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0" y="571680"/>
          <a:ext cx="9144000" cy="62863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947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Kwashiorkor 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10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Occurs   9/12 – 2 yea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23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10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ppearance  - sugar bab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23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10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Growth failu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23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10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Oedem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23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10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Skin  Cheilosis, stomatit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23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10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Hair changes flag sig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23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10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Psychomotor changes  - irritable, apathetic tremor, depression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                                                                                      </a:t>
                      </a: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ont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56" name="AutoShape 1"/>
          <p:cNvSpPr/>
          <p:nvPr/>
        </p:nvSpPr>
        <p:spPr>
          <a:xfrm>
            <a:off x="421488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dbf5f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مستطيل 5"/>
          <p:cNvSpPr/>
          <p:nvPr/>
        </p:nvSpPr>
        <p:spPr>
          <a:xfrm>
            <a:off x="0" y="571680"/>
            <a:ext cx="9144000" cy="71424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مستطيل 6" descr=""/>
          <p:cNvPicPr/>
          <p:nvPr/>
        </p:nvPicPr>
        <p:blipFill>
          <a:blip r:embed="rId2"/>
          <a:stretch/>
        </p:blipFill>
        <p:spPr>
          <a:xfrm>
            <a:off x="3633840" y="560520"/>
            <a:ext cx="1663560" cy="6714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0" y="714240"/>
          <a:ext cx="9144000" cy="61437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14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Kwashiorkor : (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Cont…</a:t>
                      </a:r>
                      <a:r>
                        <a:rPr b="1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137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VS – circulatory insufficienc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57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Renal – decrease GF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57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naem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57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Oedem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57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Moonfa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57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Hypoalbuminaem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157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Fatty liv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60" name="AutoShape 1"/>
          <p:cNvSpPr/>
          <p:nvPr/>
        </p:nvSpPr>
        <p:spPr>
          <a:xfrm>
            <a:off x="3929040" y="6334200"/>
            <a:ext cx="1074600" cy="52380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مستطيل 7"/>
          <p:cNvGrpSpPr/>
          <p:nvPr/>
        </p:nvGrpSpPr>
        <p:grpSpPr>
          <a:xfrm>
            <a:off x="-249120" y="463680"/>
            <a:ext cx="9642240" cy="1212840"/>
            <a:chOff x="-249120" y="463680"/>
            <a:chExt cx="9642240" cy="1212840"/>
          </a:xfrm>
        </p:grpSpPr>
        <p:pic>
          <p:nvPicPr>
            <p:cNvPr id="262" name="مستطيل 7" descr=""/>
            <p:cNvPicPr/>
            <p:nvPr/>
          </p:nvPicPr>
          <p:blipFill>
            <a:blip r:embed="rId2"/>
            <a:stretch/>
          </p:blipFill>
          <p:spPr>
            <a:xfrm>
              <a:off x="-249120" y="463680"/>
              <a:ext cx="964224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714240"/>
              <a:ext cx="914400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مستطيل 6" descr=""/>
          <p:cNvPicPr/>
          <p:nvPr/>
        </p:nvPicPr>
        <p:blipFill>
          <a:blip r:embed="rId3"/>
          <a:stretch/>
        </p:blipFill>
        <p:spPr>
          <a:xfrm>
            <a:off x="3481560" y="682560"/>
            <a:ext cx="1736640" cy="695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0" y="714240"/>
          <a:ext cx="9144000" cy="61437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14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ccur at any ag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moner than kwashiorkor in S. 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t. is less than 60% of expected wt. for ag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 oedem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 dermatosis &amp; hair chang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66" name="AutoShape 1"/>
          <p:cNvSpPr/>
          <p:nvPr/>
        </p:nvSpPr>
        <p:spPr>
          <a:xfrm>
            <a:off x="421488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b3eaf2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مستطيل 5"/>
          <p:cNvGrpSpPr/>
          <p:nvPr/>
        </p:nvGrpSpPr>
        <p:grpSpPr>
          <a:xfrm>
            <a:off x="-19080" y="695160"/>
            <a:ext cx="9182160" cy="822600"/>
            <a:chOff x="-19080" y="695160"/>
            <a:chExt cx="9182160" cy="822600"/>
          </a:xfrm>
        </p:grpSpPr>
        <p:pic>
          <p:nvPicPr>
            <p:cNvPr id="268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9080" y="695160"/>
              <a:ext cx="918216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0" y="714240"/>
              <a:ext cx="9144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Marasmu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0" y="642960"/>
          <a:ext cx="9144000" cy="124300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150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Signs and symptoms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62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0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linical presentation of PEM varies with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Degree &amp; duration of protein and energy deple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Age of individ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1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Associated vitamins, mineral and hale element  deficiencies.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           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on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62150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71" name="AutoShape 1"/>
          <p:cNvSpPr/>
          <p:nvPr/>
        </p:nvSpPr>
        <p:spPr>
          <a:xfrm>
            <a:off x="4071960" y="6143760"/>
            <a:ext cx="1074600" cy="571320"/>
          </a:xfrm>
          <a:prstGeom prst="sun">
            <a:avLst>
              <a:gd name="adj" fmla="val 25000"/>
            </a:avLst>
          </a:prstGeom>
          <a:solidFill>
            <a:srgbClr val="b5edf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مستطيل 5"/>
          <p:cNvGrpSpPr/>
          <p:nvPr/>
        </p:nvGrpSpPr>
        <p:grpSpPr>
          <a:xfrm>
            <a:off x="-249120" y="390600"/>
            <a:ext cx="9642240" cy="1146240"/>
            <a:chOff x="-249120" y="390600"/>
            <a:chExt cx="9642240" cy="1146240"/>
          </a:xfrm>
        </p:grpSpPr>
        <p:pic>
          <p:nvPicPr>
            <p:cNvPr id="273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249120" y="390600"/>
              <a:ext cx="964224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0" y="64296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P. E. M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0" y="642960"/>
          <a:ext cx="9144000" cy="63342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33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1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main features are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Growth fail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Slowing or cessation in linear growt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Slowing, cessation or loss of weigh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Decrease in mid-arm circumfere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Delayed bone matura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Diminished skin fold thicknes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on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76" name="AutoShape 1"/>
          <p:cNvSpPr/>
          <p:nvPr/>
        </p:nvSpPr>
        <p:spPr>
          <a:xfrm>
            <a:off x="407196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مستطيل 5"/>
          <p:cNvGrpSpPr/>
          <p:nvPr/>
        </p:nvGrpSpPr>
        <p:grpSpPr>
          <a:xfrm>
            <a:off x="-249120" y="390600"/>
            <a:ext cx="9642240" cy="1146240"/>
            <a:chOff x="-249120" y="390600"/>
            <a:chExt cx="9642240" cy="1146240"/>
          </a:xfrm>
        </p:grpSpPr>
        <p:pic>
          <p:nvPicPr>
            <p:cNvPr id="278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249120" y="390600"/>
              <a:ext cx="964224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0" y="64296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P. E. M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0" y="714240"/>
          <a:ext cx="9144000" cy="61437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14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1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main features are : Cont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2. Infection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High rate of infection particularly gastroenteritis,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measles &amp; pneumon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In tropical areas :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Increase rates of malaria, hookworm a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schistosomias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Con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81" name="AutoShape 1"/>
          <p:cNvSpPr/>
          <p:nvPr/>
        </p:nvSpPr>
        <p:spPr>
          <a:xfrm>
            <a:off x="421488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مستطيل 5"/>
          <p:cNvGrpSpPr/>
          <p:nvPr/>
        </p:nvGrpSpPr>
        <p:grpSpPr>
          <a:xfrm>
            <a:off x="-249120" y="463680"/>
            <a:ext cx="9642240" cy="1145880"/>
            <a:chOff x="-249120" y="463680"/>
            <a:chExt cx="9642240" cy="1145880"/>
          </a:xfrm>
        </p:grpSpPr>
        <p:pic>
          <p:nvPicPr>
            <p:cNvPr id="283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249120" y="463680"/>
              <a:ext cx="964224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0" y="71424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P. E. M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642960"/>
          <a:ext cx="9144000" cy="6215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1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main features are : Cont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3. Anaem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Lack of iron, folic acid &amp; other vitami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Every morphological types in peripheral blood sme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Bone marrow           Hypoplas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Iron deficiency &amp; megaloblastosis in bone marrow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               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on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86" name="Line 1"/>
          <p:cNvSpPr/>
          <p:nvPr/>
        </p:nvSpPr>
        <p:spPr>
          <a:xfrm>
            <a:off x="2771640" y="4724280"/>
            <a:ext cx="601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4143240" y="6286680"/>
            <a:ext cx="107496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مستطيل 6"/>
          <p:cNvGrpSpPr/>
          <p:nvPr/>
        </p:nvGrpSpPr>
        <p:grpSpPr>
          <a:xfrm>
            <a:off x="-249120" y="390600"/>
            <a:ext cx="9642240" cy="1146240"/>
            <a:chOff x="-249120" y="390600"/>
            <a:chExt cx="9642240" cy="1146240"/>
          </a:xfrm>
        </p:grpSpPr>
        <p:pic>
          <p:nvPicPr>
            <p:cNvPr id="289" name="مستطيل 6" descr=""/>
            <p:cNvPicPr/>
            <p:nvPr/>
          </p:nvPicPr>
          <p:blipFill>
            <a:blip r:embed="rId2"/>
            <a:stretch/>
          </p:blipFill>
          <p:spPr>
            <a:xfrm>
              <a:off x="-249120" y="390600"/>
              <a:ext cx="964224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0" y="64296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P. E. M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0" y="642960"/>
          <a:ext cx="9144000" cy="6215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1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main features are : Cont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39966"/>
                        </a:buClr>
                        <a:buSzPct val="9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5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5. </a:t>
                      </a: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Skin and hair changes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6002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Mucous membrane cheilosis, stomatit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6002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6002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Skin dermatosis, increase pigmentation, desquama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6002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6002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Hair, interrupted hair growth flag sig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                                        </a:t>
                      </a: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on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92" name="AutoShape 1"/>
          <p:cNvSpPr/>
          <p:nvPr/>
        </p:nvSpPr>
        <p:spPr>
          <a:xfrm>
            <a:off x="4143240" y="6286680"/>
            <a:ext cx="96048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مستطيل 5"/>
          <p:cNvGrpSpPr/>
          <p:nvPr/>
        </p:nvGrpSpPr>
        <p:grpSpPr>
          <a:xfrm>
            <a:off x="-249120" y="390600"/>
            <a:ext cx="9642240" cy="1146240"/>
            <a:chOff x="-249120" y="390600"/>
            <a:chExt cx="9642240" cy="1146240"/>
          </a:xfrm>
        </p:grpSpPr>
        <p:pic>
          <p:nvPicPr>
            <p:cNvPr id="294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249120" y="390600"/>
              <a:ext cx="964224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0" y="64296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P. E. M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714240" y="785880"/>
          <a:ext cx="7858440" cy="5286240"/>
        </p:xfrm>
        <a:graphic>
          <a:graphicData uri="http://schemas.openxmlformats.org/drawingml/2006/table">
            <a:tbl>
              <a:tblPr/>
              <a:tblGrid>
                <a:gridCol w="7858440"/>
              </a:tblGrid>
              <a:tr h="528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" Nutritional Disorders"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Under nutrition PE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  Vitamin deficienc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 Over nutrition (obesity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197" name="AutoShape 1"/>
          <p:cNvSpPr/>
          <p:nvPr/>
        </p:nvSpPr>
        <p:spPr>
          <a:xfrm>
            <a:off x="4214880" y="6072120"/>
            <a:ext cx="1074600" cy="571680"/>
          </a:xfrm>
          <a:prstGeom prst="su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99"/>
                </a:solidFill>
                <a:latin typeface="Arial"/>
                <a:ea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0" y="785880"/>
          <a:ext cx="9144000" cy="60721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07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main features are : Cont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6.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Oedema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an be :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Mild         involving lower limb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gross        affecting every part of the bod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Rarely results into effusions into serous cav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i.e., peritoneum, pleura, pericardiu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Oedema fluid may represent 5-20% of body wt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97" name="Line 2"/>
          <p:cNvSpPr/>
          <p:nvPr/>
        </p:nvSpPr>
        <p:spPr>
          <a:xfrm>
            <a:off x="2428920" y="4286160"/>
            <a:ext cx="342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"/>
          <p:cNvSpPr/>
          <p:nvPr/>
        </p:nvSpPr>
        <p:spPr>
          <a:xfrm>
            <a:off x="2357280" y="3929040"/>
            <a:ext cx="343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>
            <a:off x="400068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مستطيل 7"/>
          <p:cNvGrpSpPr/>
          <p:nvPr/>
        </p:nvGrpSpPr>
        <p:grpSpPr>
          <a:xfrm>
            <a:off x="-249120" y="536400"/>
            <a:ext cx="9642240" cy="1140120"/>
            <a:chOff x="-249120" y="536400"/>
            <a:chExt cx="9642240" cy="1140120"/>
          </a:xfrm>
        </p:grpSpPr>
        <p:pic>
          <p:nvPicPr>
            <p:cNvPr id="301" name="مستطيل 7" descr=""/>
            <p:cNvPicPr/>
            <p:nvPr/>
          </p:nvPicPr>
          <p:blipFill>
            <a:blip r:embed="rId2"/>
            <a:stretch/>
          </p:blipFill>
          <p:spPr>
            <a:xfrm>
              <a:off x="-249120" y="536400"/>
              <a:ext cx="9642240" cy="11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0" y="78588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P. E. M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0" y="785880"/>
          <a:ext cx="9144000" cy="60721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07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main features are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339966"/>
                        </a:buClr>
                        <a:buSzPct val="85000"/>
                        <a:buFont typeface="Arial"/>
                        <a:buAutoNum type="arabicPeriod" startAt="7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Muscle was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est determined 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6002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Mid arm circumfere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6002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6002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Skin fold thicknes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6002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6002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Child is weak, hypotonic &amp; unable to stand or walk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               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04" name="AutoShape 1"/>
          <p:cNvSpPr/>
          <p:nvPr/>
        </p:nvSpPr>
        <p:spPr>
          <a:xfrm>
            <a:off x="400068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مستطيل 5"/>
          <p:cNvGrpSpPr/>
          <p:nvPr/>
        </p:nvGrpSpPr>
        <p:grpSpPr>
          <a:xfrm>
            <a:off x="-249120" y="536400"/>
            <a:ext cx="9642240" cy="1140120"/>
            <a:chOff x="-249120" y="536400"/>
            <a:chExt cx="9642240" cy="1140120"/>
          </a:xfrm>
        </p:grpSpPr>
        <p:pic>
          <p:nvPicPr>
            <p:cNvPr id="306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249120" y="536400"/>
              <a:ext cx="9642240" cy="11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0" y="78588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P. E. M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0" y="642960"/>
          <a:ext cx="9144000" cy="6215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1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1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istory,  nutritional histor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8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1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amina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0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1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borator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3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1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hropome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Weigh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Heigh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Head circumferen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Mid arm circumferen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Skin fold thickne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</a:t>
                      </a:r>
                      <a:r>
                        <a:rPr b="0" lang="en-US" sz="13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                 </a:t>
                      </a:r>
                      <a:r>
                        <a:rPr b="0" lang="en-US" sz="13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ont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09" name="AutoShape 1"/>
          <p:cNvSpPr/>
          <p:nvPr/>
        </p:nvSpPr>
        <p:spPr>
          <a:xfrm>
            <a:off x="407196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مستطيل 5"/>
          <p:cNvGrpSpPr/>
          <p:nvPr/>
        </p:nvGrpSpPr>
        <p:grpSpPr>
          <a:xfrm>
            <a:off x="-19080" y="622440"/>
            <a:ext cx="9182160" cy="822240"/>
            <a:chOff x="-19080" y="622440"/>
            <a:chExt cx="9182160" cy="822240"/>
          </a:xfrm>
        </p:grpSpPr>
        <p:pic>
          <p:nvPicPr>
            <p:cNvPr id="311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9080" y="622440"/>
              <a:ext cx="91821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0" y="642960"/>
              <a:ext cx="9144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iagnosi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0" y="642960"/>
          <a:ext cx="9144000" cy="6215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1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87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b. Test 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15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BC, Hb and blood sme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Albumi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U &amp; E, Glucose, C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Infection screen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Prothrombin tim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Mantoux tes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14" name="AutoShape 1"/>
          <p:cNvSpPr/>
          <p:nvPr/>
        </p:nvSpPr>
        <p:spPr>
          <a:xfrm>
            <a:off x="400068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b5edf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مستطيل 5"/>
          <p:cNvGrpSpPr/>
          <p:nvPr/>
        </p:nvGrpSpPr>
        <p:grpSpPr>
          <a:xfrm>
            <a:off x="-19080" y="622440"/>
            <a:ext cx="9182160" cy="895320"/>
            <a:chOff x="-19080" y="622440"/>
            <a:chExt cx="9182160" cy="895320"/>
          </a:xfrm>
        </p:grpSpPr>
        <p:pic>
          <p:nvPicPr>
            <p:cNvPr id="316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9080" y="622440"/>
              <a:ext cx="91821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0" y="642960"/>
              <a:ext cx="9144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Diagn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(Cont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0" y="642960"/>
          <a:ext cx="9144000" cy="6215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1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Trea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3399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Mild PEM : O. P. R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 Nutritional advis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Protein    2-3 gm/kg/da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Energy    100-150 kcal/kg/day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95000"/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itamin supplementa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Vit. S, D, B, C and Ir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19" name="AutoShape 1"/>
          <p:cNvSpPr/>
          <p:nvPr/>
        </p:nvSpPr>
        <p:spPr>
          <a:xfrm>
            <a:off x="407196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مستطيل 5"/>
          <p:cNvGrpSpPr/>
          <p:nvPr/>
        </p:nvGrpSpPr>
        <p:grpSpPr>
          <a:xfrm>
            <a:off x="-19080" y="622440"/>
            <a:ext cx="9182160" cy="895320"/>
            <a:chOff x="-19080" y="622440"/>
            <a:chExt cx="9182160" cy="895320"/>
          </a:xfrm>
        </p:grpSpPr>
        <p:pic>
          <p:nvPicPr>
            <p:cNvPr id="321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9080" y="622440"/>
              <a:ext cx="91821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0" y="642960"/>
              <a:ext cx="9144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Treat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0" y="642960"/>
          <a:ext cx="9144000" cy="6215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1504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339966"/>
                        </a:buClr>
                        <a:buSzPct val="11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Severe P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X of compl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Dehydration.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-    Electrolyte imbal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Hypoglycemia.         -   Anaem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Infection.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-   Hypotherm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X of malnutri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 Dietary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Energy &amp; protei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Elemental die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Vitamins, iron and fola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                                       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24" name="AutoShape 1"/>
          <p:cNvSpPr/>
          <p:nvPr/>
        </p:nvSpPr>
        <p:spPr>
          <a:xfrm>
            <a:off x="407196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b5edf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مستطيل 5"/>
          <p:cNvGrpSpPr/>
          <p:nvPr/>
        </p:nvGrpSpPr>
        <p:grpSpPr>
          <a:xfrm>
            <a:off x="-128520" y="512640"/>
            <a:ext cx="9401040" cy="901800"/>
            <a:chOff x="-128520" y="512640"/>
            <a:chExt cx="9401040" cy="901800"/>
          </a:xfrm>
        </p:grpSpPr>
        <p:pic>
          <p:nvPicPr>
            <p:cNvPr id="326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28520" y="512640"/>
              <a:ext cx="940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0" y="64296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Trea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(Cont…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0" y="785880"/>
          <a:ext cx="9144000" cy="60721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07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Definition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 generalized excessive accumul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f fat in subcutaneous and other tissues 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 result of increase in the number or in s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f fat cells adipocyt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29" name="AutoShape 1"/>
          <p:cNvSpPr/>
          <p:nvPr/>
        </p:nvSpPr>
        <p:spPr>
          <a:xfrm>
            <a:off x="407196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مستطيل 5"/>
          <p:cNvGrpSpPr/>
          <p:nvPr/>
        </p:nvGrpSpPr>
        <p:grpSpPr>
          <a:xfrm>
            <a:off x="-19080" y="768240"/>
            <a:ext cx="9182160" cy="609840"/>
            <a:chOff x="-19080" y="768240"/>
            <a:chExt cx="9182160" cy="609840"/>
          </a:xfrm>
        </p:grpSpPr>
        <p:pic>
          <p:nvPicPr>
            <p:cNvPr id="331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9080" y="768240"/>
              <a:ext cx="91821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0" y="785880"/>
              <a:ext cx="9144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Obes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0" y="714240"/>
          <a:ext cx="9144000" cy="61437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14376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400" spc="-1" strike="noStrike" u="sng">
                          <a:solidFill>
                            <a:srgbClr val="339966"/>
                          </a:solidFill>
                          <a:uFillTx/>
                          <a:latin typeface="Arial"/>
                          <a:ea typeface="Times New Roman"/>
                        </a:rPr>
                        <a:t>Causes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cessive food intake increase appetite due to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.       Psychological disturban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1.     Hypothalamic, pituita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11.   Hyperinsulinis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9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ck of activity and exercis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enetic predisposi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me inherited syndrome such as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Prades-willi syndro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Laurance-moon-Biedl syndro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ushing syndro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34" name="AutoShape 1"/>
          <p:cNvSpPr/>
          <p:nvPr/>
        </p:nvSpPr>
        <p:spPr>
          <a:xfrm>
            <a:off x="407196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مستطيل 5"/>
          <p:cNvGrpSpPr/>
          <p:nvPr/>
        </p:nvGrpSpPr>
        <p:grpSpPr>
          <a:xfrm>
            <a:off x="-19080" y="695160"/>
            <a:ext cx="9182160" cy="682920"/>
            <a:chOff x="-19080" y="695160"/>
            <a:chExt cx="9182160" cy="682920"/>
          </a:xfrm>
        </p:grpSpPr>
        <p:pic>
          <p:nvPicPr>
            <p:cNvPr id="336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9080" y="695160"/>
              <a:ext cx="91821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0" y="71424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Obes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0" y="714240"/>
          <a:ext cx="9144000" cy="61437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14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339966"/>
                          </a:solidFill>
                          <a:uFillTx/>
                          <a:latin typeface="Arial"/>
                          <a:ea typeface="Times New Roman"/>
                        </a:rPr>
                        <a:t>Clinical Manifestations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ommonly occurs in the first year of life, at 5-6 yrs. &amp; during adolesce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Heavy &amp; tall child with advanced bone ag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Striae on abdom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Male external genitalia appear disproportionately small but actually are of average siz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             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grpSp>
        <p:nvGrpSpPr>
          <p:cNvPr id="339" name="مستطيل 5"/>
          <p:cNvGrpSpPr/>
          <p:nvPr/>
        </p:nvGrpSpPr>
        <p:grpSpPr>
          <a:xfrm>
            <a:off x="-19080" y="695160"/>
            <a:ext cx="9182160" cy="682920"/>
            <a:chOff x="-19080" y="695160"/>
            <a:chExt cx="9182160" cy="682920"/>
          </a:xfrm>
        </p:grpSpPr>
        <p:pic>
          <p:nvPicPr>
            <p:cNvPr id="340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9080" y="695160"/>
              <a:ext cx="91821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0" y="71424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Obes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AutoShape 1"/>
          <p:cNvSpPr/>
          <p:nvPr/>
        </p:nvSpPr>
        <p:spPr>
          <a:xfrm>
            <a:off x="392904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0" y="404640"/>
          <a:ext cx="9144000" cy="63820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3820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Complication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  Psychological :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Social isola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Poor parent-child &amp; child-peers relationshi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Marital dissatisfac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  Greater risk for adult obesit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 Orthopaedic problems, genuvalgum and slipped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pital femoral epiphys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  Impairment of cardiorespiratory func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Hypoventilation pickwickian syndrom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44" name="AutoShape 1"/>
          <p:cNvSpPr/>
          <p:nvPr/>
        </p:nvSpPr>
        <p:spPr>
          <a:xfrm>
            <a:off x="4286160" y="6143760"/>
            <a:ext cx="107496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مستطيل 5"/>
          <p:cNvGrpSpPr/>
          <p:nvPr/>
        </p:nvGrpSpPr>
        <p:grpSpPr>
          <a:xfrm>
            <a:off x="-19080" y="622440"/>
            <a:ext cx="9182160" cy="682560"/>
            <a:chOff x="-19080" y="622440"/>
            <a:chExt cx="9182160" cy="682560"/>
          </a:xfrm>
        </p:grpSpPr>
        <p:pic>
          <p:nvPicPr>
            <p:cNvPr id="346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9080" y="622440"/>
              <a:ext cx="91821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0" y="64296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Obes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0" y="357120"/>
          <a:ext cx="9144000" cy="65008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50088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rotein – Energy Malnutr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 range of pathological condition arising from coincident lack of proteins &amp; calori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 is commonly associated with infec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 occurs in infant or young child if :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 He has been given an inadequate diet for several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week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 He has suffered several attack of diarrhea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 He has been ill with serious infection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Prevalence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ry high affects &gt; 100 Million childr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as high morbidity &amp; mortality ra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grpSp>
        <p:nvGrpSpPr>
          <p:cNvPr id="199" name="AutoShape 1"/>
          <p:cNvGrpSpPr/>
          <p:nvPr/>
        </p:nvGrpSpPr>
        <p:grpSpPr>
          <a:xfrm>
            <a:off x="4309920" y="6327720"/>
            <a:ext cx="951120" cy="554040"/>
            <a:chOff x="4309920" y="6327720"/>
            <a:chExt cx="951120" cy="554040"/>
          </a:xfrm>
        </p:grpSpPr>
        <p:pic>
          <p:nvPicPr>
            <p:cNvPr id="200" name="AutoShape 1" descr=""/>
            <p:cNvPicPr/>
            <p:nvPr/>
          </p:nvPicPr>
          <p:blipFill>
            <a:blip r:embed="rId2"/>
            <a:stretch/>
          </p:blipFill>
          <p:spPr>
            <a:xfrm>
              <a:off x="4309920" y="6327720"/>
              <a:ext cx="95112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635360" y="6519960"/>
              <a:ext cx="30492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0" y="714240"/>
          <a:ext cx="9144000" cy="61437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14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Complication : Con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5.  Predisposition to serious diseases</a:t>
                      </a:r>
                      <a:r>
                        <a:rPr b="0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Diabetes mellitu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theroscleros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Hyperlipidaem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Ischaemic heart diseas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Hyperten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           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49" name="AutoShape 1"/>
          <p:cNvSpPr/>
          <p:nvPr/>
        </p:nvSpPr>
        <p:spPr>
          <a:xfrm>
            <a:off x="4000680" y="6429240"/>
            <a:ext cx="1002960" cy="42876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مستطيل 5"/>
          <p:cNvGrpSpPr/>
          <p:nvPr/>
        </p:nvGrpSpPr>
        <p:grpSpPr>
          <a:xfrm>
            <a:off x="-19080" y="695160"/>
            <a:ext cx="9182160" cy="682920"/>
            <a:chOff x="-19080" y="695160"/>
            <a:chExt cx="9182160" cy="682920"/>
          </a:xfrm>
        </p:grpSpPr>
        <p:pic>
          <p:nvPicPr>
            <p:cNvPr id="351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9080" y="695160"/>
              <a:ext cx="91821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0" y="71424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Black"/>
                  <a:ea typeface="Times New Roman"/>
                </a:rPr>
                <a:t>Obes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0" y="642960"/>
          <a:ext cx="9144000" cy="6215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1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 u="sng">
                          <a:solidFill>
                            <a:srgbClr val="339966"/>
                          </a:solidFill>
                          <a:uFillTx/>
                          <a:latin typeface="Arial"/>
                          <a:ea typeface="Times New Roman"/>
                        </a:rPr>
                        <a:t>Diagnosis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22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7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istory.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22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7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owth paramet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5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Weigh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5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Heigh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5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Skinfold thickness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54" name="AutoShape 1"/>
          <p:cNvSpPr/>
          <p:nvPr/>
        </p:nvSpPr>
        <p:spPr>
          <a:xfrm>
            <a:off x="400068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مستطيل 5"/>
          <p:cNvGrpSpPr/>
          <p:nvPr/>
        </p:nvGrpSpPr>
        <p:grpSpPr>
          <a:xfrm>
            <a:off x="-19080" y="622440"/>
            <a:ext cx="9182160" cy="755640"/>
            <a:chOff x="-19080" y="622440"/>
            <a:chExt cx="9182160" cy="755640"/>
          </a:xfrm>
        </p:grpSpPr>
        <p:pic>
          <p:nvPicPr>
            <p:cNvPr id="356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9080" y="622440"/>
              <a:ext cx="91821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0" y="642960"/>
              <a:ext cx="91440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Obes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0" y="785880"/>
          <a:ext cx="9144000" cy="60721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07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Treat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99"/>
                        </a:buClr>
                        <a:buSzPct val="2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hild motivation to loss of weight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99"/>
                        </a:buClr>
                        <a:buSzPct val="2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ounseling of the whole famil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Behavior and life style modifica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Exercis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Well balanced low caloric die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Regular follow-u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grpSp>
        <p:nvGrpSpPr>
          <p:cNvPr id="359" name="مستطيل 5"/>
          <p:cNvGrpSpPr/>
          <p:nvPr/>
        </p:nvGrpSpPr>
        <p:grpSpPr>
          <a:xfrm>
            <a:off x="-19080" y="768240"/>
            <a:ext cx="9182160" cy="749520"/>
            <a:chOff x="-19080" y="768240"/>
            <a:chExt cx="9182160" cy="749520"/>
          </a:xfrm>
        </p:grpSpPr>
        <p:pic>
          <p:nvPicPr>
            <p:cNvPr id="360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9080" y="768240"/>
              <a:ext cx="918216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0" y="785880"/>
              <a:ext cx="91440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Obes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AutoShape 1"/>
          <p:cNvSpPr/>
          <p:nvPr/>
        </p:nvSpPr>
        <p:spPr>
          <a:xfrm>
            <a:off x="4000680" y="6308640"/>
            <a:ext cx="1074600" cy="54936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3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0" y="142920"/>
          <a:ext cx="9144000" cy="473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3040">
                <a:tc>
                  <a:txBody>
                    <a:bodyPr lIns="67680" rIns="67680" tIns="0" bIns="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Signs of Nutritional Disorders &amp; Their Interpret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364" name="AutoShape 5"/>
          <p:cNvSpPr/>
          <p:nvPr/>
        </p:nvSpPr>
        <p:spPr>
          <a:xfrm>
            <a:off x="3071880" y="1643040"/>
            <a:ext cx="114120" cy="228600"/>
          </a:xfrm>
          <a:custGeom>
            <a:avLst/>
            <a:gdLst>
              <a:gd name="textAreaLeft" fmla="*/ 0 w 114120"/>
              <a:gd name="textAreaRight" fmla="*/ 41040 w 1141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2"/>
          <p:cNvSpPr/>
          <p:nvPr/>
        </p:nvSpPr>
        <p:spPr>
          <a:xfrm>
            <a:off x="3500280" y="1785960"/>
            <a:ext cx="114480" cy="228600"/>
          </a:xfrm>
          <a:custGeom>
            <a:avLst/>
            <a:gdLst>
              <a:gd name="textAreaLeft" fmla="*/ 0 w 114480"/>
              <a:gd name="textAreaRight" fmla="*/ 41400 w 1144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"/>
          <p:cNvSpPr/>
          <p:nvPr/>
        </p:nvSpPr>
        <p:spPr>
          <a:xfrm>
            <a:off x="3143160" y="1785960"/>
            <a:ext cx="114480" cy="228600"/>
          </a:xfrm>
          <a:custGeom>
            <a:avLst/>
            <a:gdLst>
              <a:gd name="textAreaLeft" fmla="*/ 0 w 114480"/>
              <a:gd name="textAreaRight" fmla="*/ 41400 w 1144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0" y="693720"/>
          <a:ext cx="9144000" cy="6068880"/>
        </p:xfrm>
        <a:graphic>
          <a:graphicData uri="http://schemas.openxmlformats.org/drawingml/2006/table">
            <a:tbl>
              <a:tblPr/>
              <a:tblGrid>
                <a:gridCol w="1585800"/>
                <a:gridCol w="4559400"/>
                <a:gridCol w="2998800"/>
              </a:tblGrid>
              <a:tr h="396000">
                <a:tc gridSpan="3"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             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Associ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 Black"/>
                          <a:ea typeface="Times New Roman"/>
                        </a:rPr>
                        <a:t>Sig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 Black"/>
                          <a:ea typeface="Times New Roman"/>
                        </a:rPr>
                        <a:t>Disor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455760">
                <a:tc rowSpan="2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 Ha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lags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washiork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yspig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455760">
                <a:tc rowSpan="2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 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asolabial desqua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iboflav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on 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washiork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457200">
                <a:tc rowSpan="3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Li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gular stomat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ello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iboflav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gular sc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455760">
                <a:tc rowSpan="4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 E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le conjunctiva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aem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rneal xero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erato mala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it.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32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ikot's spo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1615680"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. Na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oilonych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r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70" name="AutoShape 16"/>
          <p:cNvSpPr/>
          <p:nvPr/>
        </p:nvSpPr>
        <p:spPr>
          <a:xfrm>
            <a:off x="4286160" y="3571920"/>
            <a:ext cx="114480" cy="228600"/>
          </a:xfrm>
          <a:custGeom>
            <a:avLst/>
            <a:gdLst>
              <a:gd name="textAreaLeft" fmla="*/ 0 w 114480"/>
              <a:gd name="textAreaRight" fmla="*/ 41400 w 1144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5"/>
          <p:cNvSpPr/>
          <p:nvPr/>
        </p:nvSpPr>
        <p:spPr>
          <a:xfrm>
            <a:off x="4286160" y="2928960"/>
            <a:ext cx="114480" cy="228600"/>
          </a:xfrm>
          <a:custGeom>
            <a:avLst/>
            <a:gdLst>
              <a:gd name="textAreaLeft" fmla="*/ 0 w 114480"/>
              <a:gd name="textAreaRight" fmla="*/ 41400 w 1144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4"/>
          <p:cNvSpPr/>
          <p:nvPr/>
        </p:nvSpPr>
        <p:spPr>
          <a:xfrm>
            <a:off x="1285920" y="1714680"/>
            <a:ext cx="114120" cy="228600"/>
          </a:xfrm>
          <a:custGeom>
            <a:avLst/>
            <a:gdLst>
              <a:gd name="textAreaLeft" fmla="*/ 0 w 114120"/>
              <a:gd name="textAreaRight" fmla="*/ 41040 w 1141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4286160" y="4929120"/>
            <a:ext cx="114480" cy="228600"/>
          </a:xfrm>
          <a:custGeom>
            <a:avLst/>
            <a:gdLst>
              <a:gd name="textAreaLeft" fmla="*/ 0 w 114480"/>
              <a:gd name="textAreaRight" fmla="*/ 41400 w 1144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3"/>
          <p:cNvSpPr/>
          <p:nvPr/>
        </p:nvSpPr>
        <p:spPr>
          <a:xfrm>
            <a:off x="4286160" y="3357720"/>
            <a:ext cx="114480" cy="228600"/>
          </a:xfrm>
          <a:custGeom>
            <a:avLst/>
            <a:gdLst>
              <a:gd name="textAreaLeft" fmla="*/ 0 w 114480"/>
              <a:gd name="textAreaRight" fmla="*/ 41400 w 1144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0"/>
          <p:cNvSpPr/>
          <p:nvPr/>
        </p:nvSpPr>
        <p:spPr>
          <a:xfrm>
            <a:off x="3854520" y="6000840"/>
            <a:ext cx="107460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0"/>
          <p:cNvSpPr/>
          <p:nvPr/>
        </p:nvSpPr>
        <p:spPr>
          <a:xfrm>
            <a:off x="0" y="785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3"/>
          <p:cNvSpPr/>
          <p:nvPr/>
        </p:nvSpPr>
        <p:spPr>
          <a:xfrm>
            <a:off x="4286160" y="4357800"/>
            <a:ext cx="114480" cy="228600"/>
          </a:xfrm>
          <a:custGeom>
            <a:avLst/>
            <a:gdLst>
              <a:gd name="textAreaLeft" fmla="*/ 0 w 114480"/>
              <a:gd name="textAreaRight" fmla="*/ 41400 w 1144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4"/>
          <p:cNvSpPr/>
          <p:nvPr/>
        </p:nvSpPr>
        <p:spPr>
          <a:xfrm>
            <a:off x="4286160" y="4643280"/>
            <a:ext cx="114480" cy="228600"/>
          </a:xfrm>
          <a:custGeom>
            <a:avLst/>
            <a:gdLst>
              <a:gd name="textAreaLeft" fmla="*/ 0 w 114480"/>
              <a:gd name="textAreaRight" fmla="*/ 41400 w 1144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0" y="476280"/>
          <a:ext cx="9144000" cy="5763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76360">
                <a:tc>
                  <a:txBody>
                    <a:bodyPr lIns="67680" rIns="67680" tIns="0" bIns="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Signs of Nutritional Disorders &amp; Their Interpre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142920" y="1071720"/>
          <a:ext cx="8858160" cy="5786280"/>
        </p:xfrm>
        <a:graphic>
          <a:graphicData uri="http://schemas.openxmlformats.org/drawingml/2006/table">
            <a:tbl>
              <a:tblPr/>
              <a:tblGrid>
                <a:gridCol w="2009880"/>
                <a:gridCol w="4741560"/>
                <a:gridCol w="2106720"/>
              </a:tblGrid>
              <a:tr h="544320">
                <a:tc gridSpan="3"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</a:t>
                      </a:r>
                      <a:r>
                        <a:rPr b="1" lang="en-US" sz="17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ssociat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en-US" sz="17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  <a:ea typeface="Times New Roman"/>
                        </a:rPr>
                        <a:t>Sig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  <a:ea typeface="Times New Roman"/>
                        </a:rPr>
                        <a:t>Disord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768240">
                <a:tc rowSpan="4"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. Musculo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kele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64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ypoton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64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raniolob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57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64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rontal &amp; parie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oss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it. 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64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piphyseal enlarge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64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achitic roasa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48096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. Gu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64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pongy bleeding gu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64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it. 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48096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. Glan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64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yroid enlarge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64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din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18511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84" name="AutoShape 18"/>
          <p:cNvSpPr/>
          <p:nvPr/>
        </p:nvSpPr>
        <p:spPr>
          <a:xfrm>
            <a:off x="5643720" y="4000680"/>
            <a:ext cx="114120" cy="228600"/>
          </a:xfrm>
          <a:custGeom>
            <a:avLst/>
            <a:gdLst>
              <a:gd name="textAreaLeft" fmla="*/ 0 w 114120"/>
              <a:gd name="textAreaRight" fmla="*/ 41040 w 1141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7"/>
          <p:cNvSpPr/>
          <p:nvPr/>
        </p:nvSpPr>
        <p:spPr>
          <a:xfrm>
            <a:off x="5643720" y="3214800"/>
            <a:ext cx="114120" cy="228600"/>
          </a:xfrm>
          <a:custGeom>
            <a:avLst/>
            <a:gdLst>
              <a:gd name="textAreaLeft" fmla="*/ 0 w 114120"/>
              <a:gd name="textAreaRight" fmla="*/ 41040 w 1141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6"/>
          <p:cNvSpPr/>
          <p:nvPr/>
        </p:nvSpPr>
        <p:spPr>
          <a:xfrm>
            <a:off x="5643720" y="2571840"/>
            <a:ext cx="114120" cy="228600"/>
          </a:xfrm>
          <a:custGeom>
            <a:avLst/>
            <a:gdLst>
              <a:gd name="textAreaLeft" fmla="*/ 0 w 114120"/>
              <a:gd name="textAreaRight" fmla="*/ 41040 w 1141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5"/>
          <p:cNvSpPr/>
          <p:nvPr/>
        </p:nvSpPr>
        <p:spPr>
          <a:xfrm>
            <a:off x="5643720" y="2857680"/>
            <a:ext cx="114120" cy="228600"/>
          </a:xfrm>
          <a:custGeom>
            <a:avLst/>
            <a:gdLst>
              <a:gd name="textAreaLeft" fmla="*/ 0 w 114120"/>
              <a:gd name="textAreaRight" fmla="*/ 41040 w 1141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9"/>
          <p:cNvSpPr/>
          <p:nvPr/>
        </p:nvSpPr>
        <p:spPr>
          <a:xfrm>
            <a:off x="5643720" y="3714840"/>
            <a:ext cx="114120" cy="228600"/>
          </a:xfrm>
          <a:custGeom>
            <a:avLst/>
            <a:gdLst>
              <a:gd name="textAreaLeft" fmla="*/ 0 w 114120"/>
              <a:gd name="textAreaRight" fmla="*/ 41040 w 1141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0"/>
          <p:cNvSpPr/>
          <p:nvPr/>
        </p:nvSpPr>
        <p:spPr>
          <a:xfrm>
            <a:off x="5643720" y="4286160"/>
            <a:ext cx="114120" cy="228600"/>
          </a:xfrm>
          <a:custGeom>
            <a:avLst/>
            <a:gdLst>
              <a:gd name="textAreaLeft" fmla="*/ 0 w 114120"/>
              <a:gd name="textAreaRight" fmla="*/ 41040 w 1141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1"/>
          <p:cNvSpPr/>
          <p:nvPr/>
        </p:nvSpPr>
        <p:spPr>
          <a:xfrm>
            <a:off x="3714840" y="6072120"/>
            <a:ext cx="1074600" cy="57168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  <a:ea typeface="Arial"/>
              </a:rPr>
              <a:t>3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مستطيل 27"/>
          <p:cNvSpPr/>
          <p:nvPr/>
        </p:nvSpPr>
        <p:spPr>
          <a:xfrm>
            <a:off x="8555760" y="64296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nstantia"/>
              </a:rPr>
              <a:t>Cont</a:t>
            </a:r>
            <a:r>
              <a:rPr b="1" lang="en-US" sz="1200" spc="-1" strike="noStrike">
                <a:solidFill>
                  <a:srgbClr val="ffffff"/>
                </a:solidFill>
                <a:latin typeface="Constanti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" descr="F1030003"/>
          <p:cNvPicPr/>
          <p:nvPr/>
        </p:nvPicPr>
        <p:blipFill>
          <a:blip r:embed="rId2"/>
          <a:stretch/>
        </p:blipFill>
        <p:spPr>
          <a:xfrm>
            <a:off x="357120" y="500040"/>
            <a:ext cx="8572680" cy="5808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93" name="AutoShape 2"/>
          <p:cNvSpPr/>
          <p:nvPr/>
        </p:nvSpPr>
        <p:spPr>
          <a:xfrm>
            <a:off x="4143240" y="6286680"/>
            <a:ext cx="1074960" cy="571320"/>
          </a:xfrm>
          <a:prstGeom prst="su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99"/>
                </a:solidFill>
                <a:latin typeface="Arial"/>
                <a:ea typeface="Arial"/>
              </a:rPr>
              <a:t>3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" descr="F1040005"/>
          <p:cNvPicPr/>
          <p:nvPr/>
        </p:nvPicPr>
        <p:blipFill>
          <a:blip r:embed="rId2"/>
          <a:stretch/>
        </p:blipFill>
        <p:spPr>
          <a:xfrm>
            <a:off x="571680" y="642960"/>
            <a:ext cx="7929360" cy="5429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95" name="AutoShape 2"/>
          <p:cNvSpPr/>
          <p:nvPr/>
        </p:nvSpPr>
        <p:spPr>
          <a:xfrm>
            <a:off x="4000680" y="6143760"/>
            <a:ext cx="1074600" cy="571320"/>
          </a:xfrm>
          <a:prstGeom prst="su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99"/>
                </a:solidFill>
                <a:latin typeface="Arial"/>
                <a:ea typeface="Arial"/>
              </a:rPr>
              <a:t>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F1040006"/>
          <p:cNvPicPr/>
          <p:nvPr/>
        </p:nvPicPr>
        <p:blipFill>
          <a:blip r:embed="rId2"/>
          <a:stretch/>
        </p:blipFill>
        <p:spPr>
          <a:xfrm>
            <a:off x="642960" y="642960"/>
            <a:ext cx="7786800" cy="5357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97" name="AutoShape 3"/>
          <p:cNvSpPr/>
          <p:nvPr/>
        </p:nvSpPr>
        <p:spPr>
          <a:xfrm>
            <a:off x="414036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99"/>
                </a:solidFill>
                <a:latin typeface="Arial"/>
                <a:ea typeface="Arial"/>
              </a:rPr>
              <a:t>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0" y="642960"/>
          <a:ext cx="9144000" cy="6242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4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37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1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 is the secretion of breast during the later part of pregnancy and for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2-4 days after deliver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1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1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 has a deep lemon yellow colou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1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1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s reaction is alkali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1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1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as higher specific gravity than mature breast mil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1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1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as more proteins and mineral but less CHO and fat than nature mil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                                                    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pic>
        <p:nvPicPr>
          <p:cNvPr id="399" name="مستطيل 7" descr=""/>
          <p:cNvPicPr/>
          <p:nvPr/>
        </p:nvPicPr>
        <p:blipFill>
          <a:blip r:embed="rId2"/>
          <a:stretch/>
        </p:blipFill>
        <p:spPr>
          <a:xfrm>
            <a:off x="-19080" y="622440"/>
            <a:ext cx="9182160" cy="822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0" y="714240"/>
          <a:ext cx="9144000" cy="61437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14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 is the secretion of breast during the later part of pregnancy and for the 4days after deliver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244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 has a deep lemon yellow colou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244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s reaction is alkalin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244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as higher specific gravity than mature breast milk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244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as more proteins and mineral but less CHO and fat than nature milk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                                          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                                                                                                                                                                                  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Cont…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grpSp>
        <p:nvGrpSpPr>
          <p:cNvPr id="401" name="مستطيل 4"/>
          <p:cNvGrpSpPr/>
          <p:nvPr/>
        </p:nvGrpSpPr>
        <p:grpSpPr>
          <a:xfrm>
            <a:off x="-19080" y="695160"/>
            <a:ext cx="9182160" cy="822600"/>
            <a:chOff x="-19080" y="695160"/>
            <a:chExt cx="9182160" cy="822600"/>
          </a:xfrm>
        </p:grpSpPr>
        <p:pic>
          <p:nvPicPr>
            <p:cNvPr id="402" name="مستطيل 4" descr=""/>
            <p:cNvPicPr/>
            <p:nvPr/>
          </p:nvPicPr>
          <p:blipFill>
            <a:blip r:embed="rId2"/>
            <a:stretch/>
          </p:blipFill>
          <p:spPr>
            <a:xfrm>
              <a:off x="-19080" y="695160"/>
              <a:ext cx="918216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0" y="714240"/>
              <a:ext cx="9144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Black"/>
                  <a:ea typeface="Times New Roman"/>
                </a:rPr>
                <a:t>Colostr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428760"/>
          <a:ext cx="9144000" cy="64292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924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. E. M 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Type and classification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gree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Mild                 - Moderate              - Sev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ypes (Severs) 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Maras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Marasmic kwashiork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Kwashiork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omez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Percentage of expected weight for 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Normal &gt; 90%                             Mild 89-7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Moderate 74-60%                       Severe&lt;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grpSp>
        <p:nvGrpSpPr>
          <p:cNvPr id="203" name="AutoShape 1"/>
          <p:cNvGrpSpPr/>
          <p:nvPr/>
        </p:nvGrpSpPr>
        <p:grpSpPr>
          <a:xfrm>
            <a:off x="4243320" y="6108840"/>
            <a:ext cx="865080" cy="633240"/>
            <a:chOff x="4243320" y="6108840"/>
            <a:chExt cx="865080" cy="633240"/>
          </a:xfrm>
        </p:grpSpPr>
        <p:pic>
          <p:nvPicPr>
            <p:cNvPr id="204" name="AutoShape 1" descr=""/>
            <p:cNvPicPr/>
            <p:nvPr/>
          </p:nvPicPr>
          <p:blipFill>
            <a:blip r:embed="rId2"/>
            <a:stretch/>
          </p:blipFill>
          <p:spPr>
            <a:xfrm>
              <a:off x="4243320" y="6108840"/>
              <a:ext cx="8650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540320" y="6327720"/>
              <a:ext cx="2779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0" y="357120"/>
          <a:ext cx="9144000" cy="65008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50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fection :   </a:t>
                      </a:r>
                      <a:r>
                        <a:rPr b="1" lang="en-US" sz="3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crease Immunit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CM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Secretory 1gA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 Sites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Lungs, UTI, septicem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 Types – Gram negative organis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0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rain changes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Tremor, depression, a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grpSp>
        <p:nvGrpSpPr>
          <p:cNvPr id="405" name="مستطيل 4"/>
          <p:cNvGrpSpPr/>
          <p:nvPr/>
        </p:nvGrpSpPr>
        <p:grpSpPr>
          <a:xfrm>
            <a:off x="-19080" y="341280"/>
            <a:ext cx="9182160" cy="963720"/>
            <a:chOff x="-19080" y="341280"/>
            <a:chExt cx="9182160" cy="963720"/>
          </a:xfrm>
        </p:grpSpPr>
        <p:pic>
          <p:nvPicPr>
            <p:cNvPr id="406" name="مستطيل 4" descr=""/>
            <p:cNvPicPr/>
            <p:nvPr/>
          </p:nvPicPr>
          <p:blipFill>
            <a:blip r:embed="rId2"/>
            <a:stretch/>
          </p:blipFill>
          <p:spPr>
            <a:xfrm>
              <a:off x="-19080" y="341280"/>
              <a:ext cx="918216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0" y="357120"/>
              <a:ext cx="9144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Black"/>
                  <a:ea typeface="Times New Roman"/>
                </a:rPr>
                <a:t>Patholo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Black"/>
                  <a:ea typeface="Times New Roman"/>
                </a:rPr>
                <a:t>(Cont…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50004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Constantia"/>
              </a:rPr>
              <a:t>The End</a:t>
            </a:r>
            <a:endParaRPr b="0" lang="en-US" sz="1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0" y="857160"/>
          <a:ext cx="9144000" cy="60008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00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elcome 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</a:rPr>
                        <a:t>% of Wt./ Expected Wt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.     </a:t>
                      </a:r>
                      <a:r>
                        <a:rPr b="1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</a:rPr>
                        <a:t>No Oedema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</a:rPr>
                        <a:t> Oede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80% of expected wt.             Under wt.               Kwashiork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60% of expected wt.             Marasmus               Maras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Kwashiork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07" name="AutoShape 1"/>
          <p:cNvSpPr/>
          <p:nvPr/>
        </p:nvSpPr>
        <p:spPr>
          <a:xfrm>
            <a:off x="4500720" y="6093000"/>
            <a:ext cx="1074600" cy="54900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مستطيل 5"/>
          <p:cNvSpPr/>
          <p:nvPr/>
        </p:nvSpPr>
        <p:spPr>
          <a:xfrm>
            <a:off x="0" y="857160"/>
            <a:ext cx="9144000" cy="857520"/>
          </a:xfrm>
          <a:prstGeom prst="rect">
            <a:avLst/>
          </a:pr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16200000"/>
          </a:gra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مستطيل 7" descr=""/>
          <p:cNvPicPr/>
          <p:nvPr/>
        </p:nvPicPr>
        <p:blipFill>
          <a:blip r:embed="rId2"/>
          <a:stretch/>
        </p:blipFill>
        <p:spPr>
          <a:xfrm>
            <a:off x="3492360" y="798480"/>
            <a:ext cx="2584440" cy="89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0" y="642960"/>
          <a:ext cx="9144000" cy="6215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1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rasmus = was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22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washiorkor  =  Ga language of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disease of the first child when the second is on the way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37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asting – weight for h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0 = &gt;90%,  1 = 90-80%, 2 = 80-70%,  3 = &lt;70%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37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unting – height for ag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0 = &gt;95%,  1 = 95-90%, 2 = 89-85%,  3 = &lt;85%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1"/>
          <p:cNvSpPr/>
          <p:nvPr/>
        </p:nvSpPr>
        <p:spPr>
          <a:xfrm>
            <a:off x="3925800" y="6143760"/>
            <a:ext cx="107496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reastfeedi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12/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/12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arly weani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te wea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lute dirty formu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archy family di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peated infection (G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arvation thera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ute inf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lnutr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rasmu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M.K.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Kwashiork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13" name="Line 12"/>
          <p:cNvSpPr/>
          <p:nvPr/>
        </p:nvSpPr>
        <p:spPr>
          <a:xfrm>
            <a:off x="714240" y="5500800"/>
            <a:ext cx="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>
            <a:off x="714240" y="2643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8"/>
          <p:cNvSpPr/>
          <p:nvPr/>
        </p:nvSpPr>
        <p:spPr>
          <a:xfrm>
            <a:off x="714240" y="485784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5286240" y="1928880"/>
            <a:ext cx="0" cy="34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"/>
          <p:cNvSpPr/>
          <p:nvPr/>
        </p:nvSpPr>
        <p:spPr>
          <a:xfrm>
            <a:off x="5286240" y="264312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714240" y="33577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1857240" y="1785960"/>
            <a:ext cx="2592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684360" y="4005360"/>
            <a:ext cx="0" cy="539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5286240" y="3643200"/>
            <a:ext cx="0" cy="1028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9"/>
          <p:cNvSpPr/>
          <p:nvPr/>
        </p:nvSpPr>
        <p:spPr>
          <a:xfrm>
            <a:off x="5286240" y="5143680"/>
            <a:ext cx="0" cy="799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"/>
          <p:cNvSpPr/>
          <p:nvPr/>
        </p:nvSpPr>
        <p:spPr>
          <a:xfrm flipV="1">
            <a:off x="3714840" y="6143760"/>
            <a:ext cx="914400" cy="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"/>
          <p:cNvSpPr/>
          <p:nvPr/>
        </p:nvSpPr>
        <p:spPr>
          <a:xfrm flipV="1">
            <a:off x="1428840" y="6143760"/>
            <a:ext cx="1368360" cy="10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4143240" y="6429240"/>
            <a:ext cx="717840" cy="428760"/>
          </a:xfrm>
          <a:prstGeom prst="sun">
            <a:avLst>
              <a:gd name="adj" fmla="val 25000"/>
            </a:avLst>
          </a:prstGeom>
          <a:solidFill>
            <a:srgbClr val="b5edf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مستطيل 18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مستطيل 17" descr=""/>
          <p:cNvPicPr/>
          <p:nvPr/>
        </p:nvPicPr>
        <p:blipFill>
          <a:blip r:embed="rId2"/>
          <a:stretch/>
        </p:blipFill>
        <p:spPr>
          <a:xfrm>
            <a:off x="-128520" y="139680"/>
            <a:ext cx="9717120" cy="946080"/>
          </a:xfrm>
          <a:prstGeom prst="rect">
            <a:avLst/>
          </a:prstGeom>
          <a:ln w="0">
            <a:noFill/>
          </a:ln>
        </p:spPr>
      </p:pic>
      <p:sp>
        <p:nvSpPr>
          <p:cNvPr id="228" name="Line 7"/>
          <p:cNvSpPr/>
          <p:nvPr/>
        </p:nvSpPr>
        <p:spPr>
          <a:xfrm>
            <a:off x="755640" y="1844640"/>
            <a:ext cx="0" cy="539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571680"/>
          <a:ext cx="9144000" cy="62863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8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Pathogenesis 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Economic facto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Social facto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Medical factors in mothe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Various diseas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Decrease absorptio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Increase loss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5.   Increase metabolis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pic>
        <p:nvPicPr>
          <p:cNvPr id="230" name="مستطيل 4" descr=""/>
          <p:cNvPicPr/>
          <p:nvPr/>
        </p:nvPicPr>
        <p:blipFill>
          <a:blip r:embed="rId2"/>
          <a:stretch/>
        </p:blipFill>
        <p:spPr>
          <a:xfrm>
            <a:off x="-30240" y="554040"/>
            <a:ext cx="9204480" cy="1646280"/>
          </a:xfrm>
          <a:prstGeom prst="rect">
            <a:avLst/>
          </a:prstGeom>
          <a:ln w="0">
            <a:noFill/>
          </a:ln>
        </p:spPr>
      </p:pic>
      <p:pic>
        <p:nvPicPr>
          <p:cNvPr id="231" name="مستطيل 5" descr=""/>
          <p:cNvPicPr/>
          <p:nvPr/>
        </p:nvPicPr>
        <p:blipFill>
          <a:blip r:embed="rId3"/>
          <a:stretch/>
        </p:blipFill>
        <p:spPr>
          <a:xfrm>
            <a:off x="3359160" y="450720"/>
            <a:ext cx="1335240" cy="88452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"/>
          <p:cNvSpPr/>
          <p:nvPr/>
        </p:nvSpPr>
        <p:spPr>
          <a:xfrm>
            <a:off x="4572000" y="6357960"/>
            <a:ext cx="1074600" cy="500040"/>
          </a:xfrm>
          <a:prstGeom prst="sun">
            <a:avLst>
              <a:gd name="adj" fmla="val 25000"/>
            </a:avLst>
          </a:prstGeom>
          <a:solidFill>
            <a:srgbClr val="c6d9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0" y="500040"/>
          <a:ext cx="9144000" cy="63579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3579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PEM affect almost all systems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99"/>
                        </a:buClr>
                        <a:buSzPct val="20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TBW increased        increased ECF        oede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Minerals – K decreased, Na Ca, PO4 decreas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Pancreas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Mild atroph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Exocrine secretion decreas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GIT – Mucosa, absorption, enzym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Lactase         Lactose intoleranc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Liver – fatty liv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                                         </a:t>
                      </a: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ont…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34" name="Line 1"/>
          <p:cNvSpPr/>
          <p:nvPr/>
        </p:nvSpPr>
        <p:spPr>
          <a:xfrm>
            <a:off x="5072040" y="2643120"/>
            <a:ext cx="343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"/>
          <p:cNvSpPr/>
          <p:nvPr/>
        </p:nvSpPr>
        <p:spPr>
          <a:xfrm>
            <a:off x="2143080" y="5357880"/>
            <a:ext cx="343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"/>
          <p:cNvSpPr/>
          <p:nvPr/>
        </p:nvSpPr>
        <p:spPr>
          <a:xfrm>
            <a:off x="2786040" y="2643120"/>
            <a:ext cx="343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385776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b5edf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مستطيل مستدير الزوايا 9"/>
          <p:cNvSpPr/>
          <p:nvPr/>
        </p:nvSpPr>
        <p:spPr>
          <a:xfrm>
            <a:off x="0" y="500040"/>
            <a:ext cx="9144000" cy="714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مستطيل 10" descr=""/>
          <p:cNvPicPr/>
          <p:nvPr/>
        </p:nvPicPr>
        <p:blipFill>
          <a:blip r:embed="rId2"/>
          <a:stretch/>
        </p:blipFill>
        <p:spPr>
          <a:xfrm>
            <a:off x="2981160" y="463680"/>
            <a:ext cx="2754360" cy="7617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1:53:00Z</dcterms:created>
  <dc:creator>h-a-b</dc:creator>
  <dc:description/>
  <dc:language>en-US</dc:language>
  <cp:lastModifiedBy>h-a-b</cp:lastModifiedBy>
  <dcterms:modified xsi:type="dcterms:W3CDTF">2012-09-02T14:29:27Z</dcterms:modified>
  <cp:revision>82</cp:revision>
  <dc:subject/>
  <dc:title>الشريحة 1</dc:title>
</cp:coreProperties>
</file>