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0AD-BD05-4250-BE6A-E6AF310C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E8C-7108-4B9B-A838-AB94F61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ED7-6C7A-433B-9233-86D5B77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653-66AE-4282-AE6A-84521357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F42B-6891-4836-9ABE-CB38FC0E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062-7730-4D36-896A-C45FB80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03F-D820-43E8-B4B2-6A5F3EFC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130A-66D4-4705-8581-BDBC200C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778-FA74-4DB6-8C95-B861A71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17B-1C58-411A-944D-3003C57D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1BA1-5905-4093-83C4-8605E9A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A55-2034-4E83-97DC-56B9D6F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550-A691-4E49-B042-6E36417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8889-888F-4FE0-85F2-F072E58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7A30-71BF-455A-8597-521D441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334E-DD82-40D8-9336-411C7A36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C67E-7EBE-4CA8-A05D-39159905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BA9-4A83-4DCF-9DBC-49101A3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C96-FBF2-49FB-BCDC-DA9374C5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7F3-EC50-43DA-B5F1-6195029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4A9-966F-490E-BBD0-E3DDC64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CCC-0E0E-42FF-96AF-4A96DACB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7CA-7093-44CA-9A0D-B47C07F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4E3-CE57-4589-9184-22C6F13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F2F-CB6B-4E39-AAA4-6750D562B38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CF0-DE40-4EBA-BDC1-DF9FE4A59F2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2421000"/>
            <a:ext cx="86421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empus Sans ITC"/>
              </a:rPr>
              <a:t>بسم الله الرحمن الرحي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Definition of hematuria: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RBC’s /HPF in three of three consecutive, fresh, centrifuged urine specimens obtained at least 1 week a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788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Localization of hemat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s diagnostic possibilities for patients and prevent unnecessary tes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Classificat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merular hematu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Glomerular hematu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850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Glomerular hematuria, Clinical presen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uria,ede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n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 of systemic disease (e.g. arthritis, rash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empus Sans ITC"/>
              </a:rPr>
              <a:t>Glomerular hematuria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tea, cola-colored u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omitant protein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rphic erythrocytes in phase-contrast micros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MCV of erythrocyte by automated analy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256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788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RBC CAS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C casts are best visualized at the edges of the cover slip and tend to dissolve in urine of high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100080"/>
            <a:ext cx="43927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Causes of Glomerular hematuria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infectious glomerulo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A nephropat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och-Schönlein purp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ary 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ign familial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oproliferative glomerulo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pus 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45964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BDULLAH AL SALLO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ofessor and Consultant of  Pediatric Nephr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ollege of  Medicine King Sau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ing Khalid University Hos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iyadh,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6206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Lucida Calligraphy"/>
              </a:rPr>
              <a:t>HEMATU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Postinfectious G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7-21 days after group A before-hemolytic streptococc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tic treatment for the infections will not prevent the nep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tea colored urine, edema and hypert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present with only microscopic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Postinfectious GN (cont.)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O may be negative early in the 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 in 90% of patients for 6 wee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copic hematuria my persist for 2 y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gA nephropath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hronic GN in Europe and A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ause of hematuria in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of children with Prolonged hematuria (&gt; 1 year) will have IgA nephropat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gross hematuria during viral ill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gA nephropathy…….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 present between episodes of gross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laboratory test diagnostic of 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by histopathologic demonstration of  mesangial deposition of 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% of children with IgA nephropathy will progress to chronic renal insu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outcome: cresentic GN, older age group, hypertension, nephrotic range proteinuria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Alport hereditary nephriti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sodes of recurrent or persistent microscopic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History: male individuals with nerve deafness and progression to ES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IV collagen is abnormal and the basement membrane is disru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agnosis is confirmed by renal biopsy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Alport hereditary nephritis…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test should be done regularly to prevent speech or educational handic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-posture diseases post transplant (small ri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may have a hearing deficit without any urinary abnorma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831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Benign Familial Hemat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 glomerular basement membrane nephropa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in at least 1% of the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as AD or AR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of proteinuria, renal failure, hearing deficits, or ophthalmologic abnorma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, dysmorphic RBC’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Rapidly Progressive G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with symptoms and signs similar to AP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e urgent attention of a Pediatric Nephrolog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 Studies show A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biopsy demonstrates glomerular cres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eated RPGN can result in ESRD in a few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Causes of non-Glomerular hematuria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calciu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 (bacterial or vir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illary necrosis (Hb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olithia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b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-induced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70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reased urinary excretion of ca despite normal s. 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esent in 5% of healthy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st frequent cause of isolated hematuria in non-glomerular hematuria pati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120400"/>
            <a:ext cx="77691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Hematu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mmon finding on urinalysis with a prevalence rate between 1% and 2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hypercalciuria: result from a tubular leak of calc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ve hypercalciuria : results from increased gastrointestinal absorption of calc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often a family history of renal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 include dysuria, suprapubic pain, renal co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8310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microscopic hematuria and episodic gross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RBC’s are shaped normally with no 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chanism of the hematuria involve irritations to the renal tubules by ca-containing cryst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isk of development of renal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eening for hypercalciuria: spot urinary ca/ creatinine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tion of &gt; 0.21 is indicative of hypercalci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ion of hypercalciuria by collecting a timed (either 12 or 24 hours) urine for ca excr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cretory rate of greater than 4 mg/kg/day is ab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1766880"/>
            <a:ext cx="7715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fluid intake to dilute the u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ca restriction should be avo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chlorothiazide (HCT) decrease urinary ca excr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T in a child with isolated hematuria with no previous nephrolithiasis is not recommend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History clues: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and pattern of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history (hematuria, renal failure, deafness, urolithiasi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yngitis, UR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uria or other symptoms of urinary infe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 (HS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pain (infections, stone, HS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s (anticoagula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415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Physical examinations c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nsion, edema, pal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, impe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nominal or flank tenderness (inf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mass (tumo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chymoses, petechiae, hemangio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e of abdominal tra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genitalia for trauma or blee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te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413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Basic Laboratory Eval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 ti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ca: creatinine rat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protein: creatinine rat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ultrasonograp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gree relatives urine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6916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referrals are to the Pediatric Nephrologist rather than to the Pediatric Urolog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Other evaluation procedur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biops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oscop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angiography (rarely indic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921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Presentations of Hematur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 with clinical  sympto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 microscopic (isolated)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 microscopic hematuria with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u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3213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Lucida Calligraphy"/>
              </a:rPr>
              <a:t>THANK YOU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08464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112536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661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Diagno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sensitive test for detecting the presence of blood in the urine is abnormal urine strip te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686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empus Sans ITC"/>
              </a:rPr>
              <a:t>Urine Strip Tes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gent utilizes the pseudoperoxidaze activity of hemoglobin (or myoglobin) to catalyze a reaction between hydrogen peroxide and the chromogen tetramethylbenzidine to produce an oxidized chromogen, which has a green blue co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921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Urine Strip T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ps can detect concentration of 2-5 RBC/H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766520"/>
            <a:ext cx="77882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False negative urine dipst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cific gravity u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scorbic acid concentration in the ur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False positive urine dipstick: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ed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ntamination of urine from other chemicals such as oxidized agent, (household  blea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50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Confirmation of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Urine Microscop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e 10 ml of urine for 5 minu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nt the superna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suspend the sediment in 0.5 ml of 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on a slide with a cover s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the number of RBC. In 20 fields and report the ave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Te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5 RBC/H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7:06:04Z</dcterms:created>
  <dc:creator>KKUH</dc:creator>
  <dc:description/>
  <dc:language>en-US</dc:language>
  <cp:lastModifiedBy>K.K.U.H.</cp:lastModifiedBy>
  <dcterms:modified xsi:type="dcterms:W3CDTF">2007-01-07T08:37:52Z</dcterms:modified>
  <cp:revision>52</cp:revision>
  <dc:subject/>
  <dc:title>Slide 1</dc:title>
</cp:coreProperties>
</file>