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F813-52C5-42F1-962A-5A55ED47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DA4-B481-436E-9D8E-C86CFEE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F59-2107-4051-A7E4-24AEAF4C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028-4474-4233-AB8B-7C595E44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981A-1C4D-4B4B-9E23-71A0AA0B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5DD0-5E4E-406F-8B3C-1223D823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3413-1B6B-4CDB-86E1-BDB0206C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B179-807F-4EE2-B1EF-C8166370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C67D-46E0-4EFA-896B-96A8E17B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4CEE-89CC-417A-BD9B-9F627FA2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9083-B746-4F8A-B1E9-7C05A84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0F7-3086-4632-84A2-73F8F74E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96DF-997F-4342-80C1-0EB867A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829A-8AC5-43BB-96B8-D4FEBFC8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2A37-CADC-41E5-841D-002827DB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C87-0260-49F7-A5BC-AE30455B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1F65-51E5-417D-A9E3-DCD717F4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7804-7BFF-4525-AEDF-F9F2ABB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A63-B93D-425C-B6D7-564921E6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A19-6871-44ED-820F-46F6BFFD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36C-0FFC-4F42-B3CE-C54725A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3A1-B491-40FE-88F2-80C88D51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D5A-8640-4194-8AD0-D140569B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AED-98C2-439C-A559-06B46D39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96C8-C123-418B-9C34-94B6032434B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2BE3-42AE-4044-9F37-B5DBFC7C9DE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2421000"/>
            <a:ext cx="86421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empus Sans ITC"/>
              </a:rPr>
              <a:t>بسم الله الرحمن الرحي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Definition of hematuria: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RBC’s /HPF in three of three consecutive, fresh, centrifuged urine specimens obtained at least 1 week apa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788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Localization of hemat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s diagnostic possibilities for patients and prevent unnecessary tes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Classificat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merular hematu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Glomerular hematu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850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Glomerular hematuria, Clinical present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uria,ede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n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 of systemic disease (e.g. arthritis, rash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empus Sans ITC"/>
              </a:rPr>
              <a:t>Glomerular hematuria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tea, cola-colored u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omitant protein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morphic erythrocytes in phase-contrast micros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MCV of erythrocyte by automated analyz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256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766880"/>
            <a:ext cx="7788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RBC CAS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BC casts are best visualized at the edges of the cover slip and tend to dissolve in urine of high 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40000" y="100080"/>
            <a:ext cx="43927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Causes of Glomerular hematuria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-infectious glomerulo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gA nephropat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och-Schönlein purp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ary 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ign familial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oproliferative glomerulo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pus nephrit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459640" cy="33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BDULLAH AL SALLO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Professor and Consultant of  Pediatric Nephr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ollege of  Medicine King Sau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King Khalid University Hos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iyadh, Saudi Ara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62064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Lucida Calligraphy"/>
              </a:rPr>
              <a:t>HEMATU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Postinfectious G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s 7-21 days after group A before-hemolytic streptococcal inf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biotic treatment for the infections will not prevent the nep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tea colored urine, edema and hyperten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present with only microscopic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Postinfectious GN (cont.)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O may be negative early in the cou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w in 90% of patients for 6 wee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copic hematuria my persist for 2 y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gA nephropath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hronic GN in Europe and A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ause of hematuria in child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of children with Prolonged hematuria (&gt; 1 year) will have IgA nephropat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gross hematuria during viral ill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gA nephropathy…….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 present between episodes of gross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laboratory test diagnostic of 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 by histopathologic demonstration of  mesangial deposition of 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% of children with IgA nephropathy will progress to chronic renal insufficien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outcome: cresentic GN, older age group, hypertension, nephrotic range proteinuria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Alport hereditary nephriti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pisodes of recurrent or persistent microscopic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History: male individuals with nerve deafness and progression to ES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IV collagen is abnormal and the basement membrane is disrup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agnosis is confirmed by renal biopsy.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Alport hereditary nephritis…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test should be done regularly to prevent speech or educational handic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-posture diseases post transplant (small ris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 may have a hearing deficit without any urinary abnormal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831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Benign Familial Hemat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 glomerular basement membrane nephropa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rs in at least 1% of the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ed as AD or AR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of proteinuria, renal failure, hearing deficits, or ophthalmologic abnorma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, dysmorphic RBC’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Rapidly Progressive G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s with symptoms and signs similar to AP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e urgent attention of a Pediatric Nephrolog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 Studies show AR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biopsy demonstrates glomerular cresc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eated RPGN can result in ESRD in a few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Causes of non-Glomerular hematuria: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calciu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ctions (bacterial or vir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illary necrosis (Hb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olithia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b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-induced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705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reased urinary excretion of ca despite normal s. c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esent in 5% of healthy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75"/>
              </a:spcBef>
              <a:buSzPct val="1218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ost frequent cause of isolated hematuria in non-glomerular hematuria patien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2120400"/>
            <a:ext cx="77691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Hematu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common finding on urinalysis with a prevalence rate between 1% and 2%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hypercalciuria: result from a tubular leak of calc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rptive hypercalciuria : results from increased gastrointestinal absorption of calc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often a family history of renal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ptoms include dysuria, suprapubic pain, renal col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8310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with microscopic hematuria and episodic gross hemat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RBC’s are shaped normally with no c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chanism of the hematuria involve irritations to the renal tubules by ca-containing cryst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risk of development of renal st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eening for hypercalciuria: spot urinary ca/ creatinine rat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ation of &gt; 0.21 is indicative of hypercalciu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ion of hypercalciuria by collecting a timed (either 12 or 24 hours) urine for ca excr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cretory rate of greater than 4 mg/kg/day is abnorm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1766880"/>
            <a:ext cx="7715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Idiopathic Hypercalciuria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 fluid intake to dilute the u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ca restriction should be avo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chlorothiazide (HCT) decrease urinary ca excre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T in a child with isolated hematuria with no previous nephrolithiasis is not recommend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History clues: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and pattern of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history (hematuria, renal failure, deafness, urolithiasi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ryngitis, UR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suria or other symptoms of urinary infe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 (HS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pain (infections, stone, HSP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ugs (anticoagulan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415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Physical examinations clu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tension, edema, pall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h, impeti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nominal or flank tenderness (inf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ominal mass (tumo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chymoses, petechiae, hemangio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e of abdominal trau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 genitalia for trauma or blee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th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tes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4138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Basic Laboratory Evalu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o ti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ca: creatinine rat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protein: creatinine rat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ultrasonograp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degree relatives urine t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69160" cy="26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itial referrals are to the Pediatric Nephrologist rather than to the Pediatric Urologi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Other evaluation procedur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biops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stoscop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 angiography (rarely indica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921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Presentations of Hematuri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copic hematuria with clinical  sympto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 microscopic (isolated)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mptomatic microscopic hematuria with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inu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45964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116000" y="3213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Lucida Calligraphy"/>
              </a:rPr>
              <a:t>THANK YOU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08464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(</a:t>
            </a:r>
            <a:r>
              <a:rPr b="0" lang="en-US" sz="2400" spc="-1" strike="noStrike">
                <a:solidFill>
                  <a:srgbClr val="00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1125360"/>
            <a:ext cx="56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6612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Diagno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most sensitive test for detecting the presence of blood in the urine is abnormal urine strip te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686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empus Sans ITC"/>
              </a:rPr>
              <a:t>Urine Strip Test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gent utilizes the pseudoperoxidaze activity of hemoglobin (or myoglobin) to catalyze a reaction between hydrogen peroxide and the chromogen tetramethylbenzidine to produce an oxidized chromogen, which has a green blue co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2560" y="1766880"/>
            <a:ext cx="7921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empus Sans ITC"/>
              </a:rPr>
              <a:t>Urine Strip Te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ps can detect concentration of 2-5 RBC/HP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766520"/>
            <a:ext cx="77882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False negative urine dipstic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cific gravity ur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ascorbic acid concentration in the ur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empus Sans ITC"/>
              </a:rPr>
              <a:t>False positive urine dipstick: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ed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ntamination of urine from other chemicals such as oxidized agent, (household  bleac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Lucida Calligraphy"/>
              </a:rPr>
              <a:t>HEMATU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850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Confirmation of hematu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empus Sans ITC"/>
              </a:rPr>
              <a:t>Urine Microscop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e 10 ml of urine for 5 minut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nt the superna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suspend the sediment in 0.5 ml of 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on a slide with a cover s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the number of RBC. In 20 fields and report the ave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Te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5 RBC/H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7:06:04Z</dcterms:created>
  <dc:creator>KKUH</dc:creator>
  <dc:description/>
  <dc:language>en-US</dc:language>
  <cp:lastModifiedBy>K.K.U.H.</cp:lastModifiedBy>
  <dcterms:modified xsi:type="dcterms:W3CDTF">2007-01-07T08:37:52Z</dcterms:modified>
  <cp:revision>52</cp:revision>
  <dc:subject/>
  <dc:title>Slide 1</dc:title>
</cp:coreProperties>
</file>