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F6C-11C6-407E-BB9E-F1B65334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B9A-5A5B-4E63-9408-F980CFB0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A2E-D58D-462F-B6D4-06C888D6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96E-D9F4-472E-8BB0-35B06439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4F6D-27E6-4E6F-A274-73AF6826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1C7D-A41C-4985-8A33-B99CCBDF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E166-616D-464B-82FA-887A1353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F1BD-68A4-4B5F-96E7-F17C942D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1E2C-7F92-4094-8A4D-9A56F591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04DC-963F-4188-9A0A-A5DCFA66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66FB-A11C-445A-9D21-631214D4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F6B-77F3-4EB5-8725-35FD2187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BD24-E537-44B9-A456-866463F8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D744-A1F3-42D6-ACB7-58C09B38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B9AC-CC55-48F7-B972-7CE159C0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1D42-DD69-4D6D-9E71-2936352A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09BB-A661-47CA-BF18-2DA200B7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52D-6DF2-41DD-BF11-5AA79CCF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397-F34B-486D-8CA6-A0EAA85B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071-B364-4A31-8AA5-F3BCD2BD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E1E-5D2A-4DE4-BCF1-EA90EB13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82C-97FD-4998-A319-D8C23812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3C0-5FC5-4A50-B496-06C2931B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E662-DB77-48DE-A4D6-F7A9ED48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9495-09AE-4BE0-A7BF-5E2F31E846F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33D3-6957-4AE7-A3D5-4A2AC12CDE4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256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EVALUATION &amp; MANAGEMENT OF PROTEINURIA AND NEPHROTIC SYNDROME IN CHILDRE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F. ABDULLAH  AL SALLO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ultant Paediatric Nephrologi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ediatric Depart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ssociation Between Proteinuria and Progressive Renal Damage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7925040" cy="373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proteinuria should be viewed as a marker of renal disease and also as a cause of progressive renal injur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66"/>
                </a:solidFill>
                <a:uFillTx/>
                <a:latin typeface="Arial"/>
              </a:rPr>
              <a:t>Association Between Proteinuria and Cardiovascular Disease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persistent proteinuria is a long-term risk factor for atherosclerosis in childr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bolic disturbances associated wi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uria (hypercholeseterolemia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riglyceridemia and hypercougal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tens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al insufficienc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roid therap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Evaluating Children with Proteinuria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[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]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First stag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 history and physical examination (BP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 urin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rindipstick before going to bed and after ari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ood level of Albumin, creatinine, cholesterol, electrol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[B]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Second stag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nal ultrasonograph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surement of serum C3, C4, comp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nuclear antibo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ology for hepatitis B, C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I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2200" y="17524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Dietary recommend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ronic renal insufficienc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etary protein restri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phrotic syndrome: avoid an excess of dietary protein because it may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Worsen proteinur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Will not result in a higher serum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um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 Recommendation: give recommended daily allowance of protein for ag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Nonspecific Treatment Options for Persistent Proteinuri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2. 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Blood pressure control/inhibition of angiotensin effect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E: and angiotensin II receptors block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B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urinary protein excre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ease the risk of renal fibros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E: are contraindicated during pregnanc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Arial"/>
              </a:rPr>
              <a:t>Approach to Proteinuria in Adolescents with insulin-dependent D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glycemic control is the first goal in preventing renal inju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sign of renal injury in IDDM is microalbuminur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croalbuminur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-200 microgram/min/1.73m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-300 mg albumin/g creatini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t proteinur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buminuria&gt;200 microgram/minute/1.73m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Evaluation and Treatment of Patients with N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efini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 proteinuria, hypoalbuminem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cholestremia and ede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alence 2-3 cases per 100,000 childr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jority will have steroid responsive MC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Pretreatment Renal Biopsy in N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antile 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hematur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tens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ressed serum comple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d renal fun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Clinical Problems Associated with Children N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A]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dem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vity depend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rbital in the early morn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urs then general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edema present as ascit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ural effusions, scrotal or vulva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ema, skin breakdow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teinur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2560" y="233496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d with progress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olved in the mechanism of renal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ur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[B] 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Electrolyte disturbances in N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5105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yponatrem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↑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diuretic hormone H2O→ &gt; Na reten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 body Na &gt; nor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 Pseudohyponatrem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lt from high lipid lev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endent on lab methodolog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 Pseudohypocalcem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rmal level of free ionized 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w level of protein-bound c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[C]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Infection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1.</a:t>
            </a: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Varicell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cella antibody should be obtain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cella – zoster immunoglobulin within 72 hours of expos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roid should be tapered to 1 mg/kg/da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yclorir or valacylovir if varicella does devel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ther inf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lulit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ritonit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rganisms usuall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neumococc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-co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Immunization in N.S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ve viral vaccines should not be given if patient on high dose of steroi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neumococcal vaccine is recommended to all NS (off steroid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cella vaccine (varivax) in 2 doses regimen is safe and efficac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bodies to vaccines may fall during relapses (still contravesi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[D] 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Hyperlipidemia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ient and severe hypercholesterolemia during relap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 in treatment-resistent 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herosclerosis in young 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etary modification : limited benef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lestyramine is approved in 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Approaches to treatment of N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[A]  Prednisone/prednisol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stay of treatment of 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ypical protocol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mg/kg/day (60mg/m2/day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+4 wks treatmen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wks daily steroi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wks every other da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ly: 6+6 weeks induce a higher rate of long remissions than the standard (4+4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Treatment of Relapses of N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0-80% of patients will relap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dnisolone 2mg/kg/day until the patient is free of proteinuria for 3 days then 4-6 wks of every other day treat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Side effects of Glucocorticoid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(Must be discussed with the fami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hingoid habit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venous appeti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havioral and psychological changes (mood liability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tric irritation (including ulcer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uid reten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erte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roid-induced bone dise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vascular necrosis, bone demineralization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immune fun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wth retard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gh swea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arac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eudotumor cerebr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roid-related diabe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533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01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Clinical Testing for Proteinuria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ary dipst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creening test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lor reaction between urinary albumin and tetrabromphenol blu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race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15 mg/d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 +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30 mg/d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 +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100 mg/d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3 +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300 mg/d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4 +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2000 mg/d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[B] 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IV Pulse Steroids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give success in steroid-resistant 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dose IV methylprednisolo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 mg/kg (max Ig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e given every other day for 6 do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ntinue in tapering regiment for period up to 18 mon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de Effec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erte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hythm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256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004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[C] 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Cytotoxix Dru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Cyclophosphami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 12 week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 cumulative dose 170 mg/k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ne marrow suppress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igospermia, azoospermia and ovarium fibros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f given close to puberty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morrhagic cystit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sk of maligna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 Chlorambuci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y cause seizu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[D] 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Cyclosporin 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roid dependent or resistant 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given after renal biops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pses high after withdraw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d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erte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phrotoxic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erkalem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omagnesem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ertrichos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ngival hyperplas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[E] 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Levamiso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ak steroid sparing dru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term u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d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pen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s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trointestinal disturbanc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iz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66"/>
                </a:solidFill>
                <a:uFillTx/>
                <a:latin typeface="Arial"/>
              </a:rPr>
              <a:t>Other Practical Aspects of the Management of N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uid intake should be limited to double of insensible water loss in severely edematous 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ed diuretics and IV albumin can be given in severe edem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uretics should not be given in mild edem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:  should not be given in the initial course of prednisolone because of the risk of hypotension and thrombosis in the diuretic ph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: can be given to steroid-resistant 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ing, activities, diet should be individualiz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Urinary dipstick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lse-nega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luted ur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lse-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kaline urine (PH&gt;8.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ntrated urine (sp.gravity&gt;1:02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septic conta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Chlorhexidine, benzalkonium chlor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intravenouse radiograph contra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5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Alternative Office Method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osalicylic acide lead to precipitation of proteins including LMW protei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Quantitative estimate of proteinuria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-hour urine collec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rinary protein/creatinine (pr/cr) rat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ot urine specim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morning speci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0.2 mg protein/mg creatin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children &gt; 2 yea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lt;0.5 mg protein/1 mg creatin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children 6-24 months ol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Protein Handling by the Kidneys in Normal Children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rate of protein excre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4mg/m2/h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100mg/m2/da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% Tamm-Horsfall prote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% Album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% other prote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tricted filtration of l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teins (albumin &amp; Immunoglubuli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ximal tabules reabsorb most of  LMW protein (insulin, B2 microglobuli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66"/>
                </a:solidFill>
                <a:uFillTx/>
                <a:latin typeface="Arial"/>
              </a:rPr>
              <a:t>Protein Handling in Renal Disorder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Excess urinary protein los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 permeability of the glomeruli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glomerula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ease reabsorption of LMW protein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the renal tubules (tubular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3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66"/>
                </a:solidFill>
                <a:uFillTx/>
                <a:latin typeface="Arial"/>
              </a:rPr>
              <a:t>Types of proteinuria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i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v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e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hydr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rci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thostatic proteinuri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cess urine protein in upright position but normal during recumbenc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hool ag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1gm/m2/d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sistent proteinuria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inuria of ≥1 + by dipstick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e occas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07:06:10Z</dcterms:created>
  <dc:creator>LOIDE</dc:creator>
  <dc:description/>
  <dc:language>en-US</dc:language>
  <cp:lastModifiedBy>K.K.U.H.</cp:lastModifiedBy>
  <dcterms:modified xsi:type="dcterms:W3CDTF">2007-01-07T08:54:07Z</dcterms:modified>
  <cp:revision>17</cp:revision>
  <dc:subject/>
  <dc:title>HEMATURIA</dc:title>
</cp:coreProperties>
</file>