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C61B-D04A-47F8-BE36-E71B80D3E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FCA8-7664-4B6A-A5B5-500691822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8B92-C49E-4F29-B278-B082A1D0C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648C-02AB-4B35-8E0D-77502A29E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DEE31-4FFD-409C-8C70-F0C731F02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BD5CC-FB2A-4B83-B020-9C917FDC1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77939-A4C8-469C-89C3-D5C1DC4F5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5902D-8DA1-4407-85D8-FBA9FA603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DF9E3-A605-48D5-8B82-851385F43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99DEE-0553-4E86-91C3-1DF9924F1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A6149-6AA9-49C5-A60A-93177F19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4F1E-1429-4867-849F-EE48D09CC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322CA-0916-47FE-850F-9B4849F7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C96A3-B7F4-4B66-8AF0-2A353ACE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A45F5-F698-44E7-A9E8-DD5B0E3E3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51501-B0A1-4E8D-A4DC-C18402FAE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B1046-071D-4B94-BE39-B4FC64D37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9E55-44F7-4CDA-9F13-93EDFC6DD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BF22-BF25-4795-8B2B-54C805254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D01B-6682-4342-BB37-41F4E53C2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5EFB-E22E-4CDD-AB09-2E7A365D8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4C4C-29FD-4276-AFF9-F3426CEF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BF05-EAA4-47EC-85FC-F0B6C52A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4664-012A-4BF8-AAC5-E24E27DC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34166-ABA1-4D74-86E7-B992462801E4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9CDD-DD5D-4FF8-AC95-305F807536A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256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EVALUATION &amp; MANAGEMENT OF PROTEINURIA AND NEPHROTIC SYNDROME IN CHILDREN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F. ABDULLAH  AL SALLOU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ultant Paediatric Nephrologis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ediatric Departm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3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Association Between Proteinuria and Progressive Renal Damage</a:t>
            </a: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2361960"/>
            <a:ext cx="7925040" cy="3733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istent proteinuria should be viewed as a marker of renal disease and also as a cause of progressive renal injury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8003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66"/>
                </a:solidFill>
                <a:uFillTx/>
                <a:latin typeface="Arial"/>
              </a:rPr>
              <a:t>Association Between Proteinuria and Cardiovascular Disease</a:t>
            </a: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77320" cy="4267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re persistent proteinuria is a long-term risk factor for atherosclerosis in childre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tabolic disturbances associated with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teinuria (hypercholeseterolemia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ertriglyceridemia and hypercougal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ertens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nal insufficienc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roid therap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66"/>
                </a:solidFill>
                <a:uFillTx/>
                <a:latin typeface="Arial"/>
              </a:rPr>
              <a:t>Evaluating Children with Proteinuria</a:t>
            </a: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[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]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First stage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lete history and physical examination (BP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lete urinanaly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rindipstick before going to bed and after aris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lood level of Albumin, creatinine, cholesterol, electroly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[B]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Second stage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nal ultrasonograph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asurement of serum C3, C4, compl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tinuclear antibod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ology for hepatitis B, C,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±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HIV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2200" y="1752480"/>
            <a:ext cx="77756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Dietary recommendati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ronic renal insufficienc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etary protein restri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phrotic syndrome: avoid an excess of dietary protein because it may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. Worsen proteinuri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. Will not result in a higher serum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bumi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.  Recommendation: give recommended daily allowance of protein for ag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66"/>
                </a:solidFill>
                <a:uFillTx/>
                <a:latin typeface="Arial"/>
              </a:rPr>
              <a:t>Nonspecific Treatment Options for Persistent Proteinuria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3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2.  </a:t>
            </a: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Blood pressure control/inhibition of angiotensin effect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384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E: and angiotensin II receptors blocker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duce BP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duce urinary protein excre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rease the risk of renal fibrosi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E: are contraindicated during pregnanc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3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Arial"/>
              </a:rPr>
              <a:t>Approach to Proteinuria in Adolescents with insulin-dependent DM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od glycemic control is the first goal in preventing renal injur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irst sign of renal injury in IDDM is microalbuminuri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croalbuminuri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0-200 microgram/min/1.73m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0-300 mg albumin/g creatinin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t proteinuri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buminuria&gt;200 microgram/minute/1.73m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3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66"/>
                </a:solidFill>
                <a:uFillTx/>
                <a:latin typeface="Arial"/>
              </a:rPr>
              <a:t>Evaluation and Treatment of Patients with NS</a:t>
            </a: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Defini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vy proteinuria, hypoalbuminemi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percholestremia and edem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valence 2-3 cases per 100,000 childre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ajority will have steroid responsive MC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3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66"/>
                </a:solidFill>
                <a:uFillTx/>
                <a:latin typeface="Arial"/>
              </a:rPr>
              <a:t>Pretreatment Renal Biopsy in NS</a:t>
            </a: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antile N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olescen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istent hematuri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pertens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pressed serum complemen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duced renal func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3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66"/>
                </a:solidFill>
                <a:uFillTx/>
                <a:latin typeface="Arial"/>
              </a:rPr>
              <a:t>Clinical Problems Associated with Children NS</a:t>
            </a: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925040" cy="39621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A]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dem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avity dependen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iorbital in the early morn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urs then generaliz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re edema present as ascites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ural effusions, scrotal or vulvar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dema, skin breakdow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05740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teinuri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2560" y="23349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ociated with progressiv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nal dise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volved in the mechanism of renal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jury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003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[B] </a:t>
            </a:r>
            <a:r>
              <a:rPr b="0" lang="en-US" sz="4000" spc="-1" strike="noStrike" u="sng">
                <a:solidFill>
                  <a:srgbClr val="ffcc66"/>
                </a:solidFill>
                <a:uFillTx/>
                <a:latin typeface="Arial"/>
              </a:rPr>
              <a:t>Electrolyte disturbances in NS</a:t>
            </a: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925040" cy="51051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yponatremi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↑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tidiuretic hormone H2O→ &gt; Na reten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tal body Na &gt; norm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.  Pseudohyponatremi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ult from high lipid leve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pendent on lab methodolog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.  Pseudohypocalcem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rmal level of free ionized 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w level of protein-bound c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3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[C]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ffcc66"/>
                </a:solidFill>
                <a:uFillTx/>
                <a:latin typeface="Arial"/>
              </a:rPr>
              <a:t>Infections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1.</a:t>
            </a:r>
            <a:r>
              <a:rPr b="0" lang="en-US" sz="4000" spc="-1" strike="noStrike" u="sng">
                <a:solidFill>
                  <a:srgbClr val="ffcc66"/>
                </a:solidFill>
                <a:uFillTx/>
                <a:latin typeface="Arial"/>
              </a:rPr>
              <a:t>Varicella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ricella antibody should be obtain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ricella – zoster immunoglobulin within 72 hours of exposu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eroid should be tapered to 1 mg/kg/da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yclorir or valacylovir if varicella does develo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3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2.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ther infe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lvl="2" marL="1143000" indent="-2286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lluliti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peritoniti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rganisms usuall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neumococcu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-col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3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66"/>
                </a:solidFill>
                <a:uFillTx/>
                <a:latin typeface="Arial"/>
              </a:rPr>
              <a:t>Immunization in N.S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ve viral vaccines should not be given if patient on high dose of steroid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neumococcal vaccine is recommended to all NS (off steroid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ricella vaccine (varivax) in 2 doses regimen is safe and efficacio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tibodies to vaccines may fall during relapses (still contravesia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3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[D] </a:t>
            </a:r>
            <a:r>
              <a:rPr b="0" lang="en-US" sz="4400" spc="-1" strike="noStrike" u="sng">
                <a:solidFill>
                  <a:srgbClr val="ffcc66"/>
                </a:solidFill>
                <a:uFillTx/>
                <a:latin typeface="Arial"/>
              </a:rPr>
              <a:t>Hyperlipidemia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220932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nsient and severe hypercholesterolemia during relaps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ist in treatment-resistent N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herosclerosis in young N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etary modification : limited benefi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olestyramine is approved in N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3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66"/>
                </a:solidFill>
                <a:uFillTx/>
                <a:latin typeface="Arial"/>
              </a:rPr>
              <a:t>Approaches to treatment of NS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[A]  Prednisone/prednisol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instay of treatment of N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ypical protocol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 mg/kg/day (60mg/m2/day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4+4 wks treatment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 wks daily steroi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 wks every other da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ently: 6+6 weeks induce a higher rate of long remissions than the standard (4+4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3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66"/>
                </a:solidFill>
                <a:uFillTx/>
                <a:latin typeface="Arial"/>
              </a:rPr>
              <a:t>Treatment of Relapses of NS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2285640"/>
            <a:ext cx="7925040" cy="3809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0-80% of patients will relap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dnisolone 2mg/kg/day until the patient is free of proteinuria for 3 days then 4-6 wks of every other day treatmen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003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66"/>
                </a:solidFill>
                <a:uFillTx/>
                <a:latin typeface="Arial"/>
              </a:rPr>
              <a:t>Side effects of Glucocorticoids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925040" cy="5257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(Must be discussed with the famil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hingoid habitu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venous appeti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havioral and psychological changes (mood liability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stric irritation (including ulcer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uid reten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ypertens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eroid-induced bone diseas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avascular necrosis, bone demineralization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reased immune func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owth retard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igh swea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tarac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seudotumor cerebr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eroid-related diabet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447920" y="0"/>
            <a:ext cx="5333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447920" y="0"/>
            <a:ext cx="6019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66"/>
                </a:solidFill>
                <a:uFillTx/>
                <a:latin typeface="Arial"/>
              </a:rPr>
              <a:t>Clinical Testing for Proteinuria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256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rinary dipsti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creening test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olor reaction between urinary albumin and tetrabromphenol blu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race 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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15 mg/dl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1 + 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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30 mg/dl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2 + 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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100 mg/dl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3 + 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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300 mg/dl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4 + 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2000 mg/d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3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[B] </a:t>
            </a:r>
            <a:r>
              <a:rPr b="0" lang="en-US" sz="4400" spc="-1" strike="noStrike" u="sng">
                <a:solidFill>
                  <a:srgbClr val="ffcc66"/>
                </a:solidFill>
                <a:uFillTx/>
                <a:latin typeface="Arial"/>
              </a:rPr>
              <a:t>IV Pulse Steroids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give success in steroid-resistant N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gh dose IV methylprednisolon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0 mg/kg (max Ig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be given every other day for 6 dos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continue in tapering regiment for period up to 18 month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de Effect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ypertens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rhythmi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256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004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[C] </a:t>
            </a:r>
            <a:r>
              <a:rPr b="0" lang="en-US" sz="4400" spc="-1" strike="noStrike" u="sng">
                <a:solidFill>
                  <a:srgbClr val="ffcc66"/>
                </a:solidFill>
                <a:uFillTx/>
                <a:latin typeface="Arial"/>
              </a:rPr>
              <a:t>Cytotoxix Drug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925040" cy="5257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 Cyclophosphamid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ver 12 week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tal cumulative dose 170 mg/k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de Eff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ne marrow suppression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ligospermia, azoospermia and ovarium fibros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If given close to puberty)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morrhagic cystit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isk of maligna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  Chlorambuci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ay cause seizur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3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[D] </a:t>
            </a:r>
            <a:r>
              <a:rPr b="0" lang="en-US" sz="4400" spc="-1" strike="noStrike" u="sng">
                <a:solidFill>
                  <a:srgbClr val="ffcc66"/>
                </a:solidFill>
                <a:uFillTx/>
                <a:latin typeface="Arial"/>
              </a:rPr>
              <a:t>Cyclosporin 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925040" cy="4190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roid dependent or resistant N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 given after renal biops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pses high after withdrawa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de Eff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ypertens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phrotoxicit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yperkalemi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ypomagnesemi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ypertrichos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ingival hyperplasi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3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[E] </a:t>
            </a:r>
            <a:r>
              <a:rPr b="0" lang="en-US" sz="4400" spc="-1" strike="noStrike" u="sng">
                <a:solidFill>
                  <a:srgbClr val="ffcc66"/>
                </a:solidFill>
                <a:uFillTx/>
                <a:latin typeface="Arial"/>
              </a:rPr>
              <a:t>Levamiso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ak steroid sparing dru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ng term us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de Eff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utropeni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s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strointestinal disturbanc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izur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8003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66"/>
                </a:solidFill>
                <a:uFillTx/>
                <a:latin typeface="Arial"/>
              </a:rPr>
              <a:t>Other Practical Aspects of the Management of NS</a:t>
            </a: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uid intake should be limited to double of insensible water loss in severely edematous N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bined diuretics and IV albumin can be given in severe edem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uretics should not be given in mild edem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E:  should not be given in the initial course of prednisolone because of the risk of hypotension and thrombosis in the diuretic pha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E: can be given to steroid-resistant N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hooling, activities, diet should be individualiz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3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66"/>
                </a:solidFill>
                <a:uFillTx/>
                <a:latin typeface="Arial"/>
              </a:rPr>
              <a:t>Urinary dipstick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lse-negativ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luted urin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lse-posi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kaline urine (PH&gt;8.0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entrated urine (sp.gravity&gt;1:025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tiseptic contam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Chlorhexidine, benzalkonium chlorid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intravenouse radiograph contras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5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66"/>
                </a:solidFill>
                <a:uFillTx/>
                <a:latin typeface="Arial"/>
              </a:rPr>
              <a:t>Alternative Office Method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27428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lfosalicylic acide lead to precipitation of proteins including LMW protein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Quantitative estimate of proteinuria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4-hour urine collection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rinary protein/creatinine (pr/cr) rat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ot urine specime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st morning specim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rmal val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&lt;0.2 mg protein/mg creatinin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children &gt; 2 year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&lt;0.5 mg protein/1 mg creatinin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children 6-24 months ol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3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66"/>
                </a:solidFill>
                <a:uFillTx/>
                <a:latin typeface="Arial"/>
              </a:rPr>
              <a:t>Protein Handling by the Kidneys in Normal Children</a:t>
            </a: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rmal rate of protein excre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lt;4mg/m2/h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lt;100mg/m2/da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50% Tamm-Horsfall protei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0% Albumi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0% other protei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stricted filtration of lar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teins (albumin &amp; Immunoglubuli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ximal tabules reabsorb most of  LMW protein (insulin, B2 microglobuli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66"/>
                </a:solidFill>
                <a:uFillTx/>
                <a:latin typeface="Arial"/>
              </a:rPr>
              <a:t>Protein Handling in Renal Disorder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Excess urinary protein loss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rease permeability of the glomeruli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glomerula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rease reabsorption of LMW protein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the renal tubules (tubular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3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66"/>
                </a:solidFill>
                <a:uFillTx/>
                <a:latin typeface="Arial"/>
              </a:rPr>
              <a:t>Types of proteinuria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925040" cy="5029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ansi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eve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res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hydra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ercis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rthostatic proteinuri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cess urine protein in upright position but normal during recumbenc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chool ag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1gm/m2/da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rsistent proteinuria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teinuria of ≥1 + by dipstick 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ltiple occasion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9T07:06:10Z</dcterms:created>
  <dc:creator>LOIDE</dc:creator>
  <dc:description/>
  <dc:language>en-US</dc:language>
  <cp:lastModifiedBy>K.K.U.H.</cp:lastModifiedBy>
  <dcterms:modified xsi:type="dcterms:W3CDTF">2007-01-07T08:54:07Z</dcterms:modified>
  <cp:revision>17</cp:revision>
  <dc:subject/>
  <dc:title>HEMATURIA</dc:title>
</cp:coreProperties>
</file>