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.xml.rels" ContentType="application/vnd.openxmlformats-package.relationships+xml"/>
  <Override PartName="/ppt/notesSlides/notesSlide5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8.jpeg" ContentType="image/jpeg"/>
  <Override PartName="/ppt/media/image28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3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  <p:sldId id="283" r:id="rId55"/>
    <p:sldId id="284" r:id="rId56"/>
    <p:sldId id="285" r:id="rId57"/>
    <p:sldId id="286" r:id="rId58"/>
    <p:sldId id="287" r:id="rId59"/>
    <p:sldId id="288" r:id="rId60"/>
    <p:sldId id="289" r:id="rId61"/>
    <p:sldId id="290" r:id="rId62"/>
    <p:sldId id="291" r:id="rId63"/>
    <p:sldId id="292" r:id="rId64"/>
    <p:sldId id="293" r:id="rId65"/>
    <p:sldId id="294" r:id="rId66"/>
    <p:sldId id="295" r:id="rId67"/>
    <p:sldId id="296" r:id="rId68"/>
    <p:sldId id="297" r:id="rId69"/>
    <p:sldId id="298" r:id="rId70"/>
    <p:sldId id="299" r:id="rId71"/>
    <p:sldId id="300" r:id="rId72"/>
    <p:sldId id="301" r:id="rId73"/>
    <p:sldId id="302" r:id="rId74"/>
    <p:sldId id="303" r:id="rId75"/>
    <p:sldId id="304" r:id="rId76"/>
    <p:sldId id="305" r:id="rId77"/>
    <p:sldId id="306" r:id="rId78"/>
    <p:sldId id="307" r:id="rId79"/>
    <p:sldId id="308" r:id="rId80"/>
    <p:sldId id="309" r:id="rId81"/>
    <p:sldId id="310" r:id="rId82"/>
    <p:sldId id="311" r:id="rId83"/>
    <p:sldId id="312" r:id="rId84"/>
    <p:sldId id="313" r:id="rId85"/>
    <p:sldId id="314" r:id="rId86"/>
    <p:sldId id="315" r:id="rId87"/>
    <p:sldId id="316" r:id="rId88"/>
    <p:sldId id="317" r:id="rId89"/>
    <p:sldId id="318" r:id="rId90"/>
    <p:sldId id="319" r:id="rId91"/>
    <p:sldId id="320" r:id="rId92"/>
    <p:sldId id="321" r:id="rId93"/>
    <p:sldId id="322" r:id="rId94"/>
    <p:sldId id="323" r:id="rId95"/>
    <p:sldId id="324" r:id="rId96"/>
    <p:sldId id="325" r:id="rId97"/>
    <p:sldId id="326" r:id="rId98"/>
    <p:sldId id="327" r:id="rId99"/>
    <p:sldId id="328" r:id="rId100"/>
    <p:sldId id="329" r:id="rId101"/>
    <p:sldId id="330" r:id="rId102"/>
    <p:sldId id="331" r:id="rId103"/>
    <p:sldId id="332" r:id="rId104"/>
    <p:sldId id="333" r:id="rId105"/>
    <p:sldId id="334" r:id="rId106"/>
    <p:sldId id="335" r:id="rId107"/>
    <p:sldId id="336" r:id="rId108"/>
    <p:sldId id="337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slide" Target="slides/slide28.xml"/><Relationship Id="rId56" Type="http://schemas.openxmlformats.org/officeDocument/2006/relationships/slide" Target="slides/slide29.xml"/><Relationship Id="rId57" Type="http://schemas.openxmlformats.org/officeDocument/2006/relationships/slide" Target="slides/slide30.xml"/><Relationship Id="rId58" Type="http://schemas.openxmlformats.org/officeDocument/2006/relationships/slide" Target="slides/slide31.xml"/><Relationship Id="rId59" Type="http://schemas.openxmlformats.org/officeDocument/2006/relationships/slide" Target="slides/slide32.xml"/><Relationship Id="rId60" Type="http://schemas.openxmlformats.org/officeDocument/2006/relationships/slide" Target="slides/slide33.xml"/><Relationship Id="rId61" Type="http://schemas.openxmlformats.org/officeDocument/2006/relationships/slide" Target="slides/slide34.xml"/><Relationship Id="rId62" Type="http://schemas.openxmlformats.org/officeDocument/2006/relationships/slide" Target="slides/slide35.xml"/><Relationship Id="rId63" Type="http://schemas.openxmlformats.org/officeDocument/2006/relationships/slide" Target="slides/slide36.xml"/><Relationship Id="rId64" Type="http://schemas.openxmlformats.org/officeDocument/2006/relationships/slide" Target="slides/slide37.xml"/><Relationship Id="rId65" Type="http://schemas.openxmlformats.org/officeDocument/2006/relationships/slide" Target="slides/slide38.xml"/><Relationship Id="rId66" Type="http://schemas.openxmlformats.org/officeDocument/2006/relationships/slide" Target="slides/slide39.xml"/><Relationship Id="rId67" Type="http://schemas.openxmlformats.org/officeDocument/2006/relationships/slide" Target="slides/slide40.xml"/><Relationship Id="rId68" Type="http://schemas.openxmlformats.org/officeDocument/2006/relationships/slide" Target="slides/slide41.xml"/><Relationship Id="rId69" Type="http://schemas.openxmlformats.org/officeDocument/2006/relationships/slide" Target="slides/slide42.xml"/><Relationship Id="rId70" Type="http://schemas.openxmlformats.org/officeDocument/2006/relationships/slide" Target="slides/slide43.xml"/><Relationship Id="rId71" Type="http://schemas.openxmlformats.org/officeDocument/2006/relationships/slide" Target="slides/slide44.xml"/><Relationship Id="rId72" Type="http://schemas.openxmlformats.org/officeDocument/2006/relationships/slide" Target="slides/slide45.xml"/><Relationship Id="rId73" Type="http://schemas.openxmlformats.org/officeDocument/2006/relationships/slide" Target="slides/slide46.xml"/><Relationship Id="rId74" Type="http://schemas.openxmlformats.org/officeDocument/2006/relationships/slide" Target="slides/slide47.xml"/><Relationship Id="rId75" Type="http://schemas.openxmlformats.org/officeDocument/2006/relationships/slide" Target="slides/slide48.xml"/><Relationship Id="rId76" Type="http://schemas.openxmlformats.org/officeDocument/2006/relationships/slide" Target="slides/slide49.xml"/><Relationship Id="rId77" Type="http://schemas.openxmlformats.org/officeDocument/2006/relationships/slide" Target="slides/slide50.xml"/><Relationship Id="rId78" Type="http://schemas.openxmlformats.org/officeDocument/2006/relationships/slide" Target="slides/slide51.xml"/><Relationship Id="rId79" Type="http://schemas.openxmlformats.org/officeDocument/2006/relationships/slide" Target="slides/slide52.xml"/><Relationship Id="rId80" Type="http://schemas.openxmlformats.org/officeDocument/2006/relationships/slide" Target="slides/slide53.xml"/><Relationship Id="rId81" Type="http://schemas.openxmlformats.org/officeDocument/2006/relationships/slide" Target="slides/slide54.xml"/><Relationship Id="rId82" Type="http://schemas.openxmlformats.org/officeDocument/2006/relationships/slide" Target="slides/slide55.xml"/><Relationship Id="rId83" Type="http://schemas.openxmlformats.org/officeDocument/2006/relationships/slide" Target="slides/slide56.xml"/><Relationship Id="rId84" Type="http://schemas.openxmlformats.org/officeDocument/2006/relationships/slide" Target="slides/slide57.xml"/><Relationship Id="rId85" Type="http://schemas.openxmlformats.org/officeDocument/2006/relationships/slide" Target="slides/slide58.xml"/><Relationship Id="rId86" Type="http://schemas.openxmlformats.org/officeDocument/2006/relationships/slide" Target="slides/slide59.xml"/><Relationship Id="rId87" Type="http://schemas.openxmlformats.org/officeDocument/2006/relationships/slide" Target="slides/slide60.xml"/><Relationship Id="rId88" Type="http://schemas.openxmlformats.org/officeDocument/2006/relationships/slide" Target="slides/slide61.xml"/><Relationship Id="rId89" Type="http://schemas.openxmlformats.org/officeDocument/2006/relationships/slide" Target="slides/slide62.xml"/><Relationship Id="rId90" Type="http://schemas.openxmlformats.org/officeDocument/2006/relationships/slide" Target="slides/slide63.xml"/><Relationship Id="rId91" Type="http://schemas.openxmlformats.org/officeDocument/2006/relationships/slide" Target="slides/slide64.xml"/><Relationship Id="rId92" Type="http://schemas.openxmlformats.org/officeDocument/2006/relationships/slide" Target="slides/slide65.xml"/><Relationship Id="rId93" Type="http://schemas.openxmlformats.org/officeDocument/2006/relationships/slide" Target="slides/slide66.xml"/><Relationship Id="rId94" Type="http://schemas.openxmlformats.org/officeDocument/2006/relationships/slide" Target="slides/slide67.xml"/><Relationship Id="rId95" Type="http://schemas.openxmlformats.org/officeDocument/2006/relationships/slide" Target="slides/slide68.xml"/><Relationship Id="rId96" Type="http://schemas.openxmlformats.org/officeDocument/2006/relationships/slide" Target="slides/slide69.xml"/><Relationship Id="rId97" Type="http://schemas.openxmlformats.org/officeDocument/2006/relationships/slide" Target="slides/slide70.xml"/><Relationship Id="rId98" Type="http://schemas.openxmlformats.org/officeDocument/2006/relationships/slide" Target="slides/slide71.xml"/><Relationship Id="rId99" Type="http://schemas.openxmlformats.org/officeDocument/2006/relationships/slide" Target="slides/slide72.xml"/><Relationship Id="rId100" Type="http://schemas.openxmlformats.org/officeDocument/2006/relationships/slide" Target="slides/slide73.xml"/><Relationship Id="rId101" Type="http://schemas.openxmlformats.org/officeDocument/2006/relationships/slide" Target="slides/slide74.xml"/><Relationship Id="rId102" Type="http://schemas.openxmlformats.org/officeDocument/2006/relationships/slide" Target="slides/slide75.xml"/><Relationship Id="rId103" Type="http://schemas.openxmlformats.org/officeDocument/2006/relationships/slide" Target="slides/slide76.xml"/><Relationship Id="rId104" Type="http://schemas.openxmlformats.org/officeDocument/2006/relationships/slide" Target="slides/slide77.xml"/><Relationship Id="rId105" Type="http://schemas.openxmlformats.org/officeDocument/2006/relationships/slide" Target="slides/slide78.xml"/><Relationship Id="rId106" Type="http://schemas.openxmlformats.org/officeDocument/2006/relationships/slide" Target="slides/slide79.xml"/><Relationship Id="rId107" Type="http://schemas.openxmlformats.org/officeDocument/2006/relationships/slide" Target="slides/slide80.xml"/><Relationship Id="rId108" Type="http://schemas.openxmlformats.org/officeDocument/2006/relationships/slide" Target="slides/slide81.xml"/><Relationship Id="rId109" Type="http://schemas.openxmlformats.org/officeDocument/2006/relationships/slide" Target="slides/slide82.xml"/><Relationship Id="rId1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dt" idx="7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ftr" idx="7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 type="sldNum" idx="7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CB18-5591-49DD-AC88-236E059D5ED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7995-C832-4358-96A6-6E6BCF92B24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6967-F759-4A22-A927-9B6B858CDBF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F619-9FD2-497A-B2AC-EDECD589AC6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CF26-F67A-4514-B038-9546A3D2FD8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1DE7-2EB0-4FAF-A7E0-B7165DF1B7C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6867-919C-4B21-9A4D-C7CEDC763D8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798D-7E9E-4419-B64E-F77884EEBB5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784F-023F-4CAE-86EE-5A707D38307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E556-9C5C-410B-9DC3-4B4AC13E675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4B48-A7D1-442C-9FB5-32C9BB125FD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28FE-AFCA-4CFD-B400-E91688E31A3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B39F-5EB2-4ACB-8D0C-230BEF5B18C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3E7A-232E-45DB-9955-486D0EBACD9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EC60-2DDB-4298-A583-D7799581937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270B-985E-4687-BD3E-A157A676911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66A5-C949-45C9-84B2-2CE8601AD12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D93B-7E14-435B-A74F-9B47257F0BD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3C44-4B27-47F2-B038-6B5ACE73737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DF10-C1F2-40D1-A4CE-BF50C679CD5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EDF7-BDBE-4C62-B1CA-02D73F1C689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B17-D6A0-434B-AE36-4EE184C7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FE7-1D92-4846-9B02-E13BEC75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2F33F-9ABC-4EEE-8894-AE1F463D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A79AD-05F2-4F4C-A08D-071EAEDA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2D1D3-2245-4F13-95EF-ABEC6E86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991A0-82F4-4922-AF08-FE5C9FB6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26309-03FC-46DE-8399-AE03E7E4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75754-EF79-49D9-8CBF-0F421259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C3BFA-BABA-461D-BE07-5C575439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6FC3C-6660-42CF-B268-3DD838F9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4717F-A909-4B75-AEF0-997917C4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A05A8-B5EE-49A5-A56A-34C86694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87C-9B3C-4107-BCEF-C5C6CACD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D96C2-B90C-418E-BE3C-E1702861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A708F-76C6-4F46-B1F9-BF559238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BAE24-69EC-49A3-A9EA-7C7E6E59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11CF2-2CC4-4720-9655-7D147DE6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4B761-DAF5-4223-956D-FF10F655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803E5-FCB4-4CBF-84BA-A6CE1489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E276C-712F-4864-BAD8-12D919B3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867A9-FAC8-47E6-A3CA-99E16097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DDA47-4EAB-41B8-8801-B4F55C54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4F0DD-A701-49AF-B319-B6CD6873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603D-BFED-4F3F-86B6-825C7C2F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C0DC9-3EA3-442A-9FDB-005C6CC7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8D3BD-F472-4A1A-AB70-23FCB0D5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AF471-C302-4960-8400-EC413061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4A4CF-19E4-4D92-829A-821859D3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007D1-7E33-404B-8F87-84A82814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6501B-0676-4BB2-92C4-C38103D2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F9B71-1FC1-4FD6-903F-C8255538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4C6A4-B844-4E44-B2CA-54704577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31A81-C53A-43C1-AE12-0931D7C1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06D67-9B15-4906-870F-3A7CA49C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8259-460D-4D79-8C77-4A2AD761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287EA-5856-4378-ABE1-CAAC128C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76409-33E4-4E20-BB7D-B80B7FB4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1B9E0-92BF-4C56-BDDF-639B1AC3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B840A-650D-47C2-AEB0-A888D7B6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F197D-B763-4E58-BFCA-7CE2C0FE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04A1E-D749-428B-9EE9-D31E879E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EC7B3-2FED-4AF0-A1B4-878770D6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57AC9-D54D-418C-A582-EE07DB77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87854-8E41-456F-BE6C-116C81B0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2DED5-8F1B-4DCC-88F1-65FADCAA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1F03-02DB-49EF-A7EB-43F89232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0DD28-EDBA-40FB-BE9F-B21DE97A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78818-8D8C-418C-A363-3D7FE309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6F70C-5FDC-460E-A5DF-D2FC991C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6DBB7-D65E-4B04-B765-1EAD9A46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DC50B-7BCC-41B5-936E-4254A973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5B0E1-6252-4250-AA2F-FBDEC7C7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E383EA-E592-4DC8-9566-BAD8B0CC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430EE-B6F0-4497-85C1-2A93CCD1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DC5E9-EDD3-427C-9C45-31D995F9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D4FB9-9F18-48F8-BBC1-1B6FE0DC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1C2C-C66A-45F6-8DE4-C10E6F31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F4A52-47C0-4D55-8482-A8D6CF3B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D5B47-41A0-4B57-9533-EF439D34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93F73-C7A7-4F19-B36C-92E631F3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3986B-5365-4011-9B65-48422A15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0CA6D-8741-45E7-8B85-276E9100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F92F7-DABB-4DD8-B099-80A87E1E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96D0E-70E4-4FBC-B72F-5AADA4DE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3777-6E8E-48CC-B88E-D44BA9F4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9F604A-909F-4078-A63A-632255B8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DCD9-2332-4D04-B3CF-4D81A295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C9AB8B-F051-4D54-B0B0-80DFA589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99215C-E0AD-4232-9E30-CF11A8AE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B7C826-2EBB-4291-B54D-A493A36A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E9050E-ECA3-4D0A-88B3-50584A94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2679CE-2CC3-4114-A99C-36310DF5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EC7A6E-78FD-4FA4-B924-C534A346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CF33E7-7CB5-4603-9EE9-33F73B9F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869E1F-077F-4E06-A3F9-3E935366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CC4583-0DF6-467C-BC87-B7F842D3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1D0D86-EBAF-438A-A4EA-F420EC8F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37FD-5969-4C83-AC01-019334C8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F85227-6909-43EA-82EE-1DF1DCF0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E853BB-9144-40B7-B06A-F0207DEC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D2941D-9C91-4A33-9862-8A75B444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C4B1E81-F7FC-421E-9D2B-616759B7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CF5BA8-31F6-4336-A7DC-8F609D57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178EFB-803A-45A3-B040-14764FD3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3F1D5A-B754-4159-889B-24872A97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5E533B-452A-4920-9483-853F3110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7DCC96-093C-4EE5-AC77-30D72856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FC54B3-56E1-43EA-ADA2-C8526F67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91CC-55D8-4724-A4F4-ADE253C5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E1102F-68E4-4DD9-BEFC-51BC5CFA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A22673-0892-489C-B47E-9D9CC713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D21DB6-2A04-46A1-8418-6F1CCE78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525EDE-464D-4586-858D-FF8917B6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5FC786-EA3F-491E-9E93-AFD7FA74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E377696-918C-4B26-BA6F-DDB35420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920930F-B451-4127-9752-0751AEB5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BCA83B5-167D-4DE4-A1D2-5ABB2B9D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207343-470E-4249-B59C-787D899C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D8DC8E1-50CD-4E7A-905D-89D58338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4A6F-9A62-4006-B1FD-DA13F3C3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CACA-3E57-44E8-8CD3-756AA087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03E4AAD-D6E7-4869-8C54-1E9DC527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FB1981-4C0A-4594-AFF8-26FE03FB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E0A4EA-60D6-4464-BEC3-5DC84371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6ED8A3-386F-4310-B793-787F46DE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19283A7-6EFC-451C-ADF9-B66BBE3B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02CCA3-5F31-475B-AC94-5F1EAED5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7AA2934-408B-4F5F-8463-90681944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EA95E0C-DF68-47D3-97F8-E58798BB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43239EF-CDFE-4BFE-9F99-E57AAA47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C6C28E-EDC0-4DD5-A7B4-C84BD48B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1C24-73A0-442D-905E-95E4EA2D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2249040-FA5F-4B79-80A5-50A29171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77E6D8-8831-4F1C-AEF2-45EFB080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FF51E50-B818-4BA8-8552-6A3709BD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E7D5AF3-4925-4C87-A4AC-D7253B6A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6F1C43-2B7A-4BB1-B34F-CC8DB1B5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80BBF41-8475-41F2-B862-DF122355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60547D6-FFB5-44DD-806E-96E5375F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4B4094-C977-4028-B545-E9709427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13C871C-80C1-4D14-8EA8-04A6A6F8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B539AD4-71ED-4A14-A228-5DF22131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B13F-840F-4757-B784-CB0238B3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81D6E79-E701-4843-9B81-4C965797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D51FBD-46A8-4F48-8FE9-7413B073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2E58DC7-A859-45E3-8D95-75D474E5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9B71241-EA3E-4D9B-8B14-151398E5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0CD3FC-7DD2-4610-BA2E-4200D07A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8FFB04-4A8A-44D7-BB77-DFA722C4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FD6130-699E-4A2C-B765-87090165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0BDDA0-5C20-4BA9-8FC4-B11F299E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F83EFB1-8600-4A52-8022-030B4943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E62CE91-F60D-4EAD-B44F-34156777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395B-E84E-4002-8873-C6609B53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8976DC7-C03F-4443-BD2C-08B99991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B4C596E-8318-4A79-AFBE-775CB0A1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753749-F594-46CB-A85C-FA59C765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557EC8-EC32-4E75-A8C3-458CEF78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142BB4A-ADD0-4737-9781-91A76AA8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40DC9FB-D2E9-4619-925B-24723D5C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C4EEE64-317A-4BCC-8D5E-C4FCFC75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BDFFA5F-0BD6-4619-AE1C-5356619B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3958C1F-715B-416F-A135-6649323C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860A182-B464-47AD-B1D6-2F890275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28C3-C3D2-4B55-9B25-C8E1C988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B45C742-CC8E-4ECD-90FC-AFC2CF61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70F23E0-B2BE-4056-ADF2-63F2D73B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A4E3450-2225-4B24-94C5-A94E7006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3A7337D-244F-452F-88F3-A8CECD07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D36A12B-EDBE-42F3-9833-CB5C95B9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49E774-1EA2-4896-8971-72333620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AC00EB0-6908-4200-9846-879A2371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99EE640-CE74-4E11-BCB9-66380A6D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6BDEAB9-316A-475B-8CE0-83907176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E4981DB-596A-4E83-B09A-7F20C2CF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28871-1CE1-49E4-9B73-9BDD9B19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1BA7467-FA92-4D4F-B2B8-B93CF71E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457D35E-275C-4A2F-9B17-6401C1F9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4DA412C-AD9D-4862-9BED-A966EF78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071038F-F772-4F96-B382-D2FCBCD3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764C65F-6797-4F82-A83A-1B680555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5AC95A0-94CC-427F-8FCA-BF1D5239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3BD8C4E-B1C9-4AFB-AB54-23BD003B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0F2402A-A71B-4040-B8B8-AFB2A44E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A24349D-BB82-4637-9A57-DBBFED37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349CE51-718D-464B-9F28-F75727A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85CAF-2E27-407F-B071-B50ADEF7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9DC1A8D-3FD7-476B-B745-371DC34C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FB0AFD-DC50-4139-9705-163305D7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06A63F8-F464-4592-B69B-3B0E1E3C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EB1465D-6FD9-42BB-AD32-EE38D9E5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16E07B7-C359-48C3-BA86-78956D18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64FF39A-59CB-47C8-87F5-B0845B42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291EB52-5AEC-4E59-8762-380FC202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5413D14-0F75-44FB-845F-59F1D0CE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5BF18D0-ECD4-494C-BF87-159A25CE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EB5BB17-8B46-4E85-AF9A-8147976B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167E4-8CF3-4EAE-86C5-00BE6619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CB4A612-9DE5-4DF3-9A21-06DF796C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D43B713-4EBD-4C43-848C-5C3BAE74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C02FE2B-F7ED-4396-B887-616E9677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3BCF4A0-8FEE-48AF-979B-29124C74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949EBF-8C9B-432E-A36D-0FA33D71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4830CA0-6398-45A4-B920-EEC8179D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F423E97-36EE-4868-B88E-0B5C3F84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02A1C2F-1207-45D3-911E-88964A60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B895036-BBBD-46A2-A2C3-4632DED7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323AF8A-FBFC-4F79-952C-3A55DA5C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E5305-3170-49B7-BEAA-419773D4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D8C164E-DCA4-4828-9366-B600CEE7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39F3C98-0261-4941-87C6-3D252B59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143CBAA-F986-4840-AF48-8752CEDF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55AA75D-026B-4501-AA57-080BEF55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E73B3F4-B8AE-40BA-93DD-CC2D3321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D3B80C2-C7E6-4B17-8EF2-D5516BDB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C012435-F4A5-45A7-9611-44A5B262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7984074-4D84-4D6F-ABE8-13586CC8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FD4C3AC-0B97-482B-AE79-FA782FF0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E90785E-4C28-44B6-A774-05E7D85D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B7F9-5C03-4E52-8BCF-9516366A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8C0FE82-B2B6-4E63-B6A0-99FDE270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F56C07A-9144-498B-A4FC-BCD62A54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2C45CC6-D190-4603-B62B-DD61ABEE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6666771-BCFE-4361-B3FF-F4480466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CBE349B-4852-4004-8E2A-FA4B280F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173E4D0-ED08-4531-B2EC-92C3CFC8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0910937-2450-4846-9EAA-9C3A8198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49CE245-5A18-4ABA-BC9E-AC171EE1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37D6861-BA25-4CDC-A3E6-CD236EA9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FF8703C-507E-4DD9-8DFE-25AA20BE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DB03-8862-4E9A-B055-406A3830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609C2-4124-4ADF-985D-5605F8DC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F24503D-4EBD-471A-A63B-2CCF2649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688C7-C724-4BD8-9490-C2489CD3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0763-C4F0-41E5-ACD3-14F3E2D8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D40B5-6C47-4979-9FE6-1D0E728B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686EA-3D95-41AE-BA7A-9F4574F4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FACF-707B-44E2-AC43-D35F0F83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D68ED-BB83-4176-886B-429727B7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11DD6-8098-4DCC-89E4-FD466D2E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0614F-003E-4AF3-9E1C-A344B5E8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BE06C-80FF-4125-9E45-511648EC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846-C162-4BC8-924B-75739205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62FBB-362B-4A25-91F1-6515FBC0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939D8-4B27-4143-A2D3-925EA28B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E1B90-A922-47A7-9437-BAF68D3E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84430-9F93-4D7E-9468-D0FBC5F1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80FE9-96C6-4466-B610-AE4FAD42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18F69-82B6-4AD6-87D6-E3521848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43840-CA58-430B-9CBD-080B9CEC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A4EC0-AA13-4380-9910-50DDF856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76D91-166B-4108-8618-F6EB2DF4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3F614-DF24-4636-8D17-5618F79C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254-0C2A-4DE5-8682-C4334A1A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2A6D6-C7D6-45C2-9120-60B3301B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FB02F-B2C2-48D9-AA72-3B26052E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47C78-6D7D-4B9D-80D7-76B12472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9BDC1-A452-4B1A-9321-A5094FD7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CE982-D748-4625-9F93-13CC1CE2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CF60C-C471-4FBB-8FD6-FD5D78A8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CE5FB-96B7-47F1-98D0-EE6120D1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56DE6-A452-4EC5-9ED8-1E8E5369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378B9-AD41-49FA-81B5-AEA5921A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AFA3F-EC8E-47C5-8642-60527AB7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191-C2FD-4075-8D3E-55B7721E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F0D90-D90E-4E45-A097-2CB62F2B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C8D30-4164-4CBE-90BB-B4E2BBCE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EE7C0-A076-4DD6-9A8E-A2F10E95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B760F-41AC-4C0F-9EF5-740C04A8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DD5D3-0379-4E5A-B698-088D0195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098EA-12AD-4821-B87B-F5A601E1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27D48-D316-4E8C-A0A8-EC2E68CA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AA972-56DF-4D93-AF40-7E5D747D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A43A4-4BD4-4BBE-8399-97C13E2C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DEB21-17F1-474B-B070-324A0630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B2B-E844-4EB2-939F-4AB1820A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C6E28-3FE2-4841-A684-64FD2B1B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E83ED-1E6C-478E-83C9-7548147D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38057-65F0-4B5F-B49B-7EC54215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44743-CBE6-4477-B002-07144653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029DA-FFD9-480F-B13A-7E1A628C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2FE0D-3213-4E9E-8DED-30BBECE4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8BF3D-19E5-45D9-8DFF-0DA13F1A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C155C-76EF-45EE-9E96-5DF48270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FCAEE-E2F8-4DA7-B81B-24AF4868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E5F6-0598-4F1F-9669-FC6224FC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2F7-BDEE-483B-B97E-0C898565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74ED8-09CF-4E29-9009-169EE6E1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6AEE1-5E8C-4483-AFD0-D27CD767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148E3-263C-424C-A94F-0D43D169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0C0F2-0178-4C3F-8372-B95D7435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B247F-E8B8-4E20-B316-81F24BF4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A1C68-BCEF-44CA-8AC2-F01DD564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724BD-E3BF-470B-BEA5-2AAB1C1C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23600-98D9-48CF-9446-FC0DAF81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D02E7-B2A4-4247-9DA7-FC72E6C1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BB256-A940-4587-B5CE-3FD49867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724-5465-4A01-9A70-3140CDD0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6FAEE-88B4-4D7C-8CA1-3E78EDF4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F9FF2-5407-4C70-AB59-1BB8FE91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44FE1-9E0F-4CDF-96F5-4884D3B3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543B7-6C53-4FEB-80CA-5AA093C4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29C78-DF77-4852-8AF0-95F03C77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274C6-F07E-446D-9876-DA851C42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B0242-51A8-4A61-94E5-BA477619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CB922-9D8F-427A-94C3-356BBDEF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540B9-D30F-4EB4-BF08-69DC626A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F8525-7752-4AB8-A9B3-F84EC278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F72E-8DA7-4019-95C8-E2B2413C95B6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27CE-A6AC-4BA0-842D-F917BB57D62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4EE6-0C2D-4D28-8CAA-9DFE57FA946A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DA61-F3F6-4DB4-A474-BB5CD043013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E6AC-994B-4457-8653-DE3D06F8C2E0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20BE-30EB-46BF-8F72-8972BA3C883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4823-1508-4D54-ACF3-531D164A74D7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29E4-3596-49D2-BF65-CBD5DF8AC0D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F3C7-B55B-44F1-92CA-B4BEE66F205E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810A-44FB-40B8-A067-BD50F115EEC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F02B-5F6F-4A33-8571-85C0F1F533C0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396C-8493-437A-AC20-571561F9E5E8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F236-70B3-4D5B-B392-122003BE80D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88DA-33FE-41CA-BD39-42A740AEE152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0EE9-5BD5-40FD-A495-D09795D1426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8D52-37C9-41EC-A931-C2D529FFFC1E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5BAF-BC0D-4D9B-BD07-70493DDA2AB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6346-59F7-4510-B15E-1B26E7362D74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1454-4C67-42BA-B4FB-E94B2C05785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25FD-E518-4EFE-B7EC-19CC8CEA6643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3FF1-5D65-4865-929E-8AF015C7B17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A8D8-75B4-4DCC-BB4A-315362E31A5F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806B-3617-4A9E-B284-8C33E2AD2A2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B24A-DC5E-4A8F-BC01-9454684CEFA7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387A-7FF7-4EB8-9DE7-C3178E1DCC9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2E3B-9D10-4485-905A-4C9A8C9DCF52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DFB6-2D4F-4E12-A0B2-293B9724C2A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BB90-DAEA-4A5A-ACF9-1CF6055E657A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3434-6AC8-4E0C-9C7C-C899612DB68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7B20-F049-46AF-8326-D37ACE6D9BC9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0F3A-AAAD-43C2-A27A-A186A3A897E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0830-1D36-42C1-A7B5-123512DB1227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1511-5820-4B23-99A0-B82BE951D96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6D94-CB7C-4F11-BCA5-E64E26A3E55D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25D7-3F32-419F-8DF5-17EFBD12BF1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6794-8B4B-432B-84DB-DA2E37AE1694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7AB7-EB3B-4839-918E-775170B980A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9BB9-0858-46A7-BE0E-B5CFFCDA68A3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CC47-6330-4ABD-8D0D-C4F5BCABF09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1897-12EF-4209-930F-407740A978E3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A078-D9A5-4EDA-A20A-36F50023922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3717-C039-4448-B729-D30CCDF4EF06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7A0B-DF69-45F2-A1D9-0BEC309890C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3479-E5B5-4154-96E5-C5C1C42DF50D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FCDB-C7C6-4C48-896B-01266B8E7A6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48E2-4BCD-4D08-9A84-7434ADF2525E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D12F-30D8-48CD-9F9C-EABC6B226DD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38E7-D762-4F03-BBF5-1E9AEEC8A999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F2D6-88B0-4C61-9EC4-05B648B8462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../../Kernicterus/AAP%20guide%20lone.pdf" TargetMode="External"/><Relationship Id="rId2" Type="http://schemas.openxmlformats.org/officeDocument/2006/relationships/hyperlink" Target="file:///../../Kernicterus/lab%20evaluation.htm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onatal Jaundic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403280" y="3573360"/>
            <a:ext cx="6486480" cy="20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r. AbdulRahman Al Nemri,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airman of Pediatric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sociate 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ior Consultant Neonat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3" name="Picture 3" descr="bilirubin.1.jpg"/>
          <p:cNvPicPr/>
          <p:nvPr/>
        </p:nvPicPr>
        <p:blipFill>
          <a:blip r:embed="rId1"/>
          <a:stretch/>
        </p:blipFill>
        <p:spPr>
          <a:xfrm>
            <a:off x="3851280" y="404640"/>
            <a:ext cx="1600200" cy="582840"/>
          </a:xfrm>
          <a:prstGeom prst="rect">
            <a:avLst/>
          </a:prstGeom>
          <a:ln w="0">
            <a:noFill/>
          </a:ln>
        </p:spPr>
      </p:pic>
    </p:spTree>
  </p:cSld>
  <p:transition spd="slow" advTm="45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Content Placeholder 3" descr="bili metabolism.jpg"/>
          <p:cNvPicPr/>
          <p:nvPr/>
        </p:nvPicPr>
        <p:blipFill>
          <a:blip r:embed="rId1"/>
          <a:stretch/>
        </p:blipFill>
        <p:spPr>
          <a:xfrm>
            <a:off x="441360" y="285840"/>
            <a:ext cx="8388360" cy="5929200"/>
          </a:xfrm>
          <a:prstGeom prst="rect">
            <a:avLst/>
          </a:prstGeom>
          <a:ln w="0">
            <a:noFill/>
          </a:ln>
        </p:spPr>
      </p:pic>
      <p:sp>
        <p:nvSpPr>
          <p:cNvPr id="1059" name="Rectangle 5"/>
          <p:cNvSpPr/>
          <p:nvPr/>
        </p:nvSpPr>
        <p:spPr>
          <a:xfrm>
            <a:off x="789840" y="5143680"/>
            <a:ext cx="148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lirubin oxid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Rectangle 6"/>
          <p:cNvSpPr/>
          <p:nvPr/>
        </p:nvSpPr>
        <p:spPr>
          <a:xfrm>
            <a:off x="6719040" y="385776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a-glucuronid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Rectangle 7"/>
          <p:cNvSpPr/>
          <p:nvPr/>
        </p:nvSpPr>
        <p:spPr>
          <a:xfrm>
            <a:off x="4512240" y="171468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verdin reduct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2" name="Picture 8" descr="bilirubin%20metabolism.jpg"/>
          <p:cNvPicPr/>
          <p:nvPr/>
        </p:nvPicPr>
        <p:blipFill>
          <a:blip r:embed="rId2"/>
          <a:stretch/>
        </p:blipFill>
        <p:spPr>
          <a:xfrm>
            <a:off x="1616040" y="785880"/>
            <a:ext cx="6384960" cy="5246640"/>
          </a:xfrm>
          <a:prstGeom prst="rect">
            <a:avLst/>
          </a:prstGeom>
          <a:ln w="0">
            <a:noFill/>
          </a:ln>
        </p:spPr>
      </p:pic>
      <p:sp>
        <p:nvSpPr>
          <p:cNvPr id="1063" name="Rectangle 6"/>
          <p:cNvSpPr/>
          <p:nvPr/>
        </p:nvSpPr>
        <p:spPr>
          <a:xfrm>
            <a:off x="1619280" y="32846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ridine diphospho- glucuronosyltransferase  (UG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ISK FACTORS FOR SIGNIFICANT JAUNDICE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94920" y="1785960"/>
            <a:ext cx="82486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stational Age more in prem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ce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tic @ environ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ternal illnes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M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&amp; Blood group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BO or Rh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mily history of  jaundice requiring photo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molysi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G6PD, Spherocyto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vere bru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eastf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Etiological Classifica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13160" indent="-71316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reased bilirubin loa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13160" indent="-713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molytic c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3160" indent="-713160">
              <a:spcBef>
                <a:spcPts val="499"/>
              </a:spcBef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ombs' test posi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 factor incompatibility, ABO incompatibility, minor antigen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one is comm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13160" indent="-713160">
              <a:spcBef>
                <a:spcPts val="700"/>
              </a:spcBef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ombs' test neg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 blood cell membrane defec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spherocytosis, elliptocytosis)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 blood cell enzyme defec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G6PD deficiency, pyruvate kinase defici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3160" indent="-71316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not thalasemia or SC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Oval 4"/>
          <p:cNvSpPr/>
          <p:nvPr/>
        </p:nvSpPr>
        <p:spPr>
          <a:xfrm>
            <a:off x="755640" y="836640"/>
            <a:ext cx="2521080" cy="201600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5"/>
          <p:cNvSpPr/>
          <p:nvPr/>
        </p:nvSpPr>
        <p:spPr>
          <a:xfrm>
            <a:off x="846000" y="1295280"/>
            <a:ext cx="27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Bilirubin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Oval 6"/>
          <p:cNvSpPr/>
          <p:nvPr/>
        </p:nvSpPr>
        <p:spPr>
          <a:xfrm>
            <a:off x="5452920" y="914400"/>
            <a:ext cx="3048120" cy="1371600"/>
          </a:xfrm>
          <a:prstGeom prst="ellipse">
            <a:avLst/>
          </a:prstGeom>
          <a:solidFill>
            <a:srgbClr val="cccc00"/>
          </a:solidFill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7"/>
          <p:cNvSpPr/>
          <p:nvPr/>
        </p:nvSpPr>
        <p:spPr>
          <a:xfrm>
            <a:off x="5722920" y="1143000"/>
            <a:ext cx="292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o-hepatic 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Oval 9"/>
          <p:cNvSpPr/>
          <p:nvPr/>
        </p:nvSpPr>
        <p:spPr>
          <a:xfrm>
            <a:off x="2484360" y="5373720"/>
            <a:ext cx="4391280" cy="13683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10"/>
          <p:cNvSpPr/>
          <p:nvPr/>
        </p:nvSpPr>
        <p:spPr>
          <a:xfrm>
            <a:off x="3708360" y="5516640"/>
            <a:ext cx="223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ilirubin El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14"/>
          <p:cNvSpPr/>
          <p:nvPr/>
        </p:nvSpPr>
        <p:spPr>
          <a:xfrm>
            <a:off x="338040" y="0"/>
            <a:ext cx="8805960" cy="3988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pperplate Gothic Bold"/>
              </a:rPr>
              <a:t>Physsiologic Mechanis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17"/>
          <p:cNvSpPr/>
          <p:nvPr/>
        </p:nvSpPr>
        <p:spPr>
          <a:xfrm>
            <a:off x="3857760" y="1071720"/>
            <a:ext cx="1287360" cy="368280"/>
          </a:xfrm>
          <a:prstGeom prst="rect">
            <a:avLst/>
          </a:prstGeom>
          <a:solidFill>
            <a:srgbClr val="cccc00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6" name="Object 2"/>
          <p:cNvGraphicFramePr/>
          <p:nvPr/>
        </p:nvGraphicFramePr>
        <p:xfrm>
          <a:off x="2928960" y="2714760"/>
          <a:ext cx="32176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2714760"/>
                    <a:ext cx="32176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8" name="Right Arrow 14"/>
          <p:cNvGrpSpPr/>
          <p:nvPr/>
        </p:nvGrpSpPr>
        <p:grpSpPr>
          <a:xfrm>
            <a:off x="3486240" y="1481040"/>
            <a:ext cx="2023920" cy="1109880"/>
            <a:chOff x="3486240" y="1481040"/>
            <a:chExt cx="2023920" cy="1109880"/>
          </a:xfrm>
        </p:grpSpPr>
        <p:pic>
          <p:nvPicPr>
            <p:cNvPr id="1079" name="Right Arrow 14" descr=""/>
            <p:cNvPicPr/>
            <p:nvPr/>
          </p:nvPicPr>
          <p:blipFill>
            <a:blip r:embed="rId3"/>
            <a:stretch/>
          </p:blipFill>
          <p:spPr>
            <a:xfrm>
              <a:off x="3486240" y="1481040"/>
              <a:ext cx="20239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3500280" y="1768320"/>
              <a:ext cx="173196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ransport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Down Arrow 15"/>
          <p:cNvSpPr/>
          <p:nvPr/>
        </p:nvSpPr>
        <p:spPr>
          <a:xfrm>
            <a:off x="6572160" y="2714760"/>
            <a:ext cx="1928880" cy="21430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4d4d4d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Curved Up Arrow 15"/>
          <p:cNvSpPr/>
          <p:nvPr/>
        </p:nvSpPr>
        <p:spPr>
          <a:xfrm>
            <a:off x="1258920" y="3141720"/>
            <a:ext cx="1368360" cy="2087640"/>
          </a:xfrm>
          <a:custGeom>
            <a:avLst/>
            <a:gdLst>
              <a:gd name="textAreaLeft" fmla="*/ 213840 w 1368360"/>
              <a:gd name="textAreaRight" fmla="*/ 983520 w 1368360"/>
              <a:gd name="textAreaTop" fmla="*/ 279720 h 2087640"/>
              <a:gd name="textAreaBottom" fmla="*/ 180792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721033"/>
                <a:lnTo>
                  <a:pt x="21509" y="3538"/>
                </a:lnTo>
                <a:lnTo>
                  <a:pt x="16200" y="0"/>
                </a:lnTo>
                <a:lnTo>
                  <a:pt x="10709" y="3538"/>
                </a:lnTo>
                <a:lnTo>
                  <a:pt x="13409" y="3538"/>
                </a:lnTo>
                <a:arcTo wR="6750" hR="21600" stAng="1678967" swAng="325504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4d4d4d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Nonhemolytic cause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28400" y="1714320"/>
            <a:ext cx="83581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creased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njugated bilirubin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vel, normal percentage of reticulocy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ysiologic jaund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travascular sou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lycythe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ggerated enterohepatic circ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2- </a:t>
            </a: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Decreased bilirubin conjugation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ysiologic jaund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igler-Najjar syndr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lbert syndr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pothyroid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reast milk jaund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3- Impaired bilirubin excretion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jugated bilirubin level of &gt;2 mg per dL (34 μmol per L) or &gt;20% of total serum bilirubin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iliary obstr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tabolic disor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romosomal abnorma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Physiologic jaundic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56840" y="1599840"/>
            <a:ext cx="82580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breakdown of fetal erythrocytes.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ortened lifespan of fetal erythrocytes and the higher erythrocyte mass in neona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patic excretory capacity is s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activity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lucuronyl transf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, presentation is on the second or third day of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aundice that is visible during the first 24 hours of life is likely to be nonphysiolog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86480" cy="25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is the commonest cause of non hemolytic hyperbilirubineamia?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other D/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1354-207C-4232-ACFC-A8589DF8E0C0}" type="datetime">
              <a:rPr b="0" lang="ar-SA" sz="1400" spc="-1" strike="noStrike">
                <a:solidFill>
                  <a:srgbClr val="ffffff"/>
                </a:solidFill>
                <a:latin typeface="Arial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are the criteria of physiological Jaundice ?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5" name="Content Placeholder 2"/>
          <p:cNvSpPr/>
          <p:nvPr/>
        </p:nvSpPr>
        <p:spPr>
          <a:xfrm>
            <a:off x="1332000" y="2133720"/>
            <a:ext cx="7345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se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te of TSB inc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vel of TS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e of Bil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56AB-E410-4818-A81A-A4E7325E9E82}" type="datetime">
              <a:rPr b="0" lang="ar-SA" sz="1400" spc="-1" strike="noStrike">
                <a:solidFill>
                  <a:srgbClr val="ffffff"/>
                </a:solidFill>
                <a:latin typeface="Arial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7" name="Picture 4" descr="3903809_max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043840" cy="451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Infants with multiple risk factors may develop an exaggerated form of physiologic jaundice in which the total serum bilirubin level may rise as high as 17 mg per dL (291 μ mol per L)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JAUNDICE AND BREAST FEEDING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99680" y="178596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ly-Onse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Breast feedi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ssociated Jaundice or B Feeding failure J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reased volume and frequency of feedings may result in mild dehydration and the delayed passage of mecon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reast mil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aundice occurs later in the newborn period usually peaking in the sixth to 14th days of lif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 Milk Metabolite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 progestrin, pregnane 3</a:t>
            </a:r>
            <a:r>
              <a:rPr b="0" lang="el-GR" sz="2400" spc="-1" strike="noStrike" baseline="30000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20</a:t>
            </a:r>
            <a:r>
              <a:rPr b="0" lang="el-GR" sz="2400" spc="-1" strike="noStrike">
                <a:solidFill>
                  <a:srgbClr val="ffff00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PATHOLOGIC JAUNDIC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900000" y="2285640"/>
            <a:ext cx="78868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etiologies of jaundice beyo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ysiologic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reastfeeding 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reast milk jaundic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re considered patholog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-Conugated Hyperbilirubinemia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755280" y="2357280"/>
            <a:ext cx="806436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essive  Bilirubin 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aired Conjugat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re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molytic Disease  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group in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 cell enzyme de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 blood cell membrane de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avascular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cyth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ABO Incompatibility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68000" y="1628640"/>
            <a:ext cx="8186760" cy="49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O Incompatibility is the most common cause of hemolytic 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nly 10-20% of infants with ABO mismatch develop significant 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mbs positive ABO is more likely to cause hemo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versely, Coombs negative  ABO mismatch does occasionally cause significant hemolysis, but this is rather r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9" name="Picture 3" descr="289px-Neonatal_jaundice.png"/>
          <p:cNvPicPr/>
          <p:nvPr/>
        </p:nvPicPr>
        <p:blipFill>
          <a:blip r:embed="rId1"/>
          <a:stretch/>
        </p:blipFill>
        <p:spPr>
          <a:xfrm>
            <a:off x="5786280" y="2571840"/>
            <a:ext cx="1928880" cy="39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Laboratory Evaluation of Term Newborn with Jaundice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11" name="Content Placeholder 3" descr="afp20020215p599-f1.gif"/>
          <p:cNvPicPr/>
          <p:nvPr/>
        </p:nvPicPr>
        <p:blipFill>
          <a:blip r:embed="rId1"/>
          <a:stretch/>
        </p:blipFill>
        <p:spPr>
          <a:xfrm>
            <a:off x="2000160" y="1600200"/>
            <a:ext cx="5357880" cy="52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Content Placeholder 3" descr="1331339-1331345-974786-974916.jpg"/>
          <p:cNvPicPr/>
          <p:nvPr/>
        </p:nvPicPr>
        <p:blipFill>
          <a:blip r:embed="rId1"/>
          <a:stretch/>
        </p:blipFill>
        <p:spPr>
          <a:xfrm>
            <a:off x="100080" y="285840"/>
            <a:ext cx="8901000" cy="63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Picture 2" descr=""/>
          <p:cNvPicPr/>
          <p:nvPr/>
        </p:nvPicPr>
        <p:blipFill>
          <a:blip r:embed="rId1"/>
          <a:stretch/>
        </p:blipFill>
        <p:spPr>
          <a:xfrm>
            <a:off x="711360" y="328680"/>
            <a:ext cx="7721280" cy="6203880"/>
          </a:xfrm>
          <a:prstGeom prst="rect">
            <a:avLst/>
          </a:prstGeom>
          <a:ln w="0">
            <a:noFill/>
          </a:ln>
        </p:spPr>
      </p:pic>
      <p:sp>
        <p:nvSpPr>
          <p:cNvPr id="1114" name="Text Box 3"/>
          <p:cNvSpPr/>
          <p:nvPr/>
        </p:nvSpPr>
        <p:spPr>
          <a:xfrm>
            <a:off x="1389240" y="6591240"/>
            <a:ext cx="7245000" cy="1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ubcommittee on Hyperbilirubinemia,   Pediatrics 2004;114:297-3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0" y="0"/>
            <a:ext cx="8423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lgorithm for the management of jaundice in the newborn nurs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ellow-orange pigment  Icterus –ikteros - bilirubin in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skin and sclera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aundice = galbus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TSB 34umol/l Vs 86 -11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 one of the most common clinical phenomena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countered in newbor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ow common is it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Picture 3" descr="Spherocytosis-50x-lymphocyte-website.jpg"/>
          <p:cNvPicPr/>
          <p:nvPr/>
        </p:nvPicPr>
        <p:blipFill>
          <a:blip r:embed="rId1"/>
          <a:stretch/>
        </p:blipFill>
        <p:spPr>
          <a:xfrm>
            <a:off x="1357200" y="1071720"/>
            <a:ext cx="655164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Picture 1" descr="Hereditary_Elliptocytosis.gif"/>
          <p:cNvPicPr/>
          <p:nvPr/>
        </p:nvPicPr>
        <p:blipFill>
          <a:blip r:embed="rId1"/>
          <a:stretch/>
        </p:blipFill>
        <p:spPr>
          <a:xfrm>
            <a:off x="1803240" y="1214280"/>
            <a:ext cx="580572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56840" y="1600200"/>
            <a:ext cx="82580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 increased incidence of kernicterus was found to be associated with total serum bilirubin levels above 20 mg per dL in the presence of hemo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ydration And Supportive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guidelines now focus primarily o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ototherap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initial 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 guidelines recommending the use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hange transfus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ll infants with significant hyperbilirubin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42600" y="371484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ELEVATED CONJUGATED BILIRUBIN LEVELS ARE NOT DIRECTLY TOXIC TO BRAIN CELLS IN THE NEONATE.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42600" y="1071720"/>
            <a:ext cx="7715160" cy="24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jugated hyperbilirubinemia is never physiologic, and it may indicate the presence of a potentially serious underlying disorder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HOW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ddddd"/>
                </a:solidFill>
                <a:latin typeface="Times New Roman"/>
              </a:rPr>
              <a:t>Guidelines for phototherapy in hospitalized infants of 35 or more weeks' gestation</a:t>
            </a:r>
            <a:br>
              <a:rPr sz="3200"/>
            </a:b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23" name="Content Placeholder 3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721980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Guidelines for managmen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25" name="Content Placeholder 3" descr="1331339-1331345-974786-1335803.jpg"/>
          <p:cNvPicPr/>
          <p:nvPr/>
        </p:nvPicPr>
        <p:blipFill>
          <a:blip r:embed="rId1"/>
          <a:stretch/>
        </p:blipFill>
        <p:spPr>
          <a:xfrm>
            <a:off x="2428920" y="1400040"/>
            <a:ext cx="4438440" cy="510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AAP recommendation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27" name="Content Placeholder 3" descr="973235-974786-45.jpg"/>
          <p:cNvPicPr/>
          <p:nvPr/>
        </p:nvPicPr>
        <p:blipFill>
          <a:blip r:embed="rId1"/>
          <a:stretch/>
        </p:blipFill>
        <p:spPr>
          <a:xfrm>
            <a:off x="784080" y="1643040"/>
            <a:ext cx="7685280" cy="421488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PHOTOTHERAPY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29" name="Content Placeholder 3" descr="max-phototherapy1.jpg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PHOTOTHERAPY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31" name="Content Placeholder 3" descr="Phototherapy-Unit-Conventional-.jpg"/>
          <p:cNvPicPr/>
          <p:nvPr/>
        </p:nvPicPr>
        <p:blipFill>
          <a:blip r:embed="rId1"/>
          <a:stretch/>
        </p:blipFill>
        <p:spPr>
          <a:xfrm>
            <a:off x="4714920" y="1643040"/>
            <a:ext cx="2714760" cy="4641840"/>
          </a:xfrm>
          <a:prstGeom prst="rect">
            <a:avLst/>
          </a:prstGeom>
          <a:ln w="0">
            <a:noFill/>
          </a:ln>
        </p:spPr>
      </p:pic>
      <p:sp>
        <p:nvSpPr>
          <p:cNvPr id="1132" name="TextBox 4"/>
          <p:cNvSpPr/>
          <p:nvPr/>
        </p:nvSpPr>
        <p:spPr>
          <a:xfrm>
            <a:off x="1000080" y="2214720"/>
            <a:ext cx="350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ight at blue or blue-green wavelengths converts the bilirubin molecule into a form that is either easier to excrete or is less toxic to the neon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ffective spectrum for this process has been identifi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eak at around 450nm (blue ligh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XCHANGE TRANSFUS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34" name="Content Placeholder 3" descr="17173.jpg"/>
          <p:cNvPicPr/>
          <p:nvPr/>
        </p:nvPicPr>
        <p:blipFill>
          <a:blip r:embed="rId1"/>
          <a:stretch/>
        </p:blipFill>
        <p:spPr>
          <a:xfrm>
            <a:off x="2031840" y="1830240"/>
            <a:ext cx="508032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Bilirubin 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grading heme from hemoglobin-containing RBCs  ( 80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0% from ineffective erythropoiesis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rnover of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n-hemoglobin hemoproteins (eg, myoglobin, catalase, nitric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xide synthase, peroxidases, and cytochromes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XCHANGE TRANSFUS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36" name="Content Placeholder 3" descr="pg24_fig3.jpg"/>
          <p:cNvPicPr/>
          <p:nvPr/>
        </p:nvPicPr>
        <p:blipFill>
          <a:blip r:embed="rId1"/>
          <a:stretch/>
        </p:blipFill>
        <p:spPr>
          <a:xfrm>
            <a:off x="1643040" y="1214280"/>
            <a:ext cx="5715000" cy="546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OTHER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oporphyri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ill under investig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bumin trnsa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id and Electroly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5% water   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enobarbiton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onjugated Hyperbili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40" name="Content Placeholder 3" descr="gem_01_img0101.jpg"/>
          <p:cNvPicPr/>
          <p:nvPr/>
        </p:nvPicPr>
        <p:blipFill>
          <a:blip r:embed="rId1"/>
          <a:stretch/>
        </p:blipFill>
        <p:spPr>
          <a:xfrm>
            <a:off x="1465200" y="1643040"/>
            <a:ext cx="6107040" cy="43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Content Placeholder 3" descr="0102.jpg"/>
          <p:cNvPicPr/>
          <p:nvPr/>
        </p:nvPicPr>
        <p:blipFill>
          <a:blip r:embed="rId1"/>
          <a:stretch/>
        </p:blipFill>
        <p:spPr>
          <a:xfrm>
            <a:off x="2330280" y="500040"/>
            <a:ext cx="3884760" cy="58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2"/>
          <p:cNvSpPr/>
          <p:nvPr/>
        </p:nvSpPr>
        <p:spPr>
          <a:xfrm>
            <a:off x="1599840" y="2500200"/>
            <a:ext cx="5648760" cy="1434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kernicteru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Oval 3"/>
          <p:cNvSpPr/>
          <p:nvPr/>
        </p:nvSpPr>
        <p:spPr>
          <a:xfrm>
            <a:off x="236520" y="457200"/>
            <a:ext cx="196524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al gangl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Oval 4"/>
          <p:cNvSpPr/>
          <p:nvPr/>
        </p:nvSpPr>
        <p:spPr>
          <a:xfrm>
            <a:off x="6942240" y="609480"/>
            <a:ext cx="1965240" cy="2438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pocamp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Oval 5"/>
          <p:cNvSpPr/>
          <p:nvPr/>
        </p:nvSpPr>
        <p:spPr>
          <a:xfrm>
            <a:off x="6840360" y="3809880"/>
            <a:ext cx="2303640" cy="2819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ial nerve nucle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Oval 6"/>
          <p:cNvSpPr/>
          <p:nvPr/>
        </p:nvSpPr>
        <p:spPr>
          <a:xfrm>
            <a:off x="236520" y="3962520"/>
            <a:ext cx="2100240" cy="25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iculate bod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Pathophysiology</a:t>
            </a: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lirubin staining in the regions of t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asal ganglia, hippocampus, substantia nigra, and brainstem nucle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ining can occur in the absence of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vere hyperbilirubine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acteristic patterns of neuronal necrosis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KERNICTERU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50" name="Picture 2" descr="C:\Users\Alnemri\AppData\Local\Temp\er-neonatalf1.jpg"/>
          <p:cNvPicPr/>
          <p:nvPr/>
        </p:nvPicPr>
        <p:blipFill>
          <a:blip r:embed="rId1"/>
          <a:stretch/>
        </p:blipFill>
        <p:spPr>
          <a:xfrm>
            <a:off x="1890720" y="1500120"/>
            <a:ext cx="567360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Picture 3" descr="brain.jpg"/>
          <p:cNvPicPr/>
          <p:nvPr/>
        </p:nvPicPr>
        <p:blipFill>
          <a:blip r:embed="rId1"/>
          <a:stretch/>
        </p:blipFill>
        <p:spPr>
          <a:xfrm>
            <a:off x="1928880" y="0"/>
            <a:ext cx="4714920" cy="35370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6" descr="kern"/>
          <p:cNvPicPr/>
          <p:nvPr/>
        </p:nvPicPr>
        <p:blipFill>
          <a:blip r:embed="rId2"/>
          <a:stretch/>
        </p:blipFill>
        <p:spPr>
          <a:xfrm>
            <a:off x="1714680" y="3387600"/>
            <a:ext cx="520056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4297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hemolytic processes were identified in 19 out of 80 babies (24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lucose-6-phosphate dehydrogen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G6PD) deficiency was diagnosed in 18 out of 8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alactosem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ccurred in 2 out of 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igler-Najj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yndrom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ype 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ccurred in 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 etiology for the severe hyperbilirubinemia was discovered in 73% of cases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 Box 4"/>
          <p:cNvSpPr/>
          <p:nvPr/>
        </p:nvSpPr>
        <p:spPr>
          <a:xfrm>
            <a:off x="696960" y="633888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Incidenc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we have any registry in Saudi Arabia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l reported cases from Saudi literatures were secondary to Crigler Najjarr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m J MedGenet. 1998 Aug 27;79(1):12-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9C5F-E789-434C-849D-5A09F162A963}" type="datetime">
              <a:rPr b="0" lang="ar-SA" sz="1400" spc="-1" strike="noStrike">
                <a:solidFill>
                  <a:srgbClr val="ffffff"/>
                </a:solidFill>
                <a:latin typeface="Arial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1839960" y="992160"/>
            <a:ext cx="5465880" cy="4873680"/>
          </a:xfrm>
          <a:prstGeom prst="rect">
            <a:avLst/>
          </a:prstGeom>
          <a:ln w="0">
            <a:noFill/>
          </a:ln>
        </p:spPr>
      </p:pic>
      <p:sp>
        <p:nvSpPr>
          <p:cNvPr id="1044" name="Text Box 4"/>
          <p:cNvSpPr/>
          <p:nvPr/>
        </p:nvSpPr>
        <p:spPr>
          <a:xfrm>
            <a:off x="1403280" y="6237360"/>
            <a:ext cx="65883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ong, R. J. et al. Neoreviews 2007;8:e58-e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179280" y="361800"/>
            <a:ext cx="87836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 rtl="1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scheme for the origin of bilirub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1"/>
          <p:cNvSpPr/>
          <p:nvPr/>
        </p:nvSpPr>
        <p:spPr>
          <a:xfrm>
            <a:off x="500040" y="948240"/>
            <a:ext cx="835812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igh pitched c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rching of the baby's body into a b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akness, limpness, floppi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fficulty nursing and/or suc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TREATMENT 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Box 2"/>
          <p:cNvSpPr/>
          <p:nvPr/>
        </p:nvSpPr>
        <p:spPr>
          <a:xfrm>
            <a:off x="1153080" y="857160"/>
            <a:ext cx="69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rm Infant with Jaundice 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KERNICTERUS DIAGNOSI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ly symptom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acute bilirubin encephalopathy-poor feeding, abnormal cry, hypotoni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mediate phase-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por, irritability, hypert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 phase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rill cry, no feeding, opisthotonus, apnea, seizures, coma,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69920" y="142560"/>
            <a:ext cx="8974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nical Spectrum: Adverse Effects of Newborn Jaundi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63" name="Picture 3" descr="kaylen02"/>
          <p:cNvPicPr/>
          <p:nvPr/>
        </p:nvPicPr>
        <p:blipFill>
          <a:blip r:embed="rId1"/>
          <a:stretch/>
        </p:blipFill>
        <p:spPr>
          <a:xfrm>
            <a:off x="304920" y="1981080"/>
            <a:ext cx="2641320" cy="39625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164" name="Text Box 4"/>
          <p:cNvSpPr/>
          <p:nvPr/>
        </p:nvSpPr>
        <p:spPr>
          <a:xfrm>
            <a:off x="236520" y="6278400"/>
            <a:ext cx="86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lirubin Induced Neurologic Dysfunction (BI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Text Box 5"/>
          <p:cNvSpPr/>
          <p:nvPr/>
        </p:nvSpPr>
        <p:spPr>
          <a:xfrm>
            <a:off x="304920" y="990720"/>
            <a:ext cx="2709720" cy="642600"/>
          </a:xfrm>
          <a:prstGeom prst="rect">
            <a:avLst/>
          </a:prstGeom>
          <a:solidFill>
            <a:srgbClr val="ffffcc"/>
          </a:solidFill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Acute Bilirubin Encephalopath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6" name="Picture 6" descr="Desi PICK VA Children's Hosp"/>
          <p:cNvPicPr/>
          <p:nvPr/>
        </p:nvPicPr>
        <p:blipFill>
          <a:blip r:embed="rId2"/>
          <a:stretch/>
        </p:blipFill>
        <p:spPr>
          <a:xfrm>
            <a:off x="5494320" y="1995480"/>
            <a:ext cx="3344760" cy="2424240"/>
          </a:xfrm>
          <a:prstGeom prst="rect">
            <a:avLst/>
          </a:prstGeom>
          <a:ln w="57240">
            <a:solidFill>
              <a:srgbClr val="dddddd"/>
            </a:solidFill>
            <a:miter/>
          </a:ln>
        </p:spPr>
      </p:pic>
      <p:sp>
        <p:nvSpPr>
          <p:cNvPr id="1167" name="Text Box 7"/>
          <p:cNvSpPr/>
          <p:nvPr/>
        </p:nvSpPr>
        <p:spPr>
          <a:xfrm>
            <a:off x="5656320" y="1082520"/>
            <a:ext cx="3114720" cy="642600"/>
          </a:xfrm>
          <a:prstGeom prst="rect">
            <a:avLst/>
          </a:prstGeom>
          <a:solidFill>
            <a:srgbClr val="dddddd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nic Post-icteric Sequelae (Kernicter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Text Box 8"/>
          <p:cNvSpPr/>
          <p:nvPr/>
        </p:nvSpPr>
        <p:spPr>
          <a:xfrm>
            <a:off x="5519880" y="4511520"/>
            <a:ext cx="33192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0000"/>
                </a:solidFill>
                <a:latin typeface="Arial"/>
              </a:rPr>
              <a:t>Auditory Neuropathy (isolat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Text Box 9"/>
          <p:cNvSpPr/>
          <p:nvPr/>
        </p:nvSpPr>
        <p:spPr>
          <a:xfrm>
            <a:off x="4097160" y="5454720"/>
            <a:ext cx="4876920" cy="916920"/>
          </a:xfrm>
          <a:prstGeom prst="rect">
            <a:avLst/>
          </a:prstGeom>
          <a:solidFill>
            <a:srgbClr val="99ccff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le manifestations (extra-pyramidal and central posturing disorders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spected but not yet pro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Text Box 10"/>
          <p:cNvSpPr/>
          <p:nvPr/>
        </p:nvSpPr>
        <p:spPr>
          <a:xfrm>
            <a:off x="3149640" y="1066680"/>
            <a:ext cx="2303280" cy="642600"/>
          </a:xfrm>
          <a:prstGeom prst="rect">
            <a:avLst/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ath: respiratory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Line 11"/>
          <p:cNvSpPr/>
          <p:nvPr/>
        </p:nvSpPr>
        <p:spPr>
          <a:xfrm>
            <a:off x="3014640" y="3352680"/>
            <a:ext cx="2438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Line 12"/>
          <p:cNvSpPr/>
          <p:nvPr/>
        </p:nvSpPr>
        <p:spPr>
          <a:xfrm>
            <a:off x="3014640" y="4876920"/>
            <a:ext cx="25052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Line 13"/>
          <p:cNvSpPr/>
          <p:nvPr/>
        </p:nvSpPr>
        <p:spPr>
          <a:xfrm>
            <a:off x="3014640" y="5715000"/>
            <a:ext cx="1082520" cy="0"/>
          </a:xfrm>
          <a:prstGeom prst="line">
            <a:avLst/>
          </a:prstGeom>
          <a:ln w="5724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4" name="AutoShape 14"/>
          <p:cNvCxnSpPr/>
          <p:nvPr/>
        </p:nvCxnSpPr>
        <p:spPr>
          <a:xfrm flipV="1">
            <a:off x="2674440" y="1371240"/>
            <a:ext cx="747000" cy="50400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5" name="Text Box 15"/>
          <p:cNvSpPr/>
          <p:nvPr/>
        </p:nvSpPr>
        <p:spPr>
          <a:xfrm>
            <a:off x="3014640" y="3429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come influenced by timely inter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KERNICTERU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 sequelae can incl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ze abnorma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ing difficul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st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ord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eoathe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orineural hearing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ful muscle spa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RNICTERU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296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idence of bilirubin levels &gt;30 1/1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120 cases kernicterus documented since 19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ity term, breastf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ity of those had levels in high 30s to 4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level recorded in case series of 111 from 1991-2002 wa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.7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but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ean was 3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cases had no planned follow up and had been discharged early (&lt;48 hour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456840" y="1599840"/>
            <a:ext cx="81867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ALBUMIN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NG GESTATIONAL 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BIRTH W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THER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1420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agnetic resonance imaging of the head. Hyperintense basal ganglia lesions on T2-weighted image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83" name="Content Placeholder 3" descr="Kernicterus.jpg"/>
          <p:cNvPicPr/>
          <p:nvPr/>
        </p:nvPicPr>
        <p:blipFill>
          <a:blip r:embed="rId1"/>
          <a:stretch/>
        </p:blipFill>
        <p:spPr>
          <a:xfrm>
            <a:off x="1857240" y="214200"/>
            <a:ext cx="4572000" cy="487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pperplate Gothic Bold"/>
              </a:rPr>
              <a:t>Management of Hyperbilirubinemia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Copperplate Gothic Bold"/>
              </a:rPr>
              <a:t>AAP Alerts:</a:t>
            </a:r>
            <a:r>
              <a:rPr b="0" lang="en-US" sz="2800" spc="-1" strike="noStrike">
                <a:solidFill>
                  <a:srgbClr val="ffff00"/>
                </a:solidFill>
                <a:latin typeface="Copperplate Gothic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ectangle 5"/>
          <p:cNvSpPr/>
          <p:nvPr/>
        </p:nvSpPr>
        <p:spPr>
          <a:xfrm>
            <a:off x="304920" y="1447920"/>
            <a:ext cx="8669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nical Overview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Usually benign; but potential of bilirubin toxici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cu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Reduce incidence of severe hyperbilirubinemi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Preven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56760" y="1600200"/>
            <a:ext cx="83581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commen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ote and support successful breastfee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versal systematic pre-discharge assess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 targeted follow-up based on the ris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ck outcome for timely treatment to prevent excessive hyperbilirubinemia and possibly, kernicter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429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77777"/>
                </a:solidFill>
                <a:uFillTx/>
                <a:latin typeface="Copperplate Gothic Bold"/>
                <a:hlinkClick r:id="rId1"/>
              </a:rPr>
              <a:t>AAP 2004: Recommendation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372600" y="1904760"/>
            <a:ext cx="8466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rimary Prevention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lactation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sk assessment for severe hyperbilirubinemia</a:t>
            </a:r>
            <a:r>
              <a:rPr b="0" lang="en-US" sz="2800" spc="-1" strike="noStrike" u="sng">
                <a:solidFill>
                  <a:srgbClr val="777777"/>
                </a:solidFill>
                <a:uFillTx/>
                <a:latin typeface="Verdana"/>
                <a:hlinkClick r:id="rId2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pretation of TSB val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use of jaundice/hyperbilirubinem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-discharge risk assess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spital policies and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6135840" cy="5929560"/>
          </a:xfrm>
          <a:prstGeom prst="rect">
            <a:avLst/>
          </a:prstGeom>
          <a:ln w="0">
            <a:noFill/>
          </a:ln>
        </p:spPr>
      </p:pic>
      <p:sp>
        <p:nvSpPr>
          <p:cNvPr id="1047" name="Text Box 3"/>
          <p:cNvSpPr/>
          <p:nvPr/>
        </p:nvSpPr>
        <p:spPr>
          <a:xfrm>
            <a:off x="179280" y="6678720"/>
            <a:ext cx="87836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pyright ©2007 American Academy of Pediatr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4"/>
          <p:cNvSpPr/>
          <p:nvPr/>
        </p:nvSpPr>
        <p:spPr>
          <a:xfrm>
            <a:off x="1908000" y="6453360"/>
            <a:ext cx="6588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ong, R. J. et al. Neoreviews 2007;8:e58-e6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5"/>
          <p:cNvSpPr/>
          <p:nvPr/>
        </p:nvSpPr>
        <p:spPr>
          <a:xfrm>
            <a:off x="179280" y="361800"/>
            <a:ext cx="87836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me catabolic path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irubin physi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 neurotoxic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dentify and treat illness associated with excess production, impaired conjugation or inadequate eli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bination of thera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MCQs</a:t>
            </a:r>
            <a:endParaRPr b="0" lang="en-US" sz="6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1852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3-day old full term infant with hemolytic disease of the newborn due to Rh incompatibility has a serum indirect bilirubin concentration of 33 mg/dL. You perform an exchange transfusion with no further elevations of bilirubin above 19 mg/dL. Among the following,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OS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ropriate study to use to follow up on this infant is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250920" y="32857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Coomb’s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em auditory evoked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d tomography of the 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globin electrophor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rect retinosco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1852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3-day old full term infant with hemolytic disease of the newborn due to Rh incompatibility has a serum indirect bilirubin concentration of 33 mg/dL. You perform an exchange transfusion with no further elevations of bilirubin above 19 mg/dL. Among the following,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OS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ropriate study to use to follow up on this infant is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250920" y="3286080"/>
            <a:ext cx="822960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Coomb’s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rainstem auditory evoked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d tomography of the 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globin electrophor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rect retinosco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-day old breastfeed infant  born at term has had decreased appetite, irritability and vomiting for 24 hours. On Physical examination, the infant appears listless. Respiratory Rate: 40/min, Heart Rate : 160/min, and blood pressure: 68/38 mm Hg. The skin and sclera are icteric but no other abnormalities noted. Laboratory studies reveal: Hemoglobin: 12 gm/dL. Urinalysis is negative for reducing substances. Of the following, th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O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likely diagnosis is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68360" y="3285720"/>
            <a:ext cx="82468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sep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group in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 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yroid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auterine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-day old breastfeed infant  born at term has had decreased appetite, irritability and vomiting for 24 hours. On Physical examination, the infant appears listless. Respiratory Rate: 40/min, Heart Rate : 160/min, and blood pressure: 68/38 mm Hg. The skin and sclera are icteric but no other abnormalities noted. Laboratory studies reveal: Hemoglobin: 12 gm/dL. Urinalysis is negative for reducing substances. Of the following, th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O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likely diagnosis is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68360" y="3285720"/>
            <a:ext cx="82468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acterial sep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group in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 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yroid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auterine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898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3-day old , breast fed infant develops jaundice. The serum bilirubin level is 12 mg/dL with a direct bilirubin component of 0.5 mg/dL. The infant’s mother asks whether the jaundice might be associated with breastfeeding. Which of the following statements regarding hyperbilirubinaemia associated  with breast feeding is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RUE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394920" y="2357280"/>
            <a:ext cx="85345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ect hyperbilirubinaemia associated with breast feeding  may occur as early as the first day of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supplementation in breast-fed infants will significantly reduce serum concentrations of indirect biliru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bilirubinemia associated with breast feeding may persist for 8 to 12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d clearance of bilirubin may play a role in breast feeding jaundice, breast milk jaundic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4" dur="1" fill="hold"/>
                                  <p:tgtEl>
                                    <p:spTgt spid="1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898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3-day old , breast fed infant develops jaundice. The serum bilirubin level is 12 mg/dL with a direct bilirubin component of 0.5 mg/dL. The infant’s mother asks whether the jaundice might be associated with breastfeeding. Which of the following statements regarding hyperbilirubinaemia associated  with breast feeding is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RUE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394920" y="2357280"/>
            <a:ext cx="85345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ect hyperbilirubinaemia associated with breast feeding  may occur as early as the first day of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supplementation in breast-fed infants will significantly reduce serum concentrations of indirect biliru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bilirubinemia associated with breast feeding may persist for 8 to 12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creased clearance of bilirubin may play a role in breast feeding jaundice, breast milk jaund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8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f the following conditions, which is t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MO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onsistent with findings of mild cholestasis without evidence of billiary atresia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356760" y="2361960"/>
            <a:ext cx="841212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intox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hemolytic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– antitrypsin de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 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gler-Najjar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3" dur="1" fill="hold"/>
                                  <p:tgtEl>
                                    <p:spTgt spid="12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8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f the following conditions, which is t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MO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onsistent with findings of mild cholestasis without evidence of billiary atresia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964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intox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hronic hemolytic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– antitrypsin de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 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gler-Najjar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Bilirubin Transpor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6840" y="1600200"/>
            <a:ext cx="8258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binds reversibly to albumin (bilirubin:album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bout 0.8 - 7 mg of bilirubin per gram of albumin-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w Albumin level and affinity binding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eous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ee"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lirubin is hydrophobi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ipid solu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movement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f bilirubin from the circulation into tissue cross BB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Picture 3" descr="ldmr_a_421115_o_f0001g.gif"/>
          <p:cNvPicPr/>
          <p:nvPr/>
        </p:nvPicPr>
        <p:blipFill>
          <a:blip r:embed="rId1"/>
          <a:stretch/>
        </p:blipFill>
        <p:spPr>
          <a:xfrm>
            <a:off x="8001000" y="5800680"/>
            <a:ext cx="114300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4852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4-week  old, breast-fed boy has had mild jaundice since birth. Weight gain has been poor. The urine is light yellow-brown, and the stools are pale yellow-green in color. At this point,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OS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ppropriate next step in management is to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95280" y="307152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 the child clinically for 2 to 4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breastfeeding and re-examine the child in 7 to 10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a cholecyst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a total and direct serum bilirubin levels and studies of liver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4852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4-week  old, breast-fed boy has had mild jaundice since birth. Weight gain has been poor. The urine is light yellow-brown, and the stools are pale yellow-green in color. At this point,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OS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ppropriate next step in management is to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395280" y="307152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 the child clinically for 2 to 4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breastfeeding and re-examine the child in 7 to 10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 CE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 CENA"/>
              </a:rPr>
              <a:t>Obtain a cholecyst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a total and direct serum bilirubin levels and studies of liver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 CENA"/>
              </a:rPr>
              <a:t>The following statement is correct regarding bilirubine</a:t>
            </a:r>
            <a:r>
              <a:rPr b="0" lang="en-US" sz="3600" spc="-1" strike="noStrike">
                <a:solidFill>
                  <a:srgbClr val="ffff00"/>
                </a:solidFill>
                <a:latin typeface="AR CENA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560" y="1499760"/>
            <a:ext cx="85532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normally excreted in the urine following its conjugation to glucuronic 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May achieve high blood levels due to haemolysis associated with glucose-6-phosphate dehydrogenase deficien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Must be prevented from reaching 340 umol/L in well term babies by use of exchange transfusion if necessa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Results from the oxidation of haemoglobin by the enzyme glucuronyl transfer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Is normally about 50% bound to albumin and 50% as the unb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2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 CENA"/>
              </a:rPr>
              <a:t>The following statement is correct regarding bilirubine</a:t>
            </a:r>
            <a:r>
              <a:rPr b="0" lang="en-US" sz="3600" spc="-1" strike="noStrike">
                <a:solidFill>
                  <a:srgbClr val="ffff00"/>
                </a:solidFill>
                <a:latin typeface="AR CENA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304560" y="1499760"/>
            <a:ext cx="85532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normally excreted in the urine following its conjugation to glucuronic 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2400" spc="-1" strike="noStrike">
                <a:solidFill>
                  <a:srgbClr val="ffff00"/>
                </a:solidFill>
                <a:latin typeface="AR CENA"/>
              </a:rPr>
              <a:t>May achieve high blood levels due to haemolysis associated with glucose-6-phosphate dehydrogenase deficien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Must be prevented from reaching 340 umol/L in well term babies by use of exchange transfusion if necessa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Results from the oxidation of haemoglobin by the enzyme glucuronyl transfer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Is normally about 50% bound to albumin and 50% as the unb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7015-2FB1-4D42-B659-8D141AB28F0F}" type="slidenum">
              <a:rPr b="0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AR CENA"/>
              </a:rPr>
              <a:t>Neonatal jaundice is associated with all of the following except :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aturit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stic fibro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lbert’s syndrom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 feedin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natal thyrotoxico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12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493C-D7F3-4071-91E6-B9B76B1AC28E}" type="slidenum">
              <a:rPr b="0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AR CENA"/>
              </a:rPr>
              <a:t>Neonatal jaundice is associated with all of the following except :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aturit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stic fibro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lbert’s syndrom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 feedin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 CE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 CENA"/>
              </a:rPr>
              <a:t>neonatal thyrotoxico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 CENA"/>
              </a:rPr>
              <a:t>A Term Baby Is Found to Have Serum bilirubin of  250 umol/l  at 18 Hours of Age.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 CENA"/>
              </a:rPr>
              <a:t>Which of the Following Is True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ological jaundice is the most likely ca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urgent conjugated bilirubin level is indic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unlikely to be due to haemoly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fants blood group and Coombs test are the most important investig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indication to start phototherap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2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CF29-4BA5-4466-A738-E423A7155BB6}" type="slidenum">
              <a:rPr b="0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 CENA"/>
              </a:rPr>
              <a:t>Un-conjugated (indirect) hyperbilirubinaemia occurs in the following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 CENA"/>
              </a:rPr>
              <a:t>Except:-</a:t>
            </a:r>
            <a:r>
              <a:rPr b="0" lang="en-US" sz="3200" spc="-1" strike="noStrike">
                <a:solidFill>
                  <a:srgbClr val="ffff00"/>
                </a:solidFill>
                <a:latin typeface="AR CENA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864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ransfusion of incompatible ABO/Rh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sis neonato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glucose-6-phosphate dehydrogenase (G6PD)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ype I Crigler-Najjar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te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7B49-2C4F-4EEA-A156-0B58E1E83D85}" type="slidenum">
              <a:rPr b="0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-conjugated (indirect) hyperbilirubinaemia occurs in the following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cept: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864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ransfusion of incompatible ABO/Rh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sis neonato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glucose-6-phosphate dehydrogenase (G6PD)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ype I Crigler-Najjar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 CEN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 CENA"/>
              </a:rPr>
              <a:t>Rotter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 CENA"/>
              </a:rPr>
              <a:t>,</a:t>
            </a:r>
            <a:r>
              <a:rPr b="1" lang="en-US" sz="3200" spc="-1" strike="noStrike">
                <a:solidFill>
                  <a:srgbClr val="ffff00"/>
                </a:solidFill>
                <a:latin typeface="AR CENA"/>
              </a:rPr>
              <a:t>s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400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 CENA"/>
              </a:rPr>
              <a:t>In an infant who appeared healthy at birth, vomiting and diarrhea developed at 1 week of age. She gained weight poorly despite a change from breast milk to infant formula feeding at 2 weeks of age. At 3 weeks of age, she is brought to the emergency department where she is found to be lethargic and to have hepatomegaly. </a:t>
            </a:r>
            <a:r>
              <a:rPr b="0" i="1" lang="en-US" sz="2800" spc="-1" strike="noStrike">
                <a:solidFill>
                  <a:srgbClr val="ffff00"/>
                </a:solidFill>
                <a:latin typeface="AR CENA"/>
              </a:rPr>
              <a:t>Of the following, the most likely diagnosis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 Inspissated bile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) Crigler-Najjar Syndrom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) Galactos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) Gilbert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) Dubin-Johnson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onjuga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285480" y="142884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jugation of bilirubin with glucuroni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 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-soluble, nonneurotoxic bilirub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uridine diphospho- glucuronosyltransferase  (UG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rease conjugation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er rate of hepatic uptak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free bilirubin from the bl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d concentratio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f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(UGT)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400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 CENA"/>
              </a:rPr>
              <a:t>In an infant who appeared healthy at birth, vomiting and diarrhea developed at 1 week of age. She gained weight poorly despite a change from breast milk to infant formula feeding at 2 weeks of age. At 3 weeks of age, she is brought to the emergency department where she is found to be lethargic and to have hepatomegaly. </a:t>
            </a:r>
            <a:r>
              <a:rPr b="0" i="1" lang="en-US" sz="2800" spc="-1" strike="noStrike">
                <a:solidFill>
                  <a:srgbClr val="ffff00"/>
                </a:solidFill>
                <a:latin typeface="AR CENA"/>
              </a:rPr>
              <a:t>Of the following, the most likely diagnosis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 Inspissated bile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) Crigler-Najjar Syndrom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Galactos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) Gilbert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) Dubin-Johnson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F100-21DA-45AE-8CB8-C31B4D66F5F6}" type="datetime">
              <a:rPr b="0" lang="ar-SA" sz="1400" spc="-1" strike="noStrike">
                <a:solidFill>
                  <a:srgbClr val="ffffff"/>
                </a:solidFill>
                <a:latin typeface="Arial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4" name="Picture 4" descr="imagesCA0OGNB3"/>
          <p:cNvPicPr/>
          <p:nvPr/>
        </p:nvPicPr>
        <p:blipFill>
          <a:blip r:embed="rId1"/>
          <a:stretch/>
        </p:blipFill>
        <p:spPr>
          <a:xfrm>
            <a:off x="971640" y="1268280"/>
            <a:ext cx="7272360" cy="45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96F8-D099-4D88-9055-048E873FA050}" type="datetime">
              <a:rPr b="0" lang="ar-SA" sz="1400" spc="-1" strike="noStrike">
                <a:solidFill>
                  <a:srgbClr val="ffffff"/>
                </a:solidFill>
                <a:latin typeface="Arial"/>
              </a:rPr>
              <a:t>١٤٤٨/٠٢/١٧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6" name="Picture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962760" cy="4537080"/>
          </a:xfrm>
          <a:prstGeom prst="rect">
            <a:avLst/>
          </a:prstGeom>
          <a:ln w="0">
            <a:noFill/>
          </a:ln>
        </p:spPr>
      </p:pic>
      <p:sp>
        <p:nvSpPr>
          <p:cNvPr id="1237" name="TextBox 2"/>
          <p:cNvSpPr/>
          <p:nvPr/>
        </p:nvSpPr>
        <p:spPr>
          <a:xfrm>
            <a:off x="1707480" y="33336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rm female infant with prolong Jaund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Bilirubin Excre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599840"/>
            <a:ext cx="83296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jugated bilirubin enter t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ile ducts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re excreted with the bile into t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stinal trac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o Or Diglucuronide        unconjugated B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e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on, bacterial flora in older neonates hydrogenate bilirubin to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robilinogen, urobilins, and stercobil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ight Arrow 4"/>
          <p:cNvSpPr/>
          <p:nvPr/>
        </p:nvSpPr>
        <p:spPr>
          <a:xfrm>
            <a:off x="4643280" y="3429000"/>
            <a:ext cx="57168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4d4d4d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20:44:03Z</dcterms:created>
  <dc:creator>Dr.Hifzi</dc:creator>
  <dc:description/>
  <dc:language>en-US</dc:language>
  <cp:lastModifiedBy>LOIDA</cp:lastModifiedBy>
  <dcterms:modified xsi:type="dcterms:W3CDTF">2012-09-02T05:32:33Z</dcterms:modified>
  <cp:revision>110</cp:revision>
  <dc:subject/>
  <dc:title>VBXCBXCBX</dc:title>
</cp:coreProperties>
</file>