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.xml.rels" ContentType="application/vnd.openxmlformats-package.relationships+xml"/>
  <Override PartName="/ppt/notesSlides/notesSlide5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76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8.jpeg" ContentType="image/jpeg"/>
  <Override PartName="/ppt/media/image28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  <p:sldId id="273" r:id="rId45"/>
    <p:sldId id="274" r:id="rId46"/>
    <p:sldId id="275" r:id="rId47"/>
    <p:sldId id="276" r:id="rId48"/>
    <p:sldId id="277" r:id="rId49"/>
    <p:sldId id="278" r:id="rId50"/>
    <p:sldId id="279" r:id="rId51"/>
    <p:sldId id="280" r:id="rId52"/>
    <p:sldId id="281" r:id="rId53"/>
    <p:sldId id="282" r:id="rId54"/>
    <p:sldId id="283" r:id="rId55"/>
    <p:sldId id="284" r:id="rId56"/>
    <p:sldId id="285" r:id="rId57"/>
    <p:sldId id="286" r:id="rId58"/>
    <p:sldId id="287" r:id="rId59"/>
    <p:sldId id="288" r:id="rId60"/>
    <p:sldId id="289" r:id="rId61"/>
    <p:sldId id="290" r:id="rId62"/>
    <p:sldId id="291" r:id="rId63"/>
    <p:sldId id="292" r:id="rId64"/>
    <p:sldId id="293" r:id="rId65"/>
    <p:sldId id="294" r:id="rId66"/>
    <p:sldId id="295" r:id="rId67"/>
    <p:sldId id="296" r:id="rId68"/>
    <p:sldId id="297" r:id="rId69"/>
    <p:sldId id="298" r:id="rId70"/>
    <p:sldId id="299" r:id="rId71"/>
    <p:sldId id="300" r:id="rId72"/>
    <p:sldId id="301" r:id="rId73"/>
    <p:sldId id="302" r:id="rId74"/>
    <p:sldId id="303" r:id="rId75"/>
    <p:sldId id="304" r:id="rId76"/>
    <p:sldId id="305" r:id="rId77"/>
    <p:sldId id="306" r:id="rId78"/>
    <p:sldId id="307" r:id="rId79"/>
    <p:sldId id="308" r:id="rId80"/>
    <p:sldId id="309" r:id="rId81"/>
    <p:sldId id="310" r:id="rId82"/>
    <p:sldId id="311" r:id="rId83"/>
    <p:sldId id="312" r:id="rId84"/>
    <p:sldId id="313" r:id="rId85"/>
    <p:sldId id="314" r:id="rId86"/>
    <p:sldId id="315" r:id="rId87"/>
    <p:sldId id="316" r:id="rId88"/>
    <p:sldId id="317" r:id="rId89"/>
    <p:sldId id="318" r:id="rId90"/>
    <p:sldId id="319" r:id="rId91"/>
    <p:sldId id="320" r:id="rId92"/>
    <p:sldId id="321" r:id="rId93"/>
    <p:sldId id="322" r:id="rId94"/>
    <p:sldId id="323" r:id="rId95"/>
    <p:sldId id="324" r:id="rId96"/>
    <p:sldId id="325" r:id="rId97"/>
    <p:sldId id="326" r:id="rId98"/>
    <p:sldId id="327" r:id="rId99"/>
    <p:sldId id="328" r:id="rId100"/>
    <p:sldId id="329" r:id="rId101"/>
    <p:sldId id="330" r:id="rId102"/>
    <p:sldId id="331" r:id="rId103"/>
    <p:sldId id="332" r:id="rId104"/>
    <p:sldId id="333" r:id="rId105"/>
    <p:sldId id="334" r:id="rId106"/>
    <p:sldId id="335" r:id="rId107"/>
    <p:sldId id="336" r:id="rId108"/>
    <p:sldId id="337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slide" Target="slides/slide18.xml"/><Relationship Id="rId46" Type="http://schemas.openxmlformats.org/officeDocument/2006/relationships/slide" Target="slides/slide19.xml"/><Relationship Id="rId47" Type="http://schemas.openxmlformats.org/officeDocument/2006/relationships/slide" Target="slides/slide20.xml"/><Relationship Id="rId48" Type="http://schemas.openxmlformats.org/officeDocument/2006/relationships/slide" Target="slides/slide21.xml"/><Relationship Id="rId49" Type="http://schemas.openxmlformats.org/officeDocument/2006/relationships/slide" Target="slides/slide22.xml"/><Relationship Id="rId50" Type="http://schemas.openxmlformats.org/officeDocument/2006/relationships/slide" Target="slides/slide23.xml"/><Relationship Id="rId51" Type="http://schemas.openxmlformats.org/officeDocument/2006/relationships/slide" Target="slides/slide24.xml"/><Relationship Id="rId52" Type="http://schemas.openxmlformats.org/officeDocument/2006/relationships/slide" Target="slides/slide25.xml"/><Relationship Id="rId53" Type="http://schemas.openxmlformats.org/officeDocument/2006/relationships/slide" Target="slides/slide26.xml"/><Relationship Id="rId54" Type="http://schemas.openxmlformats.org/officeDocument/2006/relationships/slide" Target="slides/slide27.xml"/><Relationship Id="rId55" Type="http://schemas.openxmlformats.org/officeDocument/2006/relationships/slide" Target="slides/slide28.xml"/><Relationship Id="rId56" Type="http://schemas.openxmlformats.org/officeDocument/2006/relationships/slide" Target="slides/slide29.xml"/><Relationship Id="rId57" Type="http://schemas.openxmlformats.org/officeDocument/2006/relationships/slide" Target="slides/slide30.xml"/><Relationship Id="rId58" Type="http://schemas.openxmlformats.org/officeDocument/2006/relationships/slide" Target="slides/slide31.xml"/><Relationship Id="rId59" Type="http://schemas.openxmlformats.org/officeDocument/2006/relationships/slide" Target="slides/slide32.xml"/><Relationship Id="rId60" Type="http://schemas.openxmlformats.org/officeDocument/2006/relationships/slide" Target="slides/slide33.xml"/><Relationship Id="rId61" Type="http://schemas.openxmlformats.org/officeDocument/2006/relationships/slide" Target="slides/slide34.xml"/><Relationship Id="rId62" Type="http://schemas.openxmlformats.org/officeDocument/2006/relationships/slide" Target="slides/slide35.xml"/><Relationship Id="rId63" Type="http://schemas.openxmlformats.org/officeDocument/2006/relationships/slide" Target="slides/slide36.xml"/><Relationship Id="rId64" Type="http://schemas.openxmlformats.org/officeDocument/2006/relationships/slide" Target="slides/slide37.xml"/><Relationship Id="rId65" Type="http://schemas.openxmlformats.org/officeDocument/2006/relationships/slide" Target="slides/slide38.xml"/><Relationship Id="rId66" Type="http://schemas.openxmlformats.org/officeDocument/2006/relationships/slide" Target="slides/slide39.xml"/><Relationship Id="rId67" Type="http://schemas.openxmlformats.org/officeDocument/2006/relationships/slide" Target="slides/slide40.xml"/><Relationship Id="rId68" Type="http://schemas.openxmlformats.org/officeDocument/2006/relationships/slide" Target="slides/slide41.xml"/><Relationship Id="rId69" Type="http://schemas.openxmlformats.org/officeDocument/2006/relationships/slide" Target="slides/slide42.xml"/><Relationship Id="rId70" Type="http://schemas.openxmlformats.org/officeDocument/2006/relationships/slide" Target="slides/slide43.xml"/><Relationship Id="rId71" Type="http://schemas.openxmlformats.org/officeDocument/2006/relationships/slide" Target="slides/slide44.xml"/><Relationship Id="rId72" Type="http://schemas.openxmlformats.org/officeDocument/2006/relationships/slide" Target="slides/slide45.xml"/><Relationship Id="rId73" Type="http://schemas.openxmlformats.org/officeDocument/2006/relationships/slide" Target="slides/slide46.xml"/><Relationship Id="rId74" Type="http://schemas.openxmlformats.org/officeDocument/2006/relationships/slide" Target="slides/slide47.xml"/><Relationship Id="rId75" Type="http://schemas.openxmlformats.org/officeDocument/2006/relationships/slide" Target="slides/slide48.xml"/><Relationship Id="rId76" Type="http://schemas.openxmlformats.org/officeDocument/2006/relationships/slide" Target="slides/slide49.xml"/><Relationship Id="rId77" Type="http://schemas.openxmlformats.org/officeDocument/2006/relationships/slide" Target="slides/slide50.xml"/><Relationship Id="rId78" Type="http://schemas.openxmlformats.org/officeDocument/2006/relationships/slide" Target="slides/slide51.xml"/><Relationship Id="rId79" Type="http://schemas.openxmlformats.org/officeDocument/2006/relationships/slide" Target="slides/slide52.xml"/><Relationship Id="rId80" Type="http://schemas.openxmlformats.org/officeDocument/2006/relationships/slide" Target="slides/slide53.xml"/><Relationship Id="rId81" Type="http://schemas.openxmlformats.org/officeDocument/2006/relationships/slide" Target="slides/slide54.xml"/><Relationship Id="rId82" Type="http://schemas.openxmlformats.org/officeDocument/2006/relationships/slide" Target="slides/slide55.xml"/><Relationship Id="rId83" Type="http://schemas.openxmlformats.org/officeDocument/2006/relationships/slide" Target="slides/slide56.xml"/><Relationship Id="rId84" Type="http://schemas.openxmlformats.org/officeDocument/2006/relationships/slide" Target="slides/slide57.xml"/><Relationship Id="rId85" Type="http://schemas.openxmlformats.org/officeDocument/2006/relationships/slide" Target="slides/slide58.xml"/><Relationship Id="rId86" Type="http://schemas.openxmlformats.org/officeDocument/2006/relationships/slide" Target="slides/slide59.xml"/><Relationship Id="rId87" Type="http://schemas.openxmlformats.org/officeDocument/2006/relationships/slide" Target="slides/slide60.xml"/><Relationship Id="rId88" Type="http://schemas.openxmlformats.org/officeDocument/2006/relationships/slide" Target="slides/slide61.xml"/><Relationship Id="rId89" Type="http://schemas.openxmlformats.org/officeDocument/2006/relationships/slide" Target="slides/slide62.xml"/><Relationship Id="rId90" Type="http://schemas.openxmlformats.org/officeDocument/2006/relationships/slide" Target="slides/slide63.xml"/><Relationship Id="rId91" Type="http://schemas.openxmlformats.org/officeDocument/2006/relationships/slide" Target="slides/slide64.xml"/><Relationship Id="rId92" Type="http://schemas.openxmlformats.org/officeDocument/2006/relationships/slide" Target="slides/slide65.xml"/><Relationship Id="rId93" Type="http://schemas.openxmlformats.org/officeDocument/2006/relationships/slide" Target="slides/slide66.xml"/><Relationship Id="rId94" Type="http://schemas.openxmlformats.org/officeDocument/2006/relationships/slide" Target="slides/slide67.xml"/><Relationship Id="rId95" Type="http://schemas.openxmlformats.org/officeDocument/2006/relationships/slide" Target="slides/slide68.xml"/><Relationship Id="rId96" Type="http://schemas.openxmlformats.org/officeDocument/2006/relationships/slide" Target="slides/slide69.xml"/><Relationship Id="rId97" Type="http://schemas.openxmlformats.org/officeDocument/2006/relationships/slide" Target="slides/slide70.xml"/><Relationship Id="rId98" Type="http://schemas.openxmlformats.org/officeDocument/2006/relationships/slide" Target="slides/slide71.xml"/><Relationship Id="rId99" Type="http://schemas.openxmlformats.org/officeDocument/2006/relationships/slide" Target="slides/slide72.xml"/><Relationship Id="rId100" Type="http://schemas.openxmlformats.org/officeDocument/2006/relationships/slide" Target="slides/slide73.xml"/><Relationship Id="rId101" Type="http://schemas.openxmlformats.org/officeDocument/2006/relationships/slide" Target="slides/slide74.xml"/><Relationship Id="rId102" Type="http://schemas.openxmlformats.org/officeDocument/2006/relationships/slide" Target="slides/slide75.xml"/><Relationship Id="rId103" Type="http://schemas.openxmlformats.org/officeDocument/2006/relationships/slide" Target="slides/slide76.xml"/><Relationship Id="rId104" Type="http://schemas.openxmlformats.org/officeDocument/2006/relationships/slide" Target="slides/slide77.xml"/><Relationship Id="rId105" Type="http://schemas.openxmlformats.org/officeDocument/2006/relationships/slide" Target="slides/slide78.xml"/><Relationship Id="rId106" Type="http://schemas.openxmlformats.org/officeDocument/2006/relationships/slide" Target="slides/slide79.xml"/><Relationship Id="rId107" Type="http://schemas.openxmlformats.org/officeDocument/2006/relationships/slide" Target="slides/slide80.xml"/><Relationship Id="rId108" Type="http://schemas.openxmlformats.org/officeDocument/2006/relationships/slide" Target="slides/slide81.xml"/><Relationship Id="rId109" Type="http://schemas.openxmlformats.org/officeDocument/2006/relationships/slide" Target="slides/slide82.xml"/><Relationship Id="rId1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dt" idx="7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ftr" idx="7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 type="sldNum" idx="7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331F-6079-4B4E-A927-1DEBD14962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38B6-8189-4C1A-811D-68F995566F7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0AAF-BD7F-4C27-AB05-75D9DDEA410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6D80-A88E-4D13-B5F1-D5C23C8EDCD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91C4-D959-4A2D-9662-C002EBE7B66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3433-2DD3-460A-92CA-B559F67EE00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AE87-3399-4982-A64C-E558EA83CCA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3CDC-295A-4520-BCD4-C2BAFFBD5E7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883B-77EE-4D01-84D5-E75B00CE5A1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05AB-D050-4220-8188-175A961B04C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84C1-35F9-4C16-8D29-E2713888816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90B3-13C0-44A4-9279-ACCEE02F38C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0C14-DC4C-4F36-A292-C9107861A6C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030F-2B80-4A11-A484-392E4BA9B01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90D5-BE25-434C-BD4A-C0AA1CEC7E3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EE88-E397-43AC-9505-D17B001F236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7A83-1D28-4305-8318-5A67BCC66AC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B433-080C-4101-A89B-48E92A04B51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3C09-F9EB-4BBA-A768-F42CBDAC6AB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7645-96A0-494A-9B1B-3E98B214FB6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1E6E-FF41-442D-9105-D50A7924B18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A18-4B64-4154-A16C-B6130FBB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0F6C-AF1A-4AFC-BD54-742DB8A4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15FBD-6541-4546-B7DF-E7844F29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3D888-FAED-4C79-AAD0-CAD87848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75C30-C531-4705-8A7C-A124AE99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C55C3-9CEA-4340-9BC0-98E34C6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831DC-C0AB-4D07-92E8-91E84E7F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40C67-4887-46F4-8E91-0D65C1A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A7DA4-AB85-489A-A2EC-632C5BAB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C7B3A-20F4-44C8-9B9A-4186036B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4C56F-9DB2-4EBD-A154-AF90982B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5CC15-DD99-41AB-A92B-7F693B5C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556-DC6E-40F8-8547-E80A3F36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F99FFC-A611-44FE-B1F3-F7CE55E2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4EFC05-79DE-4179-B3D0-1857C05B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903E7-030A-40A6-A247-76030523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E1F1A-EA17-4B10-9FA6-77C6C24E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00C29-4F4E-4580-9B22-12490A8F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A32FB-60F3-44AD-93A7-E26B7464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576BA-E254-4E6B-A9AE-DF0D17DE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F180C7-F62D-4C4B-A954-1ADB8DCE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045FBC-0340-46BB-945A-80B729EB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255B8-D9A7-42DF-AF37-D3B3ECF7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2BD-0B5D-4B66-8262-E1EAD75E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60160-F7CF-4530-8E50-21EE9E29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A5002-8945-40DE-B23C-DD24E3D4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E7E1E-FF5E-45F5-B58E-66F8BD8D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0941A-FB33-48AA-8A2B-391CA9BE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1A217-66E4-4674-A21C-DA5FADE6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708BF-CC44-4F49-80D8-D85AAF01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764BC-7338-4528-A49C-9A88AF57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A6BD5-5584-46E2-BCFE-A905F93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4B4D2-BB06-44F4-A971-AE5F4BAA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B862D-328C-4BE6-87F6-A674B97F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F494-970C-4D12-A234-5D9C4421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CD757-1500-4B49-826E-8DACA951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8F85E-8A38-4ABD-8999-87099B2A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1F1B4-7BA7-486B-9E16-033AF6E2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72A14-BD01-4BEB-AD0A-1D656435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D5107-D5F8-4401-9ED4-C283C32F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AC4FE-5349-4413-868A-79C5ADFB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0BB6F-B574-4813-9ADB-DDE7DF01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97E55-69DA-4BE3-BA32-7B55B1F1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917F3-442E-43F8-B2C3-0A579E76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D46E8-85B9-4450-AFE5-B6DB0892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C1B7-2EDD-40D5-8925-CCB0D0D3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E61C5-FEFB-4202-A14B-1B031E2B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2B68D-84CE-4A73-9C7F-447878CA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4149B-8FE6-4AEC-9437-A8FFE64D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44DD0-86B6-48FB-9FE2-1EC7D9A4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1C16A-8755-4631-A853-0B973FEF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EE0AB-09C8-4BC3-9366-F18D4ED3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74B8B-B028-4FCA-8D46-260A3231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D1858-6D1A-4CBC-9BA8-1477DCFF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D279B-2152-4485-97BA-C247E165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4FA1E-988D-4F63-88CE-EB038BA2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AC3B-BA1B-4E7F-97FA-3FE462B3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9DB4B-4B63-4888-8FC9-E273FADE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472FC-8D5F-4002-97C6-D6F7B919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79538-728C-402C-9EBE-0546D8DF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6E0B0-9BB0-455E-837F-B24EA2AB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99A3E-12EC-4DD8-A186-86951E3A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F8822-BF5E-4E8E-90C6-445F9E01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B2FED-016C-45FE-8A4E-80175240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6F47-3AF5-4A48-A46F-0098B334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9279DD-AC92-479C-9689-7CC3635D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C4EF-9B70-481D-8DB9-07B12FB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A8C4AB-B9A6-44B6-95B2-2F05D93F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BC17C8-F41C-48A5-8C60-098D5A95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49B2F3-DB48-4551-94E9-BD9DFF5E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1E74D6-776F-429B-99C4-70C719C2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69C48A-BB1F-4FAB-B02E-8FE5FD1B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4561D4-D568-4901-8667-305A9F0C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004A25-F33E-4A1C-A599-EE48AB4B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D0CE8F-8DDC-4E97-96B2-E8F75FE2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0D6ACA-A830-4A3C-B6E2-2F9AA242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92E298-2CA0-4D2D-B7DB-906CDD6C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08D8-2D92-4046-8FB8-E0D1F6CE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8C9678-87DF-48B4-A47E-7E7A9AE6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4476EC-C34A-4AC7-8FCB-BEB75259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A9BAED-6B73-4780-9967-4AA69C5F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5C946B7-917E-45C9-9605-015E3CED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FE5380-6900-4E2A-8C55-61D88A43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E858E03-4DB4-4296-89D9-ADE96E08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0F6A20-F91C-4C30-B88C-028DE1A6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74797C-9FBC-401C-98AF-0FC8054A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717EEA-7E3F-4A47-8067-178FB01E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788AF7-CD0F-4837-96B3-4396DEDE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185A-990E-4EA4-9A9A-8A0B229B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C971E7-EFE7-4276-AF6B-58B13797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5FF75D-2B0D-4F06-87E4-52E10F0B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38F3EB4-4048-4A5E-B576-FD3B6AD1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832FE47-B7D3-4AF7-9CDA-886BE53B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B057AD5-2401-4F37-9A38-500507CE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1209CAA-16FC-48BB-BAE7-7434F348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05F0FE-1ED0-4BBD-B97A-76CCBA6E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E903AA-8E3E-4CCB-BDDE-BF1AF71D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C5883EC-396B-4942-8B9C-5E3804A2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92CCAE-3FCD-4DB0-9DD1-38BB7A51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DB0-FF75-480C-9FF4-498CEB5D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9C68-B0BE-42DC-BAA2-CB7FCEF6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1871C21-6439-481D-826B-F469094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47E3FA-AC19-455A-8683-99A918B0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158D7B-4DA0-43B0-85FC-C3D04046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140B14-37EC-43FE-9A96-4C23BCDB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C34D66-B80E-4F6E-BA6C-5BA2AB6A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848481-3074-41BF-A55E-FD9C0459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183C6D-0C3F-4EE5-895A-BA33B2C2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6F507A-C59A-4030-A139-7CA142F0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438C920-C510-4302-ACEF-E95840E0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6B4E80E-04F5-4E85-853D-A33D09BF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226B-27C9-47F6-8EE2-C6209FBA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0FC6D67-EDA3-4F54-92A5-A83582AD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00E9B77-3955-4BF0-AA22-74D41A22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3DB25E-CA5A-4931-8487-E8B7DA4B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8A8973-DF90-4C34-B67D-41A85AB5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EDDD7B-1C27-4B24-9EBB-CBD79CE5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335B86-3AEF-4C80-B1DE-B966D85E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473E373-A980-441E-9263-104AA406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AD757E-CD30-4FC9-B82A-0495EC91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4D170E6-B0F3-42BD-A647-A5FF7E93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B7D8A38-4198-417E-A1AF-9CAA1B03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F810-94CE-467C-9BCB-63E6B39E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2AB53EE-8318-4DF6-9D88-36874525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0A5B22-264D-4E53-982B-DF1F1674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06B5152-59DD-4962-9956-329F3017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DB92618-E236-43AA-9858-F65A1FC0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68F1FD7-2D32-48BA-99D9-F6CDCC87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61189E5-61ED-4344-A4FD-768A0570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7304C72-DEB1-4E22-B932-AA83FC8D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985E9EA-7B65-43D3-BF24-9BF6EB22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1863ECD-E2BB-4F1C-8250-877F2559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C4648F-7C31-4417-93DF-4B63F554C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DE39-8CB9-4787-A9C3-3B1AE9D0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2D03F0-3FEE-43B3-8706-1570A046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0EEABF-1939-4F6C-8FE4-CEEE76A5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CDD946C-14A0-41DE-9753-DE2C2E07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EB6EC43-A150-4086-8358-234FA9FA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B49C4D1-F4BA-43BA-B924-9ECFFAAA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0EB3C51-DF31-41B5-8D64-31E327C6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4F69B4A-1765-4B08-AAD6-AE86312E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BE6C4DE-1668-43C2-9916-CCF8AC2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5BBF39-2CA3-4816-BEB8-EB816219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EC84371-2834-4447-B9BF-89EC4A5A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1CDA-FC83-43A5-8862-768C3454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7AC45CA-B0D9-41A8-9464-1C9367A1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67EA4A7-0440-46EF-AE7A-518DD9F6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9D88B33-B023-44F7-9DEC-58706E5F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656D0CF-78EE-4A21-AFBC-A33E8A09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5DA85B7-9EA2-4907-891E-2B051894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999737D-7377-4C5E-9C5A-4FBBA25C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F830FEF-584F-455C-8681-DE1BA15E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7BB7703-126C-423B-8AF2-06CEF669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9FBA29E-D612-41F6-8D7A-7B835F16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EBDB36E-F7D0-433F-BE06-A241D728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5DA22-49BE-431E-A19A-AD6FC8BB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6CA605-B1D8-4C56-AC31-87ED43B6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9AD5BC3-3E75-49ED-8EAB-58CC12D9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4596BA5-0BC0-4FDC-B4B7-B819CA27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DC5D8EA-BF8A-4063-AE36-CC9E2118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4458C26-CF2C-49CF-A4F3-518EC4D0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95418E0-262F-4B4D-B137-D2ED1292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D8785AC-A728-4829-9A5F-BF8D2A48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851EE1E-1902-47BA-BF78-9703CC4E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22C5BC1-5EC1-4A8D-A897-B96F310E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D9AC3ED-3134-4BB2-B546-CAB1E5E5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E1558-87F4-4D1B-A0F8-5668D745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A5B27F-3043-4914-AF7A-BDEE83DC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A3FB58C-8396-4157-8DDC-A8BCF6BA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163DA23-22F7-4DEB-9801-564CC384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2778249-31D7-4EE6-95E5-503942D0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4FE4281-0ED1-4815-8CE7-301557F9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986D49A-A7B5-4D96-BF7F-A0028F57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1EE7424-66B2-4FC7-BB4F-1B345BB7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C2B50B6-E0DC-4D18-B9F9-C769E7F6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36CABD6-EFA3-49AF-A429-3489D0D6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7429026-DFB9-4AD4-B085-D212C095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1106-897F-453B-9912-E3B300BE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A617A1C-B5AA-4D3A-8D1E-A22055DC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56C344A-0E56-4445-AD18-6146EC76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E96B8C7-A028-467F-A46B-40D8C160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F68D2CC-6869-4220-B1F2-B2BBEB38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20C8CC7-1588-49BF-9FFC-F532FC71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816202A-086A-43B6-AEFA-F231A763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C8CE61-D169-497C-A711-A1528DAE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F845830-824A-4B59-A286-46B9B2CC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6CC17DF-B41C-4C49-9DC8-3D2255BE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3C2FF6A-FF96-428E-87F1-D7FF6797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A558-389C-434A-970C-E2C4AF2F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237C954-8E92-48E9-A179-444B87D0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6BA5E77-8856-42FE-9EB2-C0836B6F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1E9C6FF-182E-4F03-8B11-19CF3426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C8B1E8F-D106-4BFE-86FB-FE949BAB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CE6705B-7237-4DFC-9497-8C70D1E7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EFE74E2-E77E-4CFB-8566-D0591F8E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6E606F2-4DAA-4757-B421-E14CCA05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F56AABA-EF47-4C00-8070-2BEA4A7F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3CF2F64-553B-4A2E-8E9C-BD8D0374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3C62FA6-52FF-4D27-8FB7-57C58412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A5D6-3F95-42AF-9531-11E3BA3C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F6B4300-88BF-4668-B32D-7E694B43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E827A7E-A722-43D5-B0EB-E484867C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3A5E904-E463-4A9E-AD7D-6CE16CD5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E8719E2-1881-4D52-82AE-6CFCC7D7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9BA987F-3AE9-4718-BA8E-2C5A8DF4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CD3D70-868B-48AF-9D9E-A3237585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AB3121C-7DE4-44E2-A248-ED42595E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7B52DC4-6F92-4B71-A840-77D01E82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6C6BD07-F6B7-40D1-90C1-B5D9236A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C4D9DC5-15AE-4E38-9C0B-A2BE34BF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728-6D28-43E9-9E2F-5549862E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83B14-2EB0-4040-AFCF-954832C0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920A596-6B56-4467-A91C-10B395C6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F239-5E6A-4A9C-A514-C1593D89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FE5C4-82F7-4CC2-A31B-CB6F7FF6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16554-9DFB-48A5-82C3-C67AD7E9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CA3E9-3754-4B04-B234-CEBD91C6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4B6B3-A642-4977-B5EA-AB1D95C0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D220-FA1D-4573-B53F-5E86CF3F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D71CC-08CD-4A9E-A33E-0488B78B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4202F-4BE2-494D-980E-FC2077A5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B061C-AF9F-4B4B-A12A-50626C72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7AC-E6AD-48EB-985D-9A43990F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4E892-41CC-4581-811F-6AB1B63E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BE73-646B-462E-A2AA-17E32731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7571-C1C3-43B7-A168-DB75D511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DE890-AF5D-403C-BFF6-C11802D6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44A9E-95E8-4F48-9578-4DBED18A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1B5D-DC70-4C04-948B-773F92BB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0FEEC-2C07-48D6-B495-BE43D0E0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235AA-9FFF-474B-BC1C-E9937FF1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70C7-9014-43BA-9570-123785D3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CEC95-E5E7-4696-A578-8246E6FF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13E8-BFDE-43BD-9905-5A715B72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C051-9096-402B-8959-05F2EBB2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11427-6785-42DD-9874-5A0FEC61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E16E0-1FE9-456F-9621-FFA9A177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33342-AF80-4718-B0C9-F961E50C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DE705-59A8-4881-B294-D5D4252A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4868C-EC8F-4273-B6FA-705ECC5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24978-C796-4661-8FDF-7071C8CF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D2E08-FB87-4CB9-8B06-1CE463EC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7BBE7-2742-43C4-A358-3E281FC1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7CA13-9737-4AAB-8999-18BB915C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6F7-B8F2-4147-BCB8-40D24377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82687-A2F0-4EB4-BCE6-4012C1B4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EDC24-3039-412B-832A-AE674986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A6147-2C54-462C-958E-27E2AB6F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F0518-14B0-471A-8551-F64E0010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952EF-500E-4F1C-814E-843D2EF5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F3D8B-0728-43A9-B7A2-97A4BD56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22DE2-3303-4647-8F58-76B789D6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60D33-30EE-4B64-839F-F7CD32B8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D35E2-65D0-449F-A05E-D23714CA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234C3-D206-4DC4-A25C-ED413A71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6B9-1E99-416E-B073-FEF62AD0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9B978-EF8B-47EC-9B0D-087BDD3B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8405B-E9B9-440A-BA9B-3A4BFED4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1AB46-8710-4A42-A4D5-23801DF0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480F8-1221-4271-80F8-2B6DCD7C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14CFD-CA3B-4310-9079-49BF055F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793C1-46D0-488A-BE3F-52C99596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AD785-728F-4514-A1A9-76548A4C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358B4-3C1D-49AB-BB15-61B5B2A8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D9ACC-595E-4A63-9E3F-28553845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B1171-BABF-4D36-B477-7511DC7D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EA6-239E-4F17-8661-5C89DCCB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FED78-1943-4E0A-AC4C-19122599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DAA55-D9E0-402C-BDA9-AC6E569B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FD9E8-9497-4385-98A1-15EAA34E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B3DEB-1B27-4BC1-9F70-CA1CDEA3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7FC99-848D-4E9E-85E7-3AE32404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B9D95-667D-43AF-AE9F-2D177964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58EA1-C19F-4219-A508-91838A9F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FDB87-0354-4DDE-886E-896EC84F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B6A26-6DDE-4E49-A661-6EBC6BFD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6E897-FC64-45E4-8F9C-F8A8F21D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8C3-546B-4354-87DA-15337C0E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780FE-58BE-492F-BE99-28B3AFDF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E26E4-90DA-4D62-A3CB-E7CDE516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64FC9-B9A7-4734-92BB-800D6DF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38CF8-25F9-4274-918A-331C5E04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49B5D-61CA-4B32-8788-4B40C778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5EA31-1B76-4A9C-8773-741BA487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6F52C-0E35-434F-885C-0379D4A4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8BAA2-F8A2-43DD-A9F7-0BFB0306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CE8D3-2638-43C9-9FC1-2D308EBC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48CCA-175F-4AF5-ADF0-7761994D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CC0E-28BD-4757-8302-641656E02BC5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9307-E858-4FCC-A9AA-F9730FA0118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AD71-142D-4ABD-8780-8F05A93F19BF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5A82-35C9-4D99-AAA0-E64124F21CD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1867-4370-4788-8E4D-740020FAE19C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FAD1-DFC4-44EE-81D2-147AE650F8C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9A26-0B41-4B61-9F1B-4FBB762E0410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69F8-BDE8-48D8-8090-8C0B8E93C17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AB8B-D377-440B-8A8C-8E73BC50C1EB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C3EC-545D-4BE1-A555-AF0CA7B0BDE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4F44-430F-40B1-BA57-C1A0A5CB8CD1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C2DB-4DCD-4FB0-9D74-33B571C5D0B9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EE61-923B-423C-86CC-06C761AD011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7754-4575-41D8-BBF7-F0B16FE212E0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8E04-33B0-4C9E-88AC-DCFC99D7C97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D3B4-BADF-4D57-982C-66AD2301F4CE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121F-D709-4A9F-A490-14236074AE5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3933-DA6B-45C9-B9DA-49A71483346E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80FE-5A91-4731-AEF5-378F11A10E4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E3B3-462B-4729-B2C2-FCF071AAA569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3080-0ECF-4E11-8B82-1E322C25C54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6365-8C1D-4BCF-ACBF-CE8857DAE68D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73AF-1C10-4AB7-86E6-5F94A0CCC0A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5574-2D51-4AB1-BDFE-6AA5EBA603A1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2E8B-EA31-4614-AF00-50FD4064DA3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D19D-AD65-4374-919E-854A5E9F0C25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F2C7-A875-468E-9D50-6F572A3BE0B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6D60-B759-4677-B224-9B632FFCD12F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CBAD-2688-41FA-A295-E942D7E445B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26F6-AC76-4649-8DDD-7EC7F86E1768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6FAA-F680-4F50-B7EC-BDA0A862946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1BE5-4C37-4292-BC62-347E69CD9BBE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B704-6AA8-45CD-B1A2-15321399FA6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BCD0-A8ED-457C-834B-03713929DC5F}" type="datetime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D7CA-6889-463E-B355-9CE46D20F3A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8F95-4083-42AB-82D6-1752BF34CA2C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433E-9261-413F-9206-FF73386552E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0378-BD98-4560-80E8-5F2A10F294D2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7EA5-E0B3-45EF-A6C0-8F81B1E5607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5E06-1928-4E65-A1C3-68FAB101FA84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0C4C-755E-45AC-BE0E-0257875F196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B16E-67F0-406C-850D-4DB77D0D6325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F204-E4FC-4EC8-AAB8-179EE58A38B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374F-4763-4091-A240-01388D3DC816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136F-CE69-4A23-9D3B-C9B08245952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DD29-FF00-475F-A6B7-AC1D087555D8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1C1B-71DA-46C4-9C8E-B78E5DF1994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0ADD-2F2E-4AA0-B191-54B8FDFDC315}" type="datetime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9468-A985-4808-BC05-DCFC313D13D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../../Kernicterus/AAP%20guide%20lone.pdf" TargetMode="External"/><Relationship Id="rId2" Type="http://schemas.openxmlformats.org/officeDocument/2006/relationships/hyperlink" Target="file:///../../Kernicterus/lab%20evaluation.htm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onatal Jaundic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403280" y="3573360"/>
            <a:ext cx="648648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r. AbdulRahman Al Nemri,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airman of Pediatric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ssociate 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ior Consultant Neonat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3" name="Picture 3" descr="bilirubin.1.jpg"/>
          <p:cNvPicPr/>
          <p:nvPr/>
        </p:nvPicPr>
        <p:blipFill>
          <a:blip r:embed="rId1"/>
          <a:stretch/>
        </p:blipFill>
        <p:spPr>
          <a:xfrm>
            <a:off x="3851280" y="404640"/>
            <a:ext cx="1600200" cy="582840"/>
          </a:xfrm>
          <a:prstGeom prst="rect">
            <a:avLst/>
          </a:prstGeom>
          <a:ln w="0">
            <a:noFill/>
          </a:ln>
        </p:spPr>
      </p:pic>
    </p:spTree>
  </p:cSld>
  <p:transition spd="slow" advTm="45000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Content Placeholder 3" descr="bili metabolism.jpg"/>
          <p:cNvPicPr/>
          <p:nvPr/>
        </p:nvPicPr>
        <p:blipFill>
          <a:blip r:embed="rId1"/>
          <a:stretch/>
        </p:blipFill>
        <p:spPr>
          <a:xfrm>
            <a:off x="441360" y="285840"/>
            <a:ext cx="8388360" cy="5929200"/>
          </a:xfrm>
          <a:prstGeom prst="rect">
            <a:avLst/>
          </a:prstGeom>
          <a:ln w="0">
            <a:noFill/>
          </a:ln>
        </p:spPr>
      </p:pic>
      <p:sp>
        <p:nvSpPr>
          <p:cNvPr id="1059" name="Rectangle 5"/>
          <p:cNvSpPr/>
          <p:nvPr/>
        </p:nvSpPr>
        <p:spPr>
          <a:xfrm>
            <a:off x="789840" y="514368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lirubin oxid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Rectangle 6"/>
          <p:cNvSpPr/>
          <p:nvPr/>
        </p:nvSpPr>
        <p:spPr>
          <a:xfrm>
            <a:off x="6719040" y="3857760"/>
            <a:ext cx="16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a-glucuronid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7"/>
          <p:cNvSpPr/>
          <p:nvPr/>
        </p:nvSpPr>
        <p:spPr>
          <a:xfrm>
            <a:off x="4512240" y="171468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verdin reduct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2" name="Picture 8" descr="bilirubin%20metabolism.jpg"/>
          <p:cNvPicPr/>
          <p:nvPr/>
        </p:nvPicPr>
        <p:blipFill>
          <a:blip r:embed="rId2"/>
          <a:stretch/>
        </p:blipFill>
        <p:spPr>
          <a:xfrm>
            <a:off x="1616040" y="785880"/>
            <a:ext cx="6384960" cy="5246640"/>
          </a:xfrm>
          <a:prstGeom prst="rect">
            <a:avLst/>
          </a:prstGeom>
          <a:ln w="0">
            <a:noFill/>
          </a:ln>
        </p:spPr>
      </p:pic>
      <p:sp>
        <p:nvSpPr>
          <p:cNvPr id="1063" name="Rectangle 6"/>
          <p:cNvSpPr/>
          <p:nvPr/>
        </p:nvSpPr>
        <p:spPr>
          <a:xfrm>
            <a:off x="1619280" y="32846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ridine diphospho- glucuronosyltransferase  (UG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ISK FACTORS FOR SIGNIFICANT JAUNDICE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94920" y="1785960"/>
            <a:ext cx="82486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stational Age more in prem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ce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tic @ environ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ternal illnes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M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&amp; Blood group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BO or Rh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amily history of  jaundice requiring photo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molysi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G6PD, Spherocyt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vere bru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eastf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Etiological Classifica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13160" indent="-71316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reased bilirubin loa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13160" indent="-713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molytic c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3160" indent="-713160">
              <a:spcBef>
                <a:spcPts val="499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ombs' test posi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 factor incompatibility, ABO incompatibility, minor antigen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 one is comm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13160" indent="-713160">
              <a:spcBef>
                <a:spcPts val="700"/>
              </a:spcBef>
              <a:buClr>
                <a:srgbClr val="ffff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ombs' test negat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 blood cell membrane defe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spherocytosis, elliptocytosis)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 blood cell enzyme defe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G6PD deficiency, pyruvate kinase deficien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3160" indent="-71316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not thalasemia or SC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Oval 4"/>
          <p:cNvSpPr/>
          <p:nvPr/>
        </p:nvSpPr>
        <p:spPr>
          <a:xfrm>
            <a:off x="755640" y="836640"/>
            <a:ext cx="2521080" cy="201600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5"/>
          <p:cNvSpPr/>
          <p:nvPr/>
        </p:nvSpPr>
        <p:spPr>
          <a:xfrm>
            <a:off x="846000" y="1295280"/>
            <a:ext cx="27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Bilirubin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Oval 6"/>
          <p:cNvSpPr/>
          <p:nvPr/>
        </p:nvSpPr>
        <p:spPr>
          <a:xfrm>
            <a:off x="5452920" y="914400"/>
            <a:ext cx="3048120" cy="1371600"/>
          </a:xfrm>
          <a:prstGeom prst="ellipse">
            <a:avLst/>
          </a:prstGeom>
          <a:solidFill>
            <a:srgbClr val="cccc00"/>
          </a:solidFill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7"/>
          <p:cNvSpPr/>
          <p:nvPr/>
        </p:nvSpPr>
        <p:spPr>
          <a:xfrm>
            <a:off x="5722920" y="1143000"/>
            <a:ext cx="292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o-hepatic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Oval 9"/>
          <p:cNvSpPr/>
          <p:nvPr/>
        </p:nvSpPr>
        <p:spPr>
          <a:xfrm>
            <a:off x="2484360" y="5373720"/>
            <a:ext cx="4391280" cy="13683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10"/>
          <p:cNvSpPr/>
          <p:nvPr/>
        </p:nvSpPr>
        <p:spPr>
          <a:xfrm>
            <a:off x="3708360" y="5516640"/>
            <a:ext cx="223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ilirubin El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14"/>
          <p:cNvSpPr/>
          <p:nvPr/>
        </p:nvSpPr>
        <p:spPr>
          <a:xfrm>
            <a:off x="338040" y="0"/>
            <a:ext cx="8805960" cy="3988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pperplate Gothic Bold"/>
              </a:rPr>
              <a:t>Physsiologic Mechanis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17"/>
          <p:cNvSpPr/>
          <p:nvPr/>
        </p:nvSpPr>
        <p:spPr>
          <a:xfrm>
            <a:off x="3857760" y="1071720"/>
            <a:ext cx="1287360" cy="368280"/>
          </a:xfrm>
          <a:prstGeom prst="rect">
            <a:avLst/>
          </a:prstGeom>
          <a:solidFill>
            <a:srgbClr val="cccc00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6" name="Object 2"/>
          <p:cNvGraphicFramePr/>
          <p:nvPr/>
        </p:nvGraphicFramePr>
        <p:xfrm>
          <a:off x="2928960" y="2714760"/>
          <a:ext cx="32176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2714760"/>
                    <a:ext cx="3217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8" name="Right Arrow 14"/>
          <p:cNvGrpSpPr/>
          <p:nvPr/>
        </p:nvGrpSpPr>
        <p:grpSpPr>
          <a:xfrm>
            <a:off x="3486240" y="1481040"/>
            <a:ext cx="2023920" cy="1109880"/>
            <a:chOff x="3486240" y="1481040"/>
            <a:chExt cx="2023920" cy="1109880"/>
          </a:xfrm>
        </p:grpSpPr>
        <p:pic>
          <p:nvPicPr>
            <p:cNvPr id="1079" name="Right Arrow 14" descr=""/>
            <p:cNvPicPr/>
            <p:nvPr/>
          </p:nvPicPr>
          <p:blipFill>
            <a:blip r:embed="rId3"/>
            <a:stretch/>
          </p:blipFill>
          <p:spPr>
            <a:xfrm>
              <a:off x="3486240" y="1481040"/>
              <a:ext cx="20239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3500280" y="1768320"/>
              <a:ext cx="173196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ransport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1" name="Down Arrow 15"/>
          <p:cNvSpPr/>
          <p:nvPr/>
        </p:nvSpPr>
        <p:spPr>
          <a:xfrm>
            <a:off x="6572160" y="2714760"/>
            <a:ext cx="1928880" cy="21430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4d4d4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Curved Up Arrow 15"/>
          <p:cNvSpPr/>
          <p:nvPr/>
        </p:nvSpPr>
        <p:spPr>
          <a:xfrm>
            <a:off x="1258920" y="3141720"/>
            <a:ext cx="1368360" cy="2087640"/>
          </a:xfrm>
          <a:custGeom>
            <a:avLst/>
            <a:gdLst>
              <a:gd name="textAreaLeft" fmla="*/ 213840 w 1368360"/>
              <a:gd name="textAreaRight" fmla="*/ 983520 w 1368360"/>
              <a:gd name="textAreaTop" fmla="*/ 279720 h 2087640"/>
              <a:gd name="textAreaBottom" fmla="*/ 180792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721033"/>
                <a:lnTo>
                  <a:pt x="21509" y="3538"/>
                </a:lnTo>
                <a:lnTo>
                  <a:pt x="16200" y="0"/>
                </a:lnTo>
                <a:lnTo>
                  <a:pt x="10709" y="3538"/>
                </a:lnTo>
                <a:lnTo>
                  <a:pt x="13409" y="3538"/>
                </a:lnTo>
                <a:arcTo wR="6750" hR="21600" stAng="1678967" swAng="325504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solidFill>
            <a:srgbClr val="4d4d4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Nonhemolytic caus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28400" y="1714320"/>
            <a:ext cx="83581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creased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nconjugated bilirubin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vel, normal percentage of reticulocy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ysiologic jaund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travascular 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lycythe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aggerated enterohepatic circ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2- </a:t>
            </a: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Decreased bilirubin conjugation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ysiologic jaund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gler-Najjar syndr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lbert syndro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ypothyroid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reast milk jaund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3- Impaired bilirubin excretion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jugated bilirubin level of &gt;2 mg per dL (34 μmol per L) or &gt;20% of total serum bilirubin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liary obstr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tabolic disor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romosomal abnorma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Physiologic jaundic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456840" y="1599840"/>
            <a:ext cx="82580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breakdown of fetal erythrocytes.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hortened lifespan of fetal erythrocytes and the higher erythrocyte mass in neon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patic excretory capacity is s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activity of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lucuronyl transf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ically, presentation is on the second or third day of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undice that is visible during the first 24 hours of life is likely to be nonphysiolog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28760" y="1071720"/>
            <a:ext cx="828648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the commonest cause of non hemolytic hyperbilirubineamia?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other D/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2F1F-57DA-4E64-BF12-9F9876EF971D}" type="datetime">
              <a:rPr b="0" lang="ar-SA" sz="1400" spc="-1" strike="noStrike">
                <a:solidFill>
                  <a:srgbClr val="ffffff"/>
                </a:solidFill>
                <a:latin typeface="Arial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are the criteria of physiological Jaundice ?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5" name="Content Placeholder 2"/>
          <p:cNvSpPr/>
          <p:nvPr/>
        </p:nvSpPr>
        <p:spPr>
          <a:xfrm>
            <a:off x="1332000" y="2133720"/>
            <a:ext cx="7345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se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te of TSB inc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vel of TS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e of Bil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1B67-09BF-4690-96B3-823871A23083}" type="datetime">
              <a:rPr b="0" lang="ar-SA" sz="1400" spc="-1" strike="noStrike">
                <a:solidFill>
                  <a:srgbClr val="ffffff"/>
                </a:solidFill>
                <a:latin typeface="Arial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7" name="Picture 4" descr="3903809_max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043840" cy="451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Infants with multiple risk factors may develop an exaggerated form of physiologic jaundice in which the total serum bilirubin level may rise as high as 17 mg per dL (291 μ mol per L)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JAUNDICE AND BREAST FEEDING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99680" y="178596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rly-Onse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reast feed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ssociated Jaundice or B Feeding failure J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reased volume and frequency of feedings may result in mild dehydration and the delayed passage of mecon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reast mil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aundice occurs later in the newborn period usually peaking in the sixth to 14th days of lif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 Milk Metabolit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 progestrin, pregnane 3</a:t>
            </a:r>
            <a:r>
              <a:rPr b="0" lang="el-GR" sz="2400" spc="-1" strike="noStrike" baseline="30000">
                <a:solidFill>
                  <a:srgbClr val="ffff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20</a:t>
            </a:r>
            <a:r>
              <a:rPr b="0" lang="el-GR" sz="24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PATHOLOGIC JAUNDIC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900000" y="2285640"/>
            <a:ext cx="78868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 etiologies of jaundice beyo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ysiologic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901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reastfeeding 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reast milk jaundic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re considered patholog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-Conugated Hyperbilirubinemia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755280" y="2357280"/>
            <a:ext cx="806436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ssive  Bilirubin 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aired Conjugat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re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molytic Disease  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660960" indent="-2541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group in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cell enzyme de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 blood cell membrane de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vascular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cyth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ABO Incompatibility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68000" y="1628640"/>
            <a:ext cx="8186760" cy="49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O Incompatibility is the most common cause of hemolytic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nly 10-20% of infants with ABO mismatch develop significant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mbs positive ABO is more likely to cause hemo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versely, Coombs negative  ABO mismatch does occasionally cause significant hemolysis, but this is rather r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agnosi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9" name="Picture 3" descr="289px-Neonatal_jaundice.png"/>
          <p:cNvPicPr/>
          <p:nvPr/>
        </p:nvPicPr>
        <p:blipFill>
          <a:blip r:embed="rId1"/>
          <a:stretch/>
        </p:blipFill>
        <p:spPr>
          <a:xfrm>
            <a:off x="5786280" y="2571840"/>
            <a:ext cx="1928880" cy="39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Laboratory Evaluation of Term Newborn with Jaundice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11" name="Content Placeholder 3" descr="afp20020215p599-f1.gif"/>
          <p:cNvPicPr/>
          <p:nvPr/>
        </p:nvPicPr>
        <p:blipFill>
          <a:blip r:embed="rId1"/>
          <a:stretch/>
        </p:blipFill>
        <p:spPr>
          <a:xfrm>
            <a:off x="2000160" y="1600200"/>
            <a:ext cx="5357880" cy="52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Content Placeholder 3" descr="1331339-1331345-974786-974916.jpg"/>
          <p:cNvPicPr/>
          <p:nvPr/>
        </p:nvPicPr>
        <p:blipFill>
          <a:blip r:embed="rId1"/>
          <a:stretch/>
        </p:blipFill>
        <p:spPr>
          <a:xfrm>
            <a:off x="100080" y="285840"/>
            <a:ext cx="8901000" cy="63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2" descr=""/>
          <p:cNvPicPr/>
          <p:nvPr/>
        </p:nvPicPr>
        <p:blipFill>
          <a:blip r:embed="rId1"/>
          <a:stretch/>
        </p:blipFill>
        <p:spPr>
          <a:xfrm>
            <a:off x="711360" y="328680"/>
            <a:ext cx="7721280" cy="6203880"/>
          </a:xfrm>
          <a:prstGeom prst="rect">
            <a:avLst/>
          </a:prstGeom>
          <a:ln w="0">
            <a:noFill/>
          </a:ln>
        </p:spPr>
      </p:pic>
      <p:sp>
        <p:nvSpPr>
          <p:cNvPr id="1114" name="Text Box 3"/>
          <p:cNvSpPr/>
          <p:nvPr/>
        </p:nvSpPr>
        <p:spPr>
          <a:xfrm>
            <a:off x="1389240" y="6591240"/>
            <a:ext cx="7245000" cy="1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ubcommittee on Hyperbilirubinemia,   Pediatrics 2004;114:297-3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0" y="0"/>
            <a:ext cx="8423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lgorithm for the management of jaundice in the newborn nurs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ellow-orange pigment  Icterus –ikteros - bilirubin in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skin and sclera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Jaundice = galbu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TSB 34umol/l Vs 86 -11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is one of the most common clinical phenomena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ncountered in newbor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ow common is it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Picture 3" descr="Spherocytosis-50x-lymphocyte-website.jpg"/>
          <p:cNvPicPr/>
          <p:nvPr/>
        </p:nvPicPr>
        <p:blipFill>
          <a:blip r:embed="rId1"/>
          <a:stretch/>
        </p:blipFill>
        <p:spPr>
          <a:xfrm>
            <a:off x="1357200" y="1071720"/>
            <a:ext cx="655164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Picture 1" descr="Hereditary_Elliptocytosis.gif"/>
          <p:cNvPicPr/>
          <p:nvPr/>
        </p:nvPicPr>
        <p:blipFill>
          <a:blip r:embed="rId1"/>
          <a:stretch/>
        </p:blipFill>
        <p:spPr>
          <a:xfrm>
            <a:off x="1803240" y="1214280"/>
            <a:ext cx="580572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56840" y="1600200"/>
            <a:ext cx="8258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 increased incidence of kernicterus was found to be associated with total serum bilirubin levels above 20 mg per dL in the presence of hem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ydration And Supportive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guidelines now focus primarily o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ototherap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initial treat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guidelines recommending the use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change transfus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ll infants with significant hyperbilirubi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2600" y="371484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ELEVATED CONJUGATED BILIRUBIN LEVELS ARE NOT DIRECTLY TOXIC TO BRAIN CELLS IN THE NEONATE.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42600" y="1071720"/>
            <a:ext cx="7715160" cy="242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jugated hyperbilirubinemia is never physiologic, and it may indicate the presence of a potentially serious underlying disorder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HOW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dddddd"/>
                </a:solidFill>
                <a:latin typeface="Times New Roman"/>
              </a:rPr>
              <a:t>Guidelines for phototherapy in hospitalized infants of 35 or more weeks' gestation</a:t>
            </a:r>
            <a:br>
              <a:rPr sz="3200"/>
            </a:b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23" name="Content Placeholder 3" descr=""/>
          <p:cNvPicPr/>
          <p:nvPr/>
        </p:nvPicPr>
        <p:blipFill>
          <a:blip r:embed="rId1"/>
          <a:stretch/>
        </p:blipFill>
        <p:spPr>
          <a:xfrm>
            <a:off x="1143000" y="1500120"/>
            <a:ext cx="721980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Guidelines for managmen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25" name="Content Placeholder 3" descr="1331339-1331345-974786-1335803.jpg"/>
          <p:cNvPicPr/>
          <p:nvPr/>
        </p:nvPicPr>
        <p:blipFill>
          <a:blip r:embed="rId1"/>
          <a:stretch/>
        </p:blipFill>
        <p:spPr>
          <a:xfrm>
            <a:off x="2428920" y="1400040"/>
            <a:ext cx="4438440" cy="510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AAP recommendation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27" name="Content Placeholder 3" descr="973235-974786-45.jpg"/>
          <p:cNvPicPr/>
          <p:nvPr/>
        </p:nvPicPr>
        <p:blipFill>
          <a:blip r:embed="rId1"/>
          <a:stretch/>
        </p:blipFill>
        <p:spPr>
          <a:xfrm>
            <a:off x="784080" y="1643040"/>
            <a:ext cx="7685280" cy="42148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PHOTOTHERAPY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29" name="Content Placeholder 3" descr="max-phototherapy1.jpg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PHOTOTHERAPY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31" name="Content Placeholder 3" descr="Phototherapy-Unit-Conventional-.jpg"/>
          <p:cNvPicPr/>
          <p:nvPr/>
        </p:nvPicPr>
        <p:blipFill>
          <a:blip r:embed="rId1"/>
          <a:stretch/>
        </p:blipFill>
        <p:spPr>
          <a:xfrm>
            <a:off x="4714920" y="1643040"/>
            <a:ext cx="2714760" cy="4641840"/>
          </a:xfrm>
          <a:prstGeom prst="rect">
            <a:avLst/>
          </a:prstGeom>
          <a:ln w="0">
            <a:noFill/>
          </a:ln>
        </p:spPr>
      </p:pic>
      <p:sp>
        <p:nvSpPr>
          <p:cNvPr id="1132" name="TextBox 4"/>
          <p:cNvSpPr/>
          <p:nvPr/>
        </p:nvSpPr>
        <p:spPr>
          <a:xfrm>
            <a:off x="1000080" y="221472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ight at blue or blue-green wavelengths converts the bilirubin molecule into a form that is either easier to excrete or is less toxic to the neon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ffective spectrum for this process has been identifi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eak at around 450nm (blue ligh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XCHANGE TRANSFUS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34" name="Content Placeholder 3" descr="17173.jpg"/>
          <p:cNvPicPr/>
          <p:nvPr/>
        </p:nvPicPr>
        <p:blipFill>
          <a:blip r:embed="rId1"/>
          <a:stretch/>
        </p:blipFill>
        <p:spPr>
          <a:xfrm>
            <a:off x="2031840" y="1830240"/>
            <a:ext cx="508032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Bilirubin 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grading heme from hemoglobin-containing RBCs  ( 80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%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20% from ineffective erythropoiesis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rnover of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on-hemoglobin hemoproteins (eg, myoglobin, catalase, nitric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xide synthase, peroxidases, and cytochromes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XCHANGE TRANSFUS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36" name="Content Placeholder 3" descr="pg24_fig3.jpg"/>
          <p:cNvPicPr/>
          <p:nvPr/>
        </p:nvPicPr>
        <p:blipFill>
          <a:blip r:embed="rId1"/>
          <a:stretch/>
        </p:blipFill>
        <p:spPr>
          <a:xfrm>
            <a:off x="1643040" y="1214280"/>
            <a:ext cx="5715000" cy="546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OTHER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oporphyr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ill under investig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bumin trnsa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bio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id and Electrol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5% water    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enobarbiton 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onjugated Hyperbili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40" name="Content Placeholder 3" descr="gem_01_img0101.jpg"/>
          <p:cNvPicPr/>
          <p:nvPr/>
        </p:nvPicPr>
        <p:blipFill>
          <a:blip r:embed="rId1"/>
          <a:stretch/>
        </p:blipFill>
        <p:spPr>
          <a:xfrm>
            <a:off x="1465200" y="1643040"/>
            <a:ext cx="6107040" cy="43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Content Placeholder 3" descr="0102.jpg"/>
          <p:cNvPicPr/>
          <p:nvPr/>
        </p:nvPicPr>
        <p:blipFill>
          <a:blip r:embed="rId1"/>
          <a:stretch/>
        </p:blipFill>
        <p:spPr>
          <a:xfrm>
            <a:off x="2330280" y="500040"/>
            <a:ext cx="3884760" cy="58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2"/>
          <p:cNvSpPr/>
          <p:nvPr/>
        </p:nvSpPr>
        <p:spPr>
          <a:xfrm>
            <a:off x="1599840" y="2500200"/>
            <a:ext cx="5648760" cy="1434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kernicteru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Oval 3"/>
          <p:cNvSpPr/>
          <p:nvPr/>
        </p:nvSpPr>
        <p:spPr>
          <a:xfrm>
            <a:off x="236520" y="457200"/>
            <a:ext cx="196524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al gangl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Oval 4"/>
          <p:cNvSpPr/>
          <p:nvPr/>
        </p:nvSpPr>
        <p:spPr>
          <a:xfrm>
            <a:off x="6942240" y="609480"/>
            <a:ext cx="1965240" cy="2438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pocamp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Oval 5"/>
          <p:cNvSpPr/>
          <p:nvPr/>
        </p:nvSpPr>
        <p:spPr>
          <a:xfrm>
            <a:off x="6840360" y="3809880"/>
            <a:ext cx="2303640" cy="281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ial nerve nucle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Oval 6"/>
          <p:cNvSpPr/>
          <p:nvPr/>
        </p:nvSpPr>
        <p:spPr>
          <a:xfrm>
            <a:off x="236520" y="3962520"/>
            <a:ext cx="2100240" cy="25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iculate bod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Pathophysiology</a:t>
            </a: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lirubin staining in the regions of t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asal ganglia, hippocampus, substantia nigra, and brainstem nucle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ining can occur in the absence of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vere hyperbilirubinem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acteristic patterns of neuronal necrosi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KERNICTERU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50" name="Picture 2" descr="C:\Users\Alnemri\AppData\Local\Temp\er-neonatalf1.jpg"/>
          <p:cNvPicPr/>
          <p:nvPr/>
        </p:nvPicPr>
        <p:blipFill>
          <a:blip r:embed="rId1"/>
          <a:stretch/>
        </p:blipFill>
        <p:spPr>
          <a:xfrm>
            <a:off x="1890720" y="1500120"/>
            <a:ext cx="56736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Picture 3" descr="brain.jpg"/>
          <p:cNvPicPr/>
          <p:nvPr/>
        </p:nvPicPr>
        <p:blipFill>
          <a:blip r:embed="rId1"/>
          <a:stretch/>
        </p:blipFill>
        <p:spPr>
          <a:xfrm>
            <a:off x="1928880" y="0"/>
            <a:ext cx="4714920" cy="35370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6" descr="kern"/>
          <p:cNvPicPr/>
          <p:nvPr/>
        </p:nvPicPr>
        <p:blipFill>
          <a:blip r:embed="rId2"/>
          <a:stretch/>
        </p:blipFill>
        <p:spPr>
          <a:xfrm>
            <a:off x="1714680" y="3387600"/>
            <a:ext cx="520056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4297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e hemolytic processes were identified in 19 out of 80 babies (24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lucose-6-phosphate dehydrogen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G6PD) deficiency was diagnosed in 18 out of 8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alactosem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ccurred in 2 out of 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igler-Najj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yndrom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ype 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ccurred in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etiology for the severe hyperbilirubinemia was discovered in 73% of cases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4"/>
          <p:cNvSpPr/>
          <p:nvPr/>
        </p:nvSpPr>
        <p:spPr>
          <a:xfrm>
            <a:off x="696960" y="6338880"/>
            <a:ext cx="1839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Incidence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14200" y="185724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we have any registry in Saudi Arabia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reported cases from Saudi literatures were secondary to Crigler Najjarr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m J MedGenet. 1998 Aug 27;79(1):12-5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48CE-53C7-47A4-B270-BF12371537B4}" type="datetime">
              <a:rPr b="0" lang="ar-SA" sz="1400" spc="-1" strike="noStrike">
                <a:solidFill>
                  <a:srgbClr val="ffffff"/>
                </a:solidFill>
                <a:latin typeface="Arial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1839960" y="992160"/>
            <a:ext cx="5465880" cy="4873680"/>
          </a:xfrm>
          <a:prstGeom prst="rect">
            <a:avLst/>
          </a:prstGeom>
          <a:ln w="0">
            <a:noFill/>
          </a:ln>
        </p:spPr>
      </p:pic>
      <p:sp>
        <p:nvSpPr>
          <p:cNvPr id="1044" name="Text Box 4"/>
          <p:cNvSpPr/>
          <p:nvPr/>
        </p:nvSpPr>
        <p:spPr>
          <a:xfrm>
            <a:off x="1403280" y="6237360"/>
            <a:ext cx="6588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 rtl="1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ong, R. J. et al. Neoreviews 2007;8:e58-e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79280" y="361800"/>
            <a:ext cx="8783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 rtl="1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scheme for the origin of bilirub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1"/>
          <p:cNvSpPr/>
          <p:nvPr/>
        </p:nvSpPr>
        <p:spPr>
          <a:xfrm>
            <a:off x="500040" y="948240"/>
            <a:ext cx="835812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gh pitched c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rching of the baby's body into a b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eakness, limpness, floppi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fficulty nursing and/or suc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TREATMENT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Box 2"/>
          <p:cNvSpPr/>
          <p:nvPr/>
        </p:nvSpPr>
        <p:spPr>
          <a:xfrm>
            <a:off x="1153080" y="857160"/>
            <a:ext cx="69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rm Infant with Jaundice 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KERNICTERUS DIAGNOSI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y symptom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acute bilirubin encephalopathy-poor feeding, abnormal cry, hypotoni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mediate phase-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upor, irritability, hypert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 phase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rill cry, no feeding, opisthotonus, apnea, seizures, coma,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69920" y="142560"/>
            <a:ext cx="8974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nical Spectrum: Adverse Effects of Newborn Jaund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63" name="Picture 3" descr="kaylen02"/>
          <p:cNvPicPr/>
          <p:nvPr/>
        </p:nvPicPr>
        <p:blipFill>
          <a:blip r:embed="rId1"/>
          <a:stretch/>
        </p:blipFill>
        <p:spPr>
          <a:xfrm>
            <a:off x="304920" y="1981080"/>
            <a:ext cx="2641320" cy="3962520"/>
          </a:xfrm>
          <a:prstGeom prst="rect">
            <a:avLst/>
          </a:prstGeom>
          <a:ln w="57240">
            <a:solidFill>
              <a:srgbClr val="cc0000"/>
            </a:solidFill>
            <a:miter/>
          </a:ln>
        </p:spPr>
      </p:pic>
      <p:sp>
        <p:nvSpPr>
          <p:cNvPr id="1164" name="Text Box 4"/>
          <p:cNvSpPr/>
          <p:nvPr/>
        </p:nvSpPr>
        <p:spPr>
          <a:xfrm>
            <a:off x="236520" y="6278400"/>
            <a:ext cx="86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lirubin Induced Neurologic Dysfunction (BI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Text Box 5"/>
          <p:cNvSpPr/>
          <p:nvPr/>
        </p:nvSpPr>
        <p:spPr>
          <a:xfrm>
            <a:off x="304920" y="990720"/>
            <a:ext cx="2709720" cy="642600"/>
          </a:xfrm>
          <a:prstGeom prst="rect">
            <a:avLst/>
          </a:prstGeom>
          <a:solidFill>
            <a:srgbClr val="ffffcc"/>
          </a:solidFill>
          <a:ln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Acute Bilirubin Encephalopath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6" name="Picture 6" descr="Desi PICK VA Children's Hosp"/>
          <p:cNvPicPr/>
          <p:nvPr/>
        </p:nvPicPr>
        <p:blipFill>
          <a:blip r:embed="rId2"/>
          <a:stretch/>
        </p:blipFill>
        <p:spPr>
          <a:xfrm>
            <a:off x="5494320" y="1995480"/>
            <a:ext cx="3344760" cy="2424240"/>
          </a:xfrm>
          <a:prstGeom prst="rect">
            <a:avLst/>
          </a:prstGeom>
          <a:ln w="57240">
            <a:solidFill>
              <a:srgbClr val="dddddd"/>
            </a:solidFill>
            <a:miter/>
          </a:ln>
        </p:spPr>
      </p:pic>
      <p:sp>
        <p:nvSpPr>
          <p:cNvPr id="1167" name="Text Box 7"/>
          <p:cNvSpPr/>
          <p:nvPr/>
        </p:nvSpPr>
        <p:spPr>
          <a:xfrm>
            <a:off x="5656320" y="1082520"/>
            <a:ext cx="3114720" cy="642600"/>
          </a:xfrm>
          <a:prstGeom prst="rect">
            <a:avLst/>
          </a:prstGeom>
          <a:solidFill>
            <a:srgbClr val="dddddd"/>
          </a:soli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nic Post-icteric Sequelae (Kernicter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Text Box 8"/>
          <p:cNvSpPr/>
          <p:nvPr/>
        </p:nvSpPr>
        <p:spPr>
          <a:xfrm>
            <a:off x="5519880" y="4511520"/>
            <a:ext cx="33192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0000"/>
                </a:solidFill>
                <a:latin typeface="Arial"/>
              </a:rPr>
              <a:t>Auditory Neuropathy (isolat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 Box 9"/>
          <p:cNvSpPr/>
          <p:nvPr/>
        </p:nvSpPr>
        <p:spPr>
          <a:xfrm>
            <a:off x="4097160" y="5454720"/>
            <a:ext cx="4876920" cy="916920"/>
          </a:xfrm>
          <a:prstGeom prst="rect">
            <a:avLst/>
          </a:prstGeom>
          <a:solidFill>
            <a:srgbClr val="99ccff"/>
          </a:solidFill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le manifestations (extra-pyramidal and central posturing disorders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uspected but not yet pro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 Box 10"/>
          <p:cNvSpPr/>
          <p:nvPr/>
        </p:nvSpPr>
        <p:spPr>
          <a:xfrm>
            <a:off x="3149640" y="1066680"/>
            <a:ext cx="2303280" cy="642600"/>
          </a:xfrm>
          <a:prstGeom prst="rect">
            <a:avLst/>
          </a:prstGeom>
          <a:solidFill>
            <a:srgbClr val="c0c0c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Death: respiratory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Line 11"/>
          <p:cNvSpPr/>
          <p:nvPr/>
        </p:nvSpPr>
        <p:spPr>
          <a:xfrm>
            <a:off x="3014640" y="3352680"/>
            <a:ext cx="24382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Line 12"/>
          <p:cNvSpPr/>
          <p:nvPr/>
        </p:nvSpPr>
        <p:spPr>
          <a:xfrm>
            <a:off x="3014640" y="4876920"/>
            <a:ext cx="25052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13"/>
          <p:cNvSpPr/>
          <p:nvPr/>
        </p:nvSpPr>
        <p:spPr>
          <a:xfrm>
            <a:off x="3014640" y="5715000"/>
            <a:ext cx="1082520" cy="0"/>
          </a:xfrm>
          <a:prstGeom prst="line">
            <a:avLst/>
          </a:prstGeom>
          <a:ln w="5724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4" name="AutoShape 14"/>
          <p:cNvCxnSpPr/>
          <p:nvPr/>
        </p:nvCxnSpPr>
        <p:spPr>
          <a:xfrm flipV="1">
            <a:off x="2674440" y="1371240"/>
            <a:ext cx="747000" cy="504000"/>
          </a:xfrm>
          <a:prstGeom prst="bentConnector3">
            <a:avLst>
              <a:gd name="adj1" fmla="val 50000"/>
            </a:avLst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5" name="Text Box 15"/>
          <p:cNvSpPr/>
          <p:nvPr/>
        </p:nvSpPr>
        <p:spPr>
          <a:xfrm>
            <a:off x="3014640" y="3429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come influenced by timely inter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KERNICTERU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 sequelae can incl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ze abnorma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ing difficu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st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ord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reoathe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orineural hearing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ful muscle spa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RNICTERU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3296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idence of bilirubin levels &gt;30 1/1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120 cases kernicterus documented since 19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ity term, breastf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ity of those had levels in high 30s to 40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st level recorded in case series of 111 from 1991-2002 wa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.7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but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ean was 3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cases had no planned follow up and had been discharged early (&lt;48 hour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k Factor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56840" y="1599840"/>
            <a:ext cx="818676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HYX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ALBUMIN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NG GESTATIONAL 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BIRTH W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THER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14200" y="5285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agnetic resonance imaging of the head. Hyperintense basal ganglia lesions on T2-weighted images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pic>
        <p:nvPicPr>
          <p:cNvPr id="1183" name="Content Placeholder 3" descr="Kernicterus.jpg"/>
          <p:cNvPicPr/>
          <p:nvPr/>
        </p:nvPicPr>
        <p:blipFill>
          <a:blip r:embed="rId1"/>
          <a:stretch/>
        </p:blipFill>
        <p:spPr>
          <a:xfrm>
            <a:off x="1857240" y="214200"/>
            <a:ext cx="4572000" cy="487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pperplate Gothic Bold"/>
              </a:rPr>
              <a:t>Management of Hyperbilirubinemi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Copperplate Gothic Bold"/>
              </a:rPr>
              <a:t>AAP Alerts:</a:t>
            </a:r>
            <a:r>
              <a:rPr b="0" lang="en-US" sz="2800" spc="-1" strike="noStrike">
                <a:solidFill>
                  <a:srgbClr val="ffff00"/>
                </a:solidFill>
                <a:latin typeface="Copperplate Gothic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5"/>
          <p:cNvSpPr/>
          <p:nvPr/>
        </p:nvSpPr>
        <p:spPr>
          <a:xfrm>
            <a:off x="304920" y="1447920"/>
            <a:ext cx="8669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nical Overview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Usually benign; but potential of bilirubin toxic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Focu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Reduce incidence of severe hyperbilirubinemi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56760" y="1600200"/>
            <a:ext cx="835812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Recommen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e and support successful breastf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versal systematic pre-discharge assess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e targeted follow-up based on the ris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ck outcome for timely treatment to prevent excessive hyperbilirubinemia and possibly, kernicter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429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77777"/>
                </a:solidFill>
                <a:uFillTx/>
                <a:latin typeface="Copperplate Gothic Bold"/>
                <a:hlinkClick r:id="rId1"/>
              </a:rPr>
              <a:t>AAP 2004: Recommendation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372600" y="1904760"/>
            <a:ext cx="8466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rimary Prevention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lactation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sk assessment for severe hyperbilirubinemia</a:t>
            </a:r>
            <a:r>
              <a:rPr b="0" lang="en-US" sz="2800" spc="-1" strike="noStrike" u="sng">
                <a:solidFill>
                  <a:srgbClr val="777777"/>
                </a:solidFill>
                <a:uFillTx/>
                <a:latin typeface="Verdana"/>
                <a:hlinkClick r:id="rId2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pretation of TSB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use of jaundice/hyperbilirubine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-discharge risk assess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spital policies and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6135840" cy="5929560"/>
          </a:xfrm>
          <a:prstGeom prst="rect">
            <a:avLst/>
          </a:prstGeom>
          <a:ln w="0">
            <a:noFill/>
          </a:ln>
        </p:spPr>
      </p:pic>
      <p:sp>
        <p:nvSpPr>
          <p:cNvPr id="1047" name="Text Box 3"/>
          <p:cNvSpPr/>
          <p:nvPr/>
        </p:nvSpPr>
        <p:spPr>
          <a:xfrm>
            <a:off x="179280" y="6678720"/>
            <a:ext cx="8783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pyright ©2007 American Academy of Pediatr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4"/>
          <p:cNvSpPr/>
          <p:nvPr/>
        </p:nvSpPr>
        <p:spPr>
          <a:xfrm>
            <a:off x="1908000" y="6453360"/>
            <a:ext cx="658836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ong, R. J. et al. Neoreviews 2007;8:e58-e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5"/>
          <p:cNvSpPr/>
          <p:nvPr/>
        </p:nvSpPr>
        <p:spPr>
          <a:xfrm>
            <a:off x="179280" y="361800"/>
            <a:ext cx="8783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me catabolic path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45720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irubin physi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 neurotoxi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dentify and treat illness associated with excess production, impaired conjugation or inadequate eli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bination of thera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MCQs</a:t>
            </a:r>
            <a:endParaRPr b="0" lang="en-US" sz="60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1852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3-day old full term infant with hemolytic disease of the newborn due to Rh incompatibility has a serum indirect bilirubin concentration of 33 mg/dL. You perform an exchange transfusion with no further elevations of bilirubin above 19 mg/dL. Among the following,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OS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ropriate study to use to follow up on this infant is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250920" y="32857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Coomb’s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em auditory evoked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d tomography of the 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globin electrophor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retinosc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1852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3-day old full term infant with hemolytic disease of the newborn due to Rh incompatibility has a serum indirect bilirubin concentration of 33 mg/dL. You perform an exchange transfusion with no further elevations of bilirubin above 19 mg/dL. Among the following,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OS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ropriate study to use to follow up on this infant is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250920" y="3286080"/>
            <a:ext cx="822960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Coomb’s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rainstem auditory evoked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d tomography of the 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oglobin electrophor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retinosco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-day old breastfeed infant  born at term has had decreased appetite, irritability and vomiting for 24 hours. On Physical examination, the infant appears listless. Respiratory Rate: 40/min, Heart Rate : 160/min, and blood pressure: 68/38 mm Hg. The skin and sclera are icteric but no other abnormalities noted. Laboratory studies reveal: Hemoglobin: 12 gm/dL. Urinalysis is negative for reducing substances. Of the following,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O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ikely diagnosis is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68360" y="3285720"/>
            <a:ext cx="82468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group in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yroi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auterine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-day old breastfeed infant  born at term has had decreased appetite, irritability and vomiting for 24 hours. On Physical examination, the infant appears listless. Respiratory Rate: 40/min, Heart Rate : 160/min, and blood pressure: 68/38 mm Hg. The skin and sclera are icteric but no other abnormalities noted. Laboratory studies reveal: Hemoglobin: 12 gm/dL. Urinalysis is negative for reducing substances. Of the following,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MO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likely diagnosis is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68360" y="3285720"/>
            <a:ext cx="82468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acterial sep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group in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yroid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auterine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898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3-day old , breast fed infant develops jaundice. The serum bilirubin level is 12 mg/dL with a direct bilirubin component of 0.5 mg/dL. The infant’s mother asks whether the jaundice might be associated with breastfeeding. Which of the following statements regarding hyperbilirubinaemia associated  with breast feeding i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RUE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394920" y="2357280"/>
            <a:ext cx="85345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hyperbilirubinaemia associated with breast feeding  may occur as early as the first day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supplementation in breast-fed infants will significantly reduce serum concentrations of indirect biliru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bilirubinemia associated with breast feeding may persist for 8 to 12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d clearance of bilirubin may play a role in breast feeding jaundice, breast milk jaundice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4" dur="1" fill="hold"/>
                                  <p:tgtEl>
                                    <p:spTgt spid="1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898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3-day old , breast fed infant develops jaundice. The serum bilirubin level is 12 mg/dL with a direct bilirubin component of 0.5 mg/dL. The infant’s mother asks whether the jaundice might be associated with breastfeeding. Which of the following statements regarding hyperbilirubinaemia associated  with breast feeding i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RUE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394920" y="2357280"/>
            <a:ext cx="85345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 hyperbilirubinaemia associated with breast feeding  may occur as early as the first day of lif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supplementation in breast-fed infants will significantly reduce serum concentrations of indirect biliru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bilirubinemia associated with breast feeding may persist for 8 to 12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creased clearance of bilirubin may play a role in breast feeding jaundice, breast milk jaund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 the following conditions, which is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O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onsistent with findings of mild cholestasis without evidence of billiary atresia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56760" y="2361960"/>
            <a:ext cx="84121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intox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hemolytic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– antitrypsin de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gler-Najjar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3" dur="1" fill="hold"/>
                                  <p:tgtEl>
                                    <p:spTgt spid="12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 the following conditions, which is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MOST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onsistent with findings of mild cholestasis without evidence of billiary atresia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964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 intox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hronic hemolytic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pha – antitrypsin de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 jaund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gler-Najjar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Bilirubin Transpor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684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binds reversibly to albumin (bilirubin:album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bout 0.8 - 7 mg of bilirubin per gram of albumin-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w Albumin level and affinity binding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eous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ree"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lirubin is hydrophob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ipid solub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movement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f bilirubin from the circulation into tissue cross BB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3" descr="ldmr_a_421115_o_f0001g.gif"/>
          <p:cNvPicPr/>
          <p:nvPr/>
        </p:nvPicPr>
        <p:blipFill>
          <a:blip r:embed="rId1"/>
          <a:stretch/>
        </p:blipFill>
        <p:spPr>
          <a:xfrm>
            <a:off x="8001000" y="5800680"/>
            <a:ext cx="114300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4852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4-week  old, breast-fed boy has had mild jaundice since birth. Weight gain has been poor. The urine is light yellow-brown, and the stools are pale yellow-green in color. At this point,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OS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ppropriate next step in management is to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95280" y="307152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the child clinically for 2 to 4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breastfeeding and re-examine the child in 7 to 10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a cholecyst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a total and direct serum bilirubin levels and studies of liver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485200" cy="264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4-week  old, breast-fed boy has had mild jaundice since birth. Weight gain has been poor. The urine is light yellow-brown, and the stools are pale yellow-green in color. At this point,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OST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appropriate next step in management is to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395280" y="307152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the child clinically for 2 to 4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breastfeeding and re-examine the child in 7 to 10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 CE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 CENA"/>
              </a:rPr>
              <a:t>Obtain a cholecyst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a total and direct serum bilirubin levels and studies of liver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 CENA"/>
              </a:rPr>
              <a:t>The following statement is correct regarding bilirubine</a:t>
            </a:r>
            <a:r>
              <a:rPr b="0" lang="en-US" sz="3600" spc="-1" strike="noStrike">
                <a:solidFill>
                  <a:srgbClr val="ffff00"/>
                </a:solidFill>
                <a:latin typeface="AR CENA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560" y="1499760"/>
            <a:ext cx="85532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normally excreted in the urine following its conjugation to glucuron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May achieve high blood levels due to haemolysis associated with glucose-6-phosphate dehydrogenase deficien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Must be prevented from reaching 340 umol/L in well term babies by use of exchange transfusion if necess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Results from the oxidation of haemoglobin by the enzyme glucuronyl transfer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Is normally about 50% bound to albumin and 50% as the unb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2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01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 CENA"/>
              </a:rPr>
              <a:t>The following statement is correct regarding bilirubine</a:t>
            </a:r>
            <a:r>
              <a:rPr b="0" lang="en-US" sz="3600" spc="-1" strike="noStrike">
                <a:solidFill>
                  <a:srgbClr val="ffff00"/>
                </a:solidFill>
                <a:latin typeface="AR CENA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304560" y="1499760"/>
            <a:ext cx="855324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normally excreted in the urine following its conjugation to glucuron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1" lang="en-US" sz="2400" spc="-1" strike="noStrike">
                <a:solidFill>
                  <a:srgbClr val="ffff00"/>
                </a:solidFill>
                <a:latin typeface="AR CENA"/>
              </a:rPr>
              <a:t>May achieve high blood levels due to haemolysis associated with glucose-6-phosphate dehydrogenase deficienc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Must be prevented from reaching 340 umol/L in well term babies by use of exchange transfusion if necess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Results from the oxidation of haemoglobin by the enzyme glucuronyl transfer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 Is normally about 50% bound to albumin and 50% as the unbou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DA59-8B2D-4C61-8AFD-C8CE26E71F55}" type="slidenum">
              <a:rPr b="0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 CENA"/>
              </a:rPr>
              <a:t>Neonatal jaundice is associated with all of the following except :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it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stic fibr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lbert’s syndrom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 feed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natal thyrotoxic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2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508D-AC3B-490C-B8AB-C208149065F0}" type="slidenum">
              <a:rPr b="0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ddddd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 CENA"/>
              </a:rPr>
              <a:t>Neonatal jaundice is associated with all of the following except :</a:t>
            </a:r>
            <a:endParaRPr b="0" lang="en-US" sz="36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maturity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ystic fibr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lbert’s syndrom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st milk feeding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 CE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 CENA"/>
              </a:rPr>
              <a:t>neonatal thyrotoxic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 CENA"/>
              </a:rPr>
              <a:t>A Term Baby Is Found to Have Serum bilirubin of  250 umol/l  at 18 Hours of Age.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 CENA"/>
              </a:rPr>
              <a:t>Which of the Following Is True?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ological jaundice is the most likely ca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rgent conjugated bilirubin level is indic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unlikely to be due to haemoly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fants blood group and Coombs test are the most important investig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indication to start phototherap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2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EB4E-6CDB-4646-AAE1-1D48677F5847}" type="slidenum">
              <a:rPr b="0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 CENA"/>
              </a:rPr>
              <a:t>Un-conjugated (indirect) hyperbilirubinaemia occurs in the following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 CENA"/>
              </a:rPr>
              <a:t>Except:-</a:t>
            </a:r>
            <a:r>
              <a:rPr b="0" lang="en-US" sz="3200" spc="-1" strike="noStrike">
                <a:solidFill>
                  <a:srgbClr val="ffff00"/>
                </a:solidFill>
                <a:latin typeface="AR CENA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864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ransfusion of incompatible ABO/Rh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sis neonato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glucose-6-phosphate dehydrogenase (G6PD)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ype I Crigler-Najjar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te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B4EE-796D-4B18-8CF0-1D888C4D7E7B}" type="slidenum">
              <a:rPr b="0" lang="ar-SA" sz="18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n-conjugated (indirect) hyperbilirubinaemia occurs in the following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cept: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864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ransfusion of incompatible ABO/Rh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sis neonato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glucose-6-phosphate dehydrogenase (G6PD)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ype I Crigler-Najjar syndr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05120" indent="-53352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AR CENA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 CENA"/>
              </a:rPr>
              <a:t>Rotter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 CENA"/>
              </a:rPr>
              <a:t>,</a:t>
            </a:r>
            <a:r>
              <a:rPr b="1" lang="en-US" sz="3200" spc="-1" strike="noStrike">
                <a:solidFill>
                  <a:srgbClr val="ffff00"/>
                </a:solidFill>
                <a:latin typeface="AR CENA"/>
              </a:rPr>
              <a:t>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400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 CENA"/>
              </a:rPr>
              <a:t>In an infant who appeared healthy at birth, vomiting and diarrhea developed at 1 week of age. She gained weight poorly despite a change from breast milk to infant formula feeding at 2 weeks of age. At 3 weeks of age, she is brought to the emergency department where she is found to be lethargic and to have hepatomegaly. </a:t>
            </a:r>
            <a:r>
              <a:rPr b="0" i="1" lang="en-US" sz="2800" spc="-1" strike="noStrike">
                <a:solidFill>
                  <a:srgbClr val="ffff00"/>
                </a:solidFill>
                <a:latin typeface="AR CENA"/>
              </a:rPr>
              <a:t>Of the following, the most likely diagnosis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 Inspissated bile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) Crigler-Najjar Syndro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) Galactos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) Gilbert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) Dubin-Johnson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onjuga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285480" y="142884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jugation of bilirubin with glucuroni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 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ter-soluble, nonneurotoxic bilirub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uridine diphospho- glucuronosyltransferase  (UG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crease conjugation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er rate of hepatic uptak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free bilirubin from the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d concentratio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f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(UGT)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40096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 CENA"/>
              </a:rPr>
              <a:t>In an infant who appeared healthy at birth, vomiting and diarrhea developed at 1 week of age. She gained weight poorly despite a change from breast milk to infant formula feeding at 2 weeks of age. At 3 weeks of age, she is brought to the emergency department where she is found to be lethargic and to have hepatomegaly. </a:t>
            </a:r>
            <a:r>
              <a:rPr b="0" i="1" lang="en-US" sz="2800" spc="-1" strike="noStrike">
                <a:solidFill>
                  <a:srgbClr val="ffff00"/>
                </a:solidFill>
                <a:latin typeface="AR CENA"/>
              </a:rPr>
              <a:t>Of the following, the most likely diagnosis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 Inspissated bile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) Crigler-Najjar Syndrom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Galactos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) Gilbert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) Dubin-Johnson Syndro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0C77-BD86-49D8-8F0F-56069D028271}" type="datetime">
              <a:rPr b="0" lang="ar-SA" sz="1400" spc="-1" strike="noStrike">
                <a:solidFill>
                  <a:srgbClr val="ffffff"/>
                </a:solidFill>
                <a:latin typeface="Arial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4" name="Picture 4" descr="imagesCA0OGNB3"/>
          <p:cNvPicPr/>
          <p:nvPr/>
        </p:nvPicPr>
        <p:blipFill>
          <a:blip r:embed="rId1"/>
          <a:stretch/>
        </p:blipFill>
        <p:spPr>
          <a:xfrm>
            <a:off x="971640" y="1268280"/>
            <a:ext cx="727236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07D2-E280-4859-9367-7347AA894FB2}" type="datetime">
              <a:rPr b="0" lang="ar-SA" sz="1400" spc="-1" strike="noStrike">
                <a:solidFill>
                  <a:srgbClr val="ffffff"/>
                </a:solidFill>
                <a:latin typeface="Arial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6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62760" cy="4537080"/>
          </a:xfrm>
          <a:prstGeom prst="rect">
            <a:avLst/>
          </a:prstGeom>
          <a:ln w="0">
            <a:noFill/>
          </a:ln>
        </p:spPr>
      </p:pic>
      <p:sp>
        <p:nvSpPr>
          <p:cNvPr id="1237" name="TextBox 2"/>
          <p:cNvSpPr/>
          <p:nvPr/>
        </p:nvSpPr>
        <p:spPr>
          <a:xfrm>
            <a:off x="1707480" y="33336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rm female infant with prolong Jaund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0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Bilirubin Excre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599840"/>
            <a:ext cx="83296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jugated bilirubin enter t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le ducts</a:t>
            </a:r>
            <a:r>
              <a:rPr b="0" lang="en-US" sz="36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are excreted with the bile into the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stinal trac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o Or Diglucuronide        unconjugated B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e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n, bacterial flora in older neonates hydrogenate bilirubin to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robilinogen, urobilins, and stercobil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ight Arrow 4"/>
          <p:cNvSpPr/>
          <p:nvPr/>
        </p:nvSpPr>
        <p:spPr>
          <a:xfrm>
            <a:off x="4643280" y="3429000"/>
            <a:ext cx="57168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4d4d4d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0:44:03Z</dcterms:created>
  <dc:creator>Dr.Hifzi</dc:creator>
  <dc:description/>
  <dc:language>en-US</dc:language>
  <cp:lastModifiedBy>LOIDA</cp:lastModifiedBy>
  <dcterms:modified xsi:type="dcterms:W3CDTF">2012-09-02T05:32:33Z</dcterms:modified>
  <cp:revision>110</cp:revision>
  <dc:subject/>
  <dc:title>VBXCBXCBX</dc:title>
</cp:coreProperties>
</file>