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F11-4588-48A6-AA6E-C40BBAE5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089-C2AF-4E05-AED3-4EB756CF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5BE-D9CC-4C48-926B-C8A14693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49E4-0F37-496F-8F4B-26625B12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1D3-E233-4EBC-B183-245E35AA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CE4-A7E8-4B56-93C6-5106DC3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8F56-79BD-4275-B4B3-BD71D6C8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048-5953-4447-941E-1B56733B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5EB-C717-4EFD-A166-8E285C07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437B-9FBC-4BDD-8451-A920253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061E-D12A-4DF6-BE13-FF638E5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4CB-EC14-4601-87A3-B652C809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059F-3EE3-4A9B-9C87-27B75B4B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082-7528-46B7-8C05-939ED25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B800-F566-4AAD-A1B1-CFBACC99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B57-B70D-4A27-A0D9-4BECEFFB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5E94-5A62-444C-9F95-B7FC1A37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852F-8B9B-4C69-A0B6-D3FF298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A01D-F82D-48FD-9B5B-958E138C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4A7-4604-46F6-A011-8C7BD5B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19C-C2EE-4C41-B9FD-832900D1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27D-ED10-4464-9FD6-E1337D5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2D7-E6F5-45A2-864F-009B8477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26D-4A1C-4018-BF94-BEA65A7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D54E-CB3E-4D63-BE3A-0533015C2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62FE-34FB-4B25-AD01-412291E41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0666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Poisoning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li  Alhaboob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16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      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Assisstant Professor of Pediatrics</a:t>
            </a:r>
            <a:br>
              <a:rPr sz="2400"/>
            </a:b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i="1" lang="en-US" sz="2400" spc="-1" strike="noStrike">
                <a:solidFill>
                  <a:srgbClr val="336699"/>
                </a:solidFill>
                <a:latin typeface="Arial Narrow"/>
              </a:rPr>
              <a:t>PICU consultan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verview of pediatric poisoning, diagnosis and treatment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ummary of the most encountered poisoning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6705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dor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743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tter almon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eton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il of wintergre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arlic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sopropyl alcohol, methanol, acetylsalicylic aci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yl salicyl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senic, phosphorous, thallium, 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anol, 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 distil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kin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 or symptom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2361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d flus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we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4960" y="228600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emoglobinemia secondary to nitrates, nitrites, phenacetin, benzoca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rbon monoxide, cyanide, boric acid, 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mphetamines, LSD, organophosphates, cocaine, barbitur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ucous membrane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al les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crim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86200" y="2209680"/>
            <a:ext cx="4952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, carbam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s, paraqu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tics, organophosphates, irritant gas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emperature</a:t>
            </a:r>
            <a:br>
              <a:rPr sz="4400"/>
            </a:br>
            <a:br>
              <a:rPr sz="44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her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38120" y="2743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datives hypnotics, ethanol, carbon monoxide, clonidine, phenothiazines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salicylates, phenothiazines, cocaine, TCAs, amphetamines, theophyll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Blood Pressur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590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57240" y="19810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mpathomimitics (especially phenylpropanolamine in over-the-counter cold remedies), organophosphates, amphetamine, phencyclidine, coca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hypertensives, barbiturates, benzodiazepines, beta blockers, Ca++ channel blockers, clonid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248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Pulse rate</a:t>
            </a:r>
            <a:br>
              <a:rPr sz="44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card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rhythmi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81280" y="18284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gitalis, sedatives hypnotics, beta blockers, ethchlorvynol, opioi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lonergics, sympathomimetics, amphetamines, alcohol, aspirin, theophylline, coca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TCAs, organophosphates, digoxin, phenothiazines, betablockers, carbon monoxide, cyan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559320" y="659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Respiratio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ing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press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pn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ussmaul’s sig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heez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neumon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00400" y="182844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, opioids, barbiturates, sedatives/hypnotics, TCAs, paralytic shelfish poison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s, amphetamines, carbon monox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, ethylene glycol, salicy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drocarb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spiration, salicylates, opioids, sympathomime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ascicul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ton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yoclonus, rigid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4960" y="1828800"/>
            <a:ext cx="5638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mphor, carbon monoxide, cocaine, amphetamines, sympathomimetics, anticholenergic, aspirin, pesticides, organophosphates, lead, PCP, phenothiazines, INH, lithium, theophylline, 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, haloperid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NS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lirium/psych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eakness, paraly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09520" y="1752480"/>
            <a:ext cx="4953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, phenothiazines, sympathomimetics, alcohol, PCP, LSD, marijuana, cocaine, heroin, 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cohol, anticholenergics, sedative hypnotics, opioids, carbon monoxide, TCAs, salicylates, organophosphates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ganophosphates, carbamates, 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EYE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ydria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indn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ystagm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4960" y="1752480"/>
            <a:ext cx="5638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pioids, phenothiazines, organophosphates, benzodiazepines, barbiturates, mushrooms, PC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lenergics, sympathomimitics (cocaine, amphetamines, LSD, PCP), TCA, methanol, glutethim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phenylydantoin, barbiturates, carbamazepine, PCP,carbon monoxide, glutethimide, 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pidemiology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st of the toxic exposures have only minor or no effect on the chil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85% - 90% of pediatric poisoning occurs in &lt; 5 yrs of age (accidental) usually single ag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10% - 15% in older age, mainly adolescents (intensional) usually several ag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-4% of PICU admission are because of toxic expos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</a:t>
            </a:r>
            <a:br>
              <a:rPr sz="4400"/>
            </a:b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ngs or symptom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Pois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2209320"/>
            <a:ext cx="2514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omiting,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86200" y="220932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, phosphorous, heavy metals, lithium, mushroom, fluoride, organophosph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holenergic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atropine, scopolamine, TCAs, antihistamines, mushroom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holenergics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(organophosphates and carbamate insecticide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657600" y="2057040"/>
            <a:ext cx="5486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, flushed, warm, dry skin, dry mouth, mydriasis, tachycardia, arrhythmias, agitation, hallucination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vation, lacrimation, sweating, bronchorrhea, emesis, diarrhea, miosis, bradycardia, bronchospasm with wheezing, confusion, weakness, fasciculation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pi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rcotic withdraw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9520" y="27432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, hypoventilation, hypotension, bradycardia, miosis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usea, vomiting, diarrhea, abdominal pain, lacrimation, diaphoresis, mydriasis, tremor, irritability, delirium, 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dative/ hypno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C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enothiaz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429000" y="2133360"/>
            <a:ext cx="54100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hermia, hypoventilation, hypotension, tachycardia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, convulsions, arrhythmias, anticholenergic manifest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tension, tachycardia, dystonia syndrome, oculogyric crisis, trismus, ataxia, coma, anticholenergic manifestatio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Toxidromes of Common Pediatric Poisoning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Toxi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igns or symptom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5812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ympathomimetics   (amphetamines, phenylpropanolamie, ephedrine, caffeine, cocaine, aminophyllin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6708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, hyperpnea, vomiting, tinnitus, acidosis, seizure, lethargy, 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glycemia, shock, hemorrhagic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achycardia, arrhythmias, psychosis, hallucinations, nausea, vomiting, abdominal pa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aboratory tests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Qualitative toxicology screening is rarely as helpful as Hx and PE in determining the cau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est done on urine and gastric aspirate sampl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Quantitative serum level of known drug is indicated when it can enable prediction of toxicity or determination of treatmen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BGs with respiratory symptoms and to assess acid-base bal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ood glucose from 1st samp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ver and kidney function (metabolism&amp;excre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rum electrolytes (anion gap, renal function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rum osmolar gap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BC (anemia, hemolysi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C panel when suspec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Routine Laboratory Tests That Can Suggest Poisoning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1066680" y="1295280"/>
          <a:ext cx="7150320" cy="680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7150320" cy="680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Drugs with clinically useful serum level quantita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etaminophe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convuls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rbon monoxid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holinestera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igox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Ethylene glyc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avy meta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656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soprop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a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ano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hemoglob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alicyl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ophyllin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adiography indic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2388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head trauma cannot be exclud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skull and cervical spine film, head CT if physical findings are suggestiv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child abuse is suspected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skeletal survey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patient is having respiratory distress (CXRay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f radiopaque substance is suspect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ommon substances that are radiopaque (CHIPES)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loral hydrat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avy meta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od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enothiazin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Enteric coated and extended release medic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lt tablet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9999"/>
                </a:solidFill>
                <a:latin typeface="Arial"/>
              </a:rPr>
              <a:t>(in Fe ingestion, serial films indicate movement and elemination)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9144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D referral recommend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23623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rious exposur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Younger than 6 month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istory of previous toxic inges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uestionable or unreliable history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eat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Airway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atency and protective mechanisms (if absent, use nonspecific antidote of D10W 2cc/kg and Naloxone 0.1mg/kg; if no response intubat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Breathing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ear secretions, give O2, continuous O2 saturation, ABGs, CXRay, treat wheezing and stridor, early controlled intubation prefer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Circulation: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requent VS, continuous CR monitor, fluids for low BP, do baseline ECG, watch for arrythmias, PALS guidel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99"/>
                </a:solidFill>
                <a:latin typeface="Arial"/>
              </a:rPr>
              <a:t>Neurologic status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requent assessments, the most common cause to admit intoxication to PICU, use nonspecific antidotes, watch for seizures, rule out metabolic causes of 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Emesis-Syrup of Ipecac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7" name="Object 3"/>
          <p:cNvGraphicFramePr/>
          <p:nvPr/>
        </p:nvGraphicFramePr>
        <p:xfrm>
          <a:off x="3070080" y="1639800"/>
          <a:ext cx="6073920" cy="52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0080" y="1639800"/>
                    <a:ext cx="607392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86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osage in &lt; 1 yr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0 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Young childre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 m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olescents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ult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0 ml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y repeat o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22856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troleum distillat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austic ag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mpaired consciousness, 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apid coma-inducing agent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e.g., propoxyphene, TCA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Lavage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rge bore orogastric hose (28 Fr for young children, 36-40 Fr for adolescent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ft recumbent Trendelenburg’s position to reduce the risk of aspi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avage with saline or 1/2 NS until return is clea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ost successful for toxins that delay gastric emptying (aspirin, iron, anticholinergics) and for those forming concretions (iron, salicylates, meprobamat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9432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 caustic ag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ntroversial in petroleum distillates inges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tupor or coma unless airway is protect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Activated Charcoal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dminister in all cases after eme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osage: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- Children  1 g/kg   - Adults  50-100 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00600" y="2437920"/>
            <a:ext cx="3657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rrosive agents: charcoal interfers with GI endoscop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GI decontamination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   </a:t>
            </a: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athartics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br>
              <a:rPr sz="3200"/>
            </a:b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Therapy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ontraindications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gSO4 250 mg/kg/dose P.O.(max dose 30 g) in 10%-20% solu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orbitol magnesium citrate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peat above doses every 2-4 hrs until passage of charcoal stained stool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81120" y="22860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void MgSO4 in renal fail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Enhanced elimination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Forced diure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y administering 2-3 times the maintenance fluid to achieve U.O = 2-5 cc/kg/hr  (contraindicated in pulmonary or cerebral edema and renal failur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Urinary alkalinizat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 eleiminate weak acids(salicylates, barbiturates and methotrexate), can be achieved by adding NaHCO3 to the IV fluids, the goal is urine pH of 7-8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Serum alkalinizat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 TCAs toxic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Hemodialysi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 low molecular weight substances with low volume of distribution and low binding to plasma proteins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Hemoperfusion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tein binding is not a limit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ntidotal Therap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ly a small proportion of poisoned patients are amenable to antidotal therap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nly a few poisoning is antidotal therapy urgent (e.g., CO, cyanide, organophosphate and opioid intoxica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ecific Intoxications and Their Antidot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685800" y="1219320"/>
          <a:ext cx="8190000" cy="75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8190000" cy="75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pecific Intoxications and Their Antidote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458640" y="758880"/>
          <a:ext cx="8361360" cy="811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758880"/>
                    <a:ext cx="8361360" cy="81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Acetaminophen (paracetamol) poisoning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usea, vomiting and malaise for 24 h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mprovement for 24-48 h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patic dysfunction after 72 hrs (AST is the earliest and most sensitive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ath may occur from fulminant hepatic failu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oxicity likely with ingestion of &gt; 150 mg/k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mack-Matthew nomogram defines the risk of hepatic damage in acute intoxication (level at 4 hrs post inges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utes of exposures in childre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2743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gestio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Inhalation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kin exposure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Acetaminophen (paracetamol) poisoning management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I decontamin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ated charcoal within 4 hrs of inges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ntidote N-acetylcysteine is most effective if given within 8 hrs of ingestion, total of 17 doses, P.O or IV (However, NAC should be given even with &gt; 24hrs presentatio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C should be given if serum acetaminophen level is either in the “possible” or “probable” hepatotoxic ran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Salicylate toxicity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Clinical manifestations</a:t>
            </a:r>
            <a:br>
              <a:rPr sz="4400"/>
            </a:b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ommon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Uncommon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we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Vomi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pn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innitu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agulopath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1640" y="18288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depres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IADH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moly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nal fail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epatotoxic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erebral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Laboratory findings in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abolic acid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alkal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ixed (resp alkalosis &amp;metabolic acidosi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glycemia, Hypoglycemia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240" y="21337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ernatremia, hyponatr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kal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pocalcem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rolonged P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Ketouri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Prediction of acute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Ingested dose can predict the severity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&lt; 150 mg/kg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xicity not expected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asymptomatic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50-300 mg/k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xicity mild to moderate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mild to moderate hyperpnea,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lethargy or excitability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00-500 mg/kg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vere toxicity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severe hyperpnea, coma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r semicoma, sometime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with convulsion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 Narrow"/>
              </a:rPr>
              <a:t>Management of salicylate toxicity</a:t>
            </a:r>
            <a:endParaRPr b="1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I decontamin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rrect dehydration and force diure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rine alkalinization and acidosis correction with IV NaHCO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nitor electrolytes, glucose, calciu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it K for hemorrhagic diathesi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crease fever with external cool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modialysis for severe intoxication (Dome nomogram), severe acidosis unresponsive to NaHCO3, renal failure, pulmonary edema and severe CNS manifest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Common agents     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Less common but 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seriou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osmetics and personal care produc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leaning substan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algesic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e supplem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ntidepressa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esticid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Hydrocarb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dentification of the toxic ag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time elapsed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route of exposur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Underlying medical proble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e clinical effect (with few exceptions rapidity of symptoms progression correlates with severity of poisoning.e.g., acetaminophen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? Trauma in addition to ingestio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(change in LOC)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hysical Exa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eight (determine ? mg/kg ingested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Vital sign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heck odors from the breath, skin, hair, cloth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orough exam for any abnormal finding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6019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General presentations suggestive of poisonin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438280"/>
            <a:ext cx="3504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vere vomiting, diarrhe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cutely disturbed consciousn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bnormal behavi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eiz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unusual o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0600" y="2438280"/>
            <a:ext cx="36576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rrhythmia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etabolic acid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ory distre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1219320"/>
            <a:ext cx="6629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nical clues to the diagnosis of unknown poisoning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Od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ki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ucous membra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lood pressur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6560" y="274320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se rat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ulmonary edem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CN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GI system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10:22:16Z</dcterms:created>
  <dc:creator>Jihad Zahraa</dc:creator>
  <dc:description/>
  <dc:language>en-US</dc:language>
  <cp:lastModifiedBy>DrAli</cp:lastModifiedBy>
  <cp:lastPrinted>1998-09-12T15:32:25Z</cp:lastPrinted>
  <dcterms:modified xsi:type="dcterms:W3CDTF">2011-04-09T08:55:30Z</dcterms:modified>
  <cp:revision>54</cp:revision>
  <dc:subject/>
  <dc:title>Poisoning</dc:title>
</cp:coreProperties>
</file>