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5CC-0D9F-46CF-9C5A-CFA61906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A24-7173-4593-871F-589B785C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D30-0A5E-4516-A093-CF1BD148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EAC-361F-47AA-9BF9-DD1EDAA1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D355-2DFF-4222-B85B-6A2F364B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005-BDFD-4F65-9EAF-62D5929D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0E55-4945-4D01-A06D-D155C70F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29A0-6A8F-45D1-BE36-5A66D393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4444-C29E-423B-BE2A-34B0AC07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0032-496E-47B3-A0EB-F69B27B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4D39-034E-4C74-9858-5091337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378-F6FB-4C0B-BCB9-38DD2E58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57F2-8292-4A5B-B816-5F77CB69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4D53-5356-48BC-BAAC-A84E311B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C279-7CE9-4406-9B29-77B1854B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E433-D8E7-47C8-AA4B-19286F30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64CE-EF8C-499D-822B-8B629873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F46-F716-44B4-B172-B610E9B3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3C8-13FF-46A3-ADA5-3731E4FC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9D9-310F-4E20-9300-93F73D67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C4A-38DA-4988-8E3D-40DA838D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4DB-8637-4764-9891-34B5E6AC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9F9-E42B-4111-865E-6662DDE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8F0-6D47-4ABD-ABA7-21E3EDE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A9BF-5848-4757-BE53-3B8A13CA6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69A4-EEDB-457C-A745-CF28E8EF6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isoning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li  Alhaboob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      </a:t>
            </a: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Assisstant Professor of Pediatrics</a:t>
            </a:r>
            <a:br>
              <a:rPr sz="2400"/>
            </a:b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PICU consultan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2971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verview of pediatric poisoning, diagnosis and treatmen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ummary of the most encountered poisoning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6705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dor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743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tter almon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cetone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il of wintergre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arlic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troleu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sopropyl alcohol, methanol, acetylsalicylic aci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yl salicyla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rsenic, phosphorous, thallium, organophosph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thanol, m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troleum distill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kin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 or symptom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2361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d flus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we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4960" y="2286000"/>
            <a:ext cx="563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emoglobinemia secondary to nitrates, nitrites, phenacetin, benzocai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rbon monoxide, cyanide, boric acid, anticholenerg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mphetamines, LSD, organophosphates, cocaine, barbitur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Mucous membranes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v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al les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crim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86200" y="22096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ganophosphates, carbam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rrosives, paraqu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ustics, organophosphates, irritant gas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emperatur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her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ther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38120" y="2743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datives hypnotics, ethanol, carbon monoxide, clonidine, phenothiazines, 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salicylates, phenothiazines, cocaine, TCAs, amphetamines, theophylli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Blood Pressure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90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57240" y="19810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ympathomimitics (especially phenylpropanolamine in over-the-counter cold remedies), organophosphates, amphetamine, phencyclidine, cocai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hypertensives, barbiturates, benzodiazepines, beta blockers, Ca++ channel blockers, clonidine, 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Pulse rate</a:t>
            </a:r>
            <a:br>
              <a:rPr sz="44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radycard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rrhythmi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81280" y="18284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gitalis, sedatives hypnotics, beta blockers, ethchlorvynol, opioi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lonergics, sympathomimetics, amphetamines, alcohol, aspirin, theophylline, cocaine, 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TCAs, organophosphates, digoxin, phenothiazines, betablockers, carbon monoxide, cyan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559320" y="659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Respirations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ing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epress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achypn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Kussmaul’s sig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ez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00400" y="182844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cohol, opioids, barbiturates, sedatives/hypnotics, TCAs, paralytic shelfish poison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icylates, amphetamines, carbon monox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anol, ethylene glycol, salicyl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ganophosph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drocarb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spiration, salicylates, opioids, sympathomime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NS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ng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izu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ascicul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tonu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yoclonus, rigid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4960" y="18288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mphor, carbon monoxide, cocaine, amphetamines, sympathomimetics, anticholenergic, aspirin, pesticides, organophosphates, lead, PCP, phenothiazines, INH, lithium, theophylline, 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ganophosph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phenothiaz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phenothiazines, haloperid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NS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ng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elirium/psych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eakness, paraly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09520" y="175248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phenothiazines, sympathomimetics, alcohol, PCP, LSD, marijuana, cocaine, heroin, heavy met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cohol, anticholenergics, sedative hypnotics, opioids, carbon monoxide, TCAs, salicylates, organophosphate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ganophosphates, carbamates, heavy met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EYE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ydria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lindnes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ystagmu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4960" y="17524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pioids, phenothiazines, organophosphates, benzodiazepines, barbiturates, mushrooms, PC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lenergics, sympathomimitics (cocaine, amphetamines, LSD, PCP), TCA, methanol, glutethim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phenylydantoin, barbiturates, carbamazepine, PCP,carbon monoxide, glutethimide, 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pidemiology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st of the toxic exposures have only minor or no effect on the chi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85% - 90% of pediatric poisoning occurs in &lt; 5 yrs of age (accidental) usually single ag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0% - 15% in older age, mainly adolescents (intensional) usually several ag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-4% of PICU admission are because of toxic exposur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ng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Vomiting, diarrh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86200" y="220932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ron, phosphorous, heavy metals, lithium, mushroom, fluoride, organophosph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oxidromes of Common Pediatric Poisoning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Toxi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(atropine, scopolamine, TCAs, antihistamines, mushroom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holenergic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(organophosphates and carbamate insecticide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57600" y="2057040"/>
            <a:ext cx="5486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ever, flushed, warm, dry skin, dry mouth, mydriasis, tachycardia, arrhythmias, agitation, hallucinations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ivation, lacrimation, sweating, bronchorrhea, emesis, diarrhea, miosis, bradycardia, bronchospasm with wheezing, confusion, weakness, fasciculations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oxidromes of Common Pediatric Poisoning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Toxi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pi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rcotic withdraw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9520" y="2743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hermia, hypoventilation, hypotension, bradycardia, miosis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usea, vomiting, diarrhea, abdominal pain, lacrimation, diaphoresis, mydriasis, tremor, irritability, delirium, seiz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oxidromes of Common Pediatric Poisoning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Toxi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dative/ hypno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enothiaz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29000" y="2133360"/>
            <a:ext cx="54100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hermia, hypoventilation, hypotension, tachycardia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ma, convulsions, arrhythmias, anticholenergic manifesta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ension, tachycardia, dystonia syndrome, oculogyric crisis, trismus, ataxia, coma, anticholenergic manifesta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oxidromes of Common Pediatric Poisoning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Toxi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581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icyl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ympathomimetics   (amphetamines, phenylpropanolamie, ephedrine, caffeine, cocaine, aminophyllin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6708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ever, hyperpnea, vomiting, tinnitus, acidosis, seizure, lethargy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glycemia, shock, hemorrhagic diarrh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achycardia, arrhythmias, psychosis, hallucinations, nausea, vomiting, abdominal pa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Laboratory test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Qualitative toxicology screening is rarely as helpful as Hx and PE in determining the caus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est done on urine and gastric aspirate samp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Quantitative serum level of known drug is indicated when it can enable prediction of toxicity or determination of treatmen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BGs with respiratory symptoms and to assess acid-base bal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lood glucose from 1st samp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r and kidney function (metabolism&amp;excretio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rum electrolytes (anion gap, renal functio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rum osmolar ga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BC (anemia, hemolysi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C panel when suspect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Routine Laboratory Tests That Can Suggest Poisoning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1066680" y="1295280"/>
          <a:ext cx="7150320" cy="680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150320" cy="680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Drugs with clinically useful serum level quantitation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cetaminoph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onvulsa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holinesteras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gox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thylene glyc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eavy met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656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soprop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thiu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emoglob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icyla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ophylli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adiography indic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head trauma cannot be exclud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skull and cervical spine film, head CT if physical findings are suggestive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child abuse is suspect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skeletal survey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patient is having respiratory distress (CXRay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radiopaque substance is suspect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mmon substances that are radiopaque (CHIPES)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loral hydrat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avy meta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odin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enothiazin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nteric coated and extended release medic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lt tablet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(in Fe ingestion, serial films indicate movement and elemination)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D referral recommend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rious exposur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Younger than 6 month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istory of previous toxic inges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uestionable or unreliable history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eat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Airway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atency and protective mechanisms (if absent, use nonspecific antidote of D10W 2cc/kg and Naloxone 0.1mg/kg; if no response intubat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Breathing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lear secretions, give O2, continuous O2 saturation, ABGs, CXRay, treat wheezing and stridor, early controlled intubation prefer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Circulation: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requent VS, continuous CR monitor, fluids for low BP, do baseline ECG, watch for arrythmias, PALS guidel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Neurologic status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requent assessments, the most common cause to admit intoxication to PICU, use nonspecific antidotes, watch for seizures, rule out metabolic causes of seiz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 decontamination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Emesis-Syrup of Ipecac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rapy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ontraindication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3070080" y="1639800"/>
          <a:ext cx="6073920" cy="52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0080" y="1639800"/>
                    <a:ext cx="60739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osage in &lt; 1 yr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0 m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Young children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5 m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dolescents,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dults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0 ml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y repeat o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22856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troleum distill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ustic ag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mpaired consciousness, seizu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apid coma-inducing agent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e.g., propoxyphene, TCA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 decontamination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Lavage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rapy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ontraindication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55627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rge bore orogastric hose (28 Fr for young children, 36-40 Fr for adolescent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eft recumbent Trendelenburg’s position to reduce the risk of aspi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vage with saline or 1/2 NS until return is clea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ost successful for toxins that delay gastric emptying (aspirin, iron, anticholinergics) and for those forming concretions (iron, salicylates, meprobamat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9432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rrosive caustic ag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ntroversial in petroleum distillates inges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tupor or coma unless airway is protect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 decontamination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Activated Charcoal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rapy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ontraindication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dminister in all cases after eme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osage: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- Children  1 g/kg   - Adults  50-100 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00600" y="2437920"/>
            <a:ext cx="3657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rrosive agents: charcoal interfers with GI endoscop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 decontamination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   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Cathartic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rapy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ontraindication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gSO4 250 mg/kg/dose P.O.(max dose 30 g) in 10%-20% solu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orbitol magnesium citrate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peat above doses every 2-4 hrs until passage of charcoal stained stoo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81120" y="22860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void MgSO4 in renal fail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Enhanced elimination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Forced diuresi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y administering 2-3 times the maintenance fluid to achieve U.O = 2-5 cc/kg/hr  (contraindicated in pulmonary or cerebral edema and renal failu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Urinary alkalinizatio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o eleiminate weak acids(salicylates, barbiturates and methotrexate), can be achieved by adding NaHCO3 to the IV fluids, the goal is urine pH of 7-8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Serum alkalinizatio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 TCAs toxic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Hemodialysi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 low molecular weight substances with low volume of distribution and low binding to plasma protein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Hemoperfusio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tein binding is not a limit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tidotal Therap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ly a small proportion of poisoned patients are amenable to antidotal therap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ly a few poisoning is antidotal therapy urgent (e.g., CO, cyanide, organophosphate and opioid intoxicatio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pecific Intoxications and Their Antidote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685800" y="1219320"/>
          <a:ext cx="8190000" cy="75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8190000" cy="75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pecific Intoxications and Their Antidote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458640" y="758880"/>
          <a:ext cx="8361360" cy="811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758880"/>
                    <a:ext cx="8361360" cy="81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Acetaminophen (paracetamol) poisoning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usea, vomiting and malaise for 24 h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mprovement for 24-48 h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patic dysfunction after 72 hrs (AST is the earliest and most sensitive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ath may occur from fulminant hepatic failu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xicity likely with ingestion of &gt; 150 mg/k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mack-Matthew nomogram defines the risk of hepatic damage in acute intoxication (level at 4 hrs post ingestio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utes of exposures in childre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2743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gestio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halatio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kin exposur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Acetaminophen (paracetamol) poisoning managemen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I decontamin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tivated charcoal within 4 hrs of inges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tidote N-acetylcysteine is most effective if given within 8 hrs of ingestion, total of 17 doses, P.O or IV (However, NAC should be given even with &gt; 24hrs presentatio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C should be given if serum acetaminophen level is either in the “possible” or “probable” hepatotoxic ran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Salicylate toxicity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nical manifestations</a:t>
            </a: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Commo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Uncomm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we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us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Vomi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pn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innitu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izu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agulopath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piratory depres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IAD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emoly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nal fail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epatotoxic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erebral ede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Laboratory findings in salicylate toxicity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abolic acid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piratory alkal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xed (resp alkalosis &amp;metabolic acidosi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glycemia, Hypoglycemia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natremia, hyponatr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kal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calc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longed P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Ketour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Prediction of acute salicylate toxicity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gested dose can predict the severity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&lt; 150 mg/k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oxicity not expected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asymptomatic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50-300 mg/kg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oxicity mild to moderate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mild to moderate hyperpnea,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ethargy or excitability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00-500 mg/kg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vere toxicity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severe hyperpnea, coma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 semicoma, sometime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ith convulsion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Management of salicylate toxicity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I decontamin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rrect dehydration and force diure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rine alkalinization and acidosis correction with IV NaHCO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nitor electrolytes, glucose, calci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Vit K for hemorrhagic diathe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crease fever with external cool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modialysis for severe intoxication (Dome nomogram), severe acidosis unresponsive to NaHCO3, renal failure, pulmonary edema and severe CNS manifest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Common agents      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Less common but 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eriou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smetics and personal care produc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leaning substan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algesics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e supplem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depressa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sticid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drocarb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ication of the toxic ag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time elaps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route of exposur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derlying medical problem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linical effect (with few exceptions rapidity of symptoms progression correlates with severity of poisoning.e.g., acetaminophe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? Trauma in addition to inges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change in LOC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hysical Exa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ight (determine ? mg/kg ingested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Vital sig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eck odors from the breath, skin, hair, clot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orough exam for any abnormal finding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6019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General presentations suggestive of poisoning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3504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vere vomiting, diarrh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cutely disturbed consciousnes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bnormal behavi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iz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nusual o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0600" y="243828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rrhythmi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abolic acid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piratory distres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2193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nical clues to the diagnosis of unknown poisoning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27432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ucous membra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lood press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27432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ulse ra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I syste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0T10:22:16Z</dcterms:created>
  <dc:creator>Jihad Zahraa</dc:creator>
  <dc:description/>
  <dc:language>en-US</dc:language>
  <cp:lastModifiedBy>DrAli</cp:lastModifiedBy>
  <cp:lastPrinted>1998-09-12T15:32:25Z</cp:lastPrinted>
  <dcterms:modified xsi:type="dcterms:W3CDTF">2011-04-09T08:55:30Z</dcterms:modified>
  <cp:revision>54</cp:revision>
  <dc:subject/>
  <dc:title>Poisoning</dc:title>
</cp:coreProperties>
</file>