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</p:sldIdLst>
  <p:sldSz cx="9144000" cy="6858000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670800" cy="989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29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861480" y="742680"/>
            <a:ext cx="4946760" cy="370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30"/>
          </p:nvPr>
        </p:nvSpPr>
        <p:spPr>
          <a:xfrm>
            <a:off x="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31"/>
          </p:nvPr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4C6F-58B3-48F3-BF50-40D464B761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E350-0A36-4F6E-B3D3-3B6C9FC7B01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5651-36FB-4CE6-8E66-ED0E96E515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EA11-6B66-48BC-8F10-48573E28E00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0B25-49F9-46C8-B025-21C23997167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7FDD-63F5-440E-AE0C-95F4AD658F7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CEE7-F351-41B6-85B7-247302EF668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6495-C9A1-493B-BA99-70CB3F0AB05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856C-4474-4C3A-8020-3A9EE0216F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863640" y="74448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5076-9BE0-479A-889C-F5FEDCA8177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863640" y="74448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F746-3BAB-4F68-94A5-1FF48F10105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863640" y="74448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099A-2A7F-4605-AA84-2729E29C89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37DD-449C-432D-9F28-D00B234EAF2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14E3-DDD8-4127-9857-007614BFF4D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96D7-1A69-47EE-9683-510473B32A2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92DD-64D6-4120-9C24-152ACE4D8C0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47CD-84F2-48CF-882C-97DF5AD3A4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7252560" y="650700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ww.saadmedica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ssh-logo"/>
          <p:cNvPicPr/>
          <p:nvPr/>
        </p:nvPicPr>
        <p:blipFill>
          <a:blip r:embed="rId3"/>
          <a:stretch/>
        </p:blipFill>
        <p:spPr>
          <a:xfrm>
            <a:off x="152280" y="152280"/>
            <a:ext cx="3200400" cy="677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0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1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2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3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4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5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6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7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8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2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5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6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7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8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 Black"/>
              </a:rPr>
              <a:t>Common Thyroid Disorders in Children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676160" y="4114800"/>
            <a:ext cx="6019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 Sarar Moh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RCPCH (UK), MRCP (UK), CCST (Ire),  CPT (Ir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CH (Ire)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ultant Paediatric Endocrinologist  &amp; Metabolic Physic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ociate Professor of Pedia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TSH, low 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yroid anti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ashimoto’s Diseas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 cause of hypothyroid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immune lymphocytic thyroid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hyroid antibod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yroglobulin 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mal 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H-R Ab (blo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s &gt; 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Famili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ubacute (de Quervain’s) Thyroiditi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ing viral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ltration of the gland with granul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ful goi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hyroid pha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pothyroid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reatment of Hypothyroid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 thyroid hormone medication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yrox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1384920" y="152280"/>
            <a:ext cx="51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S Mincho"/>
                <a:ea typeface="Andalus"/>
              </a:rPr>
              <a:t>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ongenital Hypothyro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488160" y="1905120"/>
            <a:ext cx="6995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ce  1:3000 – 4000 ( more than PKU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male : Male  is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most all affected NB have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no S/S at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1800" y="8380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3" descr="baby"/>
          <p:cNvPicPr/>
          <p:nvPr/>
        </p:nvPicPr>
        <p:blipFill>
          <a:blip r:embed="rId1"/>
          <a:stretch/>
        </p:blipFill>
        <p:spPr>
          <a:xfrm>
            <a:off x="2971800" y="2438280"/>
            <a:ext cx="2819520" cy="2509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7" name="Line 4"/>
          <p:cNvSpPr/>
          <p:nvPr/>
        </p:nvSpPr>
        <p:spPr>
          <a:xfrm>
            <a:off x="4343400" y="1600200"/>
            <a:ext cx="0" cy="43434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3200760" y="19051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4496400" y="19051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H="1">
            <a:off x="1905120" y="3733920"/>
            <a:ext cx="5029200" cy="0"/>
          </a:xfrm>
          <a:prstGeom prst="line">
            <a:avLst/>
          </a:prstGeom>
          <a:ln w="76320">
            <a:solidFill>
              <a:srgbClr val="cc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7011000" y="35053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-Ge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5486400" y="1295280"/>
            <a:ext cx="1828800" cy="1295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othala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yroid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3356640" y="586728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1"/>
          <p:cNvSpPr/>
          <p:nvPr/>
        </p:nvSpPr>
        <p:spPr>
          <a:xfrm rot="16200000">
            <a:off x="1104840" y="1333440"/>
            <a:ext cx="1447920" cy="1828800"/>
          </a:xfrm>
          <a:prstGeom prst="wedgeRoundRectCallout">
            <a:avLst>
              <a:gd name="adj1" fmla="val -59759"/>
              <a:gd name="adj2" fmla="val 769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 supplies  T4  to fetus via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3809880" y="2743200"/>
            <a:ext cx="1143000" cy="0"/>
          </a:xfrm>
          <a:prstGeom prst="line">
            <a:avLst/>
          </a:prstGeom>
          <a:ln w="82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3354120" y="25146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4"/>
          <p:cNvSpPr/>
          <p:nvPr/>
        </p:nvSpPr>
        <p:spPr>
          <a:xfrm>
            <a:off x="3733920" y="45720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3278160" y="4343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16"/>
          <p:cNvSpPr/>
          <p:nvPr/>
        </p:nvSpPr>
        <p:spPr>
          <a:xfrm rot="10800000">
            <a:off x="5943600" y="4572000"/>
            <a:ext cx="1905120" cy="1295280"/>
          </a:xfrm>
          <a:prstGeom prst="wedgeRoundRectCallout">
            <a:avLst>
              <a:gd name="adj1" fmla="val 70995"/>
              <a:gd name="adj2" fmla="val 7328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othala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yroid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7"/>
          <p:cNvSpPr/>
          <p:nvPr/>
        </p:nvSpPr>
        <p:spPr>
          <a:xfrm>
            <a:off x="2518200" y="99072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rmal Newb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8"/>
          <p:cNvSpPr/>
          <p:nvPr/>
        </p:nvSpPr>
        <p:spPr>
          <a:xfrm>
            <a:off x="229680" y="5334120"/>
            <a:ext cx="160272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thy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ngenital Hypothyroidism: Cause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esis or dysgenesis of thyroid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shormon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topic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nal hypothyroid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4864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Features of Congenital Hypothyroidis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066680" y="1676520"/>
          <a:ext cx="6782040" cy="4572000"/>
        </p:xfrm>
        <a:graphic>
          <a:graphicData uri="http://schemas.openxmlformats.org/drawingml/2006/table">
            <a:tbl>
              <a:tblPr/>
              <a:tblGrid>
                <a:gridCol w="3840120"/>
                <a:gridCol w="2941920"/>
              </a:tblGrid>
              <a:tr h="473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ha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p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ing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 sk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 tong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arse c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bilical her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onged jaund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" descr="1013Cline_001"/>
          <p:cNvPicPr/>
          <p:nvPr/>
        </p:nvPicPr>
        <p:blipFill>
          <a:blip r:embed="rId1"/>
          <a:stretch/>
        </p:blipFill>
        <p:spPr>
          <a:xfrm>
            <a:off x="2743200" y="685800"/>
            <a:ext cx="396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"/>
          <p:cNvSpPr/>
          <p:nvPr/>
        </p:nvSpPr>
        <p:spPr>
          <a:xfrm>
            <a:off x="1984680" y="1447920"/>
            <a:ext cx="20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usp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5105880" y="15238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2135520" y="277020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nfi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2211120" y="41418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x &amp; F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6"/>
          <p:cNvSpPr/>
          <p:nvPr/>
        </p:nvSpPr>
        <p:spPr>
          <a:xfrm>
            <a:off x="4114800" y="18288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7"/>
          <p:cNvSpPr/>
          <p:nvPr/>
        </p:nvSpPr>
        <p:spPr>
          <a:xfrm>
            <a:off x="4114800" y="1981080"/>
            <a:ext cx="9907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5106600" y="198108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iochemical (scre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9"/>
          <p:cNvSpPr/>
          <p:nvPr/>
        </p:nvSpPr>
        <p:spPr>
          <a:xfrm>
            <a:off x="3048120" y="22096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0"/>
          <p:cNvSpPr/>
          <p:nvPr/>
        </p:nvSpPr>
        <p:spPr>
          <a:xfrm>
            <a:off x="411480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1"/>
          <p:cNvSpPr/>
          <p:nvPr/>
        </p:nvSpPr>
        <p:spPr>
          <a:xfrm>
            <a:off x="5181480" y="28954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 ( TSH &amp; FT4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rc 12"/>
          <p:cNvSpPr/>
          <p:nvPr/>
        </p:nvSpPr>
        <p:spPr>
          <a:xfrm flipH="1">
            <a:off x="990000" y="3200400"/>
            <a:ext cx="1066680" cy="838080"/>
          </a:xfrm>
          <a:custGeom>
            <a:avLst/>
            <a:gdLst>
              <a:gd name="textAreaLeft" fmla="*/ -360 w 1066680"/>
              <a:gd name="textAreaRight" fmla="*/ 106668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209160" y="3973680"/>
            <a:ext cx="119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4"/>
          <p:cNvSpPr/>
          <p:nvPr/>
        </p:nvSpPr>
        <p:spPr>
          <a:xfrm>
            <a:off x="152280" y="312408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15"/>
          <p:cNvSpPr/>
          <p:nvPr/>
        </p:nvSpPr>
        <p:spPr>
          <a:xfrm>
            <a:off x="3048120" y="34290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6"/>
          <p:cNvSpPr/>
          <p:nvPr/>
        </p:nvSpPr>
        <p:spPr>
          <a:xfrm>
            <a:off x="4191120" y="44956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7"/>
          <p:cNvSpPr/>
          <p:nvPr/>
        </p:nvSpPr>
        <p:spPr>
          <a:xfrm>
            <a:off x="5183280" y="42670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yrox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853200" y="152280"/>
            <a:ext cx="64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S Mincho"/>
                <a:ea typeface="Andalus"/>
              </a:rPr>
              <a:t> 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ongenital Hypothyroid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9"/>
          <p:cNvSpPr/>
          <p:nvPr/>
        </p:nvSpPr>
        <p:spPr>
          <a:xfrm>
            <a:off x="5487840" y="129528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20"/>
          <p:cNvSpPr/>
          <p:nvPr/>
        </p:nvSpPr>
        <p:spPr>
          <a:xfrm>
            <a:off x="4191120" y="4495680"/>
            <a:ext cx="8380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5181480" y="4724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2"/>
          <p:cNvSpPr/>
          <p:nvPr/>
        </p:nvSpPr>
        <p:spPr>
          <a:xfrm>
            <a:off x="4191120" y="4495680"/>
            <a:ext cx="9144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5259600" y="533412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H &amp; F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Bookman Old Style"/>
              </a:rPr>
              <a:t>Agenda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yroid Func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ongenital Hypothyroid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born screening for congenital hypothyroid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cquired hypothyroid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yperthyroid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auses of go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2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Object 2"/>
          <p:cNvGraphicFramePr/>
          <p:nvPr/>
        </p:nvGraphicFramePr>
        <p:xfrm>
          <a:off x="-304920" y="380880"/>
          <a:ext cx="2389320" cy="34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380880"/>
                    <a:ext cx="2389320" cy="34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Rectangle 4"/>
          <p:cNvSpPr/>
          <p:nvPr/>
        </p:nvSpPr>
        <p:spPr>
          <a:xfrm>
            <a:off x="1600200" y="1143000"/>
            <a:ext cx="860436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ree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earch for a disease in a large unselected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genital hypothyroid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Bookman Old Style"/>
              </a:rPr>
              <a:t>Principal of newborn screening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Aim is to identify affected infants before development of clinical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Eradication of MR secondary to 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arlier dx the better I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creening Techniqu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7467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ord blood T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blood spot in a filter paper obtained by heel brick for TSH /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5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1828800" y="-1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"/>
          <p:cNvPicPr/>
          <p:nvPr/>
        </p:nvPicPr>
        <p:blipFill>
          <a:blip r:embed="rId1"/>
          <a:srcRect l="0" t="1515" r="0" b="4545"/>
          <a:stretch/>
        </p:blipFill>
        <p:spPr>
          <a:xfrm>
            <a:off x="2438280" y="1066680"/>
            <a:ext cx="4138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linical Outc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777240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-screening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IQ =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-screening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screened &amp; treated by age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2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5680" indent="-8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IQ =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914400" y="3505320"/>
          <a:ext cx="6705720" cy="2438280"/>
        </p:xfrm>
        <a:graphic>
          <a:graphicData uri="http://schemas.openxmlformats.org/drawingml/2006/table">
            <a:tbl>
              <a:tblPr/>
              <a:tblGrid>
                <a:gridCol w="3352680"/>
                <a:gridCol w="33530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ge of 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% with IQ &g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2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1143000" y="583884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3" descr="fig15-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4"/>
          <p:cNvSpPr/>
          <p:nvPr/>
        </p:nvSpPr>
        <p:spPr>
          <a:xfrm>
            <a:off x="422280" y="60199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&gt; scre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6594480" y="60199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&lt; scre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2" descr="cretin1"/>
          <p:cNvPicPr/>
          <p:nvPr/>
        </p:nvPicPr>
        <p:blipFill>
          <a:blip r:embed="rId1"/>
          <a:stretch/>
        </p:blipFill>
        <p:spPr>
          <a:xfrm>
            <a:off x="2693880" y="838080"/>
            <a:ext cx="3554640" cy="441972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77" name="Rectangle 3"/>
          <p:cNvSpPr/>
          <p:nvPr/>
        </p:nvSpPr>
        <p:spPr>
          <a:xfrm>
            <a:off x="1983240" y="5540400"/>
            <a:ext cx="50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genital Hypothyroid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3125520" y="609480"/>
            <a:ext cx="27640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yperthyroidis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thyroid hormon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T4 +/- High 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(suppressed) T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028" descr="http://www.utdol.com/data/images/endo_pix/hypothal.gif"/>
          <p:cNvPicPr/>
          <p:nvPr/>
        </p:nvPicPr>
        <p:blipFill>
          <a:blip r:embed="rId1"/>
          <a:srcRect l="3435" t="2224" r="42723" b="45560"/>
          <a:stretch/>
        </p:blipFill>
        <p:spPr>
          <a:xfrm>
            <a:off x="5410080" y="34290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auses of hyperthyroidis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e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treatment with thyrox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yroid adenoma 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ent neonatal thyrotoxic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Graves’ Diseas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 cause of hyperthyroid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H-R antibody (stimul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tre, prop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669960" y="3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http://www.utdol.com/data/images/endo_pix/hypothal.gif"/>
          <p:cNvPicPr/>
          <p:nvPr/>
        </p:nvPicPr>
        <p:blipFill>
          <a:blip r:embed="rId1"/>
          <a:srcRect l="3435" t="2224" r="42723" b="45560"/>
          <a:stretch/>
        </p:blipFill>
        <p:spPr>
          <a:xfrm>
            <a:off x="1676520" y="1522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yperthyroidism S&amp;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activity, irri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loss (normal to increased appet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mor, Palp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phoresis (swe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d retraction &amp; Lid Lag (thyroid st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strual irreg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hc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p31-1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10552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  <p:sp>
        <p:nvSpPr>
          <p:cNvPr id="690" name="Text Box 3"/>
          <p:cNvSpPr/>
          <p:nvPr/>
        </p:nvSpPr>
        <p:spPr>
          <a:xfrm>
            <a:off x="144360" y="777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PMingLiU"/>
              </a:rPr>
              <a:t>Neonatal hyperthyroidism born to mother with Graves’ dis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5777640" y="6548400"/>
            <a:ext cx="333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A Color Atlas of Endocrinology p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e’s ophthalmopat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Picture 2" descr="proptosis"/>
          <p:cNvPicPr/>
          <p:nvPr/>
        </p:nvPicPr>
        <p:blipFill>
          <a:blip r:embed="rId1"/>
          <a:stretch/>
        </p:blipFill>
        <p:spPr>
          <a:xfrm>
            <a:off x="0" y="1325520"/>
            <a:ext cx="914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yperthyroid Eye Diseas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95" name="Picture 3" descr="62a.jpg (23211 bytes)"/>
          <p:cNvPicPr/>
          <p:nvPr/>
        </p:nvPicPr>
        <p:blipFill>
          <a:blip r:embed="rId1"/>
          <a:stretch/>
        </p:blipFill>
        <p:spPr>
          <a:xfrm>
            <a:off x="685800" y="2149560"/>
            <a:ext cx="3311640" cy="27241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Graves_lid_lag"/>
          <p:cNvPicPr/>
          <p:nvPr/>
        </p:nvPicPr>
        <p:blipFill>
          <a:blip r:embed="rId2"/>
          <a:stretch/>
        </p:blipFill>
        <p:spPr>
          <a:xfrm>
            <a:off x="4995720" y="1557360"/>
            <a:ext cx="28227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vestigation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H, free T3&amp;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yroid antibodies (TSH receptors antibod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nucleotide thyroid scan (incease upta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slide86"/>
          <p:cNvPicPr/>
          <p:nvPr/>
        </p:nvPicPr>
        <p:blipFill>
          <a:blip r:embed="rId1"/>
          <a:stretch/>
        </p:blipFill>
        <p:spPr>
          <a:xfrm>
            <a:off x="609480" y="685800"/>
            <a:ext cx="8215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yperthyroidis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imaz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U (propylthiourac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e iodine (in adul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-70% relapse after 2 years of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90560" y="259920"/>
            <a:ext cx="7561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Quiz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925560" y="1125360"/>
            <a:ext cx="3019320" cy="54723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1640" y="1052280"/>
            <a:ext cx="3745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obvious abnormality of this 14 years old gir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most likely cau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investig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tre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auses of goiter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0880" y="114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ological (pube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dine de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imoto thyroid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e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m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nital (maternal antithyroid drugs, maternal hyperthyroidism, dyshormonogen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7518240" y="228600"/>
            <a:ext cx="115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947880" y="1371600"/>
            <a:ext cx="690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4191120" y="1066680"/>
            <a:ext cx="44272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year 7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failure x 1 1/2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2844720" y="10731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6" descr="dc"/>
          <p:cNvPicPr/>
          <p:nvPr/>
        </p:nvPicPr>
        <p:blipFill>
          <a:blip r:embed="rId1"/>
          <a:stretch/>
        </p:blipFill>
        <p:spPr>
          <a:xfrm>
            <a:off x="304920" y="609480"/>
            <a:ext cx="3314520" cy="5562720"/>
          </a:xfrm>
          <a:prstGeom prst="rect">
            <a:avLst/>
          </a:prstGeom>
          <a:ln w="0">
            <a:noFill/>
          </a:ln>
        </p:spPr>
      </p:pic>
      <p:sp>
        <p:nvSpPr>
          <p:cNvPr id="714" name="Line 7"/>
          <p:cNvSpPr/>
          <p:nvPr/>
        </p:nvSpPr>
        <p:spPr>
          <a:xfrm>
            <a:off x="2913120" y="1066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3962520" y="2209680"/>
            <a:ext cx="49449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H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µIU/ 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.3-5.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1.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µg/d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-12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thyro Ab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/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-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perox Ab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9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U/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lt;0.3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lacti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g/ml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-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ient asked about prognosis what  you tell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E144-03FD-4060-9688-9C3E51D64C9F}" type="slidenum"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Thyroid Function: blood tests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 –5.0 mU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T4 (thyroxin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1 – 23.8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T3 (triiodothyronin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3-5.3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ysfunction Thyroid Gland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oo little thyroxin – hypothyroid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hort stature (aquiered), developmental delay (congeni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oo much thyroxin – hyperthyroid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Agitation, irritability, &amp; weigh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ypothyroidis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thyroid hormon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y Low T3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ised TSH (unless pituitary problem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http://www.utdol.com/data/images/endo_pix/hypothal.gif"/>
          <p:cNvPicPr/>
          <p:nvPr/>
        </p:nvPicPr>
        <p:blipFill>
          <a:blip r:embed="rId1"/>
          <a:srcRect l="3435" t="2224" r="42723" b="45560"/>
          <a:stretch/>
        </p:blipFill>
        <p:spPr>
          <a:xfrm>
            <a:off x="6095880" y="4114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auses of hypothyroidis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n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immune (Hashimo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dine de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acute thyroid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(amiodar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yroid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hypothyroidism (radiotherapy, surgery, tum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nical features of Acquired hypothyroidism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s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ars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us Bradyc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Slide 02"/>
          <p:cNvPicPr/>
          <p:nvPr/>
        </p:nvPicPr>
        <p:blipFill>
          <a:blip r:embed="rId1"/>
          <a:stretch/>
        </p:blipFill>
        <p:spPr>
          <a:xfrm>
            <a:off x="2519280" y="549360"/>
            <a:ext cx="4105440" cy="630864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ypothyroidism with short statu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5:24:14Z</dcterms:created>
  <dc:creator>DRonquillo</dc:creator>
  <dc:description/>
  <dc:language>en-US</dc:language>
  <cp:lastModifiedBy>Dr.Sarar</cp:lastModifiedBy>
  <dcterms:modified xsi:type="dcterms:W3CDTF">2012-09-15T10:46:20Z</dcterms:modified>
  <cp:revision>219</cp:revision>
  <dc:subject/>
  <dc:title>PowerPoint Presentation</dc:title>
</cp:coreProperties>
</file>