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63FC-B916-4AEE-9D6F-09FCE13D9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DA46-BD29-4CDC-8BDE-A9005EB3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7EC4-605C-4472-B1EE-D1480E0E5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8381D-6EDC-4887-A9C4-B21C52198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F4B5-0FD9-45C5-B6C7-A5699504D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B0DC9-CF55-4E21-AF83-39A102B63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2B2E-90A9-4E30-B8E0-A94AE145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5F88-B741-444E-AC64-27C0577F6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C6D6-83D2-4885-9975-AA36AA322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E380-4C47-40E1-87F5-D8F2C9FA2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11FC-1637-490B-A15E-BEDE77D6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BDE6-C05F-48E5-9A02-EE9C07F50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7879-E0E2-4C53-8FD1-1F34E22C055C}" type="slidenum">
              <a:rPr b="0" lang="en-C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Calibri Light"/>
              </a:rPr>
              <a:t>Surgical Nutrition</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notion that malnutrition affects surgical outcomes was first reported in 1936 in a study that showed that malnourished patients undergoing ulcer surgery had a 33% mortality rate compared to 3.5% in well nourished individuals (Studley, HO, JAMA 1936; 106:45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stress of surgery or trauma increases protein and energy requirements by creating a hypermetabolic and catabolic stat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 redistribution of macronutrients (fat, protein, glycogen) from the labile reserves of adipose tissue and skeletal muscle to more metabolically active tissues such as liver, bone, and visceral organs occurs and this leads to protein-calorie malnutr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leads to impaired complement activation and production, bacterial opsonization, impaired function of neutrophils, macrophages and lymphocy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se factors result i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creased susceptibility to infec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oor wound healing (including anastomotic breakdown/leakage, poor graft adherence etc)</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creased frequency of decubitus ulcer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acterial overgrowth in the bowe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normal nutrient losses in the st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refore, in our surgical patients, malnutrition results i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urbed cellular and organ function resulting in impaired cardiac and respiratory muscle function, atrophy of smooth muscle in the GI tract, impaired immune function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leads to loss of fat, muscle, skin and ultimately bone and viscera with consequent weight loss and increases in ECF</a:t>
            </a:r>
            <a:endParaRPr b="0" lang="en-US" sz="24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7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utritional requirements decrease as an individual’s BMI decreases, probably reflecting more efficient utilization of ingested food and a reduction in the work capacity at the cellular lev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ever, this combination of decreased tissue mass and reduction in work capacity impedes homeostatic responses to stressors such as critical illness or surger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dysregulatory mechanism worsens as the malnourishment worse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with Crohn’s disease has failed Remicade and needs an ileocolic resec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at are the surgical nutritional iss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re-op Nutritional Assessmen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e-op nutritional assessment is a key element of the surgical history in non-emergent surgery; however, there is no one single, simple and reliable technique for assessing nutritional statu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history, ask about chronic medical or comorbid conditions (DM, IBD, CV disease, EtOH abuse etc), recent hospitalizations or current hospitalization, past surgery (esp GI surgery) that may contribute to malnourishmen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itamin or mineral u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t loss or gain, N+V+D, diet hi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hysical Exam</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ad and Neck:  hair loss, bitemporal wasting, conjunctival pallor, xerosis, glossitis, bleeding/sore gums, angular cheliosis, stomatitis, poor dentition, thyromega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tremities:  edema, muscle wasting, loss of sq fa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eurologic:  evidence of peripheral neuropathy, reflexes, tetany, decreased mental statu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n:  ecchymosis, petechie, pallor, pressure ulcers, wound problems/inf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Objectives</a:t>
            </a:r>
            <a:endParaRPr b="0" lang="en-US" sz="4400" spc="-1" strike="noStrike">
              <a:solidFill>
                <a:srgbClr val="000000"/>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the current concepts of nutritional assessment</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perioperative nutritional issues</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routes and methods of perioperative nutritional supplementation</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basic aspects of nutritional support in the critically ill</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TPN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nthropometric measurem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MI:  body  mass index (weight(kg)/height(m) squared)</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MI&lt;18.5 implies nutritional impairment and a BMI&lt;15 is associated with significant mortal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planned weight loss of &gt;10% over a six month period is a good prognostic indicator of a poor clinical outco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s:  triceps skinfold thickness and mid-arm muscle circumfere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ab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tein status—affected by previous intake, muscle mass, duration of current illness, blood loss, wound healing, infection, GI absorp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albumin—half life 18-20d; low levels are markers of a negative catabolic state and a predictor of poor outcome; levels are depressed in surgery, hepatic and renal disease, critically il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ild (28-35), moderate (21-27), severe (&lt;2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abs:</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transferrin:  half-life 8-9d; reflects protein status over last 2-4wks; also reflects iron status (therefore low value reflects decreased protein status only in the setting of normal iro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rmal 200-400mg/dL; mild (150-200), moderate (100-150), severe (&lt;10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prealbumin (transthyretin):  short half-life; influenced by renal/hepatic diseas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rmal 17-42mg/dL; moderate (11-17), severe (&lt;1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Other tests:  retinol-binding protein, BUN/creatinine, Fe/vitamin levels (if indicated), Ca, Mg, PO4, Mg, TS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Malnourisment</a:t>
            </a:r>
            <a:endParaRPr b="0" lang="en-US" sz="44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eight los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ild (80-90), moderate (70-80), severe (&lt;70)</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cent weight chang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t;5% over 1 month or &gt;10% over 6 months signifies mod-severe malnutri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does he need and how?</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ould you do anything pre-op 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9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f he’s malnourished there is some evidence to support pre-op nutritional supplementation decreases post-op complication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nce you’ve decided to supplement the patient, estimate the patient’s energy requirement using the REE (calculated by the Harris-Benedict equation).  Similarly, calculate protein and fluid requirements, and add trace elements, minerals and vitami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routes of delivery:  enteral and parente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r>
              <a:rPr b="0" lang="en-CA"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You can also just use oral supplements (Boost, ensur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2</a:t>
            </a:r>
            <a:endParaRPr b="0" lang="en-US" sz="44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 yo healthy male has fractured hip and needs surger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en can you safely feed h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2</a:t>
            </a:r>
            <a:endParaRPr b="0" lang="en-US" sz="44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ven though the stress of the surgery results in a net catabolic state, the body is able to adapt for 5-7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pplemental feeding can wait that long if the patient is not malnourished previous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Nutritional assessment</a:t>
            </a:r>
            <a:br>
              <a:rPr sz="4400"/>
            </a:br>
            <a:endParaRPr b="0" lang="en-US" sz="4400" spc="-1" strike="noStrike">
              <a:solidFill>
                <a:srgbClr val="000000"/>
              </a:solidFill>
              <a:latin typeface="Calibri Light"/>
            </a:endParaRPr>
          </a:p>
        </p:txBody>
      </p:sp>
      <p:sp>
        <p:nvSpPr>
          <p:cNvPr id="46" name=""/>
          <p:cNvSpPr txBox="1"/>
          <p:nvPr/>
        </p:nvSpPr>
        <p:spPr>
          <a:xfrm>
            <a:off x="628560" y="1825200"/>
            <a:ext cx="788688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assessment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loss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mild malnutritio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 = severe malnutritio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dy mass index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hropometric assessment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ceps skin fold thickness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d arm circumference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nd grip strength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indices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serum albumin, prealbumin or transferri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mphocyte count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ndex of nutritional assessment shown to be superior to clinical assessmen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Routes of Feeding</a:t>
            </a:r>
            <a:endParaRPr b="0" lang="en-US" sz="4400" spc="-1" strike="noStrike">
              <a:solidFill>
                <a:srgbClr val="000000"/>
              </a:solidFill>
              <a:latin typeface="Calibri Light"/>
            </a:endParaRPr>
          </a:p>
        </p:txBody>
      </p:sp>
      <p:sp>
        <p:nvSpPr>
          <p:cNvPr id="10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nteral vs Parente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f you can use the gut, use i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ntereal is much more cost effective with fewer complications than parenteral—it is also thought to preserve gut barrier fun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asogastric</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term, requires fully functional GI tract, can be inserted or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  blindly at bedside; by radiology or endoscop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easily inserted and replaced; can use bolus feed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inusitis, aspiration, airway obstruction (postcricoid ulceration), nasal neucrosis, pneumothorax, displacement, occlu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4"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asoenteric</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term; used in patients with aspiration risk or poor gastric emptying; requires continuous infus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s:  blindly at bedside, in OR, endoscopically, radiologicall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some tubes allow suction of stomach while simultaneously feeding small bowel</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inusitis, aspiration, airway obstruction (postcricoid ulceration), nasal neucrosis, pneumothorax, displacement (esp into stomach), occlusion, pneumotosis, intestinal ischemia/infarction, blockage, unable to check residu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Gastrostomy</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ong term tube; requires well emptying stomach; not a good choice for patients with significant reflux and aspir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s:  surgically, endoscopically, radiologicall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allows bolus feeding, can be placed at bedside, low profile tubes may decrease dislodgement</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bleeding, retching, abdominal wall infection, perforation of other abdominal organs, migration of parts of the tube, aspiration, dislodgement, occlusion, bowel obstruction, pneoumoperitoneum, dislodgment/mal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ransgastric jejunostom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ong term; requires continuous infusion; use in patients with aspiration risk or poor gastric emptying</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surgically, radiologically, endoscop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allows suction of stomach while feeding small bowel; may be used immediately after placement; may be converted to g-tub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ame as gastrostom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1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Jejunostom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or long term; requires continuous infusion;use in patients with aspiration risk or poor gastric emptying; difficult to repla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surgically, endoscopically, radiolog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may be used immediately after inser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ame as g-tube but also higher obstruction ris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3</a:t>
            </a:r>
            <a:endParaRPr b="0" lang="en-US" sz="44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for elective sigmoid rese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en do you feed post-op and h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3</a:t>
            </a:r>
            <a:endParaRPr b="0" lang="en-US" sz="4400" spc="-1" strike="noStrike">
              <a:solidFill>
                <a:srgbClr val="000000"/>
              </a:solidFill>
              <a:latin typeface="Calibri Light"/>
            </a:endParaRPr>
          </a:p>
        </p:txBody>
      </p:sp>
      <p:sp>
        <p:nvSpPr>
          <p:cNvPr id="11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PO until co-ordinated bowel fun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chrane reivew 200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thers:  ambulation, gum chewing, fluids to DAT prog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4</a:t>
            </a:r>
            <a:endParaRPr b="0" lang="en-US" sz="4400" spc="-1" strike="noStrike">
              <a:solidFill>
                <a:srgbClr val="000000"/>
              </a:solidFill>
              <a:latin typeface="Calibri Light"/>
            </a:endParaRPr>
          </a:p>
        </p:txBody>
      </p:sp>
      <p:sp>
        <p:nvSpPr>
          <p:cNvPr id="11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severe burns (&gt;40% BSA)—admitted to ICU; intubated and ventila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is the best way to provide nutritional sup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4</a:t>
            </a:r>
            <a:endParaRPr b="0" lang="en-US" sz="4400" spc="-1" strike="noStrike">
              <a:solidFill>
                <a:srgbClr val="000000"/>
              </a:solidFill>
              <a:latin typeface="Calibri Light"/>
            </a:endParaRPr>
          </a:p>
        </p:txBody>
      </p:sp>
      <p:sp>
        <p:nvSpPr>
          <p:cNvPr id="11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anadian Clinical Guidelines for Nutritional Support in Mechanically Ventilated, Critically Ill Adult Pati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yland, DK et 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urnal of Parenteral and Enteral Nutrition, 200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48" name=""/>
          <p:cNvSpPr txBox="1"/>
          <p:nvPr/>
        </p:nvSpPr>
        <p:spPr>
          <a:xfrm>
            <a:off x="468360" y="1628640"/>
            <a:ext cx="8229600" cy="45259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  55yo male with Crohn’s disease—failure on Remicade and needs an ileocolic res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trongly recommend enteral over parenteral nutr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tart nutrition early (within 24-48h) of admission to ICU (ente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re is no benefit for arginine as a supplement in diets in the critically ill ye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ish oils, borage oils, and antioxidants may be of benefit in A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Glutamine supplementation should be used in trauma, bone marrow transplant and burn patient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der prokinetics early with initiation of enteral feed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mall bowel feeding may be associated with a reduction in pneumonia in the critically ill being enterally f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Keep HOB at 45 degre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n patients requiring short term TPN or supplemental TPN, consider withholding lipid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Keep blood sugar levels tightly control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2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hould be considered when enteral is not an option or is providing incomplete nutritional support (eg. Mechanical obstruction, acute GI bleeding, ileus, high output fistulas, severe intractable diarrhea, short bowel syndrome, severe hemodynamic instabi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 </a:t>
            </a: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2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outes:  Peripheral vs Cent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der withholding if BS excessively high, BUN &gt;100, significant hemodynamic instabil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sts of glucose, fat, proteins, vitamins and trace minerals/ele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in 1 or 3 in 1 solu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 to Order</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rst calculate the total caloric need of the patient (25-35kcal/kg/da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n determine protein needs (1-2gm/kg/day)—each gm of protein has 4.3kc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enerally 30% of calories should be via lipid (fat) and the rest by glucose (carbohydr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2"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member:</a:t>
            </a:r>
            <a:endParaRPr b="0" lang="en-US" sz="28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mL 20% lipid gives 2 kcal</a:t>
            </a:r>
            <a:endParaRPr b="0" lang="en-US" sz="24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g dextrose gives 3.4 kcal</a:t>
            </a:r>
            <a:endParaRPr b="0" lang="en-US" sz="24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g protein gives 4.3 kc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o each bag is added necessary vitamins, minerals, trace element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Bloodwork is done regularily looking at extended lytes, transaminases, cholesterol profile, coagulation parameters, CB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mplication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ne related (mechanical or septic), hyperglycemia (or hypoglycemia), cholestasis, hepatic steatosis, biliary sludge, aluminum toxicity, possible increased rates of bacterial translocation, elevation of BUN (hyperosmolar dehydration), hyperlipidemia, refeeding syndrome, electrolyte abnormalities, metabolic acidosis, EFA deficiency, CO2 retention, hyperammonem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55yo male, otherwise healthy has a right hip fracture, needing a repa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2"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  55yo male, otherwise healthy, just diagnosed with sigmoid cancer on routine screening.  For sigmoid res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  55yo male, healthy, involved in an industrial accident.  Has 40% BSA burns and is vented in the ICU in sh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is not so much a talk on nutrition as it is on malnutr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e are trying to minimize or prevent malnutrition (and its complications) in our patient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principal components of a normal diet are energy (carbohydrate and lipid), nitrogen, trace elements, minerals and vitami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 healthy adult requires 20-25kcal per kilo per day (20-30% from fat), 1gm/kg of protein per da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Metabolic stress associated with sepsis, trauma, surgery, ventilation, increases energy requirements to 35-40kcal/kg/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22:05:23Z</dcterms:created>
  <dc:creator>Valued Customer</dc:creator>
  <dc:description/>
  <dc:language>en-US</dc:language>
  <cp:lastModifiedBy>Elahmedi</cp:lastModifiedBy>
  <dcterms:modified xsi:type="dcterms:W3CDTF">2017-09-21T07:26:42Z</dcterms:modified>
  <cp:revision>20</cp:revision>
  <dc:subject/>
  <dc:title>Surgical Nutrition</dc:title>
</cp:coreProperties>
</file>