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A5601-4096-4DD0-B954-B7582E887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9655D-2BC6-43CA-8B16-292ACE5AC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464C1-1940-428C-9C42-50AC7C04A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93135-8121-4CC9-85C3-6E5F145E7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7B86B-8129-4DBD-B1AD-B6AA92CD9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CB8CA-7AB0-4576-BF53-4395D749A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5DAC5-884C-4847-9FB0-5CE531D37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11ED1-A307-417B-B083-3C5D00BFC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A3E32-CDA2-472B-930D-C4B2D8637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DE74E-3D6F-499A-80B9-A67BAA85F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42CB8-9266-480D-B6CA-D161D7951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AA414-D8A8-4FEC-A985-20C10EAD6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BC65-8E7C-4178-8935-49EFD1056007}" type="slidenum">
              <a:rPr b="0" lang="en-CA"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2480"/>
            <a:ext cx="77724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000000"/>
                </a:solidFill>
                <a:latin typeface="Calibri Light"/>
              </a:rPr>
              <a:t>Surgical Nutrition</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The Basics</a:t>
            </a:r>
            <a:endParaRPr b="0" lang="en-US" sz="4400" spc="-1" strike="noStrike">
              <a:solidFill>
                <a:srgbClr val="000000"/>
              </a:solidFill>
              <a:latin typeface="Calibri Light"/>
            </a:endParaRPr>
          </a:p>
        </p:txBody>
      </p:sp>
      <p:sp>
        <p:nvSpPr>
          <p:cNvPr id="6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notion that malnutrition affects surgical outcomes was first reported in 1936 in a study that showed that malnourished patients undergoing ulcer surgery had a 33% mortality rate compared to 3.5% in well nourished individuals (Studley, HO, JAMA 1936; 106:458)</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The Basics</a:t>
            </a:r>
            <a:endParaRPr b="0" lang="en-US" sz="4400" spc="-1" strike="noStrike">
              <a:solidFill>
                <a:srgbClr val="000000"/>
              </a:solidFill>
              <a:latin typeface="Calibri Light"/>
            </a:endParaRPr>
          </a:p>
        </p:txBody>
      </p:sp>
      <p:sp>
        <p:nvSpPr>
          <p:cNvPr id="6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stress of surgery or trauma increases protein and energy requirements by creating a hypermetabolic and catabolic stat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A redistribution of macronutrients (fat, protein, glycogen) from the labile reserves of adipose tissue and skeletal muscle to more metabolically active tissues such as liver, bone, and visceral organs occurs and this leads to protein-calorie malnutri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The Basics</a:t>
            </a:r>
            <a:endParaRPr b="0" lang="en-US" sz="4400" spc="-1" strike="noStrike">
              <a:solidFill>
                <a:srgbClr val="000000"/>
              </a:solidFill>
              <a:latin typeface="Calibri Light"/>
            </a:endParaRPr>
          </a:p>
        </p:txBody>
      </p:sp>
      <p:sp>
        <p:nvSpPr>
          <p:cNvPr id="64"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is leads to impaired complement activation and production, bacterial opsonization, impaired function of neutrophils, macrophages and lymphocy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The Basics</a:t>
            </a:r>
            <a:endParaRPr b="0" lang="en-US" sz="4400" spc="-1" strike="noStrike">
              <a:solidFill>
                <a:srgbClr val="000000"/>
              </a:solidFill>
              <a:latin typeface="Calibri Light"/>
            </a:endParaRPr>
          </a:p>
        </p:txBody>
      </p:sp>
      <p:sp>
        <p:nvSpPr>
          <p:cNvPr id="6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se factors result in:</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creased susceptibility to infection</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Poor wound healing (including anastomotic breakdown/leakage, poor graft adherence etc)</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creased frequency of decubitus ulcer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Bacterial overgrowth in the bowel</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bnormal nutrient losses in the stoo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The Basics</a:t>
            </a:r>
            <a:endParaRPr b="0" lang="en-US" sz="4400" spc="-1" strike="noStrike">
              <a:solidFill>
                <a:srgbClr val="000000"/>
              </a:solidFill>
              <a:latin typeface="Calibri Light"/>
            </a:endParaRPr>
          </a:p>
        </p:txBody>
      </p:sp>
      <p:sp>
        <p:nvSpPr>
          <p:cNvPr id="6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refore, in our surgical patients, malnutrition results in:</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Disturbed cellular and organ function resulting in impaired cardiac and respiratory muscle function, atrophy of smooth muscle in the GI tract, impaired immune function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is leads to loss of fat, muscle, skin and ultimately bone and viscera with consequent weight loss and increases in ECF</a:t>
            </a:r>
            <a:endParaRPr b="0" lang="en-US" sz="24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The Basics</a:t>
            </a:r>
            <a:endParaRPr b="0" lang="en-US" sz="4400" spc="-1" strike="noStrike">
              <a:solidFill>
                <a:srgbClr val="000000"/>
              </a:solidFill>
              <a:latin typeface="Calibri Light"/>
            </a:endParaRPr>
          </a:p>
        </p:txBody>
      </p:sp>
      <p:sp>
        <p:nvSpPr>
          <p:cNvPr id="7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Nutritional requirements decrease as an individual’s BMI decreases, probably reflecting more efficient utilization of ingested food and a reduction in the work capacity at the cellular lev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The Basics</a:t>
            </a:r>
            <a:endParaRPr b="0" lang="en-US" sz="4400" spc="-1" strike="noStrike">
              <a:solidFill>
                <a:srgbClr val="000000"/>
              </a:solidFill>
              <a:latin typeface="Calibri Light"/>
            </a:endParaRPr>
          </a:p>
        </p:txBody>
      </p:sp>
      <p:sp>
        <p:nvSpPr>
          <p:cNvPr id="7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However, this combination of decreased tissue mass and reduction in work capacity impedes homeostatic responses to stressors such as critical illness or surger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is dysregulatory mechanism worsens as the malnourishment worse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endParaRPr b="0" lang="en-US" sz="4400" spc="-1" strike="noStrike">
              <a:solidFill>
                <a:srgbClr val="000000"/>
              </a:solidFill>
              <a:latin typeface="Calibri Light"/>
            </a:endParaRPr>
          </a:p>
        </p:txBody>
      </p:sp>
      <p:sp>
        <p:nvSpPr>
          <p:cNvPr id="74"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55yo male with Crohn’s disease has failed Remicade and needs an ileocolic resection.</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What are the surgical nutritional issu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endParaRPr b="0" lang="en-US" sz="4400" spc="-1" strike="noStrike">
              <a:solidFill>
                <a:srgbClr val="000000"/>
              </a:solidFill>
              <a:latin typeface="Calibri Light"/>
            </a:endParaRPr>
          </a:p>
        </p:txBody>
      </p:sp>
      <p:sp>
        <p:nvSpPr>
          <p:cNvPr id="7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Pre-op Nutritional Assessmen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Pre-op nutritional assessment is a key element of the surgical history in non-emergent surgery; however, there is no one single, simple and reliable technique for assessing nutritional statu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n history, ask about chronic medical or comorbid conditions (DM, IBD, CV disease, EtOH abuse etc), recent hospitalizations or current hospitalization, past surgery (esp GI surgery) that may contribute to malnourishment</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Vitamin or mineral us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Wt loss or gain, N+V+D, diet histo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endParaRPr b="0" lang="en-US" sz="4400" spc="-1" strike="noStrike">
              <a:solidFill>
                <a:srgbClr val="000000"/>
              </a:solidFill>
              <a:latin typeface="Calibri Light"/>
            </a:endParaRPr>
          </a:p>
        </p:txBody>
      </p:sp>
      <p:sp>
        <p:nvSpPr>
          <p:cNvPr id="7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Physical Exam</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Head and Neck:  hair loss, bitemporal wasting, conjunctival pallor, xerosis, glossitis, bleeding/sore gums, angular cheliosis, stomatitis, poor dentition, thyromegal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Extremities:  edema, muscle wasting, loss of sq fat</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Neurologic:  evidence of peripheral neuropathy, reflexes, tetany, decreased mental statu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kin:  ecchymosis, petechie, pallor, pressure ulcers, wound problems/infe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anchor="ctr">
            <a:noAutofit/>
          </a:bodyPr>
          <a:p>
            <a:pPr marL="838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Objectives</a:t>
            </a:r>
            <a:endParaRPr b="0" lang="en-US" sz="4400" spc="-1" strike="noStrike">
              <a:solidFill>
                <a:srgbClr val="000000"/>
              </a:solidFill>
              <a:latin typeface="Calibri Light"/>
            </a:endParaRPr>
          </a:p>
        </p:txBody>
      </p:sp>
      <p:sp>
        <p:nvSpPr>
          <p:cNvPr id="44"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Review the current concepts of nutritional assessment</a:t>
            </a:r>
            <a:endParaRPr b="0" lang="en-US" sz="2800" spc="-1" strike="noStrike">
              <a:solidFill>
                <a:srgbClr val="000000"/>
              </a:solidFill>
              <a:latin typeface="Calibri"/>
            </a:endParaRPr>
          </a:p>
          <a:p>
            <a:pPr marL="609480" indent="-60948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Review perioperative nutritional issues</a:t>
            </a:r>
            <a:endParaRPr b="0" lang="en-US" sz="2800" spc="-1" strike="noStrike">
              <a:solidFill>
                <a:srgbClr val="000000"/>
              </a:solidFill>
              <a:latin typeface="Calibri"/>
            </a:endParaRPr>
          </a:p>
          <a:p>
            <a:pPr marL="609480" indent="-60948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Review routes and methods of perioperative nutritional supplementation</a:t>
            </a:r>
            <a:endParaRPr b="0" lang="en-US" sz="2800" spc="-1" strike="noStrike">
              <a:solidFill>
                <a:srgbClr val="000000"/>
              </a:solidFill>
              <a:latin typeface="Calibri"/>
            </a:endParaRPr>
          </a:p>
          <a:p>
            <a:pPr marL="609480" indent="-60948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Review basic aspects of nutritional support in the critically ill</a:t>
            </a:r>
            <a:endParaRPr b="0" lang="en-US" sz="2800" spc="-1" strike="noStrike">
              <a:solidFill>
                <a:srgbClr val="000000"/>
              </a:solidFill>
              <a:latin typeface="Calibri"/>
            </a:endParaRPr>
          </a:p>
          <a:p>
            <a:pPr marL="609480" indent="-60948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TPN shee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endParaRPr b="0" lang="en-US" sz="4400" spc="-1" strike="noStrike">
              <a:solidFill>
                <a:srgbClr val="000000"/>
              </a:solidFill>
              <a:latin typeface="Calibri Light"/>
            </a:endParaRPr>
          </a:p>
        </p:txBody>
      </p:sp>
      <p:sp>
        <p:nvSpPr>
          <p:cNvPr id="8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Anthropometric measurement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BMI:  body  mass index (weight(kg)/height(m) squared)</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BMI&lt;18.5 implies nutritional impairment and a BMI&lt;15 is associated with significant mortalit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Unplanned weight loss of &gt;10% over a six month period is a good prognostic indicator of a poor clinical outcom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thers:  triceps skinfold thickness and mid-arm muscle circumferenc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endParaRPr b="0" lang="en-US" sz="4400" spc="-1" strike="noStrike">
              <a:solidFill>
                <a:srgbClr val="000000"/>
              </a:solidFill>
              <a:latin typeface="Calibri Light"/>
            </a:endParaRPr>
          </a:p>
        </p:txBody>
      </p:sp>
      <p:sp>
        <p:nvSpPr>
          <p:cNvPr id="8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Lab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Protein status—affected by previous intake, muscle mass, duration of current illness, blood loss, wound healing, infection, GI absorptio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Serum albumin—half life 18-20d; low levels are markers of a negative catabolic state and a predictor of poor outcome; levels are depressed in surgery, hepatic and renal disease, critically ill</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Mild (28-35), moderate (21-27), severe (&lt;2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endParaRPr b="0" lang="en-US" sz="4400" spc="-1" strike="noStrike">
              <a:solidFill>
                <a:srgbClr val="000000"/>
              </a:solidFill>
              <a:latin typeface="Calibri Light"/>
            </a:endParaRPr>
          </a:p>
        </p:txBody>
      </p:sp>
      <p:sp>
        <p:nvSpPr>
          <p:cNvPr id="84"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Labs:</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Serum transferrin:  half-life 8-9d; reflects protein status over last 2-4wks; also reflects iron status (therefore low value reflects decreased protein status only in the setting of normal iron)</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Normal 200-400mg/dL; mild (150-200), moderate (100-150), severe (&lt;10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Serum prealbumin (transthyretin):  short half-life; influenced by renal/hepatic diseas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Normal 17-42mg/dL; moderate (11-17), severe (&lt;1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Other tests:  retinol-binding protein, BUN/creatinine, Fe/vitamin levels (if indicated), Ca, Mg, PO4, Mg, TS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Malnourisment</a:t>
            </a:r>
            <a:endParaRPr b="0" lang="en-US" sz="4400" spc="-1" strike="noStrike">
              <a:solidFill>
                <a:srgbClr val="000000"/>
              </a:solidFill>
              <a:latin typeface="Calibri Light"/>
            </a:endParaRPr>
          </a:p>
        </p:txBody>
      </p:sp>
      <p:sp>
        <p:nvSpPr>
          <p:cNvPr id="8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Weight loss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Mild (80-90), moderate (70-80), severe (&lt;70)</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Recent weight change:</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gt;5% over 1 month or &gt;10% over 6 months signifies mod-severe malnutrition</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endParaRPr b="0" lang="en-US" sz="4400" spc="-1" strike="noStrike">
              <a:solidFill>
                <a:srgbClr val="000000"/>
              </a:solidFill>
              <a:latin typeface="Calibri Light"/>
            </a:endParaRPr>
          </a:p>
        </p:txBody>
      </p:sp>
      <p:sp>
        <p:nvSpPr>
          <p:cNvPr id="8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What does he need and how?</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Would you do anything pre-op and wh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endParaRPr b="0" lang="en-US" sz="4400" spc="-1" strike="noStrike">
              <a:solidFill>
                <a:srgbClr val="000000"/>
              </a:solidFill>
              <a:latin typeface="Calibri Light"/>
            </a:endParaRPr>
          </a:p>
        </p:txBody>
      </p:sp>
      <p:sp>
        <p:nvSpPr>
          <p:cNvPr id="9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If he’s malnourished there is some evidence to support pre-op nutritional supplementation decreases post-op complication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endParaRPr b="0" lang="en-US" sz="4400" spc="-1" strike="noStrike">
              <a:solidFill>
                <a:srgbClr val="000000"/>
              </a:solidFill>
              <a:latin typeface="Calibri Light"/>
            </a:endParaRPr>
          </a:p>
        </p:txBody>
      </p:sp>
      <p:sp>
        <p:nvSpPr>
          <p:cNvPr id="9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Once you’ve decided to supplement the patient, estimate the patient’s energy requirement using the REE (calculated by the Harris-Benedict equation).  Similarly, calculate protein and fluid requirements, and add trace elements, minerals and vitamin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2 routes of delivery:  enteral and parentera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1</a:t>
            </a:r>
            <a:r>
              <a:rPr b="0" lang="en-CA" sz="4400" spc="-1" strike="noStrike">
                <a:solidFill>
                  <a:srgbClr val="000000"/>
                </a:solidFill>
                <a:latin typeface="Calibri Light"/>
              </a:rPr>
              <a:t>	</a:t>
            </a:r>
            <a:endParaRPr b="0" lang="en-US" sz="4400" spc="-1" strike="noStrike">
              <a:solidFill>
                <a:srgbClr val="000000"/>
              </a:solidFill>
              <a:latin typeface="Calibri Light"/>
            </a:endParaRPr>
          </a:p>
        </p:txBody>
      </p:sp>
      <p:sp>
        <p:nvSpPr>
          <p:cNvPr id="94"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You can also just use oral supplements (Boost, ensure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2</a:t>
            </a:r>
            <a:endParaRPr b="0" lang="en-US" sz="4400" spc="-1" strike="noStrike">
              <a:solidFill>
                <a:srgbClr val="000000"/>
              </a:solidFill>
              <a:latin typeface="Calibri Light"/>
            </a:endParaRPr>
          </a:p>
        </p:txBody>
      </p:sp>
      <p:sp>
        <p:nvSpPr>
          <p:cNvPr id="9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55 yo healthy male has fractured hip and needs surger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When can you safely feed hi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2</a:t>
            </a:r>
            <a:endParaRPr b="0" lang="en-US" sz="4400" spc="-1" strike="noStrike">
              <a:solidFill>
                <a:srgbClr val="000000"/>
              </a:solidFill>
              <a:latin typeface="Calibri Light"/>
            </a:endParaRPr>
          </a:p>
        </p:txBody>
      </p:sp>
      <p:sp>
        <p:nvSpPr>
          <p:cNvPr id="9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Even though the stress of the surgery results in a net catabolic state, the body is able to adapt for 5-7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upplemental feeding can wait that long if the patient is not malnourished previous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Nutritional assessment</a:t>
            </a:r>
            <a:br>
              <a:rPr sz="4400"/>
            </a:br>
            <a:endParaRPr b="0" lang="en-US" sz="4400" spc="-1" strike="noStrike">
              <a:solidFill>
                <a:srgbClr val="000000"/>
              </a:solidFill>
              <a:latin typeface="Calibri Light"/>
            </a:endParaRPr>
          </a:p>
        </p:txBody>
      </p:sp>
      <p:sp>
        <p:nvSpPr>
          <p:cNvPr id="46" name=""/>
          <p:cNvSpPr txBox="1"/>
          <p:nvPr/>
        </p:nvSpPr>
        <p:spPr>
          <a:xfrm>
            <a:off x="628560" y="1825200"/>
            <a:ext cx="788688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nical assessment </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loss  </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 =mild malnutrition   </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 = severe malnutrition </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dy mass index </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thropometric assessment </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iceps skin fold thickness </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d arm circumference </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nd grip strength </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od indices </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d serum albumin, prealbumin or transferrin </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ymphocyte count </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index of nutritional assessment shown to be superior to clinical assessmen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Routes of Feeding</a:t>
            </a:r>
            <a:endParaRPr b="0" lang="en-US" sz="4400" spc="-1" strike="noStrike">
              <a:solidFill>
                <a:srgbClr val="000000"/>
              </a:solidFill>
              <a:latin typeface="Calibri Light"/>
            </a:endParaRPr>
          </a:p>
        </p:txBody>
      </p:sp>
      <p:sp>
        <p:nvSpPr>
          <p:cNvPr id="10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Enteral vs Parentera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If you can use the gut, use i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Entereal is much more cost effective with fewer complications than parenteral—it is also thought to preserve gut barrier fun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Enteral Feeding</a:t>
            </a:r>
            <a:endParaRPr b="0" lang="en-US" sz="4400" spc="-1" strike="noStrike">
              <a:solidFill>
                <a:srgbClr val="000000"/>
              </a:solidFill>
              <a:latin typeface="Calibri Light"/>
            </a:endParaRPr>
          </a:p>
        </p:txBody>
      </p:sp>
      <p:sp>
        <p:nvSpPr>
          <p:cNvPr id="10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Nasogastric</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hort term, requires fully functional GI tract, can be inserted orall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sertion method:  blindly at bedside; by radiology or endoscopicall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Benefits:  easily inserted and replaced; can use bolus feed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Complications:  sinusitis, aspiration, airway obstruction (postcricoid ulceration), nasal neucrosis, pneumothorax, displacement, occlus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Enteral Feeding</a:t>
            </a:r>
            <a:endParaRPr b="0" lang="en-US" sz="4400" spc="-1" strike="noStrike">
              <a:solidFill>
                <a:srgbClr val="000000"/>
              </a:solidFill>
              <a:latin typeface="Calibri Light"/>
            </a:endParaRPr>
          </a:p>
        </p:txBody>
      </p:sp>
      <p:sp>
        <p:nvSpPr>
          <p:cNvPr id="104" name=""/>
          <p:cNvSpPr txBox="1"/>
          <p:nvPr/>
        </p:nvSpPr>
        <p:spPr>
          <a:xfrm>
            <a:off x="628560" y="1825200"/>
            <a:ext cx="788688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Nasoenteric</a:t>
            </a:r>
            <a:endParaRPr b="0" lang="en-US" sz="28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hort term; used in patients with aspiration risk or poor gastric emptying; requires continuous infusion</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sertion methods:  blindly at bedside, in OR, endoscopically, radiologically</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Benefits:  reduces aspiration risk; some tubes allow suction of stomach while simultaneously feeding small bowel</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Complications:  sinusitis, aspiration, airway obstruction (postcricoid ulceration), nasal neucrosis, pneumothorax, displacement (esp into stomach), occlusion, pneumotosis, intestinal ischemia/infarction, blockage, unable to check residua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Enteral Feeding</a:t>
            </a:r>
            <a:endParaRPr b="0" lang="en-US" sz="4400" spc="-1" strike="noStrike">
              <a:solidFill>
                <a:srgbClr val="000000"/>
              </a:solidFill>
              <a:latin typeface="Calibri Light"/>
            </a:endParaRPr>
          </a:p>
        </p:txBody>
      </p:sp>
      <p:sp>
        <p:nvSpPr>
          <p:cNvPr id="106" name=""/>
          <p:cNvSpPr txBox="1"/>
          <p:nvPr/>
        </p:nvSpPr>
        <p:spPr>
          <a:xfrm>
            <a:off x="628560" y="1825200"/>
            <a:ext cx="788688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Gastrostomy</a:t>
            </a:r>
            <a:endParaRPr b="0" lang="en-US" sz="28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ong term tube; requires well emptying stomach; not a good choice for patients with significant reflux and aspiration</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sertion methods:  surgically, endoscopically, radiologically</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Benefits:  allows bolus feeding, can be placed at bedside, low profile tubes may decrease dislodgement</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Complications:  bleeding, retching, abdominal wall infection, perforation of other abdominal organs, migration of parts of the tube, aspiration, dislodgement, occlusion, bowel obstruction, pneoumoperitoneum, dislodgment/malposi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Enteral Feeding</a:t>
            </a:r>
            <a:endParaRPr b="0" lang="en-US" sz="4400" spc="-1" strike="noStrike">
              <a:solidFill>
                <a:srgbClr val="000000"/>
              </a:solidFill>
              <a:latin typeface="Calibri Light"/>
            </a:endParaRPr>
          </a:p>
        </p:txBody>
      </p:sp>
      <p:sp>
        <p:nvSpPr>
          <p:cNvPr id="10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ransgastric jejunostomy</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ong term; requires continuous infusion; use in patients with aspiration risk or poor gastric emptying</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sertion:  surgically, radiologically, endoscopicall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Benefits:  reduces aspiration risk, allows suction of stomach while feeding small bowel; may be used immediately after placement; may be converted to g-tub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Complications:  same as gastrostom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Enteral Feeding</a:t>
            </a:r>
            <a:endParaRPr b="0" lang="en-US" sz="4400" spc="-1" strike="noStrike">
              <a:solidFill>
                <a:srgbClr val="000000"/>
              </a:solidFill>
              <a:latin typeface="Calibri Light"/>
            </a:endParaRPr>
          </a:p>
        </p:txBody>
      </p:sp>
      <p:sp>
        <p:nvSpPr>
          <p:cNvPr id="11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Jejunostomy</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hort or long term; requires continuous infusion;use in patients with aspiration risk or poor gastric emptying; difficult to replac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sertion:  surgically, endoscopically, radiologicall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Benefits:  reduces aspiration risk, may be used immediately after insertion</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Complications:  same as g-tube but also higher obstruction ris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3</a:t>
            </a:r>
            <a:endParaRPr b="0" lang="en-US" sz="4400" spc="-1" strike="noStrike">
              <a:solidFill>
                <a:srgbClr val="000000"/>
              </a:solidFill>
              <a:latin typeface="Calibri Light"/>
            </a:endParaRPr>
          </a:p>
        </p:txBody>
      </p:sp>
      <p:sp>
        <p:nvSpPr>
          <p:cNvPr id="11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55yo male for elective sigmoid resec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When do you feed post-op and how?</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3</a:t>
            </a:r>
            <a:endParaRPr b="0" lang="en-US" sz="4400" spc="-1" strike="noStrike">
              <a:solidFill>
                <a:srgbClr val="000000"/>
              </a:solidFill>
              <a:latin typeface="Calibri Light"/>
            </a:endParaRPr>
          </a:p>
        </p:txBody>
      </p:sp>
      <p:sp>
        <p:nvSpPr>
          <p:cNvPr id="114"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NPO until co-ordinated bowel func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ochrane reivew 2008</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Others:  ambulation, gum chewing, fluids to DAT progres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4</a:t>
            </a:r>
            <a:endParaRPr b="0" lang="en-US" sz="4400" spc="-1" strike="noStrike">
              <a:solidFill>
                <a:srgbClr val="000000"/>
              </a:solidFill>
              <a:latin typeface="Calibri Light"/>
            </a:endParaRPr>
          </a:p>
        </p:txBody>
      </p:sp>
      <p:sp>
        <p:nvSpPr>
          <p:cNvPr id="11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55yo male, severe burns (&gt;40% BSA)—admitted to ICU; intubated and ventilat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What is the best way to provide nutritional suppo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 4</a:t>
            </a:r>
            <a:endParaRPr b="0" lang="en-US" sz="4400" spc="-1" strike="noStrike">
              <a:solidFill>
                <a:srgbClr val="000000"/>
              </a:solidFill>
              <a:latin typeface="Calibri Light"/>
            </a:endParaRPr>
          </a:p>
        </p:txBody>
      </p:sp>
      <p:sp>
        <p:nvSpPr>
          <p:cNvPr id="11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anadian Clinical Guidelines for Nutritional Support in Mechanically Ventilated, Critically Ill Adult Patient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Heyland, DK et al</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Journal of Parenteral and Enteral Nutrition, 200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s</a:t>
            </a:r>
            <a:endParaRPr b="0" lang="en-US" sz="4400" spc="-1" strike="noStrike">
              <a:solidFill>
                <a:srgbClr val="000000"/>
              </a:solidFill>
              <a:latin typeface="Calibri Light"/>
            </a:endParaRPr>
          </a:p>
        </p:txBody>
      </p:sp>
      <p:sp>
        <p:nvSpPr>
          <p:cNvPr id="48" name=""/>
          <p:cNvSpPr txBox="1"/>
          <p:nvPr/>
        </p:nvSpPr>
        <p:spPr>
          <a:xfrm>
            <a:off x="468360" y="1628640"/>
            <a:ext cx="8229600" cy="4525920"/>
          </a:xfrm>
          <a:prstGeom prst="rect">
            <a:avLst/>
          </a:prstGeom>
          <a:noFill/>
          <a:ln w="0">
            <a:noFill/>
          </a:ln>
        </p:spPr>
        <p:txBody>
          <a:bodyPr anchor="t">
            <a:normAutofit/>
          </a:bodyPr>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1.  55yo male with Crohn’s disease—failure on Remicade and needs an ileocolic res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trongly recommend enteral over parenteral nutri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tart nutrition early (within 24-48h) of admission to ICU (entera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re is no benefit for arginine as a supplement in diets in the critically ill ye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Fish oils, borage oils, and antioxidants may be of benefit in AR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Glutamine supplementation should be used in trauma, bone marrow transplant and burn patient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onsider prokinetics early with initiation of enteral feed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mall bowel feeding may be associated with a reduction in pneumonia in the critically ill being enterally f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Keep HOB at 45 degre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In patients requiring short term TPN or supplemental TPN, consider withholding lipid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Keep blood sugar levels tightly controll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Parenteral Nutrition</a:t>
            </a:r>
            <a:endParaRPr b="0" lang="en-US" sz="4400" spc="-1" strike="noStrike">
              <a:solidFill>
                <a:srgbClr val="000000"/>
              </a:solidFill>
              <a:latin typeface="Calibri Light"/>
            </a:endParaRPr>
          </a:p>
        </p:txBody>
      </p:sp>
      <p:sp>
        <p:nvSpPr>
          <p:cNvPr id="12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hould be considered when enteral is not an option or is providing incomplete nutritional support (eg. Mechanical obstruction, acute GI bleeding, ileus, high output fistulas, severe intractable diarrhea, short bowel syndrome, severe hemodynamic instabil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 </a:t>
            </a:r>
            <a:r>
              <a:rPr b="0" lang="en-CA" sz="4400" spc="-1" strike="noStrike">
                <a:solidFill>
                  <a:srgbClr val="000000"/>
                </a:solidFill>
                <a:latin typeface="Calibri Light"/>
              </a:rPr>
              <a:t>Parenteral Nutrition</a:t>
            </a:r>
            <a:endParaRPr b="0" lang="en-US" sz="4400" spc="-1" strike="noStrike">
              <a:solidFill>
                <a:srgbClr val="000000"/>
              </a:solidFill>
              <a:latin typeface="Calibri Light"/>
            </a:endParaRPr>
          </a:p>
        </p:txBody>
      </p:sp>
      <p:sp>
        <p:nvSpPr>
          <p:cNvPr id="12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Routes:  Peripheral vs Centra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onsider withholding if BS excessively high, BUN &gt;100, significant hemodynamic instabil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onsists of glucose, fat, proteins, vitamins and trace minerals/element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2 in 1 or 3 in 1 solu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Parenteral Nutrition</a:t>
            </a:r>
            <a:endParaRPr b="0" lang="en-US" sz="4400" spc="-1" strike="noStrike">
              <a:solidFill>
                <a:srgbClr val="000000"/>
              </a:solidFill>
              <a:latin typeface="Calibri Light"/>
            </a:endParaRPr>
          </a:p>
        </p:txBody>
      </p:sp>
      <p:sp>
        <p:nvSpPr>
          <p:cNvPr id="130"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How to Order</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First calculate the total caloric need of the patient (25-35kcal/kg/day)</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n determine protein needs (1-2gm/kg/day)—each gm of protein has 4.3kcal</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Generally 30% of calories should be via lipid (fat) and the rest by glucose (carbohydrat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Parenteral Nutrition</a:t>
            </a:r>
            <a:endParaRPr b="0" lang="en-US" sz="4400" spc="-1" strike="noStrike">
              <a:solidFill>
                <a:srgbClr val="000000"/>
              </a:solidFill>
              <a:latin typeface="Calibri Light"/>
            </a:endParaRPr>
          </a:p>
        </p:txBody>
      </p:sp>
      <p:sp>
        <p:nvSpPr>
          <p:cNvPr id="132"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Remember:</a:t>
            </a:r>
            <a:endParaRPr b="0" lang="en-US" sz="2800" spc="-1" strike="noStrike">
              <a:solidFill>
                <a:srgbClr val="000000"/>
              </a:solidFill>
              <a:latin typeface="Calibri"/>
            </a:endParaRPr>
          </a:p>
          <a:p>
            <a:pPr lvl="1" marL="990720" indent="-533520">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1mL 20% lipid gives 2 kcal</a:t>
            </a:r>
            <a:endParaRPr b="0" lang="en-US" sz="2400" spc="-1" strike="noStrike">
              <a:solidFill>
                <a:srgbClr val="000000"/>
              </a:solidFill>
              <a:latin typeface="Calibri"/>
            </a:endParaRPr>
          </a:p>
          <a:p>
            <a:pPr lvl="1" marL="990720" indent="-533520">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1g dextrose gives 3.4 kcal</a:t>
            </a:r>
            <a:endParaRPr b="0" lang="en-US" sz="2400" spc="-1" strike="noStrike">
              <a:solidFill>
                <a:srgbClr val="000000"/>
              </a:solidFill>
              <a:latin typeface="Calibri"/>
            </a:endParaRPr>
          </a:p>
          <a:p>
            <a:pPr lvl="1" marL="990720" indent="-533520">
              <a:lnSpc>
                <a:spcPct val="9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1g protein gives 4.3 kc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Parenteral Nutrition</a:t>
            </a:r>
            <a:endParaRPr b="0" lang="en-US" sz="4400" spc="-1" strike="noStrike">
              <a:solidFill>
                <a:srgbClr val="000000"/>
              </a:solidFill>
              <a:latin typeface="Calibri Light"/>
            </a:endParaRPr>
          </a:p>
        </p:txBody>
      </p:sp>
      <p:sp>
        <p:nvSpPr>
          <p:cNvPr id="134"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o each bag is added necessary vitamins, minerals, trace elements etc</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Bloodwork is done regularily looking at extended lytes, transaminases, cholesterol profile, coagulation parameters, CB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Parenteral Nutrition</a:t>
            </a:r>
            <a:endParaRPr b="0" lang="en-US" sz="4400" spc="-1" strike="noStrike">
              <a:solidFill>
                <a:srgbClr val="000000"/>
              </a:solidFill>
              <a:latin typeface="Calibri Light"/>
            </a:endParaRPr>
          </a:p>
        </p:txBody>
      </p:sp>
      <p:sp>
        <p:nvSpPr>
          <p:cNvPr id="13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omplication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ine related (mechanical or septic), hyperglycemia (or hypoglycemia), cholestasis, hepatic steatosis, biliary sludge, aluminum toxicity, possible increased rates of bacterial translocation, elevation of BUN (hyperosmolar dehydration), hyperlipidemia, refeeding syndrome, electrolyte abnormalities, metabolic acidosis, EFA deficiency, CO2 retention, hyperammonem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Ques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s</a:t>
            </a:r>
            <a:endParaRPr b="0" lang="en-US" sz="4400" spc="-1" strike="noStrike">
              <a:solidFill>
                <a:srgbClr val="000000"/>
              </a:solidFill>
              <a:latin typeface="Calibri Light"/>
            </a:endParaRPr>
          </a:p>
        </p:txBody>
      </p:sp>
      <p:sp>
        <p:nvSpPr>
          <p:cNvPr id="50"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2.  55yo male, otherwise healthy has a right hip fracture, needing a repa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s</a:t>
            </a:r>
            <a:endParaRPr b="0" lang="en-US" sz="4400" spc="-1" strike="noStrike">
              <a:solidFill>
                <a:srgbClr val="000000"/>
              </a:solidFill>
              <a:latin typeface="Calibri Light"/>
            </a:endParaRPr>
          </a:p>
        </p:txBody>
      </p:sp>
      <p:sp>
        <p:nvSpPr>
          <p:cNvPr id="52"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3.  55yo male, otherwise healthy, just diagnosed with sigmoid cancer on routine screening.  For sigmoid res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Cases</a:t>
            </a:r>
            <a:endParaRPr b="0" lang="en-US" sz="4400" spc="-1" strike="noStrike">
              <a:solidFill>
                <a:srgbClr val="000000"/>
              </a:solidFill>
              <a:latin typeface="Calibri Light"/>
            </a:endParaRPr>
          </a:p>
        </p:txBody>
      </p:sp>
      <p:sp>
        <p:nvSpPr>
          <p:cNvPr id="54" name=""/>
          <p:cNvSpPr txBox="1"/>
          <p:nvPr/>
        </p:nvSpPr>
        <p:spPr>
          <a:xfrm>
            <a:off x="628560" y="1825200"/>
            <a:ext cx="7886880" cy="4351320"/>
          </a:xfrm>
          <a:prstGeom prst="rect">
            <a:avLst/>
          </a:prstGeom>
          <a:noFill/>
          <a:ln w="0">
            <a:noFill/>
          </a:ln>
        </p:spPr>
        <p:txBody>
          <a:bodyPr anchor="t">
            <a:normAutofit/>
          </a:bodyPr>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4.  55yo male, healthy, involved in an industrial accident.  Has 40% BSA burns and is vented in the ICU in sh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is is not so much a talk on nutrition as it is on malnutri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We are trying to minimize or prevent malnutrition (and its complications) in our patient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Light"/>
              </a:rPr>
              <a:t>The Basics</a:t>
            </a:r>
            <a:endParaRPr b="0" lang="en-US" sz="4400" spc="-1" strike="noStrike">
              <a:solidFill>
                <a:srgbClr val="000000"/>
              </a:solidFill>
              <a:latin typeface="Calibri Light"/>
            </a:endParaRPr>
          </a:p>
        </p:txBody>
      </p:sp>
      <p:sp>
        <p:nvSpPr>
          <p:cNvPr id="58"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principal components of a normal diet are energy (carbohydrate and lipid), nitrogen, trace elements, minerals and vitamin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A healthy adult requires 20-25kcal per kilo per day (20-30% from fat), 1gm/kg of protein per da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Metabolic stress associated with sepsis, trauma, surgery, ventilation, increases energy requirements to 35-40kcal/kg/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22:05:23Z</dcterms:created>
  <dc:creator>Valued Customer</dc:creator>
  <dc:description/>
  <dc:language>en-US</dc:language>
  <cp:lastModifiedBy>Elahmedi</cp:lastModifiedBy>
  <dcterms:modified xsi:type="dcterms:W3CDTF">2017-09-21T07:26:42Z</dcterms:modified>
  <cp:revision>20</cp:revision>
  <dc:subject/>
  <dc:title>Surgical Nutrition</dc:title>
</cp:coreProperties>
</file>