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646B-D97F-4734-A2C4-779E9B5A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8DC4-8B1C-4E0A-BB18-03A7FD2F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02B4-574B-4E44-9FE9-03DBD449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3D83-D8EB-4593-A039-2DCFEABE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C0EE-3339-4AB6-B2DB-EAD75295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7964-D67E-459B-9809-6AFA001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4D5A-06B5-4E1F-923D-07AA8103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3629-1FD6-40CA-AC67-F1550A0C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A61F-9331-4731-AB61-D0F2A7BE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4131-257A-4D66-9870-CDF091B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1222-2D42-4AD3-B3C2-5810E7F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40A1-6650-4CFB-B48C-F23C4A1C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E67-2FB6-40BE-8D2B-A9D8B8D19E0E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fdcb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GI Blee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e8d8c"/>
                </a:solidFill>
                <a:latin typeface="Calibri"/>
              </a:rPr>
              <a:t>Hossam Hass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e8d8c"/>
                </a:solidFill>
                <a:latin typeface="Calibri"/>
              </a:rPr>
              <a:t>Emergency Depart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Ask about associated upper or lower GI symptoms that may point to underlying cau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.g. Upper abdominal pain/dyspeptic symptoms suggest upper GI cause such as peptic ul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.g. 2. lower abdo pain, bowel symptoms such as diarrhoea or a background of change in bowel habit suggest lower GI cause e.g. Colitis, can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evious episodes of bleeding and cau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0920" y="2420640"/>
            <a:ext cx="7466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M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History of any diseases that can result in GI bleeding, e.g. Peptic ulcer disease, diverticular disease, liver disease/cirrhosi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leeding disorders e.g. haemophil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Anti-platelets or anti-coagulants can exacerbate bleed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NSAIDs and steroids may point to PU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Alcoholics at risk of liver disease and possible variceal bleeding as a resul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mokers at risk of peptic ulcer dise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75e47"/>
                </a:solidFill>
                <a:latin typeface="Cambria"/>
              </a:rPr>
              <a:t>Examination in patients with GI bleeding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educed level of consiousnes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ale and clamm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Cool peripher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achcardic and thready pul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Hypotensive with narrow pulse pressu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enderness on abdominal examination may point t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underlying cause e.g. Epigastric </a:t>
            </a:r>
            <a:r>
              <a:rPr b="0" lang="en-GB" sz="20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 peptic ul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Examination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Stigmata of chronic liver disease (palmer erythema, leukonychia, dupuytrens contracture, liver flap, jaundice, spider naevi, gynacomastia, shifting dullness/ascite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Digital rectal examination may reveal melaena, dark red blood, bright red bl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Upper GI blee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Upper GI blee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Upper GI bleeding refers to bleeding from oesophagus, stomach, duodenum (i.e. Proximal to ligamnet of treitz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Present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cute Upper GI bleeding presents a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Haematemesis (vomiting of fresh bloo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Coffee ground vomit (partially digested bloo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Melaena (black tarry stools PR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f bleeding very brisk and severe then can present with red blood PR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f bleeding very slow and occult then can present with iron deficiency anaem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Caus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47640" y="1341360"/>
          <a:ext cx="6096240" cy="4616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use of Bleeding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ative Freque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eptic Ulce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esophag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astritis/erosion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oden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aric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rtal hypertensive gastropath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lory Weiss tea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ascular Malformatio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ther (e.g. Aortoenteric fistula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ar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675e47"/>
                </a:solidFill>
                <a:latin typeface="Cambria"/>
              </a:rPr>
              <a:t>Risk Stratification: Rockall Score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dentifies patients at risk of adverse outcome following acute upper GI ble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core &lt;3 carries good progno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core &gt;8 carries high risk of mortal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2421000"/>
          <a:ext cx="6096240" cy="2606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1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2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3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g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lt;6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-79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8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hock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Nil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HR &gt;10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BP &lt;10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-morbidity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Nil major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HD/CCF/major morbidity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nal failure/liver failur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agnosis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lory Weiss tear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ll other diagnoses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I malignancy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ndoscopic Findings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Non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Blood, adherent clot, spurting vessel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GI Bleed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Maybe classified in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Upper GI bleeding (proximal to DJ flexur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Variceal bleed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Non-variceal bleeding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Lower GI bleeding (distal to DJ flexur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Upper GI bleeding 4x more common than lower GI ble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mergency resuscitation same for upper and lower GI bleed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 (Non-variceal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mergency resuscitation as already describ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ndosco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Urgent OGD (within 24hrs) – diagnostic and therepeutic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Treatment administered if active bleeding, visible vessel, adherent blood clot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Treatment options include injection (adrenaline), coagulation, clipping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If re-bleeds then arrange urgent repeat OGD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analysis)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harmacolog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PI (infusion) – pH &gt;6 stabilises clots and reduces risk of re-bleeding following endoscopic haemostasi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ranexamic acid (anti-fibrinolytic) – maybe of benefit (more studies needed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H pylori positive then for eradication thera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top NSAIDs/aspirin/clopidogrel/warfarin/steroids if safe to do so (risk:benef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 (Non-variceal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urger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Reserved for patients with failed medical management (ongoing bleeding despite 2x OG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Nature of operation depends on cause of bleeding (most commonly performed in context of bleeding peptic ulcer: DU&gt;GU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E.g. Under-running of ulcer (bleeding DU), wedge excision of bleeding lesion (e.g. GU), partial/total gastrectomy (malignanc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Variceal Blee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uspect if upper GI bleed in patient with history of chronic liver disease/cirrhosis or stigmata on clinical examin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Liver Cirrhosis results in portal hypertension and development of porto-systemic anastamosis (opening or dilatation of pre-existing vascular channels connecting portal and systemic circulatio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ites of porto-systemic anastamosis include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Oesophagus (P= eosophageal branch of L gastric v, S= oesophageal branch of azygous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Umbilicus (P= para-umbilical v, S= infeior epigastric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etroperitoneal  (P= right/middle/left colic v, S= renal/supra-renal/gonadal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ectal (P= superior rectal v, S= middle/inferior rectal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Furthermore, clotting derrangement in those with chronic liver disease can worsen bleed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 of Variceal blee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51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mergency resuscitation as already describ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ru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omatostatin/octreotide – vasoconstricts splanchnic circulation and reduces pressure in portal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erlipressin – vasoconstricts splanchnic circulation and reduces pressure in portal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opanolol – used only in context of primary prevention (in those found to have varices to reduce risk of first bleed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ndosco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and lig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njection sclerothera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alloon tamponade – sengstaken-blakemor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arely used now and usually only as temporary measure if failed endoscopic manag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adiological procedure – used if failed medical/endoscopic Mx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elective catheterisation and embolisation of vessels feeding the var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IPSS procedure: transjugular intrahepatic porto-systemic shun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hunt between hepatic vein and portal vein branch to reduce portal pressure and bleeding from varices): performed if failed medical and endoscopic manag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Can worsen hepatic encephalopath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urgica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urgical porto-systemic shunts (often spleno-renal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Liver transplantation (patients often given TIPP/surgical shunt whilst awaiting thi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Sengstaken-Blakemore_scheme_EN_svg.png"/>
          <p:cNvPicPr/>
          <p:nvPr/>
        </p:nvPicPr>
        <p:blipFill>
          <a:blip r:embed="rId1"/>
          <a:stretch/>
        </p:blipFill>
        <p:spPr>
          <a:xfrm>
            <a:off x="250920" y="113508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TIPSS.jpg"/>
          <p:cNvPicPr/>
          <p:nvPr/>
        </p:nvPicPr>
        <p:blipFill>
          <a:blip r:embed="rId2"/>
          <a:stretch/>
        </p:blipFill>
        <p:spPr>
          <a:xfrm>
            <a:off x="5297400" y="1193760"/>
            <a:ext cx="3378240" cy="3098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332000" y="56721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Arial"/>
              </a:rPr>
              <a:t>Sengstaken-Blakemore Tube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804000" y="4581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Arial"/>
              </a:rPr>
              <a:t>TIPSS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Emegency Resuscit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akes priority over determining the diagnosis/cau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AB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Oxygen: 15L Non-rebreath mask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2 large bore cannulae into both ante-cubital fossa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34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Take bloods at same time for FBC, U&amp;E, LFT, Clotting, X match 6Unit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Catheter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SR shunt pre.gif"/>
          <p:cNvPicPr/>
          <p:nvPr/>
        </p:nvPicPr>
        <p:blipFill>
          <a:blip r:embed="rId1"/>
          <a:stretch/>
        </p:blipFill>
        <p:spPr>
          <a:xfrm>
            <a:off x="900000" y="1557360"/>
            <a:ext cx="2857680" cy="311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R shunt post.gif"/>
          <p:cNvPicPr/>
          <p:nvPr/>
        </p:nvPicPr>
        <p:blipFill>
          <a:blip r:embed="rId2"/>
          <a:stretch/>
        </p:blipFill>
        <p:spPr>
          <a:xfrm>
            <a:off x="5386320" y="1413000"/>
            <a:ext cx="2857680" cy="3114720"/>
          </a:xfrm>
          <a:prstGeom prst="rect">
            <a:avLst/>
          </a:prstGeom>
          <a:ln w="0">
            <a:noFill/>
          </a:ln>
        </p:spPr>
      </p:pic>
      <p:sp>
        <p:nvSpPr>
          <p:cNvPr id="108" name="Notched Right Arrow 5"/>
          <p:cNvSpPr/>
          <p:nvPr/>
        </p:nvSpPr>
        <p:spPr>
          <a:xfrm>
            <a:off x="3780000" y="2924280"/>
            <a:ext cx="1439640" cy="217440"/>
          </a:xfrm>
          <a:custGeom>
            <a:avLst/>
            <a:gdLst>
              <a:gd name="textAreaLeft" fmla="*/ 54360 w 1439640"/>
              <a:gd name="textAreaRight" fmla="*/ 1385280 w 143964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969" y="5400"/>
                </a:lnTo>
                <a:lnTo>
                  <a:pt x="19969" y="0"/>
                </a:lnTo>
                <a:lnTo>
                  <a:pt x="21600" y="10800"/>
                </a:lnTo>
                <a:lnTo>
                  <a:pt x="19969" y="21600"/>
                </a:lnTo>
                <a:lnTo>
                  <a:pt x="19969" y="16200"/>
                </a:lnTo>
                <a:lnTo>
                  <a:pt x="0" y="16200"/>
                </a:lnTo>
                <a:lnTo>
                  <a:pt x="81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627280" y="4797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Arial"/>
              </a:rPr>
              <a:t>Surgical porto-systemic shunt (spleno-renal shunt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Variceal Bleed: Prognosi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ognosis closely related to severity of underlying chronic liver disease (Childs-Pugh grad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Child-Pugh classification grades severity of liver disease into A,B,C based on degree of ascites, encephalopathy, bilirubin, albumin, IN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Mortality 32% Childs A, 46% Childs B, 79% Childs C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3" name="Content Placeholder 3" descr="Childs classification.gif"/>
          <p:cNvPicPr/>
          <p:nvPr/>
        </p:nvPicPr>
        <p:blipFill>
          <a:blip r:embed="rId1"/>
          <a:stretch/>
        </p:blipFill>
        <p:spPr>
          <a:xfrm>
            <a:off x="452520" y="1773360"/>
            <a:ext cx="7170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Lower GI Blee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Lower GI bleed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Lower GI bleed refers to bleeding arising distal to the ligament of Treitz (DJ flexur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lthough this includes jejunum and ileum bleeding from these sites is rare (&lt;5%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Vast majority of lower GI bleeding arises from colon/rectum/an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Present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628640"/>
            <a:ext cx="82184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2b20"/>
                </a:solidFill>
                <a:latin typeface="Calibri"/>
              </a:rPr>
              <a:t>Lower GI bleeding presents a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ark red blood PR – more proximal bleeding point (e.g. Distal small bowel, col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right red blood PR – more distal bleeding point (e.g. rectum, an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 blood maybe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mixed or separate from the sto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separate from the stool it maybe noticed in the toilet water or on wip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assed with motion or alo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blood mixed with stool (as oppose to separate from it) suggests more proximal bleed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bleeding very slow and occult then can present with iron deficiency anaem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Caus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7620120" cy="22255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3715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t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97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verticular Diseas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yp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Haemorrhoid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5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yp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issur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ct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l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16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giodysplasi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mergency resuscitation as already describ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Pharmacolog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Stop NSAIDS/anti-platelets/anti-coagulants if saf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Tranexamic acid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ndoscopic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OGD (15% of patients with severe acute PR bleeding will have an upper GI source!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Colonoscopy – diagnostic and therepeutic (injection, diathermy, clipping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Radiolog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CT angiogram – diagnostic only (non-invasiv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Determines site and cause of bleeding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Mesenteric Angiogram – diagnostic and therepeutic (but invasiv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Determines site of bleeding and allows embolisation of bleeding vess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Can result in colonic ischaemia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Nuclear Scintigraphy – technetium labelled red blood cells: diagnostic onl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Determines site of bleeding only (not cause)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2b20"/>
                </a:solidFill>
                <a:latin typeface="Calibri"/>
              </a:rPr>
              <a:t>IVF initially then blood as soon as available (depending on urgency: O-, Group specific, fully X-match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2b20"/>
                </a:solidFill>
                <a:latin typeface="Calibri"/>
              </a:rPr>
              <a:t>Monitor response to resuscitation frequently (HR, BP, urine output, level of consciousness, peripheral temperature, CR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urgical – Last resort in management as very difficult to determine bleeding point at laparotom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Segmental colectomy – where site of bleeding is know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Subtotal colectomy – where site of bleeding uncle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Beware of small bowel bleeding – always embarassing when bleeding continues after large bowel removed!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675e47"/>
                </a:solidFill>
                <a:latin typeface="Cambria"/>
              </a:rPr>
              <a:t>Management Flow Chart for Severe lower GI bleeding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40360" y="1557000"/>
            <a:ext cx="16668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Resuscitate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2" name="Content Placeholder 1"/>
          <p:cNvSpPr/>
          <p:nvPr/>
        </p:nvSpPr>
        <p:spPr>
          <a:xfrm>
            <a:off x="2556000" y="2276640"/>
            <a:ext cx="48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OGD (to exclude upper GI cause for severe PR bleeding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Content Placeholder 1"/>
          <p:cNvSpPr/>
          <p:nvPr/>
        </p:nvSpPr>
        <p:spPr>
          <a:xfrm>
            <a:off x="2340000" y="306864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Colonoscopy (to identify site and cause of bleeding and to treat bleeding by injection/diathermy/clipping) – often unsuccesful as blood obscures views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Content Placeholder 1"/>
          <p:cNvSpPr/>
          <p:nvPr/>
        </p:nvSpPr>
        <p:spPr>
          <a:xfrm>
            <a:off x="2124000" y="4221000"/>
            <a:ext cx="23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CT angiogram (to identify site and cause of bleeding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Content Placeholder 1"/>
          <p:cNvSpPr/>
          <p:nvPr/>
        </p:nvSpPr>
        <p:spPr>
          <a:xfrm>
            <a:off x="4643280" y="422100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Mesenteric angiogram (to identify site of bleeding and treat bleeding by embolisation of vessel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Content Placeholder 1"/>
          <p:cNvSpPr/>
          <p:nvPr/>
        </p:nvSpPr>
        <p:spPr>
          <a:xfrm>
            <a:off x="4284720" y="5661000"/>
            <a:ext cx="11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Surgery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7" name="Straight Arrow Connector 14"/>
          <p:cNvCxnSpPr/>
          <p:nvPr/>
        </p:nvCxnSpPr>
        <p:spPr>
          <a:xfrm flipH="1">
            <a:off x="4714560" y="1846080"/>
            <a:ext cx="2160" cy="4323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38" name="Straight Arrow Connector 15"/>
          <p:cNvCxnSpPr/>
          <p:nvPr/>
        </p:nvCxnSpPr>
        <p:spPr>
          <a:xfrm flipH="1">
            <a:off x="4715640" y="2636640"/>
            <a:ext cx="2520" cy="4323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39" name="Straight Arrow Connector 16"/>
          <p:cNvCxnSpPr/>
          <p:nvPr/>
        </p:nvCxnSpPr>
        <p:spPr>
          <a:xfrm flipH="1">
            <a:off x="3634560" y="3716280"/>
            <a:ext cx="1081800" cy="4341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0" name="Straight Arrow Connector 18"/>
          <p:cNvCxnSpPr/>
          <p:nvPr/>
        </p:nvCxnSpPr>
        <p:spPr>
          <a:xfrm>
            <a:off x="4717800" y="3716280"/>
            <a:ext cx="1006920" cy="4341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1" name="Straight Arrow Connector 20"/>
          <p:cNvCxnSpPr/>
          <p:nvPr/>
        </p:nvCxnSpPr>
        <p:spPr>
          <a:xfrm>
            <a:off x="4211280" y="4579920"/>
            <a:ext cx="648360" cy="21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2" name="Straight Arrow Connector 24"/>
          <p:cNvCxnSpPr/>
          <p:nvPr/>
        </p:nvCxnSpPr>
        <p:spPr>
          <a:xfrm flipH="1">
            <a:off x="4858920" y="4940640"/>
            <a:ext cx="1008720" cy="57564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3" name="Straight Arrow Connector 25"/>
          <p:cNvCxnSpPr/>
          <p:nvPr/>
        </p:nvCxnSpPr>
        <p:spPr>
          <a:xfrm>
            <a:off x="3635280" y="4795920"/>
            <a:ext cx="1153440" cy="72144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s 85% of lower GI bleeds will settle spontaneously the interventions mentioned on previous slide are reserved for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Severe/Life threatening bleed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n the 85% where bleeding settles spontaneously OPD investigation is required to determine underlying cau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Endoscopy: flexible sigmoidoscopy, colonoscop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Barium enem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The En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e8d8c"/>
                </a:solidFill>
                <a:latin typeface="Calibri"/>
              </a:rPr>
              <a:t>Ques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top anti-coagulants and correct any clotting derrang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NG tube and aspiration (will help differentiate upper from lower GI bleed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Organise definitive treatment (endoscopic/radiological/surgica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675e47"/>
                </a:solidFill>
                <a:latin typeface="Cambria"/>
              </a:rPr>
              <a:t>Estimating Degree of Blood Los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RR, HR, and BP can be used to estimate degree of blood loss/hypovolaem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2205000"/>
          <a:ext cx="8135640" cy="377352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6840"/>
                <a:gridCol w="1627200"/>
                <a:gridCol w="16272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I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V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olume Loss (ml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0-75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50-15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500-20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20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oss (%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0-1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5-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R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4-2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H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lt;1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1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12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1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BP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nchang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nchang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ine Output (ml/hr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-1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uric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ental Sta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stles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xio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xious/confus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fused/ lethargic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History and Examin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im of history and examination is 3 fo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1. Identify likely source – upper vs lower – and potential caus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2. Determine severity of blee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3. Identify precipitants (e.g. Drug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000" y="1196640"/>
            <a:ext cx="8002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uration, frequency, and volume of bleeding (indicate severity of bleed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Nature of bleeding: will point to sour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Haematemesis (fresh or coffee ground)/melaena suggest upper GI bleed. (Note a very brisk upper GI bleed can present with dark or bright red blood PR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 Dark red blood suggests col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 Bright red blood suggests rectum, anu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PR bleeding, is blood being passed alone or with bowel opening (if alone suggests heavier bleed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with bowel opening is blood mixed with the stool (colonic), coating the stool (colonic/rectal), in the toilet water (anal), on wiping (anal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01:40Z</dcterms:created>
  <dc:creator>Mohammad</dc:creator>
  <dc:description/>
  <dc:language>en-US</dc:language>
  <cp:lastModifiedBy>Ibrahim Shaker</cp:lastModifiedBy>
  <dcterms:modified xsi:type="dcterms:W3CDTF">2017-09-18T05:21:36Z</dcterms:modified>
  <cp:revision>298</cp:revision>
  <dc:subject/>
  <dc:title>Acute Appendicitis</dc:title>
</cp:coreProperties>
</file>