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387E-F28A-41B6-BD44-72163764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BDFAF-F0F2-4840-ABDF-11DE204E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0026-491B-47B1-8A37-CC435669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D061-4E41-4A04-9369-9014935E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6B34-6548-4A8A-A33F-5390D2C3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56EE-156D-452F-BE57-2A9B26C2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92F3-799C-4A2E-B4B4-7E73E22C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0F051-ECC2-4823-A693-42616B00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47B9-04A0-4490-AAFE-CE901339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39D7-FCB7-4AAA-BD45-523123C7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F39F-77BC-4353-A3AE-4796B46E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29FB-3C2D-4EC1-BC4C-3A0FC18E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9471-90D0-413F-ABA4-494C1FF8C101}" type="slidenum">
              <a:rPr b="0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fdcb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675e47"/>
                </a:solidFill>
                <a:latin typeface="Cambria"/>
              </a:rPr>
              <a:t>GI Bleed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e8d8c"/>
                </a:solidFill>
                <a:latin typeface="Calibri"/>
              </a:rPr>
              <a:t>Hossam Hassa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e8d8c"/>
                </a:solidFill>
                <a:latin typeface="Calibri"/>
              </a:rPr>
              <a:t>Emergency Depart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675e47"/>
                </a:solidFill>
                <a:latin typeface="Cambria"/>
              </a:rPr>
              <a:t>History in patients with GI bleeding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Ask about associated upper or lower GI symptoms that may point to underlying cau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E.g. Upper abdominal pain/dyspeptic symptoms suggest upper GI cause such as peptic ulc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E.g. 2. lower abdo pain, bowel symptoms such as diarrhoea or a background of change in bowel habit suggest lower GI cause e.g. Colitis, canc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revious episodes of bleeding and cau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675e47"/>
                </a:solidFill>
                <a:latin typeface="Cambria"/>
              </a:rPr>
              <a:t>History in patients with GI bleeding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0920" y="2420640"/>
            <a:ext cx="746604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M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History of any diseases that can result in GI bleeding, e.g. Peptic ulcer disease, diverticular disease, liver disease/cirrhosi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Bleeding disorders e.g. haemophili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75e47"/>
                </a:solidFill>
                <a:latin typeface="Cambria"/>
              </a:rPr>
              <a:t>History in patients with GI bleeding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D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Anti-platelets or anti-coagulants can exacerbate bleed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NSAIDs and steroids may point to PU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Alcoholics at risk of liver disease and possible variceal bleeding as a resul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mokers at risk of peptic ulcer disea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75e47"/>
                </a:solidFill>
                <a:latin typeface="Cambria"/>
              </a:rPr>
              <a:t>Examination in patients with GI bleeding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Reduced level of consiousnes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ale and clamm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Cool peripher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Tachcardic and thready pul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Hypotensive with narrow pulse pressur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Tenderness on abdominal examination may point to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underlying cause e.g. Epigastric </a:t>
            </a:r>
            <a:r>
              <a:rPr b="0" lang="en-GB" sz="2000" spc="-1" strike="noStrike">
                <a:solidFill>
                  <a:srgbClr val="2f2b2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 peptic ulc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675e47"/>
                </a:solidFill>
                <a:latin typeface="Cambria"/>
              </a:rPr>
              <a:t>Examination in patients with GI bleeding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Stigmata of chronic liver disease (palmer erythema, leukonychia, dupuytrens contracture, liver flap, jaundice, spider naevi, gynacomastia, shifting dullness/ascites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f2b20"/>
                </a:solidFill>
                <a:latin typeface="Calibri"/>
              </a:rPr>
              <a:t>Digital rectal examination may reveal melaena, dark red blood, bright red bloo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675e47"/>
                </a:solidFill>
                <a:latin typeface="Cambria"/>
              </a:rPr>
              <a:t>Upper GI bleed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8e8d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Upper GI bleed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Upper GI bleeding refers to bleeding from oesophagus, stomach, duodenum (i.e. Proximal to ligamnet of treitz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Present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Acute Upper GI bleeding presents a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Haematemesis (vomiting of fresh blood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Coffee ground vomit (partially digested blood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Melaena (black tarry stools PR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If bleeding very brisk and severe then can present with red blood PR!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If bleeding very slow and occult then can present with iron deficiency anaem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Caus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47640" y="1341360"/>
          <a:ext cx="6096240" cy="46166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use of Bleeding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lative Frequenc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eptic Ulce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Oesophagiti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Gastritis/erosion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uodeniti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arice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rtal hypertensive gastropath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alignanc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allory Weiss tea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ascular Malformatio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Other (e.g. Aortoenteric fistula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ar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675e47"/>
                </a:solidFill>
                <a:latin typeface="Cambria"/>
              </a:rPr>
              <a:t>Risk Stratification: Rockall Score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Identifies patients at risk of adverse outcome following acute upper GI ble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Score &lt;3 carries good prognos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Score &gt;8 carries high risk of mortal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2421000"/>
          <a:ext cx="6096240" cy="26067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0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1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2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e 3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ge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lt;60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-79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80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hock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Nil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HR &gt;100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BP &lt;100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-morbidity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Nil major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HD/CCF/major morbidity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enal failure/liver failure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iagnosis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allory Weiss tear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ll other diagnoses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GI malignancy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Endoscopic Findings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None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Blood, adherent clot, spurting vessel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GI Bleed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Maybe classified in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Upper GI bleeding (proximal to DJ flexur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Variceal bleeding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Non-variceal bleeding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Lower GI bleeding (distal to DJ flexur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Upper GI bleeding 4x more common than lower GI blee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Emergency resuscitation same for upper and lower GI bleed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 (Non-variceal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Emergency resuscitation as already describ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Endoscop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Urgent OGD (within 24hrs) – diagnostic and therepeutic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Treatment administered if active bleeding, visible vessel, adherent blood clot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Treatment options include injection (adrenaline), coagulation, clipping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0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If re-bleeds then arrange urgent repeat OGD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analysis) 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harmacolog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PI (infusion) – pH &gt;6 stabilises clots and reduces risk of re-bleeding following endoscopic haemostasi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Tranexamic acid (anti-fibrinolytic) – maybe of benefit (more studies needed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f H pylori positive then for eradication therap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top NSAIDs/aspirin/clopidogrel/warfarin/steroids if safe to do so (risk:benefi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 (Non-variceal)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Surger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Reserved for patients with failed medical management (ongoing bleeding despite 2x OGD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Nature of operation depends on cause of bleeding (most commonly performed in context of bleeding peptic ulcer: DU&gt;GU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E.g. Under-running of ulcer (bleeding DU), wedge excision of bleeding lesion (e.g. GU), partial/total gastrectomy (malignanc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Variceal Blee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uspect if upper GI bleed in patient with history of chronic liver disease/cirrhosis or stigmata on clinical examin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Liver Cirrhosis results in portal hypertension and development of porto-systemic anastamosis (opening or dilatation of pre-existing vascular channels connecting portal and systemic circulatio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ites of porto-systemic anastamosis include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Oesophagus (P= eosophageal branch of L gastric v, S= oesophageal branch of azygous 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Umbilicus (P= para-umbilical v, S= infeior epigastric 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Retroperitoneal  (P= right/middle/left colic v, S= renal/supra-renal/gonadal 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Rectal (P= superior rectal v, S= middle/inferior rectal 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Furthermore, clotting derrangement in those with chronic liver disease can worsen bleed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 of Variceal bleed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351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Emergency resuscitation as already describ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Dru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omatostatin/octreotide – vasoconstricts splanchnic circulation and reduces pressure in portal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Terlipressin – vasoconstricts splanchnic circulation and reduces pressure in portal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ropanolol – used only in context of primary prevention (in those found to have varices to reduce risk of first bleed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Endoscop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Band lig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njection sclerotherap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Balloon tamponade – sengstaken-blakemor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Rarely used now and usually only as temporary measure if failed endoscopic manage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Radiological procedure – used if failed medical/endoscopic Mx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elective catheterisation and embolisation of vessels feeding the varic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TIPSS procedure: transjugular intrahepatic porto-systemic shunt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hunt between hepatic vein and portal vein branch to reduce portal pressure and bleeding from varices): performed if failed medical and endoscopic manage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99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Can worsen hepatic encephalopath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urgica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urgical porto-systemic shunts (often spleno-renal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Liver transplantation (patients often given TIPP/surgical shunt whilst awaiting thi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3" descr="Sengstaken-Blakemore_scheme_EN_svg.png"/>
          <p:cNvPicPr/>
          <p:nvPr/>
        </p:nvPicPr>
        <p:blipFill>
          <a:blip r:embed="rId1"/>
          <a:stretch/>
        </p:blipFill>
        <p:spPr>
          <a:xfrm>
            <a:off x="250920" y="1135080"/>
            <a:ext cx="452592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TIPSS.jpg"/>
          <p:cNvPicPr/>
          <p:nvPr/>
        </p:nvPicPr>
        <p:blipFill>
          <a:blip r:embed="rId2"/>
          <a:stretch/>
        </p:blipFill>
        <p:spPr>
          <a:xfrm>
            <a:off x="5297400" y="1193760"/>
            <a:ext cx="3378240" cy="3098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1332000" y="567216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Arial"/>
              </a:rPr>
              <a:t>Sengstaken-Blakemore Tube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804000" y="4581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Arial"/>
              </a:rPr>
              <a:t>TIPSS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Emegency Resuscit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Takes priority over determining the diagnosis/caus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ABC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Oxygen: 15L Non-rebreath mask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2 large bore cannulae into both ante-cubital fossae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34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Take bloods at same time for FBC, U&amp;E, LFT, Clotting, X match 6Units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Catheteris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ontent Placeholder 3" descr="SR shunt pre.gif"/>
          <p:cNvPicPr/>
          <p:nvPr/>
        </p:nvPicPr>
        <p:blipFill>
          <a:blip r:embed="rId1"/>
          <a:stretch/>
        </p:blipFill>
        <p:spPr>
          <a:xfrm>
            <a:off x="900000" y="1557360"/>
            <a:ext cx="2857680" cy="311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SR shunt post.gif"/>
          <p:cNvPicPr/>
          <p:nvPr/>
        </p:nvPicPr>
        <p:blipFill>
          <a:blip r:embed="rId2"/>
          <a:stretch/>
        </p:blipFill>
        <p:spPr>
          <a:xfrm>
            <a:off x="5386320" y="1413000"/>
            <a:ext cx="2857680" cy="3114720"/>
          </a:xfrm>
          <a:prstGeom prst="rect">
            <a:avLst/>
          </a:prstGeom>
          <a:ln w="0">
            <a:noFill/>
          </a:ln>
        </p:spPr>
      </p:pic>
      <p:sp>
        <p:nvSpPr>
          <p:cNvPr id="108" name="Notched Right Arrow 5"/>
          <p:cNvSpPr/>
          <p:nvPr/>
        </p:nvSpPr>
        <p:spPr>
          <a:xfrm>
            <a:off x="3780000" y="2924280"/>
            <a:ext cx="1439640" cy="217440"/>
          </a:xfrm>
          <a:custGeom>
            <a:avLst/>
            <a:gdLst>
              <a:gd name="textAreaLeft" fmla="*/ 54360 w 1439640"/>
              <a:gd name="textAreaRight" fmla="*/ 1385280 w 143964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969" y="5400"/>
                </a:lnTo>
                <a:lnTo>
                  <a:pt x="19969" y="0"/>
                </a:lnTo>
                <a:lnTo>
                  <a:pt x="21600" y="10800"/>
                </a:lnTo>
                <a:lnTo>
                  <a:pt x="19969" y="21600"/>
                </a:lnTo>
                <a:lnTo>
                  <a:pt x="19969" y="16200"/>
                </a:lnTo>
                <a:lnTo>
                  <a:pt x="0" y="16200"/>
                </a:lnTo>
                <a:lnTo>
                  <a:pt x="816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9a57c"/>
          </a:solidFill>
          <a:ln w="25560">
            <a:solidFill>
              <a:srgbClr val="7b7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627280" y="479736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Arial"/>
              </a:rPr>
              <a:t>Surgical porto-systemic shunt (spleno-renal shunt)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Variceal Bleed: Prognosi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rognosis closely related to severity of underlying chronic liver disease (Childs-Pugh grad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Child-Pugh classification grades severity of liver disease into A,B,C based on degree of ascites, encephalopathy, bilirubin, albumin, IN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Mortality 32% Childs A, 46% Childs B, 79% Childs C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113" name="Content Placeholder 3" descr="Childs classification.gif"/>
          <p:cNvPicPr/>
          <p:nvPr/>
        </p:nvPicPr>
        <p:blipFill>
          <a:blip r:embed="rId1"/>
          <a:stretch/>
        </p:blipFill>
        <p:spPr>
          <a:xfrm>
            <a:off x="452520" y="1773360"/>
            <a:ext cx="71704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675e47"/>
                </a:solidFill>
                <a:latin typeface="Cambria"/>
              </a:rPr>
              <a:t>Lower GI Bleed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8e8d8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Lower GI bleed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Lower GI bleed refers to bleeding arising distal to the ligament of Treitz (DJ flexur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Although this includes jejunum and ileum bleeding from these sites is rare (&lt;5%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Vast majority of lower GI bleeding arises from colon/rectum/anu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471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Present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000" y="1628640"/>
            <a:ext cx="82184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2b20"/>
                </a:solidFill>
                <a:latin typeface="Calibri"/>
              </a:rPr>
              <a:t>Lower GI bleeding presents a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Dark red blood PR – more proximal bleeding point (e.g. Distal small bowel, col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Bright red blood PR – more distal bleeding point (e.g. rectum, an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R blood maybe: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mixed or separate from the sto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f separate from the stool it maybe noticed in the toilet water or on wip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assed with motion or alon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f blood mixed with stool (as oppose to separate from it) suggests more proximal bleed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f bleeding very slow and occult then can present with iron deficiency anaemi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Causes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7620120" cy="222552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371520"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o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ct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u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369720"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Diverticular Diseas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lyp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Haemorrhoid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1520"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olyp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alignanc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Fissur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1520"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alignanc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Proctiti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alignancy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0080"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liti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1160"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giodysplasia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84600" rIns="84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84600" marR="84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Emergency resuscitation as already describ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Pharmacologica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Stop NSAIDS/anti-platelets/anti-coagulants if safe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Tranexamic acid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Endoscopic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OGD (15% of patients with severe acute PR bleeding will have an upper GI source!)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f2b20"/>
                </a:solidFill>
                <a:latin typeface="Calibri"/>
              </a:rPr>
              <a:t>Colonoscopy – diagnostic and therepeutic (injection, diathermy, clipping)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Radiologica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CT angiogram – diagnostic only (non-invasive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Determines site and cause of bleeding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Mesenteric Angiogram – diagnostic and therepeutic (but invasive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Determines site of bleeding and allows embolisation of bleeding vess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Can result in colonic ischaemia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Nuclear Scintigraphy – technetium labelled red blood cells: diagnostic only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f2b20"/>
                </a:solidFill>
                <a:latin typeface="Calibri"/>
              </a:rPr>
              <a:t>Determines site of bleeding only (not cause)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2b20"/>
                </a:solidFill>
                <a:latin typeface="Calibri"/>
              </a:rPr>
              <a:t>IVF initially then blood as soon as available (depending on urgency: O-, Group specific, fully X-match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f2b20"/>
                </a:solidFill>
                <a:latin typeface="Calibri"/>
              </a:rPr>
              <a:t>Monitor response to resuscitation frequently (HR, BP, urine output, level of consciousness, peripheral temperature, CR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Surgical – Last resort in management as very difficult to determine bleeding point at laparotom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Segmental colectomy – where site of bleeding is know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Subtotal colectomy – where site of bleeding unclea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Beware of small bowel bleeding – always embarassing when bleeding continues after large bowel removed!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675e47"/>
                </a:solidFill>
                <a:latin typeface="Cambria"/>
              </a:rPr>
              <a:t>Management Flow Chart for Severe lower GI bleeding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40360" y="1557000"/>
            <a:ext cx="166680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Calibri"/>
              </a:rPr>
              <a:t>Resuscitate</a:t>
            </a: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2" name="Content Placeholder 1"/>
          <p:cNvSpPr/>
          <p:nvPr/>
        </p:nvSpPr>
        <p:spPr>
          <a:xfrm>
            <a:off x="2556000" y="2276640"/>
            <a:ext cx="48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Calibri"/>
              </a:rPr>
              <a:t>OGD (to exclude upper GI cause for severe PR bleeding)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3" name="Content Placeholder 1"/>
          <p:cNvSpPr/>
          <p:nvPr/>
        </p:nvSpPr>
        <p:spPr>
          <a:xfrm>
            <a:off x="2340000" y="3068640"/>
            <a:ext cx="46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Calibri"/>
              </a:rPr>
              <a:t>Colonoscopy (to identify site and cause of bleeding and to treat bleeding by injection/diathermy/clipping) – often unsuccesful as blood obscures views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Content Placeholder 1"/>
          <p:cNvSpPr/>
          <p:nvPr/>
        </p:nvSpPr>
        <p:spPr>
          <a:xfrm>
            <a:off x="2124000" y="4221000"/>
            <a:ext cx="237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Calibri"/>
              </a:rPr>
              <a:t>CT angiogram (to identify site and cause of bleeding)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5" name="Content Placeholder 1"/>
          <p:cNvSpPr/>
          <p:nvPr/>
        </p:nvSpPr>
        <p:spPr>
          <a:xfrm>
            <a:off x="4643280" y="4221000"/>
            <a:ext cx="302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Calibri"/>
              </a:rPr>
              <a:t>Mesenteric angiogram (to identify site of bleeding and treat bleeding by embolisation of vessel)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6" name="Content Placeholder 1"/>
          <p:cNvSpPr/>
          <p:nvPr/>
        </p:nvSpPr>
        <p:spPr>
          <a:xfrm>
            <a:off x="4284720" y="5661000"/>
            <a:ext cx="115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f2b20"/>
                </a:solidFill>
                <a:latin typeface="Calibri"/>
              </a:rPr>
              <a:t>Surgery</a:t>
            </a: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cxnSp>
        <p:nvCxnSpPr>
          <p:cNvPr id="137" name="Straight Arrow Connector 14"/>
          <p:cNvCxnSpPr/>
          <p:nvPr/>
        </p:nvCxnSpPr>
        <p:spPr>
          <a:xfrm flipH="1">
            <a:off x="4714560" y="1846080"/>
            <a:ext cx="2160" cy="43236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  <p:cxnSp>
        <p:nvCxnSpPr>
          <p:cNvPr id="138" name="Straight Arrow Connector 15"/>
          <p:cNvCxnSpPr/>
          <p:nvPr/>
        </p:nvCxnSpPr>
        <p:spPr>
          <a:xfrm flipH="1">
            <a:off x="4715640" y="2636640"/>
            <a:ext cx="2520" cy="43236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  <p:cxnSp>
        <p:nvCxnSpPr>
          <p:cNvPr id="139" name="Straight Arrow Connector 16"/>
          <p:cNvCxnSpPr/>
          <p:nvPr/>
        </p:nvCxnSpPr>
        <p:spPr>
          <a:xfrm flipH="1">
            <a:off x="3634560" y="3716280"/>
            <a:ext cx="1081800" cy="43416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  <p:cxnSp>
        <p:nvCxnSpPr>
          <p:cNvPr id="140" name="Straight Arrow Connector 18"/>
          <p:cNvCxnSpPr/>
          <p:nvPr/>
        </p:nvCxnSpPr>
        <p:spPr>
          <a:xfrm>
            <a:off x="4717800" y="3716280"/>
            <a:ext cx="1006920" cy="43416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  <p:cxnSp>
        <p:nvCxnSpPr>
          <p:cNvPr id="141" name="Straight Arrow Connector 20"/>
          <p:cNvCxnSpPr/>
          <p:nvPr/>
        </p:nvCxnSpPr>
        <p:spPr>
          <a:xfrm>
            <a:off x="4211280" y="4579920"/>
            <a:ext cx="648360" cy="216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  <p:cxnSp>
        <p:nvCxnSpPr>
          <p:cNvPr id="142" name="Straight Arrow Connector 24"/>
          <p:cNvCxnSpPr/>
          <p:nvPr/>
        </p:nvCxnSpPr>
        <p:spPr>
          <a:xfrm flipH="1">
            <a:off x="4858920" y="4940640"/>
            <a:ext cx="1008720" cy="57564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  <p:cxnSp>
        <p:nvCxnSpPr>
          <p:cNvPr id="143" name="Straight Arrow Connector 25"/>
          <p:cNvCxnSpPr/>
          <p:nvPr/>
        </p:nvCxnSpPr>
        <p:spPr>
          <a:xfrm>
            <a:off x="3635280" y="4795920"/>
            <a:ext cx="1153440" cy="721440"/>
          </a:xfrm>
          <a:prstGeom prst="straightConnector1">
            <a:avLst/>
          </a:prstGeom>
          <a:ln w="12600">
            <a:solidFill>
              <a:srgbClr val="a6a27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Managem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As 85% of lower GI bleeds will settle spontaneously the interventions mentioned on previous slide are reserved for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Severe/Life threatening bleed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In the 85% where bleeding settles spontaneously OPD investigation is required to determine underlying caus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Endoscopy: flexible sigmoidoscopy, colonoscopy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Barium enem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675e47"/>
                </a:solidFill>
                <a:latin typeface="Cambria"/>
              </a:rPr>
              <a:t>The End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e8d8c"/>
                </a:solidFill>
                <a:latin typeface="Calibri"/>
              </a:rPr>
              <a:t>Questio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Stop anti-coagulants and correct any clotting derrangemen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NG tube and aspiration (will help differentiate upper from lower GI bleed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Organise definitive treatment (endoscopic/radiological/surgica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675e47"/>
                </a:solidFill>
                <a:latin typeface="Cambria"/>
              </a:rPr>
              <a:t>Estimating Degree of Blood Loss</a:t>
            </a:r>
            <a:endParaRPr b="0" lang="en-US" sz="41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RR, HR, and BP can be used to estimate degree of blood loss/hypovolaem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4360" y="2205000"/>
          <a:ext cx="8135640" cy="3773520"/>
        </p:xfrm>
        <a:graphic>
          <a:graphicData uri="http://schemas.openxmlformats.org/drawingml/2006/table">
            <a:tbl>
              <a:tblPr/>
              <a:tblGrid>
                <a:gridCol w="1627200"/>
                <a:gridCol w="1627200"/>
                <a:gridCol w="1626840"/>
                <a:gridCol w="1627200"/>
                <a:gridCol w="162720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I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III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IV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64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Volume Loss (ml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0-75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50-15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500-20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20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oss (%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0-1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5-3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4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R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4-2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4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HR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lt;1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10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12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14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BP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nchange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nchange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ine Output (ml/hr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&gt;3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5-1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uric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Mental Sta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Restles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xious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Anxious/confuse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fused/ lethargic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675e47"/>
                </a:solidFill>
                <a:latin typeface="Cambria"/>
              </a:rPr>
              <a:t>History and Examin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f2b20"/>
                </a:solidFill>
                <a:latin typeface="Calibri"/>
              </a:rPr>
              <a:t>Aim of history and examination is 3 fo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1. Identify likely source – upper vs lower – and potential cause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2. Determine severity of bleeding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f2b20"/>
                </a:solidFill>
                <a:latin typeface="Calibri"/>
              </a:rPr>
              <a:t>3. Identify precipitants (e.g. Drug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75e47"/>
                </a:solidFill>
                <a:latin typeface="Cambria"/>
              </a:rPr>
              <a:t>History in patients with GI bleeding</a:t>
            </a:r>
            <a:endParaRPr b="0" lang="en-US" sz="3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000" y="1196640"/>
            <a:ext cx="8002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Duration, frequency, and volume of bleeding (indicate severity of bleed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Nature of bleeding: will point to sourc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Haematemesis (fresh or coffee ground)/melaena suggest upper GI bleed. (Note a very brisk upper GI bleed can present with dark or bright red blood PR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675e47"/>
                </a:solidFill>
                <a:latin typeface="Cambria"/>
              </a:rPr>
              <a:t>History in patients with GI bleeding</a:t>
            </a:r>
            <a:endParaRPr b="0" lang="en-US" sz="4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R Dark red blood suggests col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PR Bright red blood suggests rectum, anu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f PR bleeding, is blood being passed alone or with bowel opening (if alone suggests heavier bleed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499"/>
              </a:spcBef>
              <a:buClr>
                <a:srgbClr val="c89f5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f2b20"/>
                </a:solidFill>
                <a:latin typeface="Calibri"/>
              </a:rPr>
              <a:t>If with bowel opening is blood mixed with the stool (colonic), coating the stool (colonic/rectal), in the toilet water (anal), on wiping (anal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3:01:40Z</dcterms:created>
  <dc:creator>Mohammad</dc:creator>
  <dc:description/>
  <dc:language>en-US</dc:language>
  <cp:lastModifiedBy>Ibrahim Shaker</cp:lastModifiedBy>
  <dcterms:modified xsi:type="dcterms:W3CDTF">2017-09-18T05:21:36Z</dcterms:modified>
  <cp:revision>298</cp:revision>
  <dc:subject/>
  <dc:title>Acute Appendicitis</dc:title>
</cp:coreProperties>
</file>